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2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3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11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9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27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35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38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41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44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6" name="図 1" descr=""/>
          <p:cNvPicPr/>
          <p:nvPr/>
        </p:nvPicPr>
        <p:blipFill>
          <a:blip r:embed="rId2"/>
          <a:stretch/>
        </p:blipFill>
        <p:spPr>
          <a:xfrm>
            <a:off x="2517840" y="447840"/>
            <a:ext cx="10083600" cy="74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85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86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94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02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110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118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121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124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127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図 1" descr=""/>
          <p:cNvPicPr/>
          <p:nvPr/>
        </p:nvPicPr>
        <p:blipFill>
          <a:blip r:embed="rId2"/>
          <a:stretch/>
        </p:blipFill>
        <p:spPr>
          <a:xfrm>
            <a:off x="2517840" y="447840"/>
            <a:ext cx="10083600" cy="74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3"/>
          <p:cNvSpPr/>
          <p:nvPr/>
        </p:nvSpPr>
        <p:spPr>
          <a:xfrm>
            <a:off x="2943360" y="9636120"/>
            <a:ext cx="93484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図 56" descr=""/>
          <p:cNvPicPr/>
          <p:nvPr/>
        </p:nvPicPr>
        <p:blipFill>
          <a:blip r:embed="rId3"/>
          <a:stretch/>
        </p:blipFill>
        <p:spPr>
          <a:xfrm>
            <a:off x="12472920" y="9086760"/>
            <a:ext cx="24922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132" name="グループ化 57"/>
          <p:cNvGrpSpPr/>
          <p:nvPr/>
        </p:nvGrpSpPr>
        <p:grpSpPr>
          <a:xfrm>
            <a:off x="711360" y="1976400"/>
            <a:ext cx="11234520" cy="6738840"/>
            <a:chOff x="711360" y="1976400"/>
            <a:chExt cx="11234520" cy="6738840"/>
          </a:xfrm>
        </p:grpSpPr>
        <p:grpSp>
          <p:nvGrpSpPr>
            <p:cNvPr id="133" name="Group 2"/>
            <p:cNvGrpSpPr/>
            <p:nvPr/>
          </p:nvGrpSpPr>
          <p:grpSpPr>
            <a:xfrm>
              <a:off x="3175920" y="1976400"/>
              <a:ext cx="8769960" cy="6738840"/>
              <a:chOff x="3175920" y="1976400"/>
              <a:chExt cx="8769960" cy="6738840"/>
            </a:xfrm>
          </p:grpSpPr>
          <p:sp>
            <p:nvSpPr>
              <p:cNvPr id="134" name="Shape 7"/>
              <p:cNvSpPr/>
              <p:nvPr/>
            </p:nvSpPr>
            <p:spPr>
              <a:xfrm>
                <a:off x="3175920" y="1976400"/>
                <a:ext cx="8769960" cy="6738840"/>
              </a:xfrm>
              <a:custGeom>
                <a:avLst/>
                <a:gdLst>
                  <a:gd name="textAreaLeft" fmla="*/ 0 w 8769960"/>
                  <a:gd name="textAreaRight" fmla="*/ 8770320 w 8769960"/>
                  <a:gd name="textAreaTop" fmla="*/ 0 h 6738840"/>
                  <a:gd name="textAreaBottom" fmla="*/ 6739200 h 6738840"/>
                </a:gdLst>
                <a:ahLst/>
                <a:rect l="textAreaLeft" t="textAreaTop" r="textAreaRight" b="textAreaBottom"/>
                <a:pathLst>
                  <a:path w="8769896" h="6739242">
                    <a:moveTo>
                      <a:pt x="8599310" y="2253615"/>
                    </a:moveTo>
                    <a:cubicBezTo>
                      <a:pt x="8347025" y="1112012"/>
                      <a:pt x="7403148" y="598488"/>
                      <a:pt x="6455093" y="301435"/>
                    </a:cubicBezTo>
                    <a:cubicBezTo>
                      <a:pt x="5493068" y="0"/>
                      <a:pt x="4384980" y="20294"/>
                      <a:pt x="4384980" y="20294"/>
                    </a:cubicBezTo>
                    <a:cubicBezTo>
                      <a:pt x="4384980" y="20294"/>
                      <a:pt x="3276816" y="0"/>
                      <a:pt x="2314791" y="301435"/>
                    </a:cubicBezTo>
                    <a:cubicBezTo>
                      <a:pt x="1366736" y="598488"/>
                      <a:pt x="422885" y="1112012"/>
                      <a:pt x="170586" y="2253615"/>
                    </a:cubicBezTo>
                    <a:cubicBezTo>
                      <a:pt x="0" y="3025534"/>
                      <a:pt x="12891" y="3929646"/>
                      <a:pt x="436664" y="4834521"/>
                    </a:cubicBezTo>
                    <a:cubicBezTo>
                      <a:pt x="977316" y="5988965"/>
                      <a:pt x="1990687" y="6739242"/>
                      <a:pt x="1990687" y="6739242"/>
                    </a:cubicBezTo>
                    <a:cubicBezTo>
                      <a:pt x="1990687" y="6739242"/>
                      <a:pt x="2390140" y="6340285"/>
                      <a:pt x="3013291" y="6088621"/>
                    </a:cubicBezTo>
                    <a:cubicBezTo>
                      <a:pt x="3673691" y="5821922"/>
                      <a:pt x="4384980" y="5829923"/>
                      <a:pt x="4384980" y="5829923"/>
                    </a:cubicBezTo>
                    <a:cubicBezTo>
                      <a:pt x="4384980" y="5829923"/>
                      <a:pt x="5096193" y="5821922"/>
                      <a:pt x="5756593" y="6088621"/>
                    </a:cubicBezTo>
                    <a:cubicBezTo>
                      <a:pt x="6379731" y="6340285"/>
                      <a:pt x="6779197" y="6739242"/>
                      <a:pt x="6779197" y="6739242"/>
                    </a:cubicBezTo>
                    <a:cubicBezTo>
                      <a:pt x="6779197" y="6739242"/>
                      <a:pt x="7792594" y="5988965"/>
                      <a:pt x="8333233" y="4834521"/>
                    </a:cubicBezTo>
                    <a:cubicBezTo>
                      <a:pt x="8757019" y="3929646"/>
                      <a:pt x="8769896" y="3025534"/>
                      <a:pt x="8599310" y="2253615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Shape 8"/>
              <p:cNvSpPr/>
              <p:nvPr/>
            </p:nvSpPr>
            <p:spPr>
              <a:xfrm>
                <a:off x="3534480" y="2342520"/>
                <a:ext cx="8050680" cy="5936040"/>
              </a:xfrm>
              <a:custGeom>
                <a:avLst/>
                <a:gdLst>
                  <a:gd name="textAreaLeft" fmla="*/ 0 w 8050680"/>
                  <a:gd name="textAreaRight" fmla="*/ 8051040 w 8050680"/>
                  <a:gd name="textAreaTop" fmla="*/ 0 h 5936040"/>
                  <a:gd name="textAreaBottom" fmla="*/ 5936400 h 5936040"/>
                </a:gdLst>
                <a:ahLst/>
                <a:rect l="textAreaLeft" t="textAreaTop" r="textAreaRight" b="textAreaBottom"/>
                <a:pathLst>
                  <a:path w="8051457" h="5935612">
                    <a:moveTo>
                      <a:pt x="7894841" y="2028254"/>
                    </a:moveTo>
                    <a:cubicBezTo>
                      <a:pt x="7663219" y="1000811"/>
                      <a:pt x="6796685" y="538645"/>
                      <a:pt x="5926265" y="271285"/>
                    </a:cubicBezTo>
                    <a:cubicBezTo>
                      <a:pt x="5043043" y="0"/>
                      <a:pt x="4025722" y="18263"/>
                      <a:pt x="4025722" y="18263"/>
                    </a:cubicBezTo>
                    <a:cubicBezTo>
                      <a:pt x="4025722" y="18263"/>
                      <a:pt x="3008414" y="0"/>
                      <a:pt x="2125205" y="271285"/>
                    </a:cubicBezTo>
                    <a:cubicBezTo>
                      <a:pt x="1254798" y="538645"/>
                      <a:pt x="388265" y="1000811"/>
                      <a:pt x="156629" y="2028254"/>
                    </a:cubicBezTo>
                    <a:cubicBezTo>
                      <a:pt x="0" y="2722982"/>
                      <a:pt x="11849" y="3536594"/>
                      <a:pt x="400914" y="4350982"/>
                    </a:cubicBezTo>
                    <a:cubicBezTo>
                      <a:pt x="897268" y="5389982"/>
                      <a:pt x="1647647" y="5935612"/>
                      <a:pt x="1647647" y="5935612"/>
                    </a:cubicBezTo>
                    <a:cubicBezTo>
                      <a:pt x="1647647" y="5935612"/>
                      <a:pt x="2103793" y="5546763"/>
                      <a:pt x="2766479" y="5314049"/>
                    </a:cubicBezTo>
                    <a:cubicBezTo>
                      <a:pt x="3381731" y="5097970"/>
                      <a:pt x="4025722" y="5099215"/>
                      <a:pt x="4025722" y="5099215"/>
                    </a:cubicBezTo>
                    <a:cubicBezTo>
                      <a:pt x="4025722" y="5099215"/>
                      <a:pt x="4671149" y="5094034"/>
                      <a:pt x="5284991" y="5314049"/>
                    </a:cubicBezTo>
                    <a:cubicBezTo>
                      <a:pt x="5981510" y="5563705"/>
                      <a:pt x="6403836" y="5917603"/>
                      <a:pt x="6403836" y="5917603"/>
                    </a:cubicBezTo>
                    <a:cubicBezTo>
                      <a:pt x="6403836" y="5917603"/>
                      <a:pt x="7154202" y="5389982"/>
                      <a:pt x="7650569" y="4350982"/>
                    </a:cubicBezTo>
                    <a:cubicBezTo>
                      <a:pt x="8039621" y="3536594"/>
                      <a:pt x="8051457" y="2722982"/>
                      <a:pt x="7894841" y="2028254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AutoShape 121"/>
            <p:cNvSpPr/>
            <p:nvPr/>
          </p:nvSpPr>
          <p:spPr>
            <a:xfrm>
              <a:off x="1487880" y="6061680"/>
              <a:ext cx="1508400" cy="879480"/>
            </a:xfrm>
            <a:prstGeom prst="wedgeRoundRectCallout">
              <a:avLst>
                <a:gd name="adj1" fmla="val 89671"/>
                <a:gd name="adj2" fmla="val -471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AutoShape 122"/>
            <p:cNvSpPr/>
            <p:nvPr/>
          </p:nvSpPr>
          <p:spPr>
            <a:xfrm>
              <a:off x="1487880" y="340416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122"/>
            <p:cNvSpPr/>
            <p:nvPr/>
          </p:nvSpPr>
          <p:spPr>
            <a:xfrm>
              <a:off x="711360" y="208548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3:38:47Z</dcterms:created>
  <dc:creator>irodori011</dc:creator>
  <dc:description/>
  <dc:language>en-US</dc:language>
  <cp:lastModifiedBy>HP Inc.</cp:lastModifiedBy>
  <dcterms:modified xsi:type="dcterms:W3CDTF">2021-05-13T02:15:40Z</dcterms:modified>
  <cp:revision>8</cp:revision>
  <dc:subject/>
  <dc:title>PowerPoint プレゼンテーション</dc:title>
</cp:coreProperties>
</file>