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51193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6"/>
          <p:cNvSpPr/>
          <p:nvPr/>
        </p:nvSpPr>
        <p:spPr>
          <a:xfrm>
            <a:off x="2811600" y="1682640"/>
            <a:ext cx="9502560" cy="7340760"/>
          </a:xfrm>
          <a:custGeom>
            <a:avLst/>
            <a:gdLst>
              <a:gd name="textAreaLeft" fmla="*/ 0 w 9502560"/>
              <a:gd name="textAreaRight" fmla="*/ 9502920 w 9502560"/>
              <a:gd name="textAreaTop" fmla="*/ 0 h 7340760"/>
              <a:gd name="textAreaBottom" fmla="*/ 7341120 h 7340760"/>
            </a:gdLst>
            <a:ahLst/>
            <a:rect l="textAreaLeft" t="textAreaTop" r="textAreaRight" b="textAreaBottom"/>
            <a:pathLst>
              <a:path w="9503563" h="7340714">
                <a:moveTo>
                  <a:pt x="0" y="7340714"/>
                </a:moveTo>
                <a:lnTo>
                  <a:pt x="9503563" y="7340714"/>
                </a:lnTo>
                <a:lnTo>
                  <a:pt x="9503563" y="0"/>
                </a:lnTo>
                <a:lnTo>
                  <a:pt x="0" y="0"/>
                </a:lnTo>
                <a:lnTo>
                  <a:pt x="0" y="7340714"/>
                </a:lnTo>
                <a:close/>
              </a:path>
            </a:pathLst>
          </a:custGeom>
          <a:noFill/>
          <a:ln w="6480">
            <a:solidFill>
              <a:srgbClr val="18171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59"/>
          <p:cNvGrpSpPr/>
          <p:nvPr/>
        </p:nvGrpSpPr>
        <p:grpSpPr>
          <a:xfrm>
            <a:off x="2468520" y="1333440"/>
            <a:ext cx="10198080" cy="8026560"/>
            <a:chOff x="2468520" y="1333440"/>
            <a:chExt cx="10198080" cy="8026560"/>
          </a:xfrm>
        </p:grpSpPr>
        <p:grpSp>
          <p:nvGrpSpPr>
            <p:cNvPr id="2" name="Group 492"/>
            <p:cNvGrpSpPr/>
            <p:nvPr/>
          </p:nvGrpSpPr>
          <p:grpSpPr>
            <a:xfrm>
              <a:off x="2468520" y="8534520"/>
              <a:ext cx="824400" cy="825120"/>
              <a:chOff x="2468520" y="8534520"/>
              <a:chExt cx="824400" cy="825120"/>
            </a:xfrm>
          </p:grpSpPr>
          <p:sp>
            <p:nvSpPr>
              <p:cNvPr id="3" name="Shape 6"/>
              <p:cNvSpPr/>
              <p:nvPr/>
            </p:nvSpPr>
            <p:spPr>
              <a:xfrm>
                <a:off x="246852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Shape 7"/>
              <p:cNvSpPr/>
              <p:nvPr/>
            </p:nvSpPr>
            <p:spPr>
              <a:xfrm>
                <a:off x="246852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Shape 37"/>
              <p:cNvSpPr/>
              <p:nvPr/>
            </p:nvSpPr>
            <p:spPr>
              <a:xfrm>
                <a:off x="293724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Shape 38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Shape 39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Shape 40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Shape 41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" name="Group 493"/>
            <p:cNvGrpSpPr/>
            <p:nvPr/>
          </p:nvGrpSpPr>
          <p:grpSpPr>
            <a:xfrm>
              <a:off x="2468520" y="1333440"/>
              <a:ext cx="826200" cy="825480"/>
              <a:chOff x="2468520" y="1333440"/>
              <a:chExt cx="826200" cy="825480"/>
            </a:xfrm>
          </p:grpSpPr>
          <p:sp>
            <p:nvSpPr>
              <p:cNvPr id="11" name="Shape 8"/>
              <p:cNvSpPr/>
              <p:nvPr/>
            </p:nvSpPr>
            <p:spPr>
              <a:xfrm>
                <a:off x="2468520" y="1333440"/>
                <a:ext cx="342360" cy="4572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0"/>
                    </a:moveTo>
                    <a:lnTo>
                      <a:pt x="342900" y="457196"/>
                    </a:lnTo>
                    <a:lnTo>
                      <a:pt x="0" y="4571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Shape 9"/>
              <p:cNvSpPr/>
              <p:nvPr/>
            </p:nvSpPr>
            <p:spPr>
              <a:xfrm>
                <a:off x="2468520" y="1333440"/>
                <a:ext cx="456840" cy="3427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0"/>
                    </a:moveTo>
                    <a:lnTo>
                      <a:pt x="457200" y="342896"/>
                    </a:lnTo>
                    <a:lnTo>
                      <a:pt x="0" y="3428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Shape 22"/>
              <p:cNvSpPr/>
              <p:nvPr/>
            </p:nvSpPr>
            <p:spPr>
              <a:xfrm>
                <a:off x="2939400" y="1803240"/>
                <a:ext cx="355320" cy="355680"/>
              </a:xfrm>
              <a:custGeom>
                <a:avLst/>
                <a:gdLst>
                  <a:gd name="textAreaLeft" fmla="*/ 0 w 355320"/>
                  <a:gd name="textAreaRight" fmla="*/ 355320 w 3553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Shape 23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Shape 24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Shape 25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Shape 26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Group 494"/>
            <p:cNvGrpSpPr/>
            <p:nvPr/>
          </p:nvGrpSpPr>
          <p:grpSpPr>
            <a:xfrm>
              <a:off x="11828520" y="1333440"/>
              <a:ext cx="825480" cy="826920"/>
              <a:chOff x="11828520" y="1333440"/>
              <a:chExt cx="825480" cy="826920"/>
            </a:xfrm>
          </p:grpSpPr>
          <p:sp>
            <p:nvSpPr>
              <p:cNvPr id="19" name="Shape 10"/>
              <p:cNvSpPr/>
              <p:nvPr/>
            </p:nvSpPr>
            <p:spPr>
              <a:xfrm>
                <a:off x="12311280" y="1333440"/>
                <a:ext cx="342720" cy="45720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457196"/>
                    </a:moveTo>
                    <a:lnTo>
                      <a:pt x="0" y="4571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Shape 11"/>
              <p:cNvSpPr/>
              <p:nvPr/>
            </p:nvSpPr>
            <p:spPr>
              <a:xfrm>
                <a:off x="12196800" y="133344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342896"/>
                    </a:moveTo>
                    <a:lnTo>
                      <a:pt x="0" y="3428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Shape 27"/>
              <p:cNvSpPr/>
              <p:nvPr/>
            </p:nvSpPr>
            <p:spPr>
              <a:xfrm>
                <a:off x="11828520" y="1804680"/>
                <a:ext cx="355680" cy="355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Shape 28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Shape 29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Shape 30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Shape 31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Group 495"/>
            <p:cNvGrpSpPr/>
            <p:nvPr/>
          </p:nvGrpSpPr>
          <p:grpSpPr>
            <a:xfrm>
              <a:off x="11841120" y="8534520"/>
              <a:ext cx="824400" cy="825120"/>
              <a:chOff x="11841120" y="8534520"/>
              <a:chExt cx="824400" cy="825120"/>
            </a:xfrm>
          </p:grpSpPr>
          <p:sp>
            <p:nvSpPr>
              <p:cNvPr id="27" name="Shape 12"/>
              <p:cNvSpPr/>
              <p:nvPr/>
            </p:nvSpPr>
            <p:spPr>
              <a:xfrm>
                <a:off x="1232244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Shape 13"/>
              <p:cNvSpPr/>
              <p:nvPr/>
            </p:nvSpPr>
            <p:spPr>
              <a:xfrm>
                <a:off x="1220796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Shape 32"/>
              <p:cNvSpPr/>
              <p:nvPr/>
            </p:nvSpPr>
            <p:spPr>
              <a:xfrm>
                <a:off x="1184112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Shape 33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Shape 34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Shape 35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Shape 36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Group 496"/>
            <p:cNvGrpSpPr/>
            <p:nvPr/>
          </p:nvGrpSpPr>
          <p:grpSpPr>
            <a:xfrm>
              <a:off x="2468520" y="4889520"/>
              <a:ext cx="304560" cy="914400"/>
              <a:chOff x="2468520" y="4889520"/>
              <a:chExt cx="304560" cy="914400"/>
            </a:xfrm>
          </p:grpSpPr>
          <p:sp>
            <p:nvSpPr>
              <p:cNvPr id="35" name="Shape 14"/>
              <p:cNvSpPr/>
              <p:nvPr/>
            </p:nvSpPr>
            <p:spPr>
              <a:xfrm>
                <a:off x="246852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Shape 15"/>
              <p:cNvSpPr/>
              <p:nvPr/>
            </p:nvSpPr>
            <p:spPr>
              <a:xfrm>
                <a:off x="269712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Group 497"/>
            <p:cNvGrpSpPr/>
            <p:nvPr/>
          </p:nvGrpSpPr>
          <p:grpSpPr>
            <a:xfrm>
              <a:off x="12362040" y="4889520"/>
              <a:ext cx="304560" cy="914400"/>
              <a:chOff x="12362040" y="4889520"/>
              <a:chExt cx="304560" cy="914400"/>
            </a:xfrm>
          </p:grpSpPr>
          <p:sp>
            <p:nvSpPr>
              <p:cNvPr id="38" name="Shape 16"/>
              <p:cNvSpPr/>
              <p:nvPr/>
            </p:nvSpPr>
            <p:spPr>
              <a:xfrm>
                <a:off x="1236204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Shape 17"/>
              <p:cNvSpPr/>
              <p:nvPr/>
            </p:nvSpPr>
            <p:spPr>
              <a:xfrm>
                <a:off x="1243800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" name="Group 498"/>
            <p:cNvGrpSpPr/>
            <p:nvPr/>
          </p:nvGrpSpPr>
          <p:grpSpPr>
            <a:xfrm>
              <a:off x="7103880" y="1333440"/>
              <a:ext cx="914400" cy="304560"/>
              <a:chOff x="7103880" y="1333440"/>
              <a:chExt cx="914400" cy="304560"/>
            </a:xfrm>
          </p:grpSpPr>
          <p:sp>
            <p:nvSpPr>
              <p:cNvPr id="41" name="Shape 18"/>
              <p:cNvSpPr/>
              <p:nvPr/>
            </p:nvSpPr>
            <p:spPr>
              <a:xfrm>
                <a:off x="7103880" y="15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Shape 19"/>
              <p:cNvSpPr/>
              <p:nvPr/>
            </p:nvSpPr>
            <p:spPr>
              <a:xfrm>
                <a:off x="7561080" y="1333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6">
                    <a:moveTo>
                      <a:pt x="0" y="30479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" name="Group 499"/>
            <p:cNvGrpSpPr/>
            <p:nvPr/>
          </p:nvGrpSpPr>
          <p:grpSpPr>
            <a:xfrm>
              <a:off x="7103880" y="9055440"/>
              <a:ext cx="914400" cy="304560"/>
              <a:chOff x="7103880" y="9055440"/>
              <a:chExt cx="914400" cy="304560"/>
            </a:xfrm>
          </p:grpSpPr>
          <p:sp>
            <p:nvSpPr>
              <p:cNvPr id="44" name="Shape 20"/>
              <p:cNvSpPr/>
              <p:nvPr/>
            </p:nvSpPr>
            <p:spPr>
              <a:xfrm>
                <a:off x="7103880" y="913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Shape 21"/>
              <p:cNvSpPr/>
              <p:nvPr/>
            </p:nvSpPr>
            <p:spPr>
              <a:xfrm>
                <a:off x="7561080" y="9055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6" name="図 3" descr=""/>
          <p:cNvPicPr/>
          <p:nvPr/>
        </p:nvPicPr>
        <p:blipFill>
          <a:blip r:embed="rId2"/>
          <a:stretch/>
        </p:blipFill>
        <p:spPr>
          <a:xfrm>
            <a:off x="2530440" y="517680"/>
            <a:ext cx="10083960" cy="74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6"/>
          <p:cNvSpPr/>
          <p:nvPr/>
        </p:nvSpPr>
        <p:spPr>
          <a:xfrm>
            <a:off x="2811600" y="1682640"/>
            <a:ext cx="9502560" cy="7340760"/>
          </a:xfrm>
          <a:custGeom>
            <a:avLst/>
            <a:gdLst>
              <a:gd name="textAreaLeft" fmla="*/ 0 w 9502560"/>
              <a:gd name="textAreaRight" fmla="*/ 9502920 w 9502560"/>
              <a:gd name="textAreaTop" fmla="*/ 0 h 7340760"/>
              <a:gd name="textAreaBottom" fmla="*/ 7341120 h 7340760"/>
            </a:gdLst>
            <a:ahLst/>
            <a:rect l="textAreaLeft" t="textAreaTop" r="textAreaRight" b="textAreaBottom"/>
            <a:pathLst>
              <a:path w="9503563" h="7340714">
                <a:moveTo>
                  <a:pt x="0" y="7340714"/>
                </a:moveTo>
                <a:lnTo>
                  <a:pt x="9503563" y="7340714"/>
                </a:lnTo>
                <a:lnTo>
                  <a:pt x="9503563" y="0"/>
                </a:lnTo>
                <a:lnTo>
                  <a:pt x="0" y="0"/>
                </a:lnTo>
                <a:lnTo>
                  <a:pt x="0" y="7340714"/>
                </a:lnTo>
                <a:close/>
              </a:path>
            </a:pathLst>
          </a:custGeom>
          <a:noFill/>
          <a:ln w="6480">
            <a:solidFill>
              <a:srgbClr val="18171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グループ化 59"/>
          <p:cNvGrpSpPr/>
          <p:nvPr/>
        </p:nvGrpSpPr>
        <p:grpSpPr>
          <a:xfrm>
            <a:off x="2468520" y="1333440"/>
            <a:ext cx="10198080" cy="8026560"/>
            <a:chOff x="2468520" y="1333440"/>
            <a:chExt cx="10198080" cy="8026560"/>
          </a:xfrm>
        </p:grpSpPr>
        <p:grpSp>
          <p:nvGrpSpPr>
            <p:cNvPr id="85" name="Group 492"/>
            <p:cNvGrpSpPr/>
            <p:nvPr/>
          </p:nvGrpSpPr>
          <p:grpSpPr>
            <a:xfrm>
              <a:off x="2468520" y="8534520"/>
              <a:ext cx="824400" cy="825120"/>
              <a:chOff x="2468520" y="8534520"/>
              <a:chExt cx="824400" cy="825120"/>
            </a:xfrm>
          </p:grpSpPr>
          <p:sp>
            <p:nvSpPr>
              <p:cNvPr id="86" name="Shape 6"/>
              <p:cNvSpPr/>
              <p:nvPr/>
            </p:nvSpPr>
            <p:spPr>
              <a:xfrm>
                <a:off x="246852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0" y="0"/>
                    </a:moveTo>
                    <a:lnTo>
                      <a:pt x="342900" y="0"/>
                    </a:lnTo>
                    <a:lnTo>
                      <a:pt x="34290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Shape 7"/>
              <p:cNvSpPr/>
              <p:nvPr/>
            </p:nvSpPr>
            <p:spPr>
              <a:xfrm>
                <a:off x="246852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457200" y="342900"/>
                    </a:moveTo>
                    <a:lnTo>
                      <a:pt x="457200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Shape 37"/>
              <p:cNvSpPr/>
              <p:nvPr/>
            </p:nvSpPr>
            <p:spPr>
              <a:xfrm>
                <a:off x="293724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Shape 38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Shape 39"/>
              <p:cNvSpPr/>
              <p:nvPr/>
            </p:nvSpPr>
            <p:spPr>
              <a:xfrm>
                <a:off x="293724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Shape 40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Shape 41"/>
              <p:cNvSpPr/>
              <p:nvPr/>
            </p:nvSpPr>
            <p:spPr>
              <a:xfrm>
                <a:off x="311364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" name="Group 493"/>
            <p:cNvGrpSpPr/>
            <p:nvPr/>
          </p:nvGrpSpPr>
          <p:grpSpPr>
            <a:xfrm>
              <a:off x="2468520" y="1333440"/>
              <a:ext cx="826200" cy="825480"/>
              <a:chOff x="2468520" y="1333440"/>
              <a:chExt cx="826200" cy="825480"/>
            </a:xfrm>
          </p:grpSpPr>
          <p:sp>
            <p:nvSpPr>
              <p:cNvPr id="94" name="Shape 8"/>
              <p:cNvSpPr/>
              <p:nvPr/>
            </p:nvSpPr>
            <p:spPr>
              <a:xfrm>
                <a:off x="2468520" y="1333440"/>
                <a:ext cx="342360" cy="45720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0"/>
                    </a:moveTo>
                    <a:lnTo>
                      <a:pt x="342900" y="457196"/>
                    </a:lnTo>
                    <a:lnTo>
                      <a:pt x="0" y="4571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Shape 9"/>
              <p:cNvSpPr/>
              <p:nvPr/>
            </p:nvSpPr>
            <p:spPr>
              <a:xfrm>
                <a:off x="2468520" y="1333440"/>
                <a:ext cx="456840" cy="3427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0"/>
                    </a:moveTo>
                    <a:lnTo>
                      <a:pt x="457200" y="342896"/>
                    </a:lnTo>
                    <a:lnTo>
                      <a:pt x="0" y="342896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Shape 22"/>
              <p:cNvSpPr/>
              <p:nvPr/>
            </p:nvSpPr>
            <p:spPr>
              <a:xfrm>
                <a:off x="2939400" y="1803240"/>
                <a:ext cx="355320" cy="355680"/>
              </a:xfrm>
              <a:custGeom>
                <a:avLst/>
                <a:gdLst>
                  <a:gd name="textAreaLeft" fmla="*/ 0 w 355320"/>
                  <a:gd name="textAreaRight" fmla="*/ 355320 w 35532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Shape 23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Shape 24"/>
              <p:cNvSpPr/>
              <p:nvPr/>
            </p:nvSpPr>
            <p:spPr>
              <a:xfrm>
                <a:off x="2939400" y="1979640"/>
                <a:ext cx="35532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Shape 25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Shape 26"/>
              <p:cNvSpPr/>
              <p:nvPr/>
            </p:nvSpPr>
            <p:spPr>
              <a:xfrm>
                <a:off x="3115800" y="180324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" name="Group 494"/>
            <p:cNvGrpSpPr/>
            <p:nvPr/>
          </p:nvGrpSpPr>
          <p:grpSpPr>
            <a:xfrm>
              <a:off x="11828520" y="1333440"/>
              <a:ext cx="825480" cy="826920"/>
              <a:chOff x="11828520" y="1333440"/>
              <a:chExt cx="825480" cy="826920"/>
            </a:xfrm>
          </p:grpSpPr>
          <p:sp>
            <p:nvSpPr>
              <p:cNvPr id="102" name="Shape 10"/>
              <p:cNvSpPr/>
              <p:nvPr/>
            </p:nvSpPr>
            <p:spPr>
              <a:xfrm>
                <a:off x="12311280" y="1333440"/>
                <a:ext cx="342720" cy="45720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342900" h="457196">
                    <a:moveTo>
                      <a:pt x="342900" y="457196"/>
                    </a:moveTo>
                    <a:lnTo>
                      <a:pt x="0" y="4571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Shape 11"/>
              <p:cNvSpPr/>
              <p:nvPr/>
            </p:nvSpPr>
            <p:spPr>
              <a:xfrm>
                <a:off x="12196800" y="1333440"/>
                <a:ext cx="457200" cy="3427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896">
                    <a:moveTo>
                      <a:pt x="457200" y="342896"/>
                    </a:moveTo>
                    <a:lnTo>
                      <a:pt x="0" y="342896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Shape 27"/>
              <p:cNvSpPr/>
              <p:nvPr/>
            </p:nvSpPr>
            <p:spPr>
              <a:xfrm>
                <a:off x="11828520" y="1804680"/>
                <a:ext cx="355680" cy="3556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Shape 28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Shape 29"/>
              <p:cNvSpPr/>
              <p:nvPr/>
            </p:nvSpPr>
            <p:spPr>
              <a:xfrm>
                <a:off x="11828520" y="198108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Shape 30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Shape 31"/>
              <p:cNvSpPr/>
              <p:nvPr/>
            </p:nvSpPr>
            <p:spPr>
              <a:xfrm>
                <a:off x="12004560" y="18046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Group 495"/>
            <p:cNvGrpSpPr/>
            <p:nvPr/>
          </p:nvGrpSpPr>
          <p:grpSpPr>
            <a:xfrm>
              <a:off x="11841120" y="8534520"/>
              <a:ext cx="824400" cy="825120"/>
              <a:chOff x="11841120" y="8534520"/>
              <a:chExt cx="824400" cy="825120"/>
            </a:xfrm>
          </p:grpSpPr>
          <p:sp>
            <p:nvSpPr>
              <p:cNvPr id="110" name="Shape 12"/>
              <p:cNvSpPr/>
              <p:nvPr/>
            </p:nvSpPr>
            <p:spPr>
              <a:xfrm>
                <a:off x="12322440" y="8902800"/>
                <a:ext cx="343080" cy="456840"/>
              </a:xfrm>
              <a:custGeom>
                <a:avLst/>
                <a:gdLst>
                  <a:gd name="textAreaLeft" fmla="*/ 0 w 343080"/>
                  <a:gd name="textAreaRight" fmla="*/ 343440 w 3430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342900" h="457200">
                    <a:moveTo>
                      <a:pt x="342900" y="0"/>
                    </a:moveTo>
                    <a:lnTo>
                      <a:pt x="0" y="0"/>
                    </a:lnTo>
                    <a:lnTo>
                      <a:pt x="0" y="4572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Shape 13"/>
              <p:cNvSpPr/>
              <p:nvPr/>
            </p:nvSpPr>
            <p:spPr>
              <a:xfrm>
                <a:off x="12207960" y="9016920"/>
                <a:ext cx="457560" cy="34272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457200" h="342900">
                    <a:moveTo>
                      <a:pt x="0" y="342900"/>
                    </a:moveTo>
                    <a:lnTo>
                      <a:pt x="0" y="0"/>
                    </a:lnTo>
                    <a:lnTo>
                      <a:pt x="4572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Shape 32"/>
              <p:cNvSpPr/>
              <p:nvPr/>
            </p:nvSpPr>
            <p:spPr>
              <a:xfrm>
                <a:off x="11841120" y="8534520"/>
                <a:ext cx="355680" cy="3553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355600" h="355600">
                    <a:moveTo>
                      <a:pt x="0" y="0"/>
                    </a:moveTo>
                    <a:lnTo>
                      <a:pt x="355600" y="0"/>
                    </a:lnTo>
                    <a:lnTo>
                      <a:pt x="355600" y="355600"/>
                    </a:lnTo>
                    <a:lnTo>
                      <a:pt x="0" y="355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Shape 33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355600" y="0"/>
                    </a:moveTo>
                    <a:lnTo>
                      <a:pt x="0" y="0"/>
                    </a:lnTo>
                    <a:lnTo>
                      <a:pt x="355600" y="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Shape 34"/>
              <p:cNvSpPr/>
              <p:nvPr/>
            </p:nvSpPr>
            <p:spPr>
              <a:xfrm>
                <a:off x="11841120" y="871056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355600" h="0">
                    <a:moveTo>
                      <a:pt x="0" y="0"/>
                    </a:moveTo>
                    <a:lnTo>
                      <a:pt x="355600" y="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Shape 35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355600"/>
                    </a:moveTo>
                    <a:lnTo>
                      <a:pt x="0" y="0"/>
                    </a:lnTo>
                    <a:lnTo>
                      <a:pt x="0" y="355600"/>
                    </a:lnTo>
                    <a:close/>
                  </a:path>
                </a:pathLst>
              </a:custGeom>
              <a:solidFill>
                <a:srgbClr val="fffef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Shape 36"/>
              <p:cNvSpPr/>
              <p:nvPr/>
            </p:nvSpPr>
            <p:spPr>
              <a:xfrm>
                <a:off x="12017160" y="8534520"/>
                <a:ext cx="360" cy="355320"/>
              </a:xfrm>
              <a:custGeom>
                <a:avLst/>
                <a:gdLst/>
                <a:ahLst/>
                <a:rect l="l" t="t" r="r" b="b"/>
                <a:pathLst>
                  <a:path w="0" h="355600">
                    <a:moveTo>
                      <a:pt x="0" y="0"/>
                    </a:moveTo>
                    <a:lnTo>
                      <a:pt x="0" y="355600"/>
                    </a:lnTo>
                  </a:path>
                </a:pathLst>
              </a:custGeom>
              <a:noFill/>
              <a:ln w="2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Group 496"/>
            <p:cNvGrpSpPr/>
            <p:nvPr/>
          </p:nvGrpSpPr>
          <p:grpSpPr>
            <a:xfrm>
              <a:off x="2468520" y="4889520"/>
              <a:ext cx="304560" cy="914400"/>
              <a:chOff x="2468520" y="4889520"/>
              <a:chExt cx="304560" cy="914400"/>
            </a:xfrm>
          </p:grpSpPr>
          <p:sp>
            <p:nvSpPr>
              <p:cNvPr id="118" name="Shape 14"/>
              <p:cNvSpPr/>
              <p:nvPr/>
            </p:nvSpPr>
            <p:spPr>
              <a:xfrm>
                <a:off x="246852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Shape 15"/>
              <p:cNvSpPr/>
              <p:nvPr/>
            </p:nvSpPr>
            <p:spPr>
              <a:xfrm>
                <a:off x="269712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oup 497"/>
            <p:cNvGrpSpPr/>
            <p:nvPr/>
          </p:nvGrpSpPr>
          <p:grpSpPr>
            <a:xfrm>
              <a:off x="12362040" y="4889520"/>
              <a:ext cx="304560" cy="914400"/>
              <a:chOff x="12362040" y="4889520"/>
              <a:chExt cx="304560" cy="914400"/>
            </a:xfrm>
          </p:grpSpPr>
          <p:sp>
            <p:nvSpPr>
              <p:cNvPr id="121" name="Shape 16"/>
              <p:cNvSpPr/>
              <p:nvPr/>
            </p:nvSpPr>
            <p:spPr>
              <a:xfrm>
                <a:off x="12362040" y="534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Shape 17"/>
              <p:cNvSpPr/>
              <p:nvPr/>
            </p:nvSpPr>
            <p:spPr>
              <a:xfrm>
                <a:off x="12438000" y="488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" name="Group 498"/>
            <p:cNvGrpSpPr/>
            <p:nvPr/>
          </p:nvGrpSpPr>
          <p:grpSpPr>
            <a:xfrm>
              <a:off x="7103880" y="1333440"/>
              <a:ext cx="914400" cy="304560"/>
              <a:chOff x="7103880" y="1333440"/>
              <a:chExt cx="914400" cy="304560"/>
            </a:xfrm>
          </p:grpSpPr>
          <p:sp>
            <p:nvSpPr>
              <p:cNvPr id="124" name="Shape 18"/>
              <p:cNvSpPr/>
              <p:nvPr/>
            </p:nvSpPr>
            <p:spPr>
              <a:xfrm>
                <a:off x="7103880" y="15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Shape 19"/>
              <p:cNvSpPr/>
              <p:nvPr/>
            </p:nvSpPr>
            <p:spPr>
              <a:xfrm>
                <a:off x="7561080" y="1333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796">
                    <a:moveTo>
                      <a:pt x="0" y="304796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499"/>
            <p:cNvGrpSpPr/>
            <p:nvPr/>
          </p:nvGrpSpPr>
          <p:grpSpPr>
            <a:xfrm>
              <a:off x="7103880" y="9055440"/>
              <a:ext cx="914400" cy="304560"/>
              <a:chOff x="7103880" y="9055440"/>
              <a:chExt cx="914400" cy="304560"/>
            </a:xfrm>
          </p:grpSpPr>
          <p:sp>
            <p:nvSpPr>
              <p:cNvPr id="127" name="Shape 20"/>
              <p:cNvSpPr/>
              <p:nvPr/>
            </p:nvSpPr>
            <p:spPr>
              <a:xfrm>
                <a:off x="7103880" y="913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Shape 21"/>
              <p:cNvSpPr/>
              <p:nvPr/>
            </p:nvSpPr>
            <p:spPr>
              <a:xfrm>
                <a:off x="7561080" y="90554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9" name="図 3" descr=""/>
          <p:cNvPicPr/>
          <p:nvPr/>
        </p:nvPicPr>
        <p:blipFill>
          <a:blip r:embed="rId2"/>
          <a:stretch/>
        </p:blipFill>
        <p:spPr>
          <a:xfrm>
            <a:off x="2530440" y="517680"/>
            <a:ext cx="10083960" cy="745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3"/>
          <p:cNvSpPr/>
          <p:nvPr/>
        </p:nvSpPr>
        <p:spPr>
          <a:xfrm>
            <a:off x="2943360" y="9636120"/>
            <a:ext cx="93484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うちわの型抜きをする際、天地左右で最大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7mm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のズレが生じる可能性がございます。文字や絵柄で切れて困るものは、ピンクの破線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図 56" descr=""/>
          <p:cNvPicPr/>
          <p:nvPr/>
        </p:nvPicPr>
        <p:blipFill>
          <a:blip r:embed="rId3"/>
          <a:stretch/>
        </p:blipFill>
        <p:spPr>
          <a:xfrm>
            <a:off x="12472920" y="9086760"/>
            <a:ext cx="2492280" cy="1509840"/>
          </a:xfrm>
          <a:prstGeom prst="rect">
            <a:avLst/>
          </a:prstGeom>
          <a:ln w="0">
            <a:noFill/>
          </a:ln>
        </p:spPr>
      </p:pic>
      <p:grpSp>
        <p:nvGrpSpPr>
          <p:cNvPr id="132" name="グループ化 57"/>
          <p:cNvGrpSpPr/>
          <p:nvPr/>
        </p:nvGrpSpPr>
        <p:grpSpPr>
          <a:xfrm>
            <a:off x="711360" y="1976400"/>
            <a:ext cx="11234520" cy="6738840"/>
            <a:chOff x="711360" y="1976400"/>
            <a:chExt cx="11234520" cy="6738840"/>
          </a:xfrm>
        </p:grpSpPr>
        <p:grpSp>
          <p:nvGrpSpPr>
            <p:cNvPr id="133" name="Group 2"/>
            <p:cNvGrpSpPr/>
            <p:nvPr/>
          </p:nvGrpSpPr>
          <p:grpSpPr>
            <a:xfrm>
              <a:off x="3175920" y="1976400"/>
              <a:ext cx="8769960" cy="6738840"/>
              <a:chOff x="3175920" y="1976400"/>
              <a:chExt cx="8769960" cy="6738840"/>
            </a:xfrm>
          </p:grpSpPr>
          <p:sp>
            <p:nvSpPr>
              <p:cNvPr id="134" name="Shape 7"/>
              <p:cNvSpPr/>
              <p:nvPr/>
            </p:nvSpPr>
            <p:spPr>
              <a:xfrm>
                <a:off x="3175920" y="1976400"/>
                <a:ext cx="8769960" cy="6738840"/>
              </a:xfrm>
              <a:custGeom>
                <a:avLst/>
                <a:gdLst>
                  <a:gd name="textAreaLeft" fmla="*/ 0 w 8769960"/>
                  <a:gd name="textAreaRight" fmla="*/ 8770320 w 8769960"/>
                  <a:gd name="textAreaTop" fmla="*/ 0 h 6738840"/>
                  <a:gd name="textAreaBottom" fmla="*/ 6739200 h 6738840"/>
                </a:gdLst>
                <a:ahLst/>
                <a:rect l="textAreaLeft" t="textAreaTop" r="textAreaRight" b="textAreaBottom"/>
                <a:pathLst>
                  <a:path w="8769896" h="6739242">
                    <a:moveTo>
                      <a:pt x="8599310" y="2253615"/>
                    </a:moveTo>
                    <a:cubicBezTo>
                      <a:pt x="8347025" y="1112012"/>
                      <a:pt x="7403148" y="598488"/>
                      <a:pt x="6455093" y="301435"/>
                    </a:cubicBezTo>
                    <a:cubicBezTo>
                      <a:pt x="5493068" y="0"/>
                      <a:pt x="4384980" y="20294"/>
                      <a:pt x="4384980" y="20294"/>
                    </a:cubicBezTo>
                    <a:cubicBezTo>
                      <a:pt x="4384980" y="20294"/>
                      <a:pt x="3276816" y="0"/>
                      <a:pt x="2314791" y="301435"/>
                    </a:cubicBezTo>
                    <a:cubicBezTo>
                      <a:pt x="1366736" y="598488"/>
                      <a:pt x="422885" y="1112012"/>
                      <a:pt x="170586" y="2253615"/>
                    </a:cubicBezTo>
                    <a:cubicBezTo>
                      <a:pt x="0" y="3025534"/>
                      <a:pt x="12891" y="3929646"/>
                      <a:pt x="436664" y="4834521"/>
                    </a:cubicBezTo>
                    <a:cubicBezTo>
                      <a:pt x="977316" y="5988965"/>
                      <a:pt x="1990687" y="6739242"/>
                      <a:pt x="1990687" y="6739242"/>
                    </a:cubicBezTo>
                    <a:cubicBezTo>
                      <a:pt x="1990687" y="6739242"/>
                      <a:pt x="2390140" y="6340285"/>
                      <a:pt x="3013291" y="6088621"/>
                    </a:cubicBezTo>
                    <a:cubicBezTo>
                      <a:pt x="3673691" y="5821922"/>
                      <a:pt x="4384980" y="5829923"/>
                      <a:pt x="4384980" y="5829923"/>
                    </a:cubicBezTo>
                    <a:cubicBezTo>
                      <a:pt x="4384980" y="5829923"/>
                      <a:pt x="5096193" y="5821922"/>
                      <a:pt x="5756593" y="6088621"/>
                    </a:cubicBezTo>
                    <a:cubicBezTo>
                      <a:pt x="6379731" y="6340285"/>
                      <a:pt x="6779197" y="6739242"/>
                      <a:pt x="6779197" y="6739242"/>
                    </a:cubicBezTo>
                    <a:cubicBezTo>
                      <a:pt x="6779197" y="6739242"/>
                      <a:pt x="7792594" y="5988965"/>
                      <a:pt x="8333233" y="4834521"/>
                    </a:cubicBezTo>
                    <a:cubicBezTo>
                      <a:pt x="8757019" y="3929646"/>
                      <a:pt x="8769896" y="3025534"/>
                      <a:pt x="8599310" y="2253615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Shape 8"/>
              <p:cNvSpPr/>
              <p:nvPr/>
            </p:nvSpPr>
            <p:spPr>
              <a:xfrm>
                <a:off x="3534480" y="2342520"/>
                <a:ext cx="8051040" cy="5935680"/>
              </a:xfrm>
              <a:custGeom>
                <a:avLst/>
                <a:gdLst>
                  <a:gd name="textAreaLeft" fmla="*/ 0 w 8051040"/>
                  <a:gd name="textAreaRight" fmla="*/ 8051400 w 8051040"/>
                  <a:gd name="textAreaTop" fmla="*/ 0 h 5935680"/>
                  <a:gd name="textAreaBottom" fmla="*/ 5936040 h 5935680"/>
                </a:gdLst>
                <a:ahLst/>
                <a:rect l="textAreaLeft" t="textAreaTop" r="textAreaRight" b="textAreaBottom"/>
                <a:pathLst>
                  <a:path w="8051457" h="5935612">
                    <a:moveTo>
                      <a:pt x="7894841" y="2028254"/>
                    </a:moveTo>
                    <a:cubicBezTo>
                      <a:pt x="7663219" y="1000811"/>
                      <a:pt x="6796685" y="538645"/>
                      <a:pt x="5926265" y="271285"/>
                    </a:cubicBezTo>
                    <a:cubicBezTo>
                      <a:pt x="5043043" y="0"/>
                      <a:pt x="4025722" y="18263"/>
                      <a:pt x="4025722" y="18263"/>
                    </a:cubicBezTo>
                    <a:cubicBezTo>
                      <a:pt x="4025722" y="18263"/>
                      <a:pt x="3008414" y="0"/>
                      <a:pt x="2125205" y="271285"/>
                    </a:cubicBezTo>
                    <a:cubicBezTo>
                      <a:pt x="1254798" y="538645"/>
                      <a:pt x="388265" y="1000811"/>
                      <a:pt x="156629" y="2028254"/>
                    </a:cubicBezTo>
                    <a:cubicBezTo>
                      <a:pt x="0" y="2722982"/>
                      <a:pt x="11849" y="3536594"/>
                      <a:pt x="400914" y="4350982"/>
                    </a:cubicBezTo>
                    <a:cubicBezTo>
                      <a:pt x="897268" y="5389982"/>
                      <a:pt x="1647647" y="5935612"/>
                      <a:pt x="1647647" y="5935612"/>
                    </a:cubicBezTo>
                    <a:cubicBezTo>
                      <a:pt x="1647647" y="5935612"/>
                      <a:pt x="2103793" y="5546763"/>
                      <a:pt x="2766479" y="5314049"/>
                    </a:cubicBezTo>
                    <a:cubicBezTo>
                      <a:pt x="3381731" y="5097970"/>
                      <a:pt x="4025722" y="5099215"/>
                      <a:pt x="4025722" y="5099215"/>
                    </a:cubicBezTo>
                    <a:cubicBezTo>
                      <a:pt x="4025722" y="5099215"/>
                      <a:pt x="4671149" y="5094034"/>
                      <a:pt x="5284991" y="5314049"/>
                    </a:cubicBezTo>
                    <a:cubicBezTo>
                      <a:pt x="5981510" y="5563705"/>
                      <a:pt x="6403836" y="5917603"/>
                      <a:pt x="6403836" y="5917603"/>
                    </a:cubicBezTo>
                    <a:cubicBezTo>
                      <a:pt x="6403836" y="5917603"/>
                      <a:pt x="7154202" y="5389982"/>
                      <a:pt x="7650569" y="4350982"/>
                    </a:cubicBezTo>
                    <a:cubicBezTo>
                      <a:pt x="8039621" y="3536594"/>
                      <a:pt x="8051457" y="2722982"/>
                      <a:pt x="7894841" y="2028254"/>
                    </a:cubicBezTo>
                    <a:close/>
                  </a:path>
                </a:pathLst>
              </a:cu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AutoShape 121"/>
            <p:cNvSpPr/>
            <p:nvPr/>
          </p:nvSpPr>
          <p:spPr>
            <a:xfrm>
              <a:off x="1487520" y="6060960"/>
              <a:ext cx="1509480" cy="879480"/>
            </a:xfrm>
            <a:prstGeom prst="wedgeRoundRectCallout">
              <a:avLst>
                <a:gd name="adj1" fmla="val 89671"/>
                <a:gd name="adj2" fmla="val -471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AutoShape 122"/>
            <p:cNvSpPr/>
            <p:nvPr/>
          </p:nvSpPr>
          <p:spPr>
            <a:xfrm>
              <a:off x="1487520" y="3403440"/>
              <a:ext cx="1455480" cy="841320"/>
            </a:xfrm>
            <a:prstGeom prst="wedgeRoundRectCallout">
              <a:avLst>
                <a:gd name="adj1" fmla="val 94912"/>
                <a:gd name="adj2" fmla="val -287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122"/>
            <p:cNvSpPr/>
            <p:nvPr/>
          </p:nvSpPr>
          <p:spPr>
            <a:xfrm>
              <a:off x="711360" y="2085840"/>
              <a:ext cx="1455480" cy="841320"/>
            </a:xfrm>
            <a:prstGeom prst="wedgeRoundRectCallout">
              <a:avLst>
                <a:gd name="adj1" fmla="val 94912"/>
                <a:gd name="adj2" fmla="val -287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7T03:38:47Z</dcterms:created>
  <dc:creator>irodori011</dc:creator>
  <dc:description/>
  <dc:language>en-US</dc:language>
  <cp:lastModifiedBy>HP Inc.</cp:lastModifiedBy>
  <dcterms:modified xsi:type="dcterms:W3CDTF">2021-05-14T06:07:34Z</dcterms:modified>
  <cp:revision>10</cp:revision>
  <dc:subject/>
  <dc:title>PowerPoint プレゼンテーション</dc:title>
</cp:coreProperties>
</file>