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1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2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5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8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9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12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15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16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19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22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23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26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" name="図 3" descr=""/>
          <p:cNvPicPr/>
          <p:nvPr/>
        </p:nvPicPr>
        <p:blipFill>
          <a:blip r:embed="rId2"/>
          <a:stretch/>
        </p:blipFill>
        <p:spPr>
          <a:xfrm>
            <a:off x="1755720" y="318960"/>
            <a:ext cx="652932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67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68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0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71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74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75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78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81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82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4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85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7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88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89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92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図 3" descr=""/>
          <p:cNvPicPr/>
          <p:nvPr/>
        </p:nvPicPr>
        <p:blipFill>
          <a:blip r:embed="rId2"/>
          <a:stretch/>
        </p:blipFill>
        <p:spPr>
          <a:xfrm>
            <a:off x="1755720" y="318960"/>
            <a:ext cx="6529320" cy="6699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グループ化 32"/>
          <p:cNvGrpSpPr/>
          <p:nvPr/>
        </p:nvGrpSpPr>
        <p:grpSpPr>
          <a:xfrm>
            <a:off x="41400" y="1440000"/>
            <a:ext cx="8599320" cy="7197480"/>
            <a:chOff x="41400" y="1440000"/>
            <a:chExt cx="8599320" cy="7197480"/>
          </a:xfrm>
        </p:grpSpPr>
        <p:sp>
          <p:nvSpPr>
            <p:cNvPr id="98" name="Oval 5"/>
            <p:cNvSpPr/>
            <p:nvPr/>
          </p:nvSpPr>
          <p:spPr>
            <a:xfrm>
              <a:off x="1443600" y="1440000"/>
              <a:ext cx="7197120" cy="7197480"/>
            </a:xfrm>
            <a:prstGeom prst="ellipse">
              <a:avLst/>
            </a:prstGeom>
            <a:noFill/>
            <a:ln w="3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1695960" y="1695600"/>
              <a:ext cx="6695280" cy="6696000"/>
            </a:xfrm>
            <a:prstGeom prst="ellipse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4502520" y="6980400"/>
              <a:ext cx="1079280" cy="1082520"/>
            </a:xfrm>
            <a:prstGeom prst="ellipse">
              <a:avLst/>
            </a:prstGeom>
            <a:noFill/>
            <a:ln w="3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4251960" y="6728400"/>
              <a:ext cx="1583640" cy="1584000"/>
            </a:xfrm>
            <a:prstGeom prst="ellipse">
              <a:avLst/>
            </a:prstGeom>
            <a:noFill/>
            <a:ln w="324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21"/>
            <p:cNvSpPr/>
            <p:nvPr/>
          </p:nvSpPr>
          <p:spPr>
            <a:xfrm>
              <a:off x="41400" y="6742080"/>
              <a:ext cx="1134000" cy="879480"/>
            </a:xfrm>
            <a:prstGeom prst="wedgeRoundRectCallout">
              <a:avLst>
                <a:gd name="adj1" fmla="val 105166"/>
                <a:gd name="adj2" fmla="val -8842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122"/>
            <p:cNvSpPr/>
            <p:nvPr/>
          </p:nvSpPr>
          <p:spPr>
            <a:xfrm>
              <a:off x="41400" y="3944880"/>
              <a:ext cx="1093320" cy="841320"/>
            </a:xfrm>
            <a:prstGeom prst="wedgeRoundRectCallout">
              <a:avLst>
                <a:gd name="adj1" fmla="val 94814"/>
                <a:gd name="adj2" fmla="val -52537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122"/>
            <p:cNvSpPr/>
            <p:nvPr/>
          </p:nvSpPr>
          <p:spPr>
            <a:xfrm>
              <a:off x="41400" y="2766960"/>
              <a:ext cx="1093320" cy="841320"/>
            </a:xfrm>
            <a:prstGeom prst="wedgeRoundRectCallout">
              <a:avLst>
                <a:gd name="adj1" fmla="val 67074"/>
                <a:gd name="adj2" fmla="val -3770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フチなし印刷の場合は、背景や写真を黒い線まで伸ばします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Text Box 123"/>
          <p:cNvSpPr/>
          <p:nvPr/>
        </p:nvSpPr>
        <p:spPr>
          <a:xfrm>
            <a:off x="216000" y="9121680"/>
            <a:ext cx="7786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線（型抜き線）になります。フチなし印刷をご希望の方は、外側のトンボ（黒の破線部分）まで色や写真を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文字や絵柄で切れて困るものは、ピンクの破線内に配置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9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を作成する際は、説明部分（ピンクや青の破線、吹き出し文字等）を削除してください。また、テンプレートと同じサイズになっているか確認し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図 56" descr=""/>
          <p:cNvPicPr/>
          <p:nvPr/>
        </p:nvPicPr>
        <p:blipFill>
          <a:blip r:embed="rId3"/>
          <a:stretch/>
        </p:blipFill>
        <p:spPr>
          <a:xfrm>
            <a:off x="8136000" y="8926560"/>
            <a:ext cx="1908000" cy="1154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428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357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38200" indent="-2858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201456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16:23Z</dcterms:created>
  <dc:creator>suprint</dc:creator>
  <dc:description/>
  <dc:language>en-US</dc:language>
  <cp:lastModifiedBy>HP Inc.</cp:lastModifiedBy>
  <dcterms:modified xsi:type="dcterms:W3CDTF">2021-05-19T00:43:11Z</dcterms:modified>
  <cp:revision>31</cp:revision>
  <dc:subject/>
  <dc:title>PowerPoint プレゼンテーション</dc:title>
</cp:coreProperties>
</file>