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"/>
          <p:cNvGrpSpPr/>
          <p:nvPr/>
        </p:nvGrpSpPr>
        <p:grpSpPr>
          <a:xfrm>
            <a:off x="3263760" y="1717560"/>
            <a:ext cx="8595000" cy="7253280"/>
            <a:chOff x="3263760" y="1717560"/>
            <a:chExt cx="8595000" cy="7253280"/>
          </a:xfrm>
        </p:grpSpPr>
        <p:grpSp>
          <p:nvGrpSpPr>
            <p:cNvPr id="1" name="Group 442"/>
            <p:cNvGrpSpPr/>
            <p:nvPr/>
          </p:nvGrpSpPr>
          <p:grpSpPr>
            <a:xfrm>
              <a:off x="7104240" y="1717560"/>
              <a:ext cx="914400" cy="304560"/>
              <a:chOff x="7104240" y="1717560"/>
              <a:chExt cx="914400" cy="304560"/>
            </a:xfrm>
          </p:grpSpPr>
          <p:sp>
            <p:nvSpPr>
              <p:cNvPr id="2" name="Shape 18"/>
              <p:cNvSpPr/>
              <p:nvPr/>
            </p:nvSpPr>
            <p:spPr>
              <a:xfrm>
                <a:off x="7104240" y="19461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13" h="0">
                    <a:moveTo>
                      <a:pt x="0" y="0"/>
                    </a:moveTo>
                    <a:lnTo>
                      <a:pt x="9144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Shape 19"/>
              <p:cNvSpPr/>
              <p:nvPr/>
            </p:nvSpPr>
            <p:spPr>
              <a:xfrm>
                <a:off x="7561440" y="1717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5">
                    <a:moveTo>
                      <a:pt x="0" y="304795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グループ化 1"/>
            <p:cNvGrpSpPr/>
            <p:nvPr/>
          </p:nvGrpSpPr>
          <p:grpSpPr>
            <a:xfrm>
              <a:off x="3263760" y="1717560"/>
              <a:ext cx="8595000" cy="7253280"/>
              <a:chOff x="3263760" y="1717560"/>
              <a:chExt cx="8595000" cy="7253280"/>
            </a:xfrm>
          </p:grpSpPr>
          <p:grpSp>
            <p:nvGrpSpPr>
              <p:cNvPr id="5" name="Group 436"/>
              <p:cNvGrpSpPr/>
              <p:nvPr/>
            </p:nvGrpSpPr>
            <p:grpSpPr>
              <a:xfrm>
                <a:off x="3263760" y="8148240"/>
                <a:ext cx="820080" cy="819720"/>
                <a:chOff x="3263760" y="8148240"/>
                <a:chExt cx="820080" cy="819720"/>
              </a:xfrm>
            </p:grpSpPr>
            <p:sp>
              <p:nvSpPr>
                <p:cNvPr id="6" name="Shape 6"/>
                <p:cNvSpPr/>
                <p:nvPr/>
              </p:nvSpPr>
              <p:spPr>
                <a:xfrm>
                  <a:off x="3263760" y="8510400"/>
                  <a:ext cx="342720" cy="45756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900" h="457200">
                      <a:moveTo>
                        <a:pt x="0" y="0"/>
                      </a:moveTo>
                      <a:lnTo>
                        <a:pt x="342900" y="0"/>
                      </a:lnTo>
                      <a:lnTo>
                        <a:pt x="342900" y="4572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" name="Shape 7"/>
                <p:cNvSpPr/>
                <p:nvPr/>
              </p:nvSpPr>
              <p:spPr>
                <a:xfrm>
                  <a:off x="3263760" y="8624880"/>
                  <a:ext cx="456840" cy="34308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200" h="342900">
                      <a:moveTo>
                        <a:pt x="457200" y="342900"/>
                      </a:moveTo>
                      <a:lnTo>
                        <a:pt x="45720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Shape 29"/>
                <p:cNvSpPr/>
                <p:nvPr/>
              </p:nvSpPr>
              <p:spPr>
                <a:xfrm>
                  <a:off x="3723840" y="83275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Shape 30"/>
                <p:cNvSpPr/>
                <p:nvPr/>
              </p:nvSpPr>
              <p:spPr>
                <a:xfrm>
                  <a:off x="390456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437"/>
              <p:cNvGrpSpPr/>
              <p:nvPr/>
            </p:nvGrpSpPr>
            <p:grpSpPr>
              <a:xfrm>
                <a:off x="3263760" y="1717560"/>
                <a:ext cx="820080" cy="820440"/>
                <a:chOff x="3263760" y="1717560"/>
                <a:chExt cx="820080" cy="820440"/>
              </a:xfrm>
            </p:grpSpPr>
            <p:sp>
              <p:nvSpPr>
                <p:cNvPr id="11" name="Shape 8"/>
                <p:cNvSpPr/>
                <p:nvPr/>
              </p:nvSpPr>
              <p:spPr>
                <a:xfrm>
                  <a:off x="3263760" y="1717560"/>
                  <a:ext cx="342720" cy="45720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900" h="457195">
                      <a:moveTo>
                        <a:pt x="342900" y="0"/>
                      </a:moveTo>
                      <a:lnTo>
                        <a:pt x="342900" y="457195"/>
                      </a:lnTo>
                      <a:lnTo>
                        <a:pt x="0" y="4571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Shape 9"/>
                <p:cNvSpPr/>
                <p:nvPr/>
              </p:nvSpPr>
              <p:spPr>
                <a:xfrm>
                  <a:off x="3263760" y="1717560"/>
                  <a:ext cx="456840" cy="34272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200" h="342895">
                      <a:moveTo>
                        <a:pt x="457200" y="0"/>
                      </a:moveTo>
                      <a:lnTo>
                        <a:pt x="457200" y="342895"/>
                      </a:lnTo>
                      <a:lnTo>
                        <a:pt x="0" y="3428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Shape 23"/>
                <p:cNvSpPr/>
                <p:nvPr/>
              </p:nvSpPr>
              <p:spPr>
                <a:xfrm>
                  <a:off x="3723840" y="23587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" name="Shape 24"/>
                <p:cNvSpPr/>
                <p:nvPr/>
              </p:nvSpPr>
              <p:spPr>
                <a:xfrm>
                  <a:off x="390456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" name="Group 438"/>
              <p:cNvGrpSpPr/>
              <p:nvPr/>
            </p:nvGrpSpPr>
            <p:grpSpPr>
              <a:xfrm>
                <a:off x="11036160" y="1717560"/>
                <a:ext cx="820080" cy="820440"/>
                <a:chOff x="11036160" y="1717560"/>
                <a:chExt cx="820080" cy="820440"/>
              </a:xfrm>
            </p:grpSpPr>
            <p:sp>
              <p:nvSpPr>
                <p:cNvPr id="16" name="Shape 10"/>
                <p:cNvSpPr/>
                <p:nvPr/>
              </p:nvSpPr>
              <p:spPr>
                <a:xfrm>
                  <a:off x="11513160" y="1717560"/>
                  <a:ext cx="343080" cy="45720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898" h="457195">
                      <a:moveTo>
                        <a:pt x="342898" y="457195"/>
                      </a:moveTo>
                      <a:lnTo>
                        <a:pt x="0" y="4571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" name="Shape 11"/>
                <p:cNvSpPr/>
                <p:nvPr/>
              </p:nvSpPr>
              <p:spPr>
                <a:xfrm>
                  <a:off x="11398680" y="1717560"/>
                  <a:ext cx="457560" cy="34272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198" h="342895">
                      <a:moveTo>
                        <a:pt x="457198" y="342895"/>
                      </a:moveTo>
                      <a:lnTo>
                        <a:pt x="0" y="3428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" name="Shape 26"/>
                <p:cNvSpPr/>
                <p:nvPr/>
              </p:nvSpPr>
              <p:spPr>
                <a:xfrm>
                  <a:off x="11036160" y="23587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" name="Shape 27"/>
                <p:cNvSpPr/>
                <p:nvPr/>
              </p:nvSpPr>
              <p:spPr>
                <a:xfrm>
                  <a:off x="1121580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" name="Group 439"/>
              <p:cNvGrpSpPr/>
              <p:nvPr/>
            </p:nvGrpSpPr>
            <p:grpSpPr>
              <a:xfrm>
                <a:off x="11036160" y="8148240"/>
                <a:ext cx="820080" cy="819720"/>
                <a:chOff x="11036160" y="8148240"/>
                <a:chExt cx="820080" cy="819720"/>
              </a:xfrm>
            </p:grpSpPr>
            <p:sp>
              <p:nvSpPr>
                <p:cNvPr id="21" name="Shape 12"/>
                <p:cNvSpPr/>
                <p:nvPr/>
              </p:nvSpPr>
              <p:spPr>
                <a:xfrm>
                  <a:off x="11513160" y="8510400"/>
                  <a:ext cx="343080" cy="45756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898" h="457200">
                      <a:moveTo>
                        <a:pt x="0" y="457200"/>
                      </a:moveTo>
                      <a:lnTo>
                        <a:pt x="0" y="0"/>
                      </a:lnTo>
                      <a:lnTo>
                        <a:pt x="3428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Shape 13"/>
                <p:cNvSpPr/>
                <p:nvPr/>
              </p:nvSpPr>
              <p:spPr>
                <a:xfrm>
                  <a:off x="11398680" y="8624880"/>
                  <a:ext cx="457560" cy="34308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198" h="342900">
                      <a:moveTo>
                        <a:pt x="0" y="342900"/>
                      </a:moveTo>
                      <a:lnTo>
                        <a:pt x="0" y="0"/>
                      </a:lnTo>
                      <a:lnTo>
                        <a:pt x="4571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" name="Shape 32"/>
                <p:cNvSpPr/>
                <p:nvPr/>
              </p:nvSpPr>
              <p:spPr>
                <a:xfrm>
                  <a:off x="11036160" y="83275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" name="Shape 33"/>
                <p:cNvSpPr/>
                <p:nvPr/>
              </p:nvSpPr>
              <p:spPr>
                <a:xfrm>
                  <a:off x="1121580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" name="Group 440"/>
              <p:cNvGrpSpPr/>
              <p:nvPr/>
            </p:nvGrpSpPr>
            <p:grpSpPr>
              <a:xfrm>
                <a:off x="3263760" y="4887000"/>
                <a:ext cx="304560" cy="914040"/>
                <a:chOff x="3263760" y="4887000"/>
                <a:chExt cx="304560" cy="914040"/>
              </a:xfrm>
            </p:grpSpPr>
            <p:sp>
              <p:nvSpPr>
                <p:cNvPr id="26" name="Shape 14"/>
                <p:cNvSpPr/>
                <p:nvPr/>
              </p:nvSpPr>
              <p:spPr>
                <a:xfrm>
                  <a:off x="326376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" name="Shape 15"/>
                <p:cNvSpPr/>
                <p:nvPr/>
              </p:nvSpPr>
              <p:spPr>
                <a:xfrm>
                  <a:off x="34923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" name="Group 441"/>
              <p:cNvGrpSpPr/>
              <p:nvPr/>
            </p:nvGrpSpPr>
            <p:grpSpPr>
              <a:xfrm>
                <a:off x="11554200" y="4887000"/>
                <a:ext cx="304560" cy="914040"/>
                <a:chOff x="11554200" y="4887000"/>
                <a:chExt cx="304560" cy="914040"/>
              </a:xfrm>
            </p:grpSpPr>
            <p:sp>
              <p:nvSpPr>
                <p:cNvPr id="29" name="Shape 16"/>
                <p:cNvSpPr/>
                <p:nvPr/>
              </p:nvSpPr>
              <p:spPr>
                <a:xfrm>
                  <a:off x="1155420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798" h="0">
                      <a:moveTo>
                        <a:pt x="304798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Shape 17"/>
                <p:cNvSpPr/>
                <p:nvPr/>
              </p:nvSpPr>
              <p:spPr>
                <a:xfrm>
                  <a:off x="116301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" name="Group 443"/>
              <p:cNvGrpSpPr/>
              <p:nvPr/>
            </p:nvGrpSpPr>
            <p:grpSpPr>
              <a:xfrm>
                <a:off x="7104240" y="8666280"/>
                <a:ext cx="914400" cy="304560"/>
                <a:chOff x="7104240" y="8666280"/>
                <a:chExt cx="914400" cy="304560"/>
              </a:xfrm>
            </p:grpSpPr>
            <p:sp>
              <p:nvSpPr>
                <p:cNvPr id="32" name="Shape 20"/>
                <p:cNvSpPr/>
                <p:nvPr/>
              </p:nvSpPr>
              <p:spPr>
                <a:xfrm>
                  <a:off x="7104240" y="874224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13" h="0">
                      <a:moveTo>
                        <a:pt x="91441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Shape 21"/>
                <p:cNvSpPr/>
                <p:nvPr/>
              </p:nvSpPr>
              <p:spPr>
                <a:xfrm>
                  <a:off x="7561440" y="866628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34" name="図 2" descr=""/>
          <p:cNvPicPr/>
          <p:nvPr/>
        </p:nvPicPr>
        <p:blipFill>
          <a:blip r:embed="rId2"/>
          <a:stretch/>
        </p:blipFill>
        <p:spPr>
          <a:xfrm>
            <a:off x="1379520" y="674640"/>
            <a:ext cx="1236024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グループ化 2"/>
          <p:cNvGrpSpPr/>
          <p:nvPr/>
        </p:nvGrpSpPr>
        <p:grpSpPr>
          <a:xfrm>
            <a:off x="3263760" y="1717560"/>
            <a:ext cx="8595000" cy="7253280"/>
            <a:chOff x="3263760" y="1717560"/>
            <a:chExt cx="8595000" cy="7253280"/>
          </a:xfrm>
        </p:grpSpPr>
        <p:grpSp>
          <p:nvGrpSpPr>
            <p:cNvPr id="72" name="Group 442"/>
            <p:cNvGrpSpPr/>
            <p:nvPr/>
          </p:nvGrpSpPr>
          <p:grpSpPr>
            <a:xfrm>
              <a:off x="7104240" y="1717560"/>
              <a:ext cx="914400" cy="304560"/>
              <a:chOff x="7104240" y="1717560"/>
              <a:chExt cx="914400" cy="304560"/>
            </a:xfrm>
          </p:grpSpPr>
          <p:sp>
            <p:nvSpPr>
              <p:cNvPr id="73" name="Shape 18"/>
              <p:cNvSpPr/>
              <p:nvPr/>
            </p:nvSpPr>
            <p:spPr>
              <a:xfrm>
                <a:off x="7104240" y="19461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13" h="0">
                    <a:moveTo>
                      <a:pt x="0" y="0"/>
                    </a:moveTo>
                    <a:lnTo>
                      <a:pt x="9144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Shape 19"/>
              <p:cNvSpPr/>
              <p:nvPr/>
            </p:nvSpPr>
            <p:spPr>
              <a:xfrm>
                <a:off x="7561440" y="1717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5">
                    <a:moveTo>
                      <a:pt x="0" y="304795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グループ化 1"/>
            <p:cNvGrpSpPr/>
            <p:nvPr/>
          </p:nvGrpSpPr>
          <p:grpSpPr>
            <a:xfrm>
              <a:off x="3263760" y="1717560"/>
              <a:ext cx="8595000" cy="7253280"/>
              <a:chOff x="3263760" y="1717560"/>
              <a:chExt cx="8595000" cy="7253280"/>
            </a:xfrm>
          </p:grpSpPr>
          <p:grpSp>
            <p:nvGrpSpPr>
              <p:cNvPr id="76" name="Group 436"/>
              <p:cNvGrpSpPr/>
              <p:nvPr/>
            </p:nvGrpSpPr>
            <p:grpSpPr>
              <a:xfrm>
                <a:off x="3263760" y="8148240"/>
                <a:ext cx="820080" cy="819720"/>
                <a:chOff x="3263760" y="8148240"/>
                <a:chExt cx="820080" cy="819720"/>
              </a:xfrm>
            </p:grpSpPr>
            <p:sp>
              <p:nvSpPr>
                <p:cNvPr id="77" name="Shape 6"/>
                <p:cNvSpPr/>
                <p:nvPr/>
              </p:nvSpPr>
              <p:spPr>
                <a:xfrm>
                  <a:off x="3263760" y="8510400"/>
                  <a:ext cx="342720" cy="45756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900" h="457200">
                      <a:moveTo>
                        <a:pt x="0" y="0"/>
                      </a:moveTo>
                      <a:lnTo>
                        <a:pt x="342900" y="0"/>
                      </a:lnTo>
                      <a:lnTo>
                        <a:pt x="342900" y="4572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Shape 7"/>
                <p:cNvSpPr/>
                <p:nvPr/>
              </p:nvSpPr>
              <p:spPr>
                <a:xfrm>
                  <a:off x="3263760" y="8624880"/>
                  <a:ext cx="456840" cy="34308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200" h="342900">
                      <a:moveTo>
                        <a:pt x="457200" y="342900"/>
                      </a:moveTo>
                      <a:lnTo>
                        <a:pt x="45720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Shape 29"/>
                <p:cNvSpPr/>
                <p:nvPr/>
              </p:nvSpPr>
              <p:spPr>
                <a:xfrm>
                  <a:off x="3723840" y="83275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Shape 30"/>
                <p:cNvSpPr/>
                <p:nvPr/>
              </p:nvSpPr>
              <p:spPr>
                <a:xfrm>
                  <a:off x="390456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1" name="Group 437"/>
              <p:cNvGrpSpPr/>
              <p:nvPr/>
            </p:nvGrpSpPr>
            <p:grpSpPr>
              <a:xfrm>
                <a:off x="3263760" y="1717560"/>
                <a:ext cx="820080" cy="820440"/>
                <a:chOff x="3263760" y="1717560"/>
                <a:chExt cx="820080" cy="820440"/>
              </a:xfrm>
            </p:grpSpPr>
            <p:sp>
              <p:nvSpPr>
                <p:cNvPr id="82" name="Shape 8"/>
                <p:cNvSpPr/>
                <p:nvPr/>
              </p:nvSpPr>
              <p:spPr>
                <a:xfrm>
                  <a:off x="3263760" y="1717560"/>
                  <a:ext cx="342720" cy="45720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900" h="457195">
                      <a:moveTo>
                        <a:pt x="342900" y="0"/>
                      </a:moveTo>
                      <a:lnTo>
                        <a:pt x="342900" y="457195"/>
                      </a:lnTo>
                      <a:lnTo>
                        <a:pt x="0" y="4571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" name="Shape 9"/>
                <p:cNvSpPr/>
                <p:nvPr/>
              </p:nvSpPr>
              <p:spPr>
                <a:xfrm>
                  <a:off x="3263760" y="1717560"/>
                  <a:ext cx="456840" cy="34272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200" h="342895">
                      <a:moveTo>
                        <a:pt x="457200" y="0"/>
                      </a:moveTo>
                      <a:lnTo>
                        <a:pt x="457200" y="342895"/>
                      </a:lnTo>
                      <a:lnTo>
                        <a:pt x="0" y="342895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Shape 23"/>
                <p:cNvSpPr/>
                <p:nvPr/>
              </p:nvSpPr>
              <p:spPr>
                <a:xfrm>
                  <a:off x="3723840" y="2358720"/>
                  <a:ext cx="360000" cy="360"/>
                </a:xfrm>
                <a:custGeom>
                  <a:avLst/>
                  <a:gdLst/>
                  <a:ahLst/>
                  <a:rect l="l" t="t" r="r" b="b"/>
                  <a:pathLst>
                    <a:path w="359994" h="0">
                      <a:moveTo>
                        <a:pt x="35999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Shape 24"/>
                <p:cNvSpPr/>
                <p:nvPr/>
              </p:nvSpPr>
              <p:spPr>
                <a:xfrm>
                  <a:off x="390456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6" name="Group 438"/>
              <p:cNvGrpSpPr/>
              <p:nvPr/>
            </p:nvGrpSpPr>
            <p:grpSpPr>
              <a:xfrm>
                <a:off x="11036160" y="1717560"/>
                <a:ext cx="820080" cy="820440"/>
                <a:chOff x="11036160" y="1717560"/>
                <a:chExt cx="820080" cy="820440"/>
              </a:xfrm>
            </p:grpSpPr>
            <p:sp>
              <p:nvSpPr>
                <p:cNvPr id="87" name="Shape 10"/>
                <p:cNvSpPr/>
                <p:nvPr/>
              </p:nvSpPr>
              <p:spPr>
                <a:xfrm>
                  <a:off x="11513160" y="1717560"/>
                  <a:ext cx="343080" cy="45720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342898" h="457195">
                      <a:moveTo>
                        <a:pt x="342898" y="457195"/>
                      </a:moveTo>
                      <a:lnTo>
                        <a:pt x="0" y="4571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Shape 11"/>
                <p:cNvSpPr/>
                <p:nvPr/>
              </p:nvSpPr>
              <p:spPr>
                <a:xfrm>
                  <a:off x="11398680" y="1717560"/>
                  <a:ext cx="457560" cy="34272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457198" h="342895">
                      <a:moveTo>
                        <a:pt x="457198" y="342895"/>
                      </a:moveTo>
                      <a:lnTo>
                        <a:pt x="0" y="34289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Shape 26"/>
                <p:cNvSpPr/>
                <p:nvPr/>
              </p:nvSpPr>
              <p:spPr>
                <a:xfrm>
                  <a:off x="11036160" y="23587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Shape 27"/>
                <p:cNvSpPr/>
                <p:nvPr/>
              </p:nvSpPr>
              <p:spPr>
                <a:xfrm>
                  <a:off x="11215800" y="2177640"/>
                  <a:ext cx="360" cy="36036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439"/>
              <p:cNvGrpSpPr/>
              <p:nvPr/>
            </p:nvGrpSpPr>
            <p:grpSpPr>
              <a:xfrm>
                <a:off x="11036160" y="8148240"/>
                <a:ext cx="820080" cy="819720"/>
                <a:chOff x="11036160" y="8148240"/>
                <a:chExt cx="820080" cy="819720"/>
              </a:xfrm>
            </p:grpSpPr>
            <p:sp>
              <p:nvSpPr>
                <p:cNvPr id="92" name="Shape 12"/>
                <p:cNvSpPr/>
                <p:nvPr/>
              </p:nvSpPr>
              <p:spPr>
                <a:xfrm>
                  <a:off x="11513160" y="8510400"/>
                  <a:ext cx="343080" cy="457560"/>
                </a:xfrm>
                <a:custGeom>
                  <a:avLst/>
                  <a:gdLst>
                    <a:gd name="textAreaLeft" fmla="*/ 0 w 343080"/>
                    <a:gd name="textAreaRight" fmla="*/ 343440 w 343080"/>
                    <a:gd name="textAreaTop" fmla="*/ 0 h 457560"/>
                    <a:gd name="textAreaBottom" fmla="*/ 457920 h 457560"/>
                  </a:gdLst>
                  <a:ahLst/>
                  <a:rect l="textAreaLeft" t="textAreaTop" r="textAreaRight" b="textAreaBottom"/>
                  <a:pathLst>
                    <a:path w="342898" h="457200">
                      <a:moveTo>
                        <a:pt x="0" y="457200"/>
                      </a:moveTo>
                      <a:lnTo>
                        <a:pt x="0" y="0"/>
                      </a:lnTo>
                      <a:lnTo>
                        <a:pt x="3428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Shape 13"/>
                <p:cNvSpPr/>
                <p:nvPr/>
              </p:nvSpPr>
              <p:spPr>
                <a:xfrm>
                  <a:off x="11398680" y="8624880"/>
                  <a:ext cx="457560" cy="343080"/>
                </a:xfrm>
                <a:custGeom>
                  <a:avLst/>
                  <a:gdLst>
                    <a:gd name="textAreaLeft" fmla="*/ 0 w 457560"/>
                    <a:gd name="textAreaRight" fmla="*/ 457920 w 457560"/>
                    <a:gd name="textAreaTop" fmla="*/ 0 h 343080"/>
                    <a:gd name="textAreaBottom" fmla="*/ 343440 h 343080"/>
                  </a:gdLst>
                  <a:ahLst/>
                  <a:rect l="textAreaLeft" t="textAreaTop" r="textAreaRight" b="textAreaBottom"/>
                  <a:pathLst>
                    <a:path w="457198" h="342900">
                      <a:moveTo>
                        <a:pt x="0" y="342900"/>
                      </a:moveTo>
                      <a:lnTo>
                        <a:pt x="0" y="0"/>
                      </a:lnTo>
                      <a:lnTo>
                        <a:pt x="457198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Shape 32"/>
                <p:cNvSpPr/>
                <p:nvPr/>
              </p:nvSpPr>
              <p:spPr>
                <a:xfrm>
                  <a:off x="11036160" y="8327520"/>
                  <a:ext cx="359280" cy="360"/>
                </a:xfrm>
                <a:custGeom>
                  <a:avLst/>
                  <a:gdLst/>
                  <a:ahLst/>
                  <a:rect l="l" t="t" r="r" b="b"/>
                  <a:pathLst>
                    <a:path w="360020" h="0">
                      <a:moveTo>
                        <a:pt x="36002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Shape 33"/>
                <p:cNvSpPr/>
                <p:nvPr/>
              </p:nvSpPr>
              <p:spPr>
                <a:xfrm>
                  <a:off x="11215800" y="8148240"/>
                  <a:ext cx="360" cy="360720"/>
                </a:xfrm>
                <a:custGeom>
                  <a:avLst/>
                  <a:gdLst/>
                  <a:ahLst/>
                  <a:rect l="l" t="t" r="r" b="b"/>
                  <a:pathLst>
                    <a:path w="0" h="359994">
                      <a:moveTo>
                        <a:pt x="0" y="0"/>
                      </a:moveTo>
                      <a:lnTo>
                        <a:pt x="0" y="359994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" name="Group 440"/>
              <p:cNvGrpSpPr/>
              <p:nvPr/>
            </p:nvGrpSpPr>
            <p:grpSpPr>
              <a:xfrm>
                <a:off x="3263760" y="4887000"/>
                <a:ext cx="304560" cy="914040"/>
                <a:chOff x="3263760" y="4887000"/>
                <a:chExt cx="304560" cy="914040"/>
              </a:xfrm>
            </p:grpSpPr>
            <p:sp>
              <p:nvSpPr>
                <p:cNvPr id="97" name="Shape 14"/>
                <p:cNvSpPr/>
                <p:nvPr/>
              </p:nvSpPr>
              <p:spPr>
                <a:xfrm>
                  <a:off x="326376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Shape 15"/>
                <p:cNvSpPr/>
                <p:nvPr/>
              </p:nvSpPr>
              <p:spPr>
                <a:xfrm>
                  <a:off x="34923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" name="Group 441"/>
              <p:cNvGrpSpPr/>
              <p:nvPr/>
            </p:nvGrpSpPr>
            <p:grpSpPr>
              <a:xfrm>
                <a:off x="11554200" y="4887000"/>
                <a:ext cx="304560" cy="914040"/>
                <a:chOff x="11554200" y="4887000"/>
                <a:chExt cx="304560" cy="914040"/>
              </a:xfrm>
            </p:grpSpPr>
            <p:sp>
              <p:nvSpPr>
                <p:cNvPr id="100" name="Shape 16"/>
                <p:cNvSpPr/>
                <p:nvPr/>
              </p:nvSpPr>
              <p:spPr>
                <a:xfrm>
                  <a:off x="11554200" y="53449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798" h="0">
                      <a:moveTo>
                        <a:pt x="304798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Shape 17"/>
                <p:cNvSpPr/>
                <p:nvPr/>
              </p:nvSpPr>
              <p:spPr>
                <a:xfrm>
                  <a:off x="11630160" y="4887000"/>
                  <a:ext cx="360" cy="91404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Group 443"/>
              <p:cNvGrpSpPr/>
              <p:nvPr/>
            </p:nvGrpSpPr>
            <p:grpSpPr>
              <a:xfrm>
                <a:off x="7104240" y="8666280"/>
                <a:ext cx="914400" cy="304560"/>
                <a:chOff x="7104240" y="8666280"/>
                <a:chExt cx="914400" cy="304560"/>
              </a:xfrm>
            </p:grpSpPr>
            <p:sp>
              <p:nvSpPr>
                <p:cNvPr id="103" name="Shape 20"/>
                <p:cNvSpPr/>
                <p:nvPr/>
              </p:nvSpPr>
              <p:spPr>
                <a:xfrm>
                  <a:off x="7104240" y="874224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13" h="0">
                      <a:moveTo>
                        <a:pt x="91441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Shape 21"/>
                <p:cNvSpPr/>
                <p:nvPr/>
              </p:nvSpPr>
              <p:spPr>
                <a:xfrm>
                  <a:off x="7561440" y="866628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105" name="図 2" descr=""/>
          <p:cNvPicPr/>
          <p:nvPr/>
        </p:nvPicPr>
        <p:blipFill>
          <a:blip r:embed="rId2"/>
          <a:stretch/>
        </p:blipFill>
        <p:spPr>
          <a:xfrm>
            <a:off x="1379520" y="674640"/>
            <a:ext cx="12360240" cy="892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3"/>
          <p:cNvSpPr/>
          <p:nvPr/>
        </p:nvSpPr>
        <p:spPr>
          <a:xfrm>
            <a:off x="3710160" y="9309240"/>
            <a:ext cx="7786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うちわの型抜きをする際、天地左右で最大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7mm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のズレが生じる可能性がございます。文字や絵柄で切れて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図 56" descr=""/>
          <p:cNvPicPr/>
          <p:nvPr/>
        </p:nvPicPr>
        <p:blipFill>
          <a:blip r:embed="rId3"/>
          <a:stretch/>
        </p:blipFill>
        <p:spPr>
          <a:xfrm>
            <a:off x="12057120" y="8756640"/>
            <a:ext cx="2590920" cy="1568520"/>
          </a:xfrm>
          <a:prstGeom prst="rect">
            <a:avLst/>
          </a:prstGeom>
          <a:ln w="0">
            <a:noFill/>
          </a:ln>
        </p:spPr>
      </p:pic>
      <p:grpSp>
        <p:nvGrpSpPr>
          <p:cNvPr id="108" name="グループ化 43"/>
          <p:cNvGrpSpPr/>
          <p:nvPr/>
        </p:nvGrpSpPr>
        <p:grpSpPr>
          <a:xfrm>
            <a:off x="1830240" y="2071800"/>
            <a:ext cx="9666360" cy="6551640"/>
            <a:chOff x="1830240" y="2071800"/>
            <a:chExt cx="9666360" cy="6551640"/>
          </a:xfrm>
        </p:grpSpPr>
        <p:grpSp>
          <p:nvGrpSpPr>
            <p:cNvPr id="109" name="Group 36"/>
            <p:cNvGrpSpPr/>
            <p:nvPr/>
          </p:nvGrpSpPr>
          <p:grpSpPr>
            <a:xfrm>
              <a:off x="3612960" y="2071800"/>
              <a:ext cx="7883640" cy="6551640"/>
              <a:chOff x="3612960" y="2071800"/>
              <a:chExt cx="7883640" cy="6551640"/>
            </a:xfrm>
          </p:grpSpPr>
          <p:sp>
            <p:nvSpPr>
              <p:cNvPr id="110" name="Shape 6"/>
              <p:cNvSpPr/>
              <p:nvPr/>
            </p:nvSpPr>
            <p:spPr>
              <a:xfrm>
                <a:off x="3612960" y="2071800"/>
                <a:ext cx="7883640" cy="6551640"/>
              </a:xfrm>
              <a:custGeom>
                <a:avLst/>
                <a:gdLst>
                  <a:gd name="textAreaLeft" fmla="*/ 0 w 7883640"/>
                  <a:gd name="textAreaRight" fmla="*/ 7884000 w 7883640"/>
                  <a:gd name="textAreaTop" fmla="*/ 0 h 6551640"/>
                  <a:gd name="textAreaBottom" fmla="*/ 6552000 h 6551640"/>
                </a:gdLst>
                <a:ahLst/>
                <a:rect l="textAreaLeft" t="textAreaTop" r="textAreaRight" b="textAreaBottom"/>
                <a:pathLst>
                  <a:path w="7883995" h="6552007">
                    <a:moveTo>
                      <a:pt x="0" y="6552007"/>
                    </a:moveTo>
                    <a:lnTo>
                      <a:pt x="7883995" y="6552007"/>
                    </a:lnTo>
                    <a:lnTo>
                      <a:pt x="7883995" y="0"/>
                    </a:lnTo>
                    <a:lnTo>
                      <a:pt x="0" y="0"/>
                    </a:lnTo>
                    <a:lnTo>
                      <a:pt x="0" y="6552007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hape 7"/>
              <p:cNvSpPr/>
              <p:nvPr/>
            </p:nvSpPr>
            <p:spPr>
              <a:xfrm>
                <a:off x="4043520" y="2565720"/>
                <a:ext cx="7023240" cy="5600520"/>
              </a:xfrm>
              <a:custGeom>
                <a:avLst/>
                <a:gdLst>
                  <a:gd name="textAreaLeft" fmla="*/ 0 w 7023240"/>
                  <a:gd name="textAreaRight" fmla="*/ 7023600 w 7023240"/>
                  <a:gd name="textAreaTop" fmla="*/ 0 h 5600520"/>
                  <a:gd name="textAreaBottom" fmla="*/ 5600880 h 5600520"/>
                </a:gdLst>
                <a:ahLst/>
                <a:rect l="textAreaLeft" t="textAreaTop" r="textAreaRight" b="textAreaBottom"/>
                <a:pathLst>
                  <a:path w="7024294" h="5601488">
                    <a:moveTo>
                      <a:pt x="6957010" y="2248687"/>
                    </a:moveTo>
                    <a:cubicBezTo>
                      <a:pt x="6852235" y="1439062"/>
                      <a:pt x="6294133" y="712508"/>
                      <a:pt x="5440477" y="343687"/>
                    </a:cubicBezTo>
                    <a:cubicBezTo>
                      <a:pt x="4661485" y="7137"/>
                      <a:pt x="3763836" y="0"/>
                      <a:pt x="3509849" y="0"/>
                    </a:cubicBezTo>
                    <a:cubicBezTo>
                      <a:pt x="3255849" y="0"/>
                      <a:pt x="2362797" y="7137"/>
                      <a:pt x="1583817" y="343687"/>
                    </a:cubicBezTo>
                    <a:cubicBezTo>
                      <a:pt x="730174" y="712508"/>
                      <a:pt x="172047" y="1439062"/>
                      <a:pt x="67272" y="2248687"/>
                    </a:cubicBezTo>
                    <a:cubicBezTo>
                      <a:pt x="0" y="2768536"/>
                      <a:pt x="44120" y="3512388"/>
                      <a:pt x="641947" y="4426738"/>
                    </a:cubicBezTo>
                    <a:cubicBezTo>
                      <a:pt x="1181697" y="5252238"/>
                      <a:pt x="1835747" y="5601488"/>
                      <a:pt x="1835747" y="5601488"/>
                    </a:cubicBezTo>
                    <a:cubicBezTo>
                      <a:pt x="2165947" y="5169688"/>
                      <a:pt x="2557349" y="4706138"/>
                      <a:pt x="3509849" y="4706138"/>
                    </a:cubicBezTo>
                    <a:lnTo>
                      <a:pt x="3514446" y="4706138"/>
                    </a:lnTo>
                    <a:cubicBezTo>
                      <a:pt x="4466946" y="4706138"/>
                      <a:pt x="4858335" y="5169688"/>
                      <a:pt x="5188535" y="5601488"/>
                    </a:cubicBezTo>
                    <a:cubicBezTo>
                      <a:pt x="5188535" y="5601488"/>
                      <a:pt x="5842585" y="5252238"/>
                      <a:pt x="6382335" y="4426738"/>
                    </a:cubicBezTo>
                    <a:cubicBezTo>
                      <a:pt x="6980174" y="3512388"/>
                      <a:pt x="7024294" y="2768536"/>
                      <a:pt x="6957010" y="2248687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Shape 8"/>
              <p:cNvSpPr/>
              <p:nvPr/>
            </p:nvSpPr>
            <p:spPr>
              <a:xfrm>
                <a:off x="4393800" y="2846160"/>
                <a:ext cx="6321600" cy="4923000"/>
              </a:xfrm>
              <a:custGeom>
                <a:avLst/>
                <a:gdLst>
                  <a:gd name="textAreaLeft" fmla="*/ 0 w 6321600"/>
                  <a:gd name="textAreaRight" fmla="*/ 6321960 w 6321600"/>
                  <a:gd name="textAreaTop" fmla="*/ 0 h 4923000"/>
                  <a:gd name="textAreaBottom" fmla="*/ 4923360 h 4923000"/>
                </a:gdLst>
                <a:ahLst/>
                <a:rect l="textAreaLeft" t="textAreaTop" r="textAreaRight" b="textAreaBottom"/>
                <a:pathLst>
                  <a:path w="6321832" h="4923841">
                    <a:moveTo>
                      <a:pt x="6261278" y="2023809"/>
                    </a:moveTo>
                    <a:cubicBezTo>
                      <a:pt x="6166981" y="1295146"/>
                      <a:pt x="5664670" y="641248"/>
                      <a:pt x="4896409" y="309321"/>
                    </a:cubicBezTo>
                    <a:cubicBezTo>
                      <a:pt x="4195318" y="6426"/>
                      <a:pt x="3387446" y="0"/>
                      <a:pt x="3158846" y="0"/>
                    </a:cubicBezTo>
                    <a:cubicBezTo>
                      <a:pt x="2930246" y="0"/>
                      <a:pt x="2126501" y="6426"/>
                      <a:pt x="1425423" y="309321"/>
                    </a:cubicBezTo>
                    <a:cubicBezTo>
                      <a:pt x="657136" y="641248"/>
                      <a:pt x="154839" y="1295146"/>
                      <a:pt x="60541" y="2023809"/>
                    </a:cubicBezTo>
                    <a:cubicBezTo>
                      <a:pt x="0" y="2491664"/>
                      <a:pt x="39700" y="3161145"/>
                      <a:pt x="577748" y="3984041"/>
                    </a:cubicBezTo>
                    <a:cubicBezTo>
                      <a:pt x="1063524" y="4726991"/>
                      <a:pt x="1466012" y="4923841"/>
                      <a:pt x="1466012" y="4923841"/>
                    </a:cubicBezTo>
                    <a:cubicBezTo>
                      <a:pt x="1763192" y="4535221"/>
                      <a:pt x="2301367" y="4142791"/>
                      <a:pt x="3158605" y="4142791"/>
                    </a:cubicBezTo>
                    <a:cubicBezTo>
                      <a:pt x="4015855" y="4142791"/>
                      <a:pt x="4559732" y="4535221"/>
                      <a:pt x="4856912" y="4923841"/>
                    </a:cubicBezTo>
                    <a:cubicBezTo>
                      <a:pt x="4856912" y="4923841"/>
                      <a:pt x="5258296" y="4726991"/>
                      <a:pt x="5744071" y="3984041"/>
                    </a:cubicBezTo>
                    <a:cubicBezTo>
                      <a:pt x="6282119" y="3161145"/>
                      <a:pt x="6321832" y="2491664"/>
                      <a:pt x="6261278" y="2023809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AutoShape 121"/>
            <p:cNvSpPr/>
            <p:nvPr/>
          </p:nvSpPr>
          <p:spPr>
            <a:xfrm>
              <a:off x="1944360" y="6741720"/>
              <a:ext cx="1509480" cy="879480"/>
            </a:xfrm>
            <a:prstGeom prst="wedgeRoundRectCallout">
              <a:avLst>
                <a:gd name="adj1" fmla="val 116481"/>
                <a:gd name="adj2" fmla="val -10848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122"/>
            <p:cNvSpPr/>
            <p:nvPr/>
          </p:nvSpPr>
          <p:spPr>
            <a:xfrm>
              <a:off x="1901880" y="3945240"/>
              <a:ext cx="1455480" cy="841320"/>
            </a:xfrm>
            <a:prstGeom prst="wedgeRoundRectCallout">
              <a:avLst>
                <a:gd name="adj1" fmla="val 112416"/>
                <a:gd name="adj2" fmla="val -4300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122"/>
            <p:cNvSpPr/>
            <p:nvPr/>
          </p:nvSpPr>
          <p:spPr>
            <a:xfrm>
              <a:off x="1830240" y="2766600"/>
              <a:ext cx="1455480" cy="841320"/>
            </a:xfrm>
            <a:prstGeom prst="wedgeRoundRectCallout">
              <a:avLst>
                <a:gd name="adj1" fmla="val 70199"/>
                <a:gd name="adj2" fmla="val -3053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6T12:15:58Z</dcterms:created>
  <dc:creator>irodori011</dc:creator>
  <dc:description/>
  <dc:language>en-US</dc:language>
  <cp:lastModifiedBy>HP Inc.</cp:lastModifiedBy>
  <dcterms:modified xsi:type="dcterms:W3CDTF">2021-05-18T00:31:41Z</dcterms:modified>
  <cp:revision>3</cp:revision>
  <dc:subject/>
  <dc:title>PowerPoint プレゼンテーション</dc:title>
</cp:coreProperties>
</file>