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11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4680"/>
            <a:ext cx="7558200" cy="10683720"/>
            <a:chOff x="1441440" y="1444680"/>
            <a:chExt cx="7558200" cy="1068372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4680"/>
              <a:ext cx="7558200" cy="26708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5520"/>
              <a:ext cx="7558200" cy="26708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720"/>
              <a:ext cx="7558200" cy="26708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7560"/>
              <a:ext cx="7558200" cy="26708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2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3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6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7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8" descr=""/>
          <p:cNvPicPr/>
          <p:nvPr/>
        </p:nvPicPr>
        <p:blipFill>
          <a:blip r:embed="rId3"/>
          <a:stretch/>
        </p:blipFill>
        <p:spPr>
          <a:xfrm>
            <a:off x="2655720" y="378000"/>
            <a:ext cx="522936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8:18:34Z</dcterms:modified>
  <cp:revision>14</cp:revision>
  <dc:subject/>
  <dc:title>PowerPoint プレゼンテーション</dc:title>
</cp:coreProperties>
</file>