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12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1440" y="1446120"/>
            <a:ext cx="7558200" cy="10680840"/>
            <a:chOff x="1441440" y="1446120"/>
            <a:chExt cx="7558200" cy="1068084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612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660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00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648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8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9" descr=""/>
          <p:cNvPicPr/>
          <p:nvPr/>
        </p:nvPicPr>
        <p:blipFill>
          <a:blip r:embed="rId3"/>
          <a:stretch/>
        </p:blipFill>
        <p:spPr>
          <a:xfrm>
            <a:off x="2629080" y="378000"/>
            <a:ext cx="531936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8:20:26Z</dcterms:modified>
  <cp:revision>13</cp:revision>
  <dc:subject/>
  <dc:title>PowerPoint プレゼンテーション</dc:title>
</cp:coreProperties>
</file>