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7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4680" y="1441440"/>
            <a:ext cx="10682280" cy="7558200"/>
            <a:chOff x="1444680" y="1441440"/>
            <a:chExt cx="1068228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46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516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564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64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8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9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0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1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2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3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4" descr=""/>
          <p:cNvPicPr/>
          <p:nvPr/>
        </p:nvPicPr>
        <p:blipFill>
          <a:blip r:embed="rId3"/>
          <a:stretch/>
        </p:blipFill>
        <p:spPr>
          <a:xfrm>
            <a:off x="4554360" y="0"/>
            <a:ext cx="439740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11:22Z</dcterms:modified>
  <cp:revision>17</cp:revision>
  <dc:subject/>
  <dc:title>PowerPoint プレゼンテーション</dc:title>
</cp:coreProperties>
</file>