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57"/>
          <p:cNvGrpSpPr/>
          <p:nvPr/>
        </p:nvGrpSpPr>
        <p:grpSpPr>
          <a:xfrm>
            <a:off x="982800" y="982800"/>
            <a:ext cx="11607840" cy="8475480"/>
            <a:chOff x="982800" y="982800"/>
            <a:chExt cx="11607840" cy="847548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8999280"/>
              <a:ext cx="435960" cy="435960"/>
              <a:chOff x="1005840" y="8999280"/>
              <a:chExt cx="435960" cy="43596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12131640" y="1005840"/>
              <a:ext cx="435960" cy="435960"/>
              <a:chOff x="12131640" y="1005840"/>
              <a:chExt cx="435960" cy="43596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121316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1224036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12131640" y="8999280"/>
              <a:ext cx="435960" cy="435960"/>
              <a:chOff x="12131640" y="8999280"/>
              <a:chExt cx="435960" cy="43596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121316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1224036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982800" y="4763160"/>
              <a:ext cx="304560" cy="914400"/>
              <a:chOff x="982800" y="4763160"/>
              <a:chExt cx="304560" cy="91440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121140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98280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12286080" y="4763160"/>
              <a:ext cx="304560" cy="914400"/>
              <a:chOff x="12286080" y="4763160"/>
              <a:chExt cx="304560" cy="91440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1236204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1228608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6329520" y="982800"/>
              <a:ext cx="914400" cy="304560"/>
              <a:chOff x="6329520" y="982800"/>
              <a:chExt cx="914400" cy="30456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678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632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6329520" y="9153720"/>
              <a:ext cx="914400" cy="304560"/>
              <a:chOff x="6329520" y="9153720"/>
              <a:chExt cx="914400" cy="30456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6786720" y="915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6329520" y="9229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" name="object 26"/>
            <p:cNvSpPr/>
            <p:nvPr/>
          </p:nvSpPr>
          <p:spPr>
            <a:xfrm>
              <a:off x="9460080" y="100800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bject 27"/>
            <p:cNvSpPr/>
            <p:nvPr/>
          </p:nvSpPr>
          <p:spPr>
            <a:xfrm>
              <a:off x="946008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bject 28"/>
            <p:cNvSpPr/>
            <p:nvPr/>
          </p:nvSpPr>
          <p:spPr>
            <a:xfrm>
              <a:off x="4113360" y="100800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bject 29"/>
            <p:cNvSpPr/>
            <p:nvPr/>
          </p:nvSpPr>
          <p:spPr>
            <a:xfrm>
              <a:off x="411336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" name="Rectangle 17"/>
          <p:cNvSpPr/>
          <p:nvPr/>
        </p:nvSpPr>
        <p:spPr>
          <a:xfrm>
            <a:off x="1333440" y="1333440"/>
            <a:ext cx="10904760" cy="7774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" name="Picture 143" descr=""/>
          <p:cNvPicPr/>
          <p:nvPr/>
        </p:nvPicPr>
        <p:blipFill>
          <a:blip r:embed="rId2"/>
          <a:stretch/>
        </p:blipFill>
        <p:spPr>
          <a:xfrm>
            <a:off x="9207360" y="930276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31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32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34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" name="Group 129"/>
          <p:cNvGrpSpPr/>
          <p:nvPr/>
        </p:nvGrpSpPr>
        <p:grpSpPr>
          <a:xfrm>
            <a:off x="1550880" y="1549440"/>
            <a:ext cx="10470960" cy="7342200"/>
            <a:chOff x="1550880" y="1549440"/>
            <a:chExt cx="10470960" cy="7342200"/>
          </a:xfrm>
        </p:grpSpPr>
        <p:sp>
          <p:nvSpPr>
            <p:cNvPr id="39" name="Rectangle 20"/>
            <p:cNvSpPr/>
            <p:nvPr/>
          </p:nvSpPr>
          <p:spPr>
            <a:xfrm>
              <a:off x="1550880" y="1549440"/>
              <a:ext cx="245484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101"/>
            <p:cNvSpPr/>
            <p:nvPr/>
          </p:nvSpPr>
          <p:spPr>
            <a:xfrm>
              <a:off x="4221360" y="1549440"/>
              <a:ext cx="245484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106"/>
            <p:cNvSpPr/>
            <p:nvPr/>
          </p:nvSpPr>
          <p:spPr>
            <a:xfrm>
              <a:off x="6896880" y="1549440"/>
              <a:ext cx="245448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109"/>
            <p:cNvSpPr/>
            <p:nvPr/>
          </p:nvSpPr>
          <p:spPr>
            <a:xfrm>
              <a:off x="9567360" y="1549440"/>
              <a:ext cx="245448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グループ化 4"/>
          <p:cNvGrpSpPr/>
          <p:nvPr/>
        </p:nvGrpSpPr>
        <p:grpSpPr>
          <a:xfrm>
            <a:off x="1446120" y="1441440"/>
            <a:ext cx="10680840" cy="7558200"/>
            <a:chOff x="1446120" y="1441440"/>
            <a:chExt cx="10680840" cy="7558200"/>
          </a:xfrm>
        </p:grpSpPr>
        <p:sp>
          <p:nvSpPr>
            <p:cNvPr id="44" name="Rectangle 19"/>
            <p:cNvSpPr/>
            <p:nvPr/>
          </p:nvSpPr>
          <p:spPr>
            <a:xfrm>
              <a:off x="1446120" y="1441440"/>
              <a:ext cx="266976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2"/>
            <p:cNvSpPr/>
            <p:nvPr/>
          </p:nvSpPr>
          <p:spPr>
            <a:xfrm>
              <a:off x="4115880" y="1441440"/>
              <a:ext cx="267120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07"/>
            <p:cNvSpPr/>
            <p:nvPr/>
          </p:nvSpPr>
          <p:spPr>
            <a:xfrm>
              <a:off x="6787440" y="1441440"/>
              <a:ext cx="266976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10"/>
            <p:cNvSpPr/>
            <p:nvPr/>
          </p:nvSpPr>
          <p:spPr>
            <a:xfrm>
              <a:off x="9457200" y="1441440"/>
              <a:ext cx="266976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49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51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54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56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59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61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44"/>
          <p:cNvSpPr/>
          <p:nvPr/>
        </p:nvSpPr>
        <p:spPr>
          <a:xfrm>
            <a:off x="108000" y="2700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45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46"/>
          <p:cNvSpPr/>
          <p:nvPr/>
        </p:nvSpPr>
        <p:spPr>
          <a:xfrm>
            <a:off x="6859440" y="9159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47"/>
          <p:cNvSpPr/>
          <p:nvPr/>
        </p:nvSpPr>
        <p:spPr>
          <a:xfrm>
            <a:off x="68580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48"/>
          <p:cNvSpPr/>
          <p:nvPr/>
        </p:nvSpPr>
        <p:spPr>
          <a:xfrm>
            <a:off x="108000" y="378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9"/>
          <p:cNvSpPr/>
          <p:nvPr/>
        </p:nvSpPr>
        <p:spPr>
          <a:xfrm>
            <a:off x="4411800" y="944712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51" descr=""/>
          <p:cNvPicPr/>
          <p:nvPr/>
        </p:nvPicPr>
        <p:blipFill>
          <a:blip r:embed="rId3"/>
          <a:stretch/>
        </p:blipFill>
        <p:spPr>
          <a:xfrm>
            <a:off x="4049640" y="0"/>
            <a:ext cx="5481720" cy="65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>irodori</dc:creator>
  <dc:description/>
  <dc:language>en-US</dc:language>
  <cp:lastModifiedBy>irodori</cp:lastModifiedBy>
  <dcterms:modified xsi:type="dcterms:W3CDTF">2024-08-15T08:28:27Z</dcterms:modified>
  <cp:revision>16</cp:revision>
  <dc:subject/>
  <dc:title>PowerPoint プレゼンテーション</dc:title>
</cp:coreProperties>
</file>