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723438" cy="4859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Img"/>
          </p:nvPr>
        </p:nvSpPr>
        <p:spPr>
          <a:xfrm>
            <a:off x="0" y="685440"/>
            <a:ext cx="685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F32B-ADB3-4738-B712-925AE5A0A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DEAF-3DB3-4F88-8A8F-50B3888A6C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0" y="685800"/>
            <a:ext cx="6858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87508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6000" y="2609280"/>
            <a:ext cx="87508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0160" y="113724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6000" y="260928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970160" y="260928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2817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444480" y="1137240"/>
            <a:ext cx="2817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03320" y="1137240"/>
            <a:ext cx="2817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86000" y="2609280"/>
            <a:ext cx="2817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444480" y="2609280"/>
            <a:ext cx="2817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03320" y="2609280"/>
            <a:ext cx="2817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86000" y="1137240"/>
            <a:ext cx="875088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875088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427032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0160" y="1137240"/>
            <a:ext cx="427032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86000" y="193680"/>
            <a:ext cx="875088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70160" y="1137240"/>
            <a:ext cx="427032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86000" y="260928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427032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0160" y="113724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70160" y="260928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0160" y="113724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86000" y="2609280"/>
            <a:ext cx="87508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7" descr=""/>
          <p:cNvPicPr/>
          <p:nvPr/>
        </p:nvPicPr>
        <p:blipFill>
          <a:blip r:embed="rId2"/>
          <a:stretch/>
        </p:blipFill>
        <p:spPr>
          <a:xfrm>
            <a:off x="2833560" y="252360"/>
            <a:ext cx="4054680" cy="352440"/>
          </a:xfrm>
          <a:prstGeom prst="rect">
            <a:avLst/>
          </a:prstGeom>
          <a:ln w="0">
            <a:noFill/>
          </a:ln>
        </p:spPr>
      </p:pic>
      <p:sp>
        <p:nvSpPr>
          <p:cNvPr id="1" name="Line 54"/>
          <p:cNvSpPr/>
          <p:nvPr/>
        </p:nvSpPr>
        <p:spPr>
          <a:xfrm>
            <a:off x="6300720" y="900000"/>
            <a:ext cx="0" cy="306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56" descr=""/>
          <p:cNvPicPr/>
          <p:nvPr/>
        </p:nvPicPr>
        <p:blipFill>
          <a:blip r:embed="rId3"/>
          <a:stretch/>
        </p:blipFill>
        <p:spPr>
          <a:xfrm>
            <a:off x="8302680" y="250344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4"/>
          <p:cNvGrpSpPr/>
          <p:nvPr/>
        </p:nvGrpSpPr>
        <p:grpSpPr>
          <a:xfrm>
            <a:off x="1441440" y="900000"/>
            <a:ext cx="6838920" cy="3060720"/>
            <a:chOff x="1441440" y="900000"/>
            <a:chExt cx="6838920" cy="3060720"/>
          </a:xfrm>
        </p:grpSpPr>
        <p:sp>
          <p:nvSpPr>
            <p:cNvPr id="4" name="Line 52"/>
            <p:cNvSpPr/>
            <p:nvPr/>
          </p:nvSpPr>
          <p:spPr>
            <a:xfrm>
              <a:off x="4860720" y="900000"/>
              <a:ext cx="0" cy="306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" name="グループ化 6"/>
            <p:cNvGrpSpPr/>
            <p:nvPr/>
          </p:nvGrpSpPr>
          <p:grpSpPr>
            <a:xfrm>
              <a:off x="1441440" y="900000"/>
              <a:ext cx="6838920" cy="3060720"/>
              <a:chOff x="1441440" y="900000"/>
              <a:chExt cx="6838920" cy="3060720"/>
            </a:xfrm>
          </p:grpSpPr>
          <p:grpSp>
            <p:nvGrpSpPr>
              <p:cNvPr id="6" name="グループ化 4"/>
              <p:cNvGrpSpPr/>
              <p:nvPr/>
            </p:nvGrpSpPr>
            <p:grpSpPr>
              <a:xfrm>
                <a:off x="1441440" y="1152000"/>
                <a:ext cx="6838920" cy="108000"/>
                <a:chOff x="1441440" y="1152000"/>
                <a:chExt cx="6838920" cy="108000"/>
              </a:xfrm>
            </p:grpSpPr>
            <p:sp>
              <p:nvSpPr>
                <p:cNvPr id="7" name="Line 45"/>
                <p:cNvSpPr/>
                <p:nvPr/>
              </p:nvSpPr>
              <p:spPr>
                <a:xfrm>
                  <a:off x="1441440" y="1152000"/>
                  <a:ext cx="68389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5360" bIns="-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Line 46"/>
                <p:cNvSpPr/>
                <p:nvPr/>
              </p:nvSpPr>
              <p:spPr>
                <a:xfrm>
                  <a:off x="1441440" y="1260000"/>
                  <a:ext cx="68389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5360" bIns="-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" name="Line 47"/>
              <p:cNvSpPr/>
              <p:nvPr/>
            </p:nvSpPr>
            <p:spPr>
              <a:xfrm>
                <a:off x="1441440" y="2430360"/>
                <a:ext cx="6838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" name="グループ化 5"/>
              <p:cNvGrpSpPr/>
              <p:nvPr/>
            </p:nvGrpSpPr>
            <p:grpSpPr>
              <a:xfrm>
                <a:off x="1441440" y="3601080"/>
                <a:ext cx="6838920" cy="108000"/>
                <a:chOff x="1441440" y="3601080"/>
                <a:chExt cx="6838920" cy="108000"/>
              </a:xfrm>
            </p:grpSpPr>
            <p:sp>
              <p:nvSpPr>
                <p:cNvPr id="11" name="Line 48"/>
                <p:cNvSpPr/>
                <p:nvPr/>
              </p:nvSpPr>
              <p:spPr>
                <a:xfrm>
                  <a:off x="1441440" y="3709080"/>
                  <a:ext cx="68389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5360" bIns="-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Line 49"/>
                <p:cNvSpPr/>
                <p:nvPr/>
              </p:nvSpPr>
              <p:spPr>
                <a:xfrm>
                  <a:off x="1441440" y="3601080"/>
                  <a:ext cx="68389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5360" bIns="-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グループ化 2"/>
              <p:cNvGrpSpPr/>
              <p:nvPr/>
            </p:nvGrpSpPr>
            <p:grpSpPr>
              <a:xfrm>
                <a:off x="1693080" y="900000"/>
                <a:ext cx="107640" cy="3060720"/>
                <a:chOff x="1693080" y="900000"/>
                <a:chExt cx="107640" cy="3060720"/>
              </a:xfrm>
            </p:grpSpPr>
            <p:sp>
              <p:nvSpPr>
                <p:cNvPr id="14" name="Line 50"/>
                <p:cNvSpPr/>
                <p:nvPr/>
              </p:nvSpPr>
              <p:spPr>
                <a:xfrm>
                  <a:off x="1800720" y="900000"/>
                  <a:ext cx="0" cy="30607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Line 51"/>
                <p:cNvSpPr/>
                <p:nvPr/>
              </p:nvSpPr>
              <p:spPr>
                <a:xfrm>
                  <a:off x="1693080" y="900000"/>
                  <a:ext cx="0" cy="30607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" name="グループ化 3"/>
              <p:cNvGrpSpPr/>
              <p:nvPr/>
            </p:nvGrpSpPr>
            <p:grpSpPr>
              <a:xfrm>
                <a:off x="7920720" y="900000"/>
                <a:ext cx="107640" cy="3060720"/>
                <a:chOff x="7920720" y="900000"/>
                <a:chExt cx="107640" cy="3060720"/>
              </a:xfrm>
            </p:grpSpPr>
            <p:sp>
              <p:nvSpPr>
                <p:cNvPr id="17" name="Line 53"/>
                <p:cNvSpPr/>
                <p:nvPr/>
              </p:nvSpPr>
              <p:spPr>
                <a:xfrm>
                  <a:off x="8028360" y="900000"/>
                  <a:ext cx="0" cy="30607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Line 54"/>
                <p:cNvSpPr/>
                <p:nvPr/>
              </p:nvSpPr>
              <p:spPr>
                <a:xfrm>
                  <a:off x="7920720" y="900000"/>
                  <a:ext cx="0" cy="30607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" name="Rectangle 55"/>
              <p:cNvSpPr/>
              <p:nvPr/>
            </p:nvSpPr>
            <p:spPr>
              <a:xfrm>
                <a:off x="1693800" y="1152360"/>
                <a:ext cx="6334200" cy="25560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Rectangle 70"/>
          <p:cNvSpPr/>
          <p:nvPr/>
        </p:nvSpPr>
        <p:spPr>
          <a:xfrm>
            <a:off x="1908000" y="1368360"/>
            <a:ext cx="5905800" cy="212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78"/>
          <p:cNvSpPr/>
          <p:nvPr/>
        </p:nvSpPr>
        <p:spPr>
          <a:xfrm>
            <a:off x="1800360" y="1260360"/>
            <a:ext cx="6121440" cy="234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AutoShape 50"/>
          <p:cNvSpPr/>
          <p:nvPr/>
        </p:nvSpPr>
        <p:spPr>
          <a:xfrm>
            <a:off x="372960" y="2619360"/>
            <a:ext cx="1114560" cy="758880"/>
          </a:xfrm>
          <a:prstGeom prst="wedgeRoundRectCallout">
            <a:avLst>
              <a:gd name="adj1" fmla="val 87962"/>
              <a:gd name="adj2" fmla="val -45486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9720" bIns="972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AutoShape 51"/>
          <p:cNvSpPr/>
          <p:nvPr/>
        </p:nvSpPr>
        <p:spPr>
          <a:xfrm>
            <a:off x="355680" y="1488960"/>
            <a:ext cx="1111320" cy="61596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9720" bIns="972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52"/>
          <p:cNvSpPr/>
          <p:nvPr/>
        </p:nvSpPr>
        <p:spPr>
          <a:xfrm>
            <a:off x="4903920" y="3716280"/>
            <a:ext cx="266400" cy="268200"/>
          </a:xfrm>
          <a:custGeom>
            <a:avLst/>
            <a:gdLst>
              <a:gd name="textAreaLeft" fmla="*/ 60840 w 266400"/>
              <a:gd name="textAreaRight" fmla="*/ 205560 w 266400"/>
              <a:gd name="textAreaTop" fmla="*/ 61200 h 268200"/>
              <a:gd name="textAreaBottom" fmla="*/ 207000 h 268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AutoShape 53"/>
          <p:cNvSpPr/>
          <p:nvPr/>
        </p:nvSpPr>
        <p:spPr>
          <a:xfrm>
            <a:off x="4903920" y="866880"/>
            <a:ext cx="266400" cy="268200"/>
          </a:xfrm>
          <a:custGeom>
            <a:avLst/>
            <a:gdLst>
              <a:gd name="textAreaLeft" fmla="*/ 60840 w 266400"/>
              <a:gd name="textAreaRight" fmla="*/ 205560 w 266400"/>
              <a:gd name="textAreaTop" fmla="*/ 61200 h 268200"/>
              <a:gd name="textAreaBottom" fmla="*/ 207000 h 268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AutoShape 54"/>
          <p:cNvSpPr/>
          <p:nvPr/>
        </p:nvSpPr>
        <p:spPr>
          <a:xfrm>
            <a:off x="8215200" y="1477800"/>
            <a:ext cx="1111320" cy="776520"/>
          </a:xfrm>
          <a:prstGeom prst="wedgeRoundRectCallout">
            <a:avLst>
              <a:gd name="adj1" fmla="val -66050"/>
              <a:gd name="adj2" fmla="val -37666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9720" bIns="972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Text Box 55"/>
          <p:cNvSpPr/>
          <p:nvPr/>
        </p:nvSpPr>
        <p:spPr>
          <a:xfrm>
            <a:off x="2328840" y="4014720"/>
            <a:ext cx="5054760" cy="79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77760" bIns="77760" anchor="ctr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こちらのテンプレートのミシン目の位置は弊社おすすめの位置となります。位置の変更は可能で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ミシン目が不要な場合はミシン目線の削除を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" name="直線矢印コネクタ 9"/>
          <p:cNvCxnSpPr/>
          <p:nvPr/>
        </p:nvCxnSpPr>
        <p:spPr>
          <a:xfrm>
            <a:off x="6300360" y="1061640"/>
            <a:ext cx="162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9" name="テキスト ボックス 10"/>
          <p:cNvSpPr/>
          <p:nvPr/>
        </p:nvSpPr>
        <p:spPr>
          <a:xfrm>
            <a:off x="6706440" y="639720"/>
            <a:ext cx="8074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ミシン目位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右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8</dc:creator>
  <dc:description/>
  <dc:language>en-US</dc:language>
  <cp:lastModifiedBy>irodori08</cp:lastModifiedBy>
  <cp:lastPrinted>2014-12-04T07:45:16Z</cp:lastPrinted>
  <dcterms:modified xsi:type="dcterms:W3CDTF">2014-12-08T03:15:06Z</dcterms:modified>
  <cp:revision>37</cp:revision>
  <dc:subject/>
  <dc:title>PowerPoint プレゼンテーション</dc:title>
</cp:coreProperties>
</file>