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609D-7BA4-4B81-8A0A-CC3232E68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9C03-B9E0-4B41-B10F-64A8B097BF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1998720" y="2305080"/>
            <a:ext cx="8136000" cy="113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52"/>
          <p:cNvSpPr/>
          <p:nvPr/>
        </p:nvSpPr>
        <p:spPr>
          <a:xfrm>
            <a:off x="6151680" y="13903200"/>
            <a:ext cx="452160" cy="452520"/>
          </a:xfrm>
          <a:custGeom>
            <a:avLst/>
            <a:gdLst>
              <a:gd name="textAreaLeft" fmla="*/ 102960 w 452160"/>
              <a:gd name="textAreaRight" fmla="*/ 349200 w 452160"/>
              <a:gd name="textAreaTop" fmla="*/ 103320 h 452520"/>
              <a:gd name="textAreaBottom" fmla="*/ 349200 h 45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6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61040" y="1676520"/>
            <a:ext cx="433440" cy="431640"/>
          </a:xfrm>
          <a:custGeom>
            <a:avLst/>
            <a:gdLst>
              <a:gd name="textAreaLeft" fmla="*/ 99000 w 433440"/>
              <a:gd name="textAreaRight" fmla="*/ 334440 w 4334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6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5"/>
          <p:cNvSpPr/>
          <p:nvPr/>
        </p:nvSpPr>
        <p:spPr>
          <a:xfrm>
            <a:off x="1001880" y="14546160"/>
            <a:ext cx="7634160" cy="113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文字や絵柄は、ピンクの破線内に配置してください。水色の部分は印刷できない範囲と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内容物が少し透けて見える仕様と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グループ化 43"/>
          <p:cNvGrpSpPr/>
          <p:nvPr/>
        </p:nvGrpSpPr>
        <p:grpSpPr>
          <a:xfrm>
            <a:off x="1649520" y="1955880"/>
            <a:ext cx="8834400" cy="12074400"/>
            <a:chOff x="1649520" y="1955880"/>
            <a:chExt cx="8834400" cy="12074400"/>
          </a:xfrm>
        </p:grpSpPr>
        <p:grpSp>
          <p:nvGrpSpPr>
            <p:cNvPr id="5" name="object 5"/>
            <p:cNvGrpSpPr/>
            <p:nvPr/>
          </p:nvGrpSpPr>
          <p:grpSpPr>
            <a:xfrm>
              <a:off x="1672560" y="13571280"/>
              <a:ext cx="435960" cy="435960"/>
              <a:chOff x="1672560" y="13571280"/>
              <a:chExt cx="435960" cy="435960"/>
            </a:xfrm>
          </p:grpSpPr>
          <p:sp>
            <p:nvSpPr>
              <p:cNvPr id="6" name="object 6"/>
              <p:cNvSpPr/>
              <p:nvPr/>
            </p:nvSpPr>
            <p:spPr>
              <a:xfrm>
                <a:off x="1672560" y="1357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bject 7"/>
              <p:cNvSpPr/>
              <p:nvPr/>
            </p:nvSpPr>
            <p:spPr>
              <a:xfrm>
                <a:off x="1672560" y="13680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object 8"/>
            <p:cNvGrpSpPr/>
            <p:nvPr/>
          </p:nvGrpSpPr>
          <p:grpSpPr>
            <a:xfrm>
              <a:off x="1672560" y="1978920"/>
              <a:ext cx="435960" cy="435960"/>
              <a:chOff x="1672560" y="1978920"/>
              <a:chExt cx="435960" cy="435960"/>
            </a:xfrm>
          </p:grpSpPr>
          <p:sp>
            <p:nvSpPr>
              <p:cNvPr id="9" name="object 9"/>
              <p:cNvSpPr/>
              <p:nvPr/>
            </p:nvSpPr>
            <p:spPr>
              <a:xfrm>
                <a:off x="1672560" y="197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10"/>
              <p:cNvSpPr/>
              <p:nvPr/>
            </p:nvSpPr>
            <p:spPr>
              <a:xfrm>
                <a:off x="1672560" y="197892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11"/>
            <p:cNvGrpSpPr/>
            <p:nvPr/>
          </p:nvGrpSpPr>
          <p:grpSpPr>
            <a:xfrm>
              <a:off x="10024920" y="1978920"/>
              <a:ext cx="435960" cy="435960"/>
              <a:chOff x="10024920" y="1978920"/>
              <a:chExt cx="435960" cy="435960"/>
            </a:xfrm>
          </p:grpSpPr>
          <p:sp>
            <p:nvSpPr>
              <p:cNvPr id="12" name="object 12"/>
              <p:cNvSpPr/>
              <p:nvPr/>
            </p:nvSpPr>
            <p:spPr>
              <a:xfrm>
                <a:off x="10133640" y="197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13"/>
              <p:cNvSpPr/>
              <p:nvPr/>
            </p:nvSpPr>
            <p:spPr>
              <a:xfrm>
                <a:off x="10024920" y="197892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14"/>
            <p:cNvGrpSpPr/>
            <p:nvPr/>
          </p:nvGrpSpPr>
          <p:grpSpPr>
            <a:xfrm>
              <a:off x="10024920" y="13571280"/>
              <a:ext cx="435960" cy="435960"/>
              <a:chOff x="10024920" y="13571280"/>
              <a:chExt cx="435960" cy="435960"/>
            </a:xfrm>
          </p:grpSpPr>
          <p:sp>
            <p:nvSpPr>
              <p:cNvPr id="15" name="object 15"/>
              <p:cNvSpPr/>
              <p:nvPr/>
            </p:nvSpPr>
            <p:spPr>
              <a:xfrm>
                <a:off x="10133640" y="1357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6"/>
              <p:cNvSpPr/>
              <p:nvPr/>
            </p:nvSpPr>
            <p:spPr>
              <a:xfrm>
                <a:off x="10024920" y="13680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7"/>
            <p:cNvGrpSpPr/>
            <p:nvPr/>
          </p:nvGrpSpPr>
          <p:grpSpPr>
            <a:xfrm>
              <a:off x="1649520" y="7535880"/>
              <a:ext cx="304560" cy="914400"/>
              <a:chOff x="1649520" y="7535880"/>
              <a:chExt cx="304560" cy="914400"/>
            </a:xfrm>
          </p:grpSpPr>
          <p:sp>
            <p:nvSpPr>
              <p:cNvPr id="18" name="object 18"/>
              <p:cNvSpPr/>
              <p:nvPr/>
            </p:nvSpPr>
            <p:spPr>
              <a:xfrm>
                <a:off x="1649520" y="799308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9"/>
              <p:cNvSpPr/>
              <p:nvPr/>
            </p:nvSpPr>
            <p:spPr>
              <a:xfrm>
                <a:off x="1878120" y="753588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20"/>
            <p:cNvGrpSpPr/>
            <p:nvPr/>
          </p:nvGrpSpPr>
          <p:grpSpPr>
            <a:xfrm>
              <a:off x="10179360" y="7535880"/>
              <a:ext cx="304560" cy="914400"/>
              <a:chOff x="10179360" y="7535880"/>
              <a:chExt cx="304560" cy="914400"/>
            </a:xfrm>
          </p:grpSpPr>
          <p:sp>
            <p:nvSpPr>
              <p:cNvPr id="21" name="object 21"/>
              <p:cNvSpPr/>
              <p:nvPr/>
            </p:nvSpPr>
            <p:spPr>
              <a:xfrm>
                <a:off x="10179360" y="799308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22"/>
              <p:cNvSpPr/>
              <p:nvPr/>
            </p:nvSpPr>
            <p:spPr>
              <a:xfrm>
                <a:off x="10255320" y="753588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23"/>
            <p:cNvGrpSpPr/>
            <p:nvPr/>
          </p:nvGrpSpPr>
          <p:grpSpPr>
            <a:xfrm>
              <a:off x="5609520" y="1955880"/>
              <a:ext cx="914400" cy="304560"/>
              <a:chOff x="5609520" y="1955880"/>
              <a:chExt cx="914400" cy="304560"/>
            </a:xfrm>
          </p:grpSpPr>
          <p:sp>
            <p:nvSpPr>
              <p:cNvPr id="24" name="object 24"/>
              <p:cNvSpPr/>
              <p:nvPr/>
            </p:nvSpPr>
            <p:spPr>
              <a:xfrm>
                <a:off x="5609520" y="21844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25"/>
              <p:cNvSpPr/>
              <p:nvPr/>
            </p:nvSpPr>
            <p:spPr>
              <a:xfrm>
                <a:off x="6066720" y="19558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26"/>
            <p:cNvGrpSpPr/>
            <p:nvPr/>
          </p:nvGrpSpPr>
          <p:grpSpPr>
            <a:xfrm>
              <a:off x="5609520" y="13725720"/>
              <a:ext cx="914400" cy="304560"/>
              <a:chOff x="5609520" y="13725720"/>
              <a:chExt cx="914400" cy="304560"/>
            </a:xfrm>
          </p:grpSpPr>
          <p:sp>
            <p:nvSpPr>
              <p:cNvPr id="27" name="object 27"/>
              <p:cNvSpPr/>
              <p:nvPr/>
            </p:nvSpPr>
            <p:spPr>
              <a:xfrm>
                <a:off x="5609520" y="1380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28"/>
              <p:cNvSpPr/>
              <p:nvPr/>
            </p:nvSpPr>
            <p:spPr>
              <a:xfrm>
                <a:off x="6066720" y="1372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" name="グループ化 68"/>
          <p:cNvGrpSpPr/>
          <p:nvPr/>
        </p:nvGrpSpPr>
        <p:grpSpPr>
          <a:xfrm>
            <a:off x="2192400" y="336600"/>
            <a:ext cx="7748640" cy="882720"/>
            <a:chOff x="2192400" y="336600"/>
            <a:chExt cx="7748640" cy="882720"/>
          </a:xfrm>
        </p:grpSpPr>
        <p:pic>
          <p:nvPicPr>
            <p:cNvPr id="30" name="object 2" descr=""/>
            <p:cNvPicPr/>
            <p:nvPr/>
          </p:nvPicPr>
          <p:blipFill>
            <a:blip r:embed="rId2"/>
            <a:stretch/>
          </p:blipFill>
          <p:spPr>
            <a:xfrm>
              <a:off x="5787360" y="1034640"/>
              <a:ext cx="181800" cy="18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" name="object 3"/>
            <p:cNvSpPr/>
            <p:nvPr/>
          </p:nvSpPr>
          <p:spPr>
            <a:xfrm>
              <a:off x="5758200" y="471960"/>
              <a:ext cx="824760" cy="426960"/>
            </a:xfrm>
            <a:custGeom>
              <a:avLst/>
              <a:gdLst/>
              <a:ahLst/>
              <a:rect l="l" t="t" r="r" b="b"/>
              <a:pathLst>
                <a:path w="824864" h="426720">
                  <a:moveTo>
                    <a:pt x="60807" y="267436"/>
                  </a:moveTo>
                  <a:lnTo>
                    <a:pt x="20116" y="262407"/>
                  </a:lnTo>
                  <a:lnTo>
                    <a:pt x="17297" y="299669"/>
                  </a:lnTo>
                  <a:lnTo>
                    <a:pt x="13322" y="330809"/>
                  </a:lnTo>
                  <a:lnTo>
                    <a:pt x="7708" y="358267"/>
                  </a:lnTo>
                  <a:lnTo>
                    <a:pt x="0" y="384467"/>
                  </a:lnTo>
                  <a:lnTo>
                    <a:pt x="41148" y="402297"/>
                  </a:lnTo>
                  <a:lnTo>
                    <a:pt x="48209" y="375373"/>
                  </a:lnTo>
                  <a:lnTo>
                    <a:pt x="53352" y="346811"/>
                  </a:lnTo>
                  <a:lnTo>
                    <a:pt x="57353" y="312102"/>
                  </a:lnTo>
                  <a:lnTo>
                    <a:pt x="60807" y="267436"/>
                  </a:lnTo>
                  <a:close/>
                </a:path>
                <a:path w="824864" h="426720">
                  <a:moveTo>
                    <a:pt x="182867" y="347891"/>
                  </a:moveTo>
                  <a:lnTo>
                    <a:pt x="179641" y="323913"/>
                  </a:lnTo>
                  <a:lnTo>
                    <a:pt x="175615" y="300012"/>
                  </a:lnTo>
                  <a:lnTo>
                    <a:pt x="170967" y="277317"/>
                  </a:lnTo>
                  <a:lnTo>
                    <a:pt x="165950" y="256921"/>
                  </a:lnTo>
                  <a:lnTo>
                    <a:pt x="130746" y="266065"/>
                  </a:lnTo>
                  <a:lnTo>
                    <a:pt x="135407" y="285165"/>
                  </a:lnTo>
                  <a:lnTo>
                    <a:pt x="138925" y="303669"/>
                  </a:lnTo>
                  <a:lnTo>
                    <a:pt x="141998" y="326110"/>
                  </a:lnTo>
                  <a:lnTo>
                    <a:pt x="145326" y="356577"/>
                  </a:lnTo>
                  <a:lnTo>
                    <a:pt x="145376" y="357035"/>
                  </a:lnTo>
                  <a:lnTo>
                    <a:pt x="182867" y="347891"/>
                  </a:lnTo>
                  <a:close/>
                </a:path>
                <a:path w="824864" h="426720">
                  <a:moveTo>
                    <a:pt x="194741" y="232689"/>
                  </a:moveTo>
                  <a:lnTo>
                    <a:pt x="194094" y="230860"/>
                  </a:lnTo>
                  <a:lnTo>
                    <a:pt x="186842" y="210400"/>
                  </a:lnTo>
                  <a:lnTo>
                    <a:pt x="182206" y="198412"/>
                  </a:lnTo>
                  <a:lnTo>
                    <a:pt x="181673" y="197040"/>
                  </a:lnTo>
                  <a:lnTo>
                    <a:pt x="178181" y="188010"/>
                  </a:lnTo>
                  <a:lnTo>
                    <a:pt x="168668" y="165493"/>
                  </a:lnTo>
                  <a:lnTo>
                    <a:pt x="158178" y="142633"/>
                  </a:lnTo>
                  <a:lnTo>
                    <a:pt x="124802" y="158635"/>
                  </a:lnTo>
                  <a:lnTo>
                    <a:pt x="129667" y="169214"/>
                  </a:lnTo>
                  <a:lnTo>
                    <a:pt x="133210" y="177444"/>
                  </a:lnTo>
                  <a:lnTo>
                    <a:pt x="88239" y="197040"/>
                  </a:lnTo>
                  <a:lnTo>
                    <a:pt x="101841" y="179705"/>
                  </a:lnTo>
                  <a:lnTo>
                    <a:pt x="116865" y="159092"/>
                  </a:lnTo>
                  <a:lnTo>
                    <a:pt x="132651" y="136093"/>
                  </a:lnTo>
                  <a:lnTo>
                    <a:pt x="137007" y="129387"/>
                  </a:lnTo>
                  <a:lnTo>
                    <a:pt x="148577" y="111556"/>
                  </a:lnTo>
                  <a:lnTo>
                    <a:pt x="162382" y="90068"/>
                  </a:lnTo>
                  <a:lnTo>
                    <a:pt x="169900" y="78524"/>
                  </a:lnTo>
                  <a:lnTo>
                    <a:pt x="173710" y="72986"/>
                  </a:lnTo>
                  <a:lnTo>
                    <a:pt x="176466" y="69494"/>
                  </a:lnTo>
                  <a:lnTo>
                    <a:pt x="134404" y="46177"/>
                  </a:lnTo>
                  <a:lnTo>
                    <a:pt x="128155" y="60985"/>
                  </a:lnTo>
                  <a:lnTo>
                    <a:pt x="118122" y="80010"/>
                  </a:lnTo>
                  <a:lnTo>
                    <a:pt x="104521" y="103276"/>
                  </a:lnTo>
                  <a:lnTo>
                    <a:pt x="88239" y="129387"/>
                  </a:lnTo>
                  <a:lnTo>
                    <a:pt x="83439" y="123444"/>
                  </a:lnTo>
                  <a:lnTo>
                    <a:pt x="79324" y="118529"/>
                  </a:lnTo>
                  <a:lnTo>
                    <a:pt x="74866" y="113436"/>
                  </a:lnTo>
                  <a:lnTo>
                    <a:pt x="69037" y="106984"/>
                  </a:lnTo>
                  <a:lnTo>
                    <a:pt x="82359" y="87249"/>
                  </a:lnTo>
                  <a:lnTo>
                    <a:pt x="102654" y="53441"/>
                  </a:lnTo>
                  <a:lnTo>
                    <a:pt x="116586" y="25615"/>
                  </a:lnTo>
                  <a:lnTo>
                    <a:pt x="118859" y="21958"/>
                  </a:lnTo>
                  <a:lnTo>
                    <a:pt x="122059" y="16929"/>
                  </a:lnTo>
                  <a:lnTo>
                    <a:pt x="79095" y="0"/>
                  </a:lnTo>
                  <a:lnTo>
                    <a:pt x="73621" y="15735"/>
                  </a:lnTo>
                  <a:lnTo>
                    <a:pt x="65836" y="33261"/>
                  </a:lnTo>
                  <a:lnTo>
                    <a:pt x="55270" y="53441"/>
                  </a:lnTo>
                  <a:lnTo>
                    <a:pt x="41605" y="76809"/>
                  </a:lnTo>
                  <a:lnTo>
                    <a:pt x="27432" y="62636"/>
                  </a:lnTo>
                  <a:lnTo>
                    <a:pt x="2286" y="98755"/>
                  </a:lnTo>
                  <a:lnTo>
                    <a:pt x="20205" y="116090"/>
                  </a:lnTo>
                  <a:lnTo>
                    <a:pt x="35267" y="132130"/>
                  </a:lnTo>
                  <a:lnTo>
                    <a:pt x="49022" y="148513"/>
                  </a:lnTo>
                  <a:lnTo>
                    <a:pt x="63093" y="166865"/>
                  </a:lnTo>
                  <a:lnTo>
                    <a:pt x="57607" y="175094"/>
                  </a:lnTo>
                  <a:lnTo>
                    <a:pt x="42976" y="193382"/>
                  </a:lnTo>
                  <a:lnTo>
                    <a:pt x="39319" y="198412"/>
                  </a:lnTo>
                  <a:lnTo>
                    <a:pt x="11430" y="198412"/>
                  </a:lnTo>
                  <a:lnTo>
                    <a:pt x="2755" y="197040"/>
                  </a:lnTo>
                  <a:lnTo>
                    <a:pt x="7874" y="240195"/>
                  </a:lnTo>
                  <a:lnTo>
                    <a:pt x="7899" y="240461"/>
                  </a:lnTo>
                  <a:lnTo>
                    <a:pt x="8013" y="241439"/>
                  </a:lnTo>
                  <a:lnTo>
                    <a:pt x="8140" y="242430"/>
                  </a:lnTo>
                  <a:lnTo>
                    <a:pt x="8229" y="243205"/>
                  </a:lnTo>
                  <a:lnTo>
                    <a:pt x="16459" y="242430"/>
                  </a:lnTo>
                  <a:lnTo>
                    <a:pt x="74066" y="238645"/>
                  </a:lnTo>
                  <a:lnTo>
                    <a:pt x="73990" y="384467"/>
                  </a:lnTo>
                  <a:lnTo>
                    <a:pt x="73875" y="392976"/>
                  </a:lnTo>
                  <a:lnTo>
                    <a:pt x="73482" y="402297"/>
                  </a:lnTo>
                  <a:lnTo>
                    <a:pt x="73380" y="404812"/>
                  </a:lnTo>
                  <a:lnTo>
                    <a:pt x="72529" y="415798"/>
                  </a:lnTo>
                  <a:lnTo>
                    <a:pt x="71323" y="426516"/>
                  </a:lnTo>
                  <a:lnTo>
                    <a:pt x="121602" y="426516"/>
                  </a:lnTo>
                  <a:lnTo>
                    <a:pt x="120586" y="417830"/>
                  </a:lnTo>
                  <a:lnTo>
                    <a:pt x="120523" y="417385"/>
                  </a:lnTo>
                  <a:lnTo>
                    <a:pt x="120408" y="416318"/>
                  </a:lnTo>
                  <a:lnTo>
                    <a:pt x="118859" y="238645"/>
                  </a:lnTo>
                  <a:lnTo>
                    <a:pt x="118859" y="234975"/>
                  </a:lnTo>
                  <a:lnTo>
                    <a:pt x="135496" y="233095"/>
                  </a:lnTo>
                  <a:lnTo>
                    <a:pt x="153149" y="230860"/>
                  </a:lnTo>
                  <a:lnTo>
                    <a:pt x="155435" y="237718"/>
                  </a:lnTo>
                  <a:lnTo>
                    <a:pt x="155841" y="240195"/>
                  </a:lnTo>
                  <a:lnTo>
                    <a:pt x="155892" y="240461"/>
                  </a:lnTo>
                  <a:lnTo>
                    <a:pt x="158635" y="249605"/>
                  </a:lnTo>
                  <a:lnTo>
                    <a:pt x="194741" y="232689"/>
                  </a:lnTo>
                  <a:close/>
                </a:path>
                <a:path w="824864" h="426720">
                  <a:moveTo>
                    <a:pt x="432917" y="331889"/>
                  </a:moveTo>
                  <a:lnTo>
                    <a:pt x="420903" y="323913"/>
                  </a:lnTo>
                  <a:lnTo>
                    <a:pt x="410921" y="315849"/>
                  </a:lnTo>
                  <a:lnTo>
                    <a:pt x="402247" y="307022"/>
                  </a:lnTo>
                  <a:lnTo>
                    <a:pt x="394055" y="296697"/>
                  </a:lnTo>
                  <a:lnTo>
                    <a:pt x="391896" y="318719"/>
                  </a:lnTo>
                  <a:lnTo>
                    <a:pt x="389255" y="337032"/>
                  </a:lnTo>
                  <a:lnTo>
                    <a:pt x="389153" y="337781"/>
                  </a:lnTo>
                  <a:lnTo>
                    <a:pt x="386219" y="351269"/>
                  </a:lnTo>
                  <a:lnTo>
                    <a:pt x="383552" y="356577"/>
                  </a:lnTo>
                  <a:lnTo>
                    <a:pt x="382181" y="356577"/>
                  </a:lnTo>
                  <a:lnTo>
                    <a:pt x="366331" y="319176"/>
                  </a:lnTo>
                  <a:lnTo>
                    <a:pt x="352361" y="252742"/>
                  </a:lnTo>
                  <a:lnTo>
                    <a:pt x="347662" y="214414"/>
                  </a:lnTo>
                  <a:lnTo>
                    <a:pt x="347548" y="213499"/>
                  </a:lnTo>
                  <a:lnTo>
                    <a:pt x="347433" y="212636"/>
                  </a:lnTo>
                  <a:lnTo>
                    <a:pt x="344030" y="212636"/>
                  </a:lnTo>
                  <a:lnTo>
                    <a:pt x="378523" y="212128"/>
                  </a:lnTo>
                  <a:lnTo>
                    <a:pt x="386905" y="211772"/>
                  </a:lnTo>
                  <a:lnTo>
                    <a:pt x="401027" y="211772"/>
                  </a:lnTo>
                  <a:lnTo>
                    <a:pt x="412699" y="212128"/>
                  </a:lnTo>
                  <a:lnTo>
                    <a:pt x="411632" y="212128"/>
                  </a:lnTo>
                  <a:lnTo>
                    <a:pt x="418477" y="212636"/>
                  </a:lnTo>
                  <a:lnTo>
                    <a:pt x="423773" y="213499"/>
                  </a:lnTo>
                  <a:lnTo>
                    <a:pt x="423773" y="211772"/>
                  </a:lnTo>
                  <a:lnTo>
                    <a:pt x="423773" y="169214"/>
                  </a:lnTo>
                  <a:lnTo>
                    <a:pt x="423773" y="167322"/>
                  </a:lnTo>
                  <a:lnTo>
                    <a:pt x="423773" y="163207"/>
                  </a:lnTo>
                  <a:lnTo>
                    <a:pt x="413270" y="165036"/>
                  </a:lnTo>
                  <a:lnTo>
                    <a:pt x="406857" y="165493"/>
                  </a:lnTo>
                  <a:lnTo>
                    <a:pt x="404571" y="165493"/>
                  </a:lnTo>
                  <a:lnTo>
                    <a:pt x="379437" y="166865"/>
                  </a:lnTo>
                  <a:lnTo>
                    <a:pt x="342379" y="145605"/>
                  </a:lnTo>
                  <a:lnTo>
                    <a:pt x="340588" y="106984"/>
                  </a:lnTo>
                  <a:lnTo>
                    <a:pt x="340575" y="80010"/>
                  </a:lnTo>
                  <a:lnTo>
                    <a:pt x="340575" y="70866"/>
                  </a:lnTo>
                  <a:lnTo>
                    <a:pt x="355333" y="67437"/>
                  </a:lnTo>
                  <a:lnTo>
                    <a:pt x="367144" y="64350"/>
                  </a:lnTo>
                  <a:lnTo>
                    <a:pt x="405028" y="53035"/>
                  </a:lnTo>
                  <a:lnTo>
                    <a:pt x="411886" y="50749"/>
                  </a:lnTo>
                  <a:lnTo>
                    <a:pt x="417372" y="49377"/>
                  </a:lnTo>
                  <a:lnTo>
                    <a:pt x="384009" y="4584"/>
                  </a:lnTo>
                  <a:lnTo>
                    <a:pt x="373672" y="10248"/>
                  </a:lnTo>
                  <a:lnTo>
                    <a:pt x="361670" y="15214"/>
                  </a:lnTo>
                  <a:lnTo>
                    <a:pt x="346659" y="20015"/>
                  </a:lnTo>
                  <a:lnTo>
                    <a:pt x="327317" y="25146"/>
                  </a:lnTo>
                  <a:lnTo>
                    <a:pt x="296240" y="32410"/>
                  </a:lnTo>
                  <a:lnTo>
                    <a:pt x="296240" y="168236"/>
                  </a:lnTo>
                  <a:lnTo>
                    <a:pt x="245033" y="169151"/>
                  </a:lnTo>
                  <a:lnTo>
                    <a:pt x="245033" y="86410"/>
                  </a:lnTo>
                  <a:lnTo>
                    <a:pt x="270637" y="83210"/>
                  </a:lnTo>
                  <a:lnTo>
                    <a:pt x="280657" y="81788"/>
                  </a:lnTo>
                  <a:lnTo>
                    <a:pt x="292125" y="80010"/>
                  </a:lnTo>
                  <a:lnTo>
                    <a:pt x="293027" y="103276"/>
                  </a:lnTo>
                  <a:lnTo>
                    <a:pt x="294157" y="129387"/>
                  </a:lnTo>
                  <a:lnTo>
                    <a:pt x="295109" y="148513"/>
                  </a:lnTo>
                  <a:lnTo>
                    <a:pt x="295948" y="163207"/>
                  </a:lnTo>
                  <a:lnTo>
                    <a:pt x="296049" y="165036"/>
                  </a:lnTo>
                  <a:lnTo>
                    <a:pt x="296164" y="166865"/>
                  </a:lnTo>
                  <a:lnTo>
                    <a:pt x="296240" y="168236"/>
                  </a:lnTo>
                  <a:lnTo>
                    <a:pt x="296240" y="32410"/>
                  </a:lnTo>
                  <a:lnTo>
                    <a:pt x="294005" y="32931"/>
                  </a:lnTo>
                  <a:lnTo>
                    <a:pt x="262458" y="38646"/>
                  </a:lnTo>
                  <a:lnTo>
                    <a:pt x="230314" y="42633"/>
                  </a:lnTo>
                  <a:lnTo>
                    <a:pt x="195199" y="45262"/>
                  </a:lnTo>
                  <a:lnTo>
                    <a:pt x="195910" y="53035"/>
                  </a:lnTo>
                  <a:lnTo>
                    <a:pt x="195948" y="53441"/>
                  </a:lnTo>
                  <a:lnTo>
                    <a:pt x="196062" y="54737"/>
                  </a:lnTo>
                  <a:lnTo>
                    <a:pt x="196392" y="60071"/>
                  </a:lnTo>
                  <a:lnTo>
                    <a:pt x="196456" y="60985"/>
                  </a:lnTo>
                  <a:lnTo>
                    <a:pt x="196557" y="62636"/>
                  </a:lnTo>
                  <a:lnTo>
                    <a:pt x="196634" y="63728"/>
                  </a:lnTo>
                  <a:lnTo>
                    <a:pt x="196735" y="67437"/>
                  </a:lnTo>
                  <a:lnTo>
                    <a:pt x="196799" y="69494"/>
                  </a:lnTo>
                  <a:lnTo>
                    <a:pt x="196900" y="72986"/>
                  </a:lnTo>
                  <a:lnTo>
                    <a:pt x="197027" y="365721"/>
                  </a:lnTo>
                  <a:lnTo>
                    <a:pt x="179628" y="369582"/>
                  </a:lnTo>
                  <a:lnTo>
                    <a:pt x="168236" y="371894"/>
                  </a:lnTo>
                  <a:lnTo>
                    <a:pt x="160261" y="373189"/>
                  </a:lnTo>
                  <a:lnTo>
                    <a:pt x="153149" y="373951"/>
                  </a:lnTo>
                  <a:lnTo>
                    <a:pt x="164579" y="423329"/>
                  </a:lnTo>
                  <a:lnTo>
                    <a:pt x="169608" y="421030"/>
                  </a:lnTo>
                  <a:lnTo>
                    <a:pt x="172351" y="420585"/>
                  </a:lnTo>
                  <a:lnTo>
                    <a:pt x="181495" y="417830"/>
                  </a:lnTo>
                  <a:lnTo>
                    <a:pt x="222910" y="406095"/>
                  </a:lnTo>
                  <a:lnTo>
                    <a:pt x="252298" y="397217"/>
                  </a:lnTo>
                  <a:lnTo>
                    <a:pt x="277469" y="388594"/>
                  </a:lnTo>
                  <a:lnTo>
                    <a:pt x="306285" y="377609"/>
                  </a:lnTo>
                  <a:lnTo>
                    <a:pt x="305904" y="358267"/>
                  </a:lnTo>
                  <a:lnTo>
                    <a:pt x="305790" y="352463"/>
                  </a:lnTo>
                  <a:lnTo>
                    <a:pt x="305676" y="346811"/>
                  </a:lnTo>
                  <a:lnTo>
                    <a:pt x="305562" y="341160"/>
                  </a:lnTo>
                  <a:lnTo>
                    <a:pt x="305485" y="337032"/>
                  </a:lnTo>
                  <a:lnTo>
                    <a:pt x="305384" y="331889"/>
                  </a:lnTo>
                  <a:lnTo>
                    <a:pt x="291515" y="337032"/>
                  </a:lnTo>
                  <a:lnTo>
                    <a:pt x="278130" y="341833"/>
                  </a:lnTo>
                  <a:lnTo>
                    <a:pt x="263271" y="346811"/>
                  </a:lnTo>
                  <a:lnTo>
                    <a:pt x="245033" y="352463"/>
                  </a:lnTo>
                  <a:lnTo>
                    <a:pt x="245033" y="214414"/>
                  </a:lnTo>
                  <a:lnTo>
                    <a:pt x="299440" y="213499"/>
                  </a:lnTo>
                  <a:lnTo>
                    <a:pt x="309524" y="284391"/>
                  </a:lnTo>
                  <a:lnTo>
                    <a:pt x="323621" y="341160"/>
                  </a:lnTo>
                  <a:lnTo>
                    <a:pt x="341363" y="382879"/>
                  </a:lnTo>
                  <a:lnTo>
                    <a:pt x="362381" y="408609"/>
                  </a:lnTo>
                  <a:lnTo>
                    <a:pt x="386295" y="417385"/>
                  </a:lnTo>
                  <a:lnTo>
                    <a:pt x="403225" y="412711"/>
                  </a:lnTo>
                  <a:lnTo>
                    <a:pt x="416115" y="397789"/>
                  </a:lnTo>
                  <a:lnTo>
                    <a:pt x="425754" y="371284"/>
                  </a:lnTo>
                  <a:lnTo>
                    <a:pt x="428345" y="357035"/>
                  </a:lnTo>
                  <a:lnTo>
                    <a:pt x="428434" y="356577"/>
                  </a:lnTo>
                  <a:lnTo>
                    <a:pt x="432917" y="331889"/>
                  </a:lnTo>
                  <a:close/>
                </a:path>
                <a:path w="824864" h="426720">
                  <a:moveTo>
                    <a:pt x="824293" y="95097"/>
                  </a:moveTo>
                  <a:lnTo>
                    <a:pt x="802005" y="73152"/>
                  </a:lnTo>
                  <a:lnTo>
                    <a:pt x="795032" y="66294"/>
                  </a:lnTo>
                  <a:lnTo>
                    <a:pt x="787895" y="68554"/>
                  </a:lnTo>
                  <a:lnTo>
                    <a:pt x="781088" y="69951"/>
                  </a:lnTo>
                  <a:lnTo>
                    <a:pt x="772922" y="70662"/>
                  </a:lnTo>
                  <a:lnTo>
                    <a:pt x="661555" y="72237"/>
                  </a:lnTo>
                  <a:lnTo>
                    <a:pt x="652868" y="72237"/>
                  </a:lnTo>
                  <a:lnTo>
                    <a:pt x="645553" y="72694"/>
                  </a:lnTo>
                  <a:lnTo>
                    <a:pt x="639610" y="73152"/>
                  </a:lnTo>
                  <a:lnTo>
                    <a:pt x="644169" y="64935"/>
                  </a:lnTo>
                  <a:lnTo>
                    <a:pt x="646925" y="58521"/>
                  </a:lnTo>
                  <a:lnTo>
                    <a:pt x="652868" y="46647"/>
                  </a:lnTo>
                  <a:lnTo>
                    <a:pt x="657428" y="36118"/>
                  </a:lnTo>
                  <a:lnTo>
                    <a:pt x="658774" y="33896"/>
                  </a:lnTo>
                  <a:lnTo>
                    <a:pt x="663829" y="23787"/>
                  </a:lnTo>
                  <a:lnTo>
                    <a:pt x="666572" y="19672"/>
                  </a:lnTo>
                  <a:lnTo>
                    <a:pt x="603948" y="7327"/>
                  </a:lnTo>
                  <a:lnTo>
                    <a:pt x="601599" y="19672"/>
                  </a:lnTo>
                  <a:lnTo>
                    <a:pt x="601535" y="20040"/>
                  </a:lnTo>
                  <a:lnTo>
                    <a:pt x="596925" y="33896"/>
                  </a:lnTo>
                  <a:lnTo>
                    <a:pt x="555396" y="108826"/>
                  </a:lnTo>
                  <a:lnTo>
                    <a:pt x="528472" y="143217"/>
                  </a:lnTo>
                  <a:lnTo>
                    <a:pt x="497928" y="173050"/>
                  </a:lnTo>
                  <a:lnTo>
                    <a:pt x="462229" y="200240"/>
                  </a:lnTo>
                  <a:lnTo>
                    <a:pt x="477266" y="209918"/>
                  </a:lnTo>
                  <a:lnTo>
                    <a:pt x="488175" y="218363"/>
                  </a:lnTo>
                  <a:lnTo>
                    <a:pt x="497205" y="227571"/>
                  </a:lnTo>
                  <a:lnTo>
                    <a:pt x="506577" y="239560"/>
                  </a:lnTo>
                  <a:lnTo>
                    <a:pt x="537692" y="213423"/>
                  </a:lnTo>
                  <a:lnTo>
                    <a:pt x="565886" y="185153"/>
                  </a:lnTo>
                  <a:lnTo>
                    <a:pt x="591172" y="154825"/>
                  </a:lnTo>
                  <a:lnTo>
                    <a:pt x="613549" y="122529"/>
                  </a:lnTo>
                  <a:lnTo>
                    <a:pt x="751141" y="120243"/>
                  </a:lnTo>
                  <a:lnTo>
                    <a:pt x="733882" y="167081"/>
                  </a:lnTo>
                  <a:lnTo>
                    <a:pt x="712127" y="209537"/>
                  </a:lnTo>
                  <a:lnTo>
                    <a:pt x="685647" y="247878"/>
                  </a:lnTo>
                  <a:lnTo>
                    <a:pt x="654240" y="282346"/>
                  </a:lnTo>
                  <a:lnTo>
                    <a:pt x="617664" y="313156"/>
                  </a:lnTo>
                  <a:lnTo>
                    <a:pt x="573951" y="341160"/>
                  </a:lnTo>
                  <a:lnTo>
                    <a:pt x="517550" y="367093"/>
                  </a:lnTo>
                  <a:lnTo>
                    <a:pt x="530313" y="378714"/>
                  </a:lnTo>
                  <a:lnTo>
                    <a:pt x="539724" y="389039"/>
                  </a:lnTo>
                  <a:lnTo>
                    <a:pt x="547763" y="400392"/>
                  </a:lnTo>
                  <a:lnTo>
                    <a:pt x="556399" y="415099"/>
                  </a:lnTo>
                  <a:lnTo>
                    <a:pt x="605624" y="390017"/>
                  </a:lnTo>
                  <a:lnTo>
                    <a:pt x="648411" y="362864"/>
                  </a:lnTo>
                  <a:lnTo>
                    <a:pt x="685876" y="332816"/>
                  </a:lnTo>
                  <a:lnTo>
                    <a:pt x="719150" y="298983"/>
                  </a:lnTo>
                  <a:lnTo>
                    <a:pt x="747814" y="262089"/>
                  </a:lnTo>
                  <a:lnTo>
                    <a:pt x="773214" y="219837"/>
                  </a:lnTo>
                  <a:lnTo>
                    <a:pt x="795007" y="173050"/>
                  </a:lnTo>
                  <a:lnTo>
                    <a:pt x="812863" y="122529"/>
                  </a:lnTo>
                  <a:lnTo>
                    <a:pt x="813587" y="120243"/>
                  </a:lnTo>
                  <a:lnTo>
                    <a:pt x="816127" y="112268"/>
                  </a:lnTo>
                  <a:lnTo>
                    <a:pt x="818756" y="105219"/>
                  </a:lnTo>
                  <a:lnTo>
                    <a:pt x="821283" y="99961"/>
                  </a:lnTo>
                  <a:lnTo>
                    <a:pt x="824293" y="9509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bject 4"/>
            <p:cNvSpPr/>
            <p:nvPr/>
          </p:nvSpPr>
          <p:spPr>
            <a:xfrm>
              <a:off x="6669360" y="498960"/>
              <a:ext cx="270360" cy="385920"/>
            </a:xfrm>
            <a:custGeom>
              <a:avLst/>
              <a:gdLst/>
              <a:ahLst/>
              <a:rect l="l" t="t" r="r" b="b"/>
              <a:pathLst>
                <a:path w="270510" h="385445">
                  <a:moveTo>
                    <a:pt x="270167" y="914"/>
                  </a:moveTo>
                  <a:lnTo>
                    <a:pt x="206629" y="914"/>
                  </a:lnTo>
                  <a:lnTo>
                    <a:pt x="207659" y="8165"/>
                  </a:lnTo>
                  <a:lnTo>
                    <a:pt x="207759" y="8879"/>
                  </a:lnTo>
                  <a:lnTo>
                    <a:pt x="208337" y="16287"/>
                  </a:lnTo>
                  <a:lnTo>
                    <a:pt x="208457" y="17830"/>
                  </a:lnTo>
                  <a:lnTo>
                    <a:pt x="208731" y="26553"/>
                  </a:lnTo>
                  <a:lnTo>
                    <a:pt x="208814" y="126081"/>
                  </a:lnTo>
                  <a:lnTo>
                    <a:pt x="208457" y="146003"/>
                  </a:lnTo>
                  <a:lnTo>
                    <a:pt x="200687" y="217515"/>
                  </a:lnTo>
                  <a:lnTo>
                    <a:pt x="170815" y="272717"/>
                  </a:lnTo>
                  <a:lnTo>
                    <a:pt x="122840" y="306607"/>
                  </a:lnTo>
                  <a:lnTo>
                    <a:pt x="75273" y="324166"/>
                  </a:lnTo>
                  <a:lnTo>
                    <a:pt x="44805" y="330974"/>
                  </a:lnTo>
                  <a:lnTo>
                    <a:pt x="56747" y="346542"/>
                  </a:lnTo>
                  <a:lnTo>
                    <a:pt x="64916" y="358859"/>
                  </a:lnTo>
                  <a:lnTo>
                    <a:pt x="71026" y="370835"/>
                  </a:lnTo>
                  <a:lnTo>
                    <a:pt x="76796" y="385381"/>
                  </a:lnTo>
                  <a:lnTo>
                    <a:pt x="105064" y="376596"/>
                  </a:lnTo>
                  <a:lnTo>
                    <a:pt x="147707" y="359726"/>
                  </a:lnTo>
                  <a:lnTo>
                    <a:pt x="198206" y="328774"/>
                  </a:lnTo>
                  <a:lnTo>
                    <a:pt x="243026" y="275858"/>
                  </a:lnTo>
                  <a:lnTo>
                    <a:pt x="261264" y="219895"/>
                  </a:lnTo>
                  <a:lnTo>
                    <a:pt x="266988" y="152820"/>
                  </a:lnTo>
                  <a:lnTo>
                    <a:pt x="267881" y="105143"/>
                  </a:lnTo>
                  <a:lnTo>
                    <a:pt x="268002" y="26753"/>
                  </a:lnTo>
                  <a:lnTo>
                    <a:pt x="268300" y="17830"/>
                  </a:lnTo>
                  <a:lnTo>
                    <a:pt x="268373" y="16287"/>
                  </a:lnTo>
                  <a:lnTo>
                    <a:pt x="269023" y="8879"/>
                  </a:lnTo>
                  <a:lnTo>
                    <a:pt x="270167" y="914"/>
                  </a:lnTo>
                  <a:close/>
                </a:path>
                <a:path w="270510" h="385445">
                  <a:moveTo>
                    <a:pt x="457" y="0"/>
                  </a:moveTo>
                  <a:lnTo>
                    <a:pt x="1321" y="8165"/>
                  </a:lnTo>
                  <a:lnTo>
                    <a:pt x="1885" y="16287"/>
                  </a:lnTo>
                  <a:lnTo>
                    <a:pt x="2193" y="26553"/>
                  </a:lnTo>
                  <a:lnTo>
                    <a:pt x="2121" y="178746"/>
                  </a:lnTo>
                  <a:lnTo>
                    <a:pt x="1657" y="189655"/>
                  </a:lnTo>
                  <a:lnTo>
                    <a:pt x="935" y="199449"/>
                  </a:lnTo>
                  <a:lnTo>
                    <a:pt x="0" y="208000"/>
                  </a:lnTo>
                  <a:lnTo>
                    <a:pt x="62623" y="208000"/>
                  </a:lnTo>
                  <a:lnTo>
                    <a:pt x="61573" y="200108"/>
                  </a:lnTo>
                  <a:lnTo>
                    <a:pt x="61034" y="192176"/>
                  </a:lnTo>
                  <a:lnTo>
                    <a:pt x="60835" y="182100"/>
                  </a:lnTo>
                  <a:lnTo>
                    <a:pt x="60839" y="26553"/>
                  </a:lnTo>
                  <a:lnTo>
                    <a:pt x="61013" y="17830"/>
                  </a:lnTo>
                  <a:lnTo>
                    <a:pt x="61065" y="16287"/>
                  </a:lnTo>
                  <a:lnTo>
                    <a:pt x="61573" y="8879"/>
                  </a:lnTo>
                  <a:lnTo>
                    <a:pt x="62566" y="914"/>
                  </a:lnTo>
                  <a:lnTo>
                    <a:pt x="62623" y="457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bject 5"/>
            <p:cNvSpPr/>
            <p:nvPr/>
          </p:nvSpPr>
          <p:spPr>
            <a:xfrm>
              <a:off x="7018200" y="509760"/>
              <a:ext cx="779040" cy="374400"/>
            </a:xfrm>
            <a:custGeom>
              <a:avLst/>
              <a:gdLst/>
              <a:ahLst/>
              <a:rect l="l" t="t" r="r" b="b"/>
              <a:pathLst>
                <a:path w="779145" h="374015">
                  <a:moveTo>
                    <a:pt x="201142" y="92341"/>
                  </a:moveTo>
                  <a:lnTo>
                    <a:pt x="138976" y="92341"/>
                  </a:lnTo>
                  <a:lnTo>
                    <a:pt x="140106" y="98755"/>
                  </a:lnTo>
                  <a:lnTo>
                    <a:pt x="140703" y="103657"/>
                  </a:lnTo>
                  <a:lnTo>
                    <a:pt x="140804" y="104521"/>
                  </a:lnTo>
                  <a:lnTo>
                    <a:pt x="141160" y="111061"/>
                  </a:lnTo>
                  <a:lnTo>
                    <a:pt x="141262" y="119773"/>
                  </a:lnTo>
                  <a:lnTo>
                    <a:pt x="138353" y="174409"/>
                  </a:lnTo>
                  <a:lnTo>
                    <a:pt x="128117" y="219659"/>
                  </a:lnTo>
                  <a:lnTo>
                    <a:pt x="109245" y="253619"/>
                  </a:lnTo>
                  <a:lnTo>
                    <a:pt x="80010" y="282511"/>
                  </a:lnTo>
                  <a:lnTo>
                    <a:pt x="45491" y="304520"/>
                  </a:lnTo>
                  <a:lnTo>
                    <a:pt x="0" y="321373"/>
                  </a:lnTo>
                  <a:lnTo>
                    <a:pt x="11684" y="334149"/>
                  </a:lnTo>
                  <a:lnTo>
                    <a:pt x="20459" y="345376"/>
                  </a:lnTo>
                  <a:lnTo>
                    <a:pt x="28028" y="357632"/>
                  </a:lnTo>
                  <a:lnTo>
                    <a:pt x="36118" y="373481"/>
                  </a:lnTo>
                  <a:lnTo>
                    <a:pt x="74803" y="355561"/>
                  </a:lnTo>
                  <a:lnTo>
                    <a:pt x="132092" y="315569"/>
                  </a:lnTo>
                  <a:lnTo>
                    <a:pt x="173990" y="260134"/>
                  </a:lnTo>
                  <a:lnTo>
                    <a:pt x="195846" y="182054"/>
                  </a:lnTo>
                  <a:lnTo>
                    <a:pt x="199313" y="129374"/>
                  </a:lnTo>
                  <a:lnTo>
                    <a:pt x="199478" y="119773"/>
                  </a:lnTo>
                  <a:lnTo>
                    <a:pt x="199605" y="112915"/>
                  </a:lnTo>
                  <a:lnTo>
                    <a:pt x="199859" y="104521"/>
                  </a:lnTo>
                  <a:lnTo>
                    <a:pt x="199885" y="103657"/>
                  </a:lnTo>
                  <a:lnTo>
                    <a:pt x="200202" y="99606"/>
                  </a:lnTo>
                  <a:lnTo>
                    <a:pt x="200266" y="98755"/>
                  </a:lnTo>
                  <a:lnTo>
                    <a:pt x="200342" y="97878"/>
                  </a:lnTo>
                  <a:lnTo>
                    <a:pt x="201142" y="92341"/>
                  </a:lnTo>
                  <a:close/>
                </a:path>
                <a:path w="779145" h="374015">
                  <a:moveTo>
                    <a:pt x="386740" y="34747"/>
                  </a:moveTo>
                  <a:lnTo>
                    <a:pt x="359740" y="4114"/>
                  </a:lnTo>
                  <a:lnTo>
                    <a:pt x="356120" y="0"/>
                  </a:lnTo>
                  <a:lnTo>
                    <a:pt x="347649" y="2197"/>
                  </a:lnTo>
                  <a:lnTo>
                    <a:pt x="339432" y="3429"/>
                  </a:lnTo>
                  <a:lnTo>
                    <a:pt x="328472" y="3987"/>
                  </a:lnTo>
                  <a:lnTo>
                    <a:pt x="311772" y="4114"/>
                  </a:lnTo>
                  <a:lnTo>
                    <a:pt x="73152" y="4114"/>
                  </a:lnTo>
                  <a:lnTo>
                    <a:pt x="53924" y="3987"/>
                  </a:lnTo>
                  <a:lnTo>
                    <a:pt x="39293" y="3429"/>
                  </a:lnTo>
                  <a:lnTo>
                    <a:pt x="37655" y="3429"/>
                  </a:lnTo>
                  <a:lnTo>
                    <a:pt x="22809" y="2197"/>
                  </a:lnTo>
                  <a:lnTo>
                    <a:pt x="10058" y="457"/>
                  </a:lnTo>
                  <a:lnTo>
                    <a:pt x="10058" y="57607"/>
                  </a:lnTo>
                  <a:lnTo>
                    <a:pt x="23177" y="56222"/>
                  </a:lnTo>
                  <a:lnTo>
                    <a:pt x="36169" y="55384"/>
                  </a:lnTo>
                  <a:lnTo>
                    <a:pt x="51650" y="54978"/>
                  </a:lnTo>
                  <a:lnTo>
                    <a:pt x="312166" y="54978"/>
                  </a:lnTo>
                  <a:lnTo>
                    <a:pt x="282016" y="99606"/>
                  </a:lnTo>
                  <a:lnTo>
                    <a:pt x="239877" y="135496"/>
                  </a:lnTo>
                  <a:lnTo>
                    <a:pt x="202057" y="154978"/>
                  </a:lnTo>
                  <a:lnTo>
                    <a:pt x="215239" y="165328"/>
                  </a:lnTo>
                  <a:lnTo>
                    <a:pt x="225196" y="174409"/>
                  </a:lnTo>
                  <a:lnTo>
                    <a:pt x="233883" y="184162"/>
                  </a:lnTo>
                  <a:lnTo>
                    <a:pt x="243205" y="196570"/>
                  </a:lnTo>
                  <a:lnTo>
                    <a:pt x="258267" y="187883"/>
                  </a:lnTo>
                  <a:lnTo>
                    <a:pt x="298069" y="158635"/>
                  </a:lnTo>
                  <a:lnTo>
                    <a:pt x="337718" y="116471"/>
                  </a:lnTo>
                  <a:lnTo>
                    <a:pt x="368465" y="66751"/>
                  </a:lnTo>
                  <a:lnTo>
                    <a:pt x="374345" y="54978"/>
                  </a:lnTo>
                  <a:lnTo>
                    <a:pt x="375424" y="52819"/>
                  </a:lnTo>
                  <a:lnTo>
                    <a:pt x="379653" y="44754"/>
                  </a:lnTo>
                  <a:lnTo>
                    <a:pt x="382854" y="39687"/>
                  </a:lnTo>
                  <a:lnTo>
                    <a:pt x="386740" y="34747"/>
                  </a:lnTo>
                  <a:close/>
                </a:path>
                <a:path w="779145" h="374015">
                  <a:moveTo>
                    <a:pt x="778560" y="41605"/>
                  </a:moveTo>
                  <a:lnTo>
                    <a:pt x="747483" y="11887"/>
                  </a:lnTo>
                  <a:lnTo>
                    <a:pt x="737463" y="14147"/>
                  </a:lnTo>
                  <a:lnTo>
                    <a:pt x="727316" y="15544"/>
                  </a:lnTo>
                  <a:lnTo>
                    <a:pt x="715022" y="16268"/>
                  </a:lnTo>
                  <a:lnTo>
                    <a:pt x="698563" y="16459"/>
                  </a:lnTo>
                  <a:lnTo>
                    <a:pt x="468998" y="16344"/>
                  </a:lnTo>
                  <a:lnTo>
                    <a:pt x="454507" y="15887"/>
                  </a:lnTo>
                  <a:lnTo>
                    <a:pt x="442518" y="14922"/>
                  </a:lnTo>
                  <a:lnTo>
                    <a:pt x="430225" y="13258"/>
                  </a:lnTo>
                  <a:lnTo>
                    <a:pt x="430225" y="72682"/>
                  </a:lnTo>
                  <a:lnTo>
                    <a:pt x="441858" y="71297"/>
                  </a:lnTo>
                  <a:lnTo>
                    <a:pt x="453707" y="70472"/>
                  </a:lnTo>
                  <a:lnTo>
                    <a:pt x="468210" y="70065"/>
                  </a:lnTo>
                  <a:lnTo>
                    <a:pt x="705421" y="69951"/>
                  </a:lnTo>
                  <a:lnTo>
                    <a:pt x="689267" y="120307"/>
                  </a:lnTo>
                  <a:lnTo>
                    <a:pt x="667537" y="165125"/>
                  </a:lnTo>
                  <a:lnTo>
                    <a:pt x="640029" y="204698"/>
                  </a:lnTo>
                  <a:lnTo>
                    <a:pt x="606564" y="239318"/>
                  </a:lnTo>
                  <a:lnTo>
                    <a:pt x="566915" y="269265"/>
                  </a:lnTo>
                  <a:lnTo>
                    <a:pt x="519252" y="296011"/>
                  </a:lnTo>
                  <a:lnTo>
                    <a:pt x="466788" y="315887"/>
                  </a:lnTo>
                  <a:lnTo>
                    <a:pt x="480339" y="329793"/>
                  </a:lnTo>
                  <a:lnTo>
                    <a:pt x="490169" y="341718"/>
                  </a:lnTo>
                  <a:lnTo>
                    <a:pt x="498360" y="354330"/>
                  </a:lnTo>
                  <a:lnTo>
                    <a:pt x="507022" y="370281"/>
                  </a:lnTo>
                  <a:lnTo>
                    <a:pt x="559498" y="345262"/>
                  </a:lnTo>
                  <a:lnTo>
                    <a:pt x="603885" y="318516"/>
                  </a:lnTo>
                  <a:lnTo>
                    <a:pt x="642353" y="288518"/>
                  </a:lnTo>
                  <a:lnTo>
                    <a:pt x="677087" y="253720"/>
                  </a:lnTo>
                  <a:lnTo>
                    <a:pt x="707034" y="215239"/>
                  </a:lnTo>
                  <a:lnTo>
                    <a:pt x="731837" y="172186"/>
                  </a:lnTo>
                  <a:lnTo>
                    <a:pt x="752690" y="122008"/>
                  </a:lnTo>
                  <a:lnTo>
                    <a:pt x="770801" y="62179"/>
                  </a:lnTo>
                  <a:lnTo>
                    <a:pt x="773074" y="52578"/>
                  </a:lnTo>
                  <a:lnTo>
                    <a:pt x="774458" y="49377"/>
                  </a:lnTo>
                  <a:lnTo>
                    <a:pt x="778560" y="41605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bject 6"/>
            <p:cNvSpPr/>
            <p:nvPr/>
          </p:nvSpPr>
          <p:spPr>
            <a:xfrm>
              <a:off x="7863840" y="578520"/>
              <a:ext cx="319320" cy="308880"/>
            </a:xfrm>
            <a:custGeom>
              <a:avLst/>
              <a:gdLst/>
              <a:ahLst/>
              <a:rect l="l" t="t" r="r" b="b"/>
              <a:pathLst>
                <a:path w="319404" h="308609">
                  <a:moveTo>
                    <a:pt x="293496" y="0"/>
                  </a:moveTo>
                  <a:lnTo>
                    <a:pt x="286124" y="1921"/>
                  </a:lnTo>
                  <a:lnTo>
                    <a:pt x="278799" y="3028"/>
                  </a:lnTo>
                  <a:lnTo>
                    <a:pt x="268993" y="3536"/>
                  </a:lnTo>
                  <a:lnTo>
                    <a:pt x="59880" y="4114"/>
                  </a:lnTo>
                  <a:lnTo>
                    <a:pt x="45235" y="3936"/>
                  </a:lnTo>
                  <a:lnTo>
                    <a:pt x="32858" y="3371"/>
                  </a:lnTo>
                  <a:lnTo>
                    <a:pt x="21761" y="2378"/>
                  </a:lnTo>
                  <a:lnTo>
                    <a:pt x="10960" y="914"/>
                  </a:lnTo>
                  <a:lnTo>
                    <a:pt x="11429" y="53022"/>
                  </a:lnTo>
                  <a:lnTo>
                    <a:pt x="21895" y="51893"/>
                  </a:lnTo>
                  <a:lnTo>
                    <a:pt x="32059" y="51193"/>
                  </a:lnTo>
                  <a:lnTo>
                    <a:pt x="44021" y="50836"/>
                  </a:lnTo>
                  <a:lnTo>
                    <a:pt x="250062" y="49822"/>
                  </a:lnTo>
                  <a:lnTo>
                    <a:pt x="253720" y="48907"/>
                  </a:lnTo>
                  <a:lnTo>
                    <a:pt x="254177" y="49364"/>
                  </a:lnTo>
                  <a:lnTo>
                    <a:pt x="253263" y="51193"/>
                  </a:lnTo>
                  <a:lnTo>
                    <a:pt x="252793" y="51650"/>
                  </a:lnTo>
                  <a:lnTo>
                    <a:pt x="250520" y="55308"/>
                  </a:lnTo>
                  <a:lnTo>
                    <a:pt x="250520" y="55765"/>
                  </a:lnTo>
                  <a:lnTo>
                    <a:pt x="234682" y="77947"/>
                  </a:lnTo>
                  <a:lnTo>
                    <a:pt x="216058" y="96399"/>
                  </a:lnTo>
                  <a:lnTo>
                    <a:pt x="193748" y="112022"/>
                  </a:lnTo>
                  <a:lnTo>
                    <a:pt x="166852" y="125717"/>
                  </a:lnTo>
                  <a:lnTo>
                    <a:pt x="167309" y="121132"/>
                  </a:lnTo>
                  <a:lnTo>
                    <a:pt x="167309" y="117487"/>
                  </a:lnTo>
                  <a:lnTo>
                    <a:pt x="168971" y="88855"/>
                  </a:lnTo>
                  <a:lnTo>
                    <a:pt x="169636" y="83090"/>
                  </a:lnTo>
                  <a:lnTo>
                    <a:pt x="170510" y="77711"/>
                  </a:lnTo>
                  <a:lnTo>
                    <a:pt x="114287" y="77711"/>
                  </a:lnTo>
                  <a:lnTo>
                    <a:pt x="115188" y="85026"/>
                  </a:lnTo>
                  <a:lnTo>
                    <a:pt x="115188" y="94627"/>
                  </a:lnTo>
                  <a:lnTo>
                    <a:pt x="110966" y="152057"/>
                  </a:lnTo>
                  <a:lnTo>
                    <a:pt x="97828" y="193370"/>
                  </a:lnTo>
                  <a:lnTo>
                    <a:pt x="61253" y="233935"/>
                  </a:lnTo>
                  <a:lnTo>
                    <a:pt x="0" y="261480"/>
                  </a:lnTo>
                  <a:lnTo>
                    <a:pt x="10988" y="273203"/>
                  </a:lnTo>
                  <a:lnTo>
                    <a:pt x="19026" y="283254"/>
                  </a:lnTo>
                  <a:lnTo>
                    <a:pt x="25780" y="294077"/>
                  </a:lnTo>
                  <a:lnTo>
                    <a:pt x="32918" y="308114"/>
                  </a:lnTo>
                  <a:lnTo>
                    <a:pt x="73258" y="289641"/>
                  </a:lnTo>
                  <a:lnTo>
                    <a:pt x="128574" y="244983"/>
                  </a:lnTo>
                  <a:lnTo>
                    <a:pt x="154449" y="197427"/>
                  </a:lnTo>
                  <a:lnTo>
                    <a:pt x="164602" y="153993"/>
                  </a:lnTo>
                  <a:lnTo>
                    <a:pt x="166852" y="127990"/>
                  </a:lnTo>
                  <a:lnTo>
                    <a:pt x="177180" y="136268"/>
                  </a:lnTo>
                  <a:lnTo>
                    <a:pt x="185316" y="143768"/>
                  </a:lnTo>
                  <a:lnTo>
                    <a:pt x="193021" y="152295"/>
                  </a:lnTo>
                  <a:lnTo>
                    <a:pt x="202056" y="163652"/>
                  </a:lnTo>
                  <a:lnTo>
                    <a:pt x="217014" y="154829"/>
                  </a:lnTo>
                  <a:lnTo>
                    <a:pt x="250062" y="129832"/>
                  </a:lnTo>
                  <a:lnTo>
                    <a:pt x="280798" y="96056"/>
                  </a:lnTo>
                  <a:lnTo>
                    <a:pt x="305371" y="55765"/>
                  </a:lnTo>
                  <a:lnTo>
                    <a:pt x="313258" y="39650"/>
                  </a:lnTo>
                  <a:lnTo>
                    <a:pt x="315787" y="35582"/>
                  </a:lnTo>
                  <a:lnTo>
                    <a:pt x="319087" y="31089"/>
                  </a:lnTo>
                  <a:lnTo>
                    <a:pt x="293496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bject 7"/>
            <p:cNvSpPr/>
            <p:nvPr/>
          </p:nvSpPr>
          <p:spPr>
            <a:xfrm>
              <a:off x="8228160" y="488160"/>
              <a:ext cx="816480" cy="393480"/>
            </a:xfrm>
            <a:custGeom>
              <a:avLst/>
              <a:gdLst/>
              <a:ahLst/>
              <a:rect l="l" t="t" r="r" b="b"/>
              <a:pathLst>
                <a:path w="816609" h="393065">
                  <a:moveTo>
                    <a:pt x="377596" y="36576"/>
                  </a:moveTo>
                  <a:lnTo>
                    <a:pt x="325031" y="0"/>
                  </a:lnTo>
                  <a:lnTo>
                    <a:pt x="311873" y="18376"/>
                  </a:lnTo>
                  <a:lnTo>
                    <a:pt x="292798" y="39319"/>
                  </a:lnTo>
                  <a:lnTo>
                    <a:pt x="240004" y="85496"/>
                  </a:lnTo>
                  <a:lnTo>
                    <a:pt x="195821" y="117081"/>
                  </a:lnTo>
                  <a:lnTo>
                    <a:pt x="150190" y="144513"/>
                  </a:lnTo>
                  <a:lnTo>
                    <a:pt x="102654" y="168046"/>
                  </a:lnTo>
                  <a:lnTo>
                    <a:pt x="52743" y="187921"/>
                  </a:lnTo>
                  <a:lnTo>
                    <a:pt x="0" y="204355"/>
                  </a:lnTo>
                  <a:lnTo>
                    <a:pt x="10185" y="217830"/>
                  </a:lnTo>
                  <a:lnTo>
                    <a:pt x="17716" y="229209"/>
                  </a:lnTo>
                  <a:lnTo>
                    <a:pt x="24041" y="241185"/>
                  </a:lnTo>
                  <a:lnTo>
                    <a:pt x="30632" y="256463"/>
                  </a:lnTo>
                  <a:lnTo>
                    <a:pt x="84099" y="236664"/>
                  </a:lnTo>
                  <a:lnTo>
                    <a:pt x="123710" y="220116"/>
                  </a:lnTo>
                  <a:lnTo>
                    <a:pt x="157594" y="203238"/>
                  </a:lnTo>
                  <a:lnTo>
                    <a:pt x="193827" y="182397"/>
                  </a:lnTo>
                  <a:lnTo>
                    <a:pt x="193725" y="360553"/>
                  </a:lnTo>
                  <a:lnTo>
                    <a:pt x="193319" y="373151"/>
                  </a:lnTo>
                  <a:lnTo>
                    <a:pt x="192481" y="383184"/>
                  </a:lnTo>
                  <a:lnTo>
                    <a:pt x="191084" y="392696"/>
                  </a:lnTo>
                  <a:lnTo>
                    <a:pt x="255092" y="392696"/>
                  </a:lnTo>
                  <a:lnTo>
                    <a:pt x="253961" y="383095"/>
                  </a:lnTo>
                  <a:lnTo>
                    <a:pt x="253263" y="372122"/>
                  </a:lnTo>
                  <a:lnTo>
                    <a:pt x="252907" y="358749"/>
                  </a:lnTo>
                  <a:lnTo>
                    <a:pt x="252806" y="146748"/>
                  </a:lnTo>
                  <a:lnTo>
                    <a:pt x="281432" y="124904"/>
                  </a:lnTo>
                  <a:lnTo>
                    <a:pt x="308635" y="102235"/>
                  </a:lnTo>
                  <a:lnTo>
                    <a:pt x="334899" y="78282"/>
                  </a:lnTo>
                  <a:lnTo>
                    <a:pt x="360692" y="52578"/>
                  </a:lnTo>
                  <a:lnTo>
                    <a:pt x="367538" y="45262"/>
                  </a:lnTo>
                  <a:lnTo>
                    <a:pt x="377596" y="36576"/>
                  </a:lnTo>
                  <a:close/>
                </a:path>
                <a:path w="816609" h="393065">
                  <a:moveTo>
                    <a:pt x="542683" y="16916"/>
                  </a:moveTo>
                  <a:lnTo>
                    <a:pt x="480504" y="13716"/>
                  </a:lnTo>
                  <a:lnTo>
                    <a:pt x="481571" y="21894"/>
                  </a:lnTo>
                  <a:lnTo>
                    <a:pt x="482117" y="29718"/>
                  </a:lnTo>
                  <a:lnTo>
                    <a:pt x="482307" y="39319"/>
                  </a:lnTo>
                  <a:lnTo>
                    <a:pt x="482346" y="55321"/>
                  </a:lnTo>
                  <a:lnTo>
                    <a:pt x="481088" y="119316"/>
                  </a:lnTo>
                  <a:lnTo>
                    <a:pt x="476554" y="179666"/>
                  </a:lnTo>
                  <a:lnTo>
                    <a:pt x="468426" y="224701"/>
                  </a:lnTo>
                  <a:lnTo>
                    <a:pt x="456069" y="262051"/>
                  </a:lnTo>
                  <a:lnTo>
                    <a:pt x="428917" y="309765"/>
                  </a:lnTo>
                  <a:lnTo>
                    <a:pt x="391833" y="347433"/>
                  </a:lnTo>
                  <a:lnTo>
                    <a:pt x="405612" y="357327"/>
                  </a:lnTo>
                  <a:lnTo>
                    <a:pt x="416293" y="366522"/>
                  </a:lnTo>
                  <a:lnTo>
                    <a:pt x="426288" y="377266"/>
                  </a:lnTo>
                  <a:lnTo>
                    <a:pt x="437997" y="391769"/>
                  </a:lnTo>
                  <a:lnTo>
                    <a:pt x="458406" y="370471"/>
                  </a:lnTo>
                  <a:lnTo>
                    <a:pt x="488924" y="329552"/>
                  </a:lnTo>
                  <a:lnTo>
                    <a:pt x="516458" y="270522"/>
                  </a:lnTo>
                  <a:lnTo>
                    <a:pt x="527316" y="229031"/>
                  </a:lnTo>
                  <a:lnTo>
                    <a:pt x="534301" y="179806"/>
                  </a:lnTo>
                  <a:lnTo>
                    <a:pt x="538124" y="119316"/>
                  </a:lnTo>
                  <a:lnTo>
                    <a:pt x="539737" y="67322"/>
                  </a:lnTo>
                  <a:lnTo>
                    <a:pt x="540715" y="39954"/>
                  </a:lnTo>
                  <a:lnTo>
                    <a:pt x="540740" y="39319"/>
                  </a:lnTo>
                  <a:lnTo>
                    <a:pt x="541578" y="25717"/>
                  </a:lnTo>
                  <a:lnTo>
                    <a:pt x="542683" y="16916"/>
                  </a:lnTo>
                  <a:close/>
                </a:path>
                <a:path w="816609" h="393065">
                  <a:moveTo>
                    <a:pt x="756958" y="314972"/>
                  </a:moveTo>
                  <a:lnTo>
                    <a:pt x="658342" y="314985"/>
                  </a:lnTo>
                  <a:lnTo>
                    <a:pt x="660628" y="54864"/>
                  </a:lnTo>
                  <a:lnTo>
                    <a:pt x="663829" y="11430"/>
                  </a:lnTo>
                  <a:lnTo>
                    <a:pt x="601649" y="10515"/>
                  </a:lnTo>
                  <a:lnTo>
                    <a:pt x="603478" y="54864"/>
                  </a:lnTo>
                  <a:lnTo>
                    <a:pt x="601484" y="278726"/>
                  </a:lnTo>
                  <a:lnTo>
                    <a:pt x="601370" y="292011"/>
                  </a:lnTo>
                  <a:lnTo>
                    <a:pt x="601268" y="303745"/>
                  </a:lnTo>
                  <a:lnTo>
                    <a:pt x="601243" y="307035"/>
                  </a:lnTo>
                  <a:lnTo>
                    <a:pt x="601129" y="314972"/>
                  </a:lnTo>
                  <a:lnTo>
                    <a:pt x="600811" y="328549"/>
                  </a:lnTo>
                  <a:lnTo>
                    <a:pt x="600163" y="340918"/>
                  </a:lnTo>
                  <a:lnTo>
                    <a:pt x="599008" y="351066"/>
                  </a:lnTo>
                  <a:lnTo>
                    <a:pt x="597077" y="360692"/>
                  </a:lnTo>
                  <a:lnTo>
                    <a:pt x="626338" y="391769"/>
                  </a:lnTo>
                  <a:lnTo>
                    <a:pt x="632294" y="389026"/>
                  </a:lnTo>
                  <a:lnTo>
                    <a:pt x="635939" y="387197"/>
                  </a:lnTo>
                  <a:lnTo>
                    <a:pt x="645998" y="383540"/>
                  </a:lnTo>
                  <a:lnTo>
                    <a:pt x="677608" y="370217"/>
                  </a:lnTo>
                  <a:lnTo>
                    <a:pt x="702741" y="357492"/>
                  </a:lnTo>
                  <a:lnTo>
                    <a:pt x="723849" y="344081"/>
                  </a:lnTo>
                  <a:lnTo>
                    <a:pt x="743369" y="328688"/>
                  </a:lnTo>
                  <a:lnTo>
                    <a:pt x="756958" y="314972"/>
                  </a:lnTo>
                  <a:close/>
                </a:path>
                <a:path w="816609" h="393065">
                  <a:moveTo>
                    <a:pt x="816051" y="222173"/>
                  </a:moveTo>
                  <a:lnTo>
                    <a:pt x="802716" y="211416"/>
                  </a:lnTo>
                  <a:lnTo>
                    <a:pt x="792683" y="202234"/>
                  </a:lnTo>
                  <a:lnTo>
                    <a:pt x="783590" y="192290"/>
                  </a:lnTo>
                  <a:lnTo>
                    <a:pt x="773087" y="179209"/>
                  </a:lnTo>
                  <a:lnTo>
                    <a:pt x="764616" y="203085"/>
                  </a:lnTo>
                  <a:lnTo>
                    <a:pt x="742683" y="244144"/>
                  </a:lnTo>
                  <a:lnTo>
                    <a:pt x="713562" y="278726"/>
                  </a:lnTo>
                  <a:lnTo>
                    <a:pt x="680008" y="303745"/>
                  </a:lnTo>
                  <a:lnTo>
                    <a:pt x="658342" y="314972"/>
                  </a:lnTo>
                  <a:lnTo>
                    <a:pt x="756958" y="314972"/>
                  </a:lnTo>
                  <a:lnTo>
                    <a:pt x="764819" y="307035"/>
                  </a:lnTo>
                  <a:lnTo>
                    <a:pt x="783996" y="282295"/>
                  </a:lnTo>
                  <a:lnTo>
                    <a:pt x="801039" y="254127"/>
                  </a:lnTo>
                  <a:lnTo>
                    <a:pt x="816051" y="222173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" name="object 8"/>
            <p:cNvGrpSpPr/>
            <p:nvPr/>
          </p:nvGrpSpPr>
          <p:grpSpPr>
            <a:xfrm>
              <a:off x="6011280" y="1037880"/>
              <a:ext cx="722520" cy="181080"/>
              <a:chOff x="6011280" y="1037880"/>
              <a:chExt cx="722520" cy="181080"/>
            </a:xfrm>
          </p:grpSpPr>
          <p:pic>
            <p:nvPicPr>
              <p:cNvPr id="37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1280" y="1037880"/>
                <a:ext cx="122760" cy="17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" name="object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6161400" y="1037880"/>
                <a:ext cx="122760" cy="17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" name="object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309000" y="1038240"/>
                <a:ext cx="1285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6468840" y="1099080"/>
                <a:ext cx="109080" cy="10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" name="object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8880" y="1037880"/>
                <a:ext cx="124920" cy="18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" name="object 14"/>
            <p:cNvSpPr/>
            <p:nvPr/>
          </p:nvSpPr>
          <p:spPr>
            <a:xfrm>
              <a:off x="6785280" y="1040400"/>
              <a:ext cx="52560" cy="175320"/>
            </a:xfrm>
            <a:custGeom>
              <a:avLst/>
              <a:gdLst/>
              <a:ahLst/>
              <a:rect l="l" t="t" r="r" b="b"/>
              <a:pathLst>
                <a:path w="52704" h="175259">
                  <a:moveTo>
                    <a:pt x="52374" y="0"/>
                  </a:moveTo>
                  <a:lnTo>
                    <a:pt x="44818" y="914"/>
                  </a:lnTo>
                  <a:lnTo>
                    <a:pt x="41160" y="1142"/>
                  </a:lnTo>
                  <a:lnTo>
                    <a:pt x="10299" y="1142"/>
                  </a:lnTo>
                  <a:lnTo>
                    <a:pt x="5956" y="914"/>
                  </a:lnTo>
                  <a:lnTo>
                    <a:pt x="0" y="0"/>
                  </a:lnTo>
                  <a:lnTo>
                    <a:pt x="0" y="18072"/>
                  </a:lnTo>
                  <a:lnTo>
                    <a:pt x="6629" y="17157"/>
                  </a:lnTo>
                  <a:lnTo>
                    <a:pt x="12573" y="16687"/>
                  </a:lnTo>
                  <a:lnTo>
                    <a:pt x="32245" y="16687"/>
                  </a:lnTo>
                  <a:lnTo>
                    <a:pt x="32245" y="149097"/>
                  </a:lnTo>
                  <a:lnTo>
                    <a:pt x="31846" y="162956"/>
                  </a:lnTo>
                  <a:lnTo>
                    <a:pt x="31286" y="168996"/>
                  </a:lnTo>
                  <a:lnTo>
                    <a:pt x="30429" y="174929"/>
                  </a:lnTo>
                  <a:lnTo>
                    <a:pt x="52133" y="174929"/>
                  </a:lnTo>
                  <a:lnTo>
                    <a:pt x="51276" y="168836"/>
                  </a:lnTo>
                  <a:lnTo>
                    <a:pt x="50715" y="162871"/>
                  </a:lnTo>
                  <a:lnTo>
                    <a:pt x="50410" y="156477"/>
                  </a:lnTo>
                  <a:lnTo>
                    <a:pt x="50445" y="28783"/>
                  </a:lnTo>
                  <a:lnTo>
                    <a:pt x="50831" y="19584"/>
                  </a:lnTo>
                  <a:lnTo>
                    <a:pt x="52374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object 15"/>
            <p:cNvGrpSpPr/>
            <p:nvPr/>
          </p:nvGrpSpPr>
          <p:grpSpPr>
            <a:xfrm>
              <a:off x="6909480" y="1038240"/>
              <a:ext cx="549000" cy="181080"/>
              <a:chOff x="6909480" y="1038240"/>
              <a:chExt cx="549000" cy="181080"/>
            </a:xfrm>
          </p:grpSpPr>
          <p:pic>
            <p:nvPicPr>
              <p:cNvPr id="44" name="object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6909480" y="1038240"/>
                <a:ext cx="128520" cy="1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object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7065000" y="1089720"/>
                <a:ext cx="180720" cy="12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object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77760" y="1089720"/>
                <a:ext cx="18072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" name="object 19"/>
            <p:cNvSpPr/>
            <p:nvPr/>
          </p:nvSpPr>
          <p:spPr>
            <a:xfrm>
              <a:off x="3152160" y="480600"/>
              <a:ext cx="425880" cy="479160"/>
            </a:xfrm>
            <a:custGeom>
              <a:avLst/>
              <a:gdLst/>
              <a:ahLst/>
              <a:rect l="l" t="t" r="r" b="b"/>
              <a:pathLst>
                <a:path w="426084" h="478790">
                  <a:moveTo>
                    <a:pt x="391147" y="0"/>
                  </a:moveTo>
                  <a:lnTo>
                    <a:pt x="330442" y="42970"/>
                  </a:lnTo>
                  <a:lnTo>
                    <a:pt x="292609" y="73653"/>
                  </a:lnTo>
                  <a:lnTo>
                    <a:pt x="252733" y="102491"/>
                  </a:lnTo>
                  <a:lnTo>
                    <a:pt x="210740" y="129371"/>
                  </a:lnTo>
                  <a:lnTo>
                    <a:pt x="166555" y="154184"/>
                  </a:lnTo>
                  <a:lnTo>
                    <a:pt x="120103" y="176817"/>
                  </a:lnTo>
                  <a:lnTo>
                    <a:pt x="71311" y="197159"/>
                  </a:lnTo>
                  <a:lnTo>
                    <a:pt x="20104" y="215099"/>
                  </a:lnTo>
                  <a:lnTo>
                    <a:pt x="12360" y="218485"/>
                  </a:lnTo>
                  <a:lnTo>
                    <a:pt x="6084" y="223331"/>
                  </a:lnTo>
                  <a:lnTo>
                    <a:pt x="1792" y="229674"/>
                  </a:lnTo>
                  <a:lnTo>
                    <a:pt x="0" y="237553"/>
                  </a:lnTo>
                  <a:lnTo>
                    <a:pt x="1940" y="245621"/>
                  </a:lnTo>
                  <a:lnTo>
                    <a:pt x="6929" y="251631"/>
                  </a:lnTo>
                  <a:lnTo>
                    <a:pt x="13721" y="255384"/>
                  </a:lnTo>
                  <a:lnTo>
                    <a:pt x="21069" y="256679"/>
                  </a:lnTo>
                  <a:lnTo>
                    <a:pt x="26301" y="256324"/>
                  </a:lnTo>
                  <a:lnTo>
                    <a:pt x="31102" y="254952"/>
                  </a:lnTo>
                  <a:lnTo>
                    <a:pt x="44069" y="251828"/>
                  </a:lnTo>
                  <a:lnTo>
                    <a:pt x="75429" y="243263"/>
                  </a:lnTo>
                  <a:lnTo>
                    <a:pt x="116768" y="230324"/>
                  </a:lnTo>
                  <a:lnTo>
                    <a:pt x="164696" y="212969"/>
                  </a:lnTo>
                  <a:lnTo>
                    <a:pt x="215823" y="191160"/>
                  </a:lnTo>
                  <a:lnTo>
                    <a:pt x="215823" y="446405"/>
                  </a:lnTo>
                  <a:lnTo>
                    <a:pt x="242836" y="478167"/>
                  </a:lnTo>
                  <a:lnTo>
                    <a:pt x="258635" y="478167"/>
                  </a:lnTo>
                  <a:lnTo>
                    <a:pt x="285902" y="446405"/>
                  </a:lnTo>
                  <a:lnTo>
                    <a:pt x="279057" y="158381"/>
                  </a:lnTo>
                  <a:lnTo>
                    <a:pt x="314485" y="136255"/>
                  </a:lnTo>
                  <a:lnTo>
                    <a:pt x="347724" y="112972"/>
                  </a:lnTo>
                  <a:lnTo>
                    <a:pt x="379389" y="88508"/>
                  </a:lnTo>
                  <a:lnTo>
                    <a:pt x="410095" y="62839"/>
                  </a:lnTo>
                  <a:lnTo>
                    <a:pt x="425551" y="33146"/>
                  </a:lnTo>
                  <a:lnTo>
                    <a:pt x="422569" y="19836"/>
                  </a:lnTo>
                  <a:lnTo>
                    <a:pt x="414969" y="9367"/>
                  </a:lnTo>
                  <a:lnTo>
                    <a:pt x="404059" y="2502"/>
                  </a:lnTo>
                  <a:lnTo>
                    <a:pt x="39114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20"/>
            <p:cNvSpPr/>
            <p:nvPr/>
          </p:nvSpPr>
          <p:spPr>
            <a:xfrm>
              <a:off x="3817800" y="546120"/>
              <a:ext cx="397800" cy="376200"/>
            </a:xfrm>
            <a:custGeom>
              <a:avLst/>
              <a:gdLst/>
              <a:ahLst/>
              <a:rect l="l" t="t" r="r" b="b"/>
              <a:pathLst>
                <a:path w="398144" h="375920">
                  <a:moveTo>
                    <a:pt x="341630" y="0"/>
                  </a:moveTo>
                  <a:lnTo>
                    <a:pt x="47104" y="0"/>
                  </a:lnTo>
                  <a:lnTo>
                    <a:pt x="38354" y="665"/>
                  </a:lnTo>
                  <a:lnTo>
                    <a:pt x="6346" y="31169"/>
                  </a:lnTo>
                  <a:lnTo>
                    <a:pt x="32" y="338467"/>
                  </a:lnTo>
                  <a:lnTo>
                    <a:pt x="0" y="341007"/>
                  </a:lnTo>
                  <a:lnTo>
                    <a:pt x="3235" y="355799"/>
                  </a:lnTo>
                  <a:lnTo>
                    <a:pt x="11517" y="366561"/>
                  </a:lnTo>
                  <a:lnTo>
                    <a:pt x="22797" y="373134"/>
                  </a:lnTo>
                  <a:lnTo>
                    <a:pt x="35305" y="375411"/>
                  </a:lnTo>
                  <a:lnTo>
                    <a:pt x="36207" y="375411"/>
                  </a:lnTo>
                  <a:lnTo>
                    <a:pt x="45754" y="373950"/>
                  </a:lnTo>
                  <a:lnTo>
                    <a:pt x="54897" y="369665"/>
                  </a:lnTo>
                  <a:lnTo>
                    <a:pt x="62652" y="362703"/>
                  </a:lnTo>
                  <a:lnTo>
                    <a:pt x="68033" y="353212"/>
                  </a:lnTo>
                  <a:lnTo>
                    <a:pt x="394676" y="353212"/>
                  </a:lnTo>
                  <a:lnTo>
                    <a:pt x="397518" y="340156"/>
                  </a:lnTo>
                  <a:lnTo>
                    <a:pt x="397598" y="338467"/>
                  </a:lnTo>
                  <a:lnTo>
                    <a:pt x="396176" y="307886"/>
                  </a:lnTo>
                  <a:lnTo>
                    <a:pt x="70243" y="307886"/>
                  </a:lnTo>
                  <a:lnTo>
                    <a:pt x="74319" y="45986"/>
                  </a:lnTo>
                  <a:lnTo>
                    <a:pt x="383998" y="45986"/>
                  </a:lnTo>
                  <a:lnTo>
                    <a:pt x="383666" y="38849"/>
                  </a:lnTo>
                  <a:lnTo>
                    <a:pt x="383641" y="38303"/>
                  </a:lnTo>
                  <a:lnTo>
                    <a:pt x="380574" y="23780"/>
                  </a:lnTo>
                  <a:lnTo>
                    <a:pt x="380499" y="23424"/>
                  </a:lnTo>
                  <a:lnTo>
                    <a:pt x="371789" y="11017"/>
                  </a:lnTo>
                  <a:lnTo>
                    <a:pt x="358567" y="2717"/>
                  </a:lnTo>
                  <a:lnTo>
                    <a:pt x="358757" y="2717"/>
                  </a:lnTo>
                  <a:lnTo>
                    <a:pt x="341630" y="0"/>
                  </a:lnTo>
                  <a:close/>
                </a:path>
                <a:path w="398144" h="375920">
                  <a:moveTo>
                    <a:pt x="394676" y="353212"/>
                  </a:moveTo>
                  <a:lnTo>
                    <a:pt x="330974" y="353212"/>
                  </a:lnTo>
                  <a:lnTo>
                    <a:pt x="336825" y="362167"/>
                  </a:lnTo>
                  <a:lnTo>
                    <a:pt x="344747" y="368609"/>
                  </a:lnTo>
                  <a:lnTo>
                    <a:pt x="353841" y="372420"/>
                  </a:lnTo>
                  <a:lnTo>
                    <a:pt x="363207" y="373481"/>
                  </a:lnTo>
                  <a:lnTo>
                    <a:pt x="375371" y="371229"/>
                  </a:lnTo>
                  <a:lnTo>
                    <a:pt x="386432" y="364688"/>
                  </a:lnTo>
                  <a:lnTo>
                    <a:pt x="394479" y="354120"/>
                  </a:lnTo>
                  <a:lnTo>
                    <a:pt x="394676" y="353212"/>
                  </a:lnTo>
                  <a:close/>
                </a:path>
                <a:path w="398144" h="375920">
                  <a:moveTo>
                    <a:pt x="383998" y="45986"/>
                  </a:moveTo>
                  <a:lnTo>
                    <a:pt x="315353" y="45986"/>
                  </a:lnTo>
                  <a:lnTo>
                    <a:pt x="327038" y="307886"/>
                  </a:lnTo>
                  <a:lnTo>
                    <a:pt x="396176" y="307886"/>
                  </a:lnTo>
                  <a:lnTo>
                    <a:pt x="383998" y="4598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21"/>
            <p:cNvSpPr/>
            <p:nvPr/>
          </p:nvSpPr>
          <p:spPr>
            <a:xfrm>
              <a:off x="4510440" y="426600"/>
              <a:ext cx="341280" cy="547200"/>
            </a:xfrm>
            <a:custGeom>
              <a:avLst/>
              <a:gdLst/>
              <a:ahLst/>
              <a:rect l="l" t="t" r="r" b="b"/>
              <a:pathLst>
                <a:path w="341630" h="546735">
                  <a:moveTo>
                    <a:pt x="39573" y="37223"/>
                  </a:moveTo>
                  <a:lnTo>
                    <a:pt x="24180" y="37223"/>
                  </a:lnTo>
                  <a:lnTo>
                    <a:pt x="16192" y="39839"/>
                  </a:lnTo>
                  <a:lnTo>
                    <a:pt x="0" y="70370"/>
                  </a:lnTo>
                  <a:lnTo>
                    <a:pt x="7619" y="509181"/>
                  </a:lnTo>
                  <a:lnTo>
                    <a:pt x="10306" y="524278"/>
                  </a:lnTo>
                  <a:lnTo>
                    <a:pt x="17473" y="536098"/>
                  </a:lnTo>
                  <a:lnTo>
                    <a:pt x="27838" y="543814"/>
                  </a:lnTo>
                  <a:lnTo>
                    <a:pt x="40119" y="546595"/>
                  </a:lnTo>
                  <a:lnTo>
                    <a:pt x="48348" y="546595"/>
                  </a:lnTo>
                  <a:lnTo>
                    <a:pt x="71970" y="509625"/>
                  </a:lnTo>
                  <a:lnTo>
                    <a:pt x="69076" y="346608"/>
                  </a:lnTo>
                  <a:lnTo>
                    <a:pt x="68973" y="340818"/>
                  </a:lnTo>
                  <a:lnTo>
                    <a:pt x="68892" y="336281"/>
                  </a:lnTo>
                  <a:lnTo>
                    <a:pt x="68832" y="332895"/>
                  </a:lnTo>
                  <a:lnTo>
                    <a:pt x="68711" y="326036"/>
                  </a:lnTo>
                  <a:lnTo>
                    <a:pt x="68650" y="322624"/>
                  </a:lnTo>
                  <a:lnTo>
                    <a:pt x="68548" y="316865"/>
                  </a:lnTo>
                  <a:lnTo>
                    <a:pt x="68510" y="314744"/>
                  </a:lnTo>
                  <a:lnTo>
                    <a:pt x="68394" y="308195"/>
                  </a:lnTo>
                  <a:lnTo>
                    <a:pt x="68339" y="305136"/>
                  </a:lnTo>
                  <a:lnTo>
                    <a:pt x="68236" y="299313"/>
                  </a:lnTo>
                  <a:lnTo>
                    <a:pt x="68176" y="295909"/>
                  </a:lnTo>
                  <a:lnTo>
                    <a:pt x="68080" y="290536"/>
                  </a:lnTo>
                  <a:lnTo>
                    <a:pt x="68040" y="288255"/>
                  </a:lnTo>
                  <a:lnTo>
                    <a:pt x="67932" y="282181"/>
                  </a:lnTo>
                  <a:lnTo>
                    <a:pt x="197300" y="282181"/>
                  </a:lnTo>
                  <a:lnTo>
                    <a:pt x="175089" y="274657"/>
                  </a:lnTo>
                  <a:lnTo>
                    <a:pt x="140212" y="260675"/>
                  </a:lnTo>
                  <a:lnTo>
                    <a:pt x="67398" y="229425"/>
                  </a:lnTo>
                  <a:lnTo>
                    <a:pt x="64982" y="102577"/>
                  </a:lnTo>
                  <a:lnTo>
                    <a:pt x="64865" y="96431"/>
                  </a:lnTo>
                  <a:lnTo>
                    <a:pt x="64784" y="92203"/>
                  </a:lnTo>
                  <a:lnTo>
                    <a:pt x="64659" y="85650"/>
                  </a:lnTo>
                  <a:lnTo>
                    <a:pt x="64631" y="84137"/>
                  </a:lnTo>
                  <a:lnTo>
                    <a:pt x="64517" y="78181"/>
                  </a:lnTo>
                  <a:lnTo>
                    <a:pt x="47613" y="39839"/>
                  </a:lnTo>
                  <a:lnTo>
                    <a:pt x="39573" y="37223"/>
                  </a:lnTo>
                  <a:close/>
                </a:path>
                <a:path w="341630" h="546735">
                  <a:moveTo>
                    <a:pt x="197300" y="282181"/>
                  </a:moveTo>
                  <a:lnTo>
                    <a:pt x="67932" y="282181"/>
                  </a:lnTo>
                  <a:lnTo>
                    <a:pt x="81574" y="290536"/>
                  </a:lnTo>
                  <a:lnTo>
                    <a:pt x="127101" y="316865"/>
                  </a:lnTo>
                  <a:lnTo>
                    <a:pt x="166255" y="337197"/>
                  </a:lnTo>
                  <a:lnTo>
                    <a:pt x="193738" y="346608"/>
                  </a:lnTo>
                  <a:lnTo>
                    <a:pt x="206708" y="343724"/>
                  </a:lnTo>
                  <a:lnTo>
                    <a:pt x="216300" y="336281"/>
                  </a:lnTo>
                  <a:lnTo>
                    <a:pt x="222252" y="326036"/>
                  </a:lnTo>
                  <a:lnTo>
                    <a:pt x="224307" y="314744"/>
                  </a:lnTo>
                  <a:lnTo>
                    <a:pt x="223070" y="305136"/>
                  </a:lnTo>
                  <a:lnTo>
                    <a:pt x="218638" y="295909"/>
                  </a:lnTo>
                  <a:lnTo>
                    <a:pt x="211161" y="288255"/>
                  </a:lnTo>
                  <a:lnTo>
                    <a:pt x="200786" y="283362"/>
                  </a:lnTo>
                  <a:lnTo>
                    <a:pt x="197300" y="282181"/>
                  </a:lnTo>
                  <a:close/>
                </a:path>
                <a:path w="341630" h="546735">
                  <a:moveTo>
                    <a:pt x="190119" y="35636"/>
                  </a:moveTo>
                  <a:lnTo>
                    <a:pt x="183768" y="44821"/>
                  </a:lnTo>
                  <a:lnTo>
                    <a:pt x="183587" y="49390"/>
                  </a:lnTo>
                  <a:lnTo>
                    <a:pt x="183019" y="51574"/>
                  </a:lnTo>
                  <a:lnTo>
                    <a:pt x="183337" y="52349"/>
                  </a:lnTo>
                  <a:lnTo>
                    <a:pt x="183248" y="52603"/>
                  </a:lnTo>
                  <a:lnTo>
                    <a:pt x="184585" y="61048"/>
                  </a:lnTo>
                  <a:lnTo>
                    <a:pt x="198983" y="100126"/>
                  </a:lnTo>
                  <a:lnTo>
                    <a:pt x="224476" y="138231"/>
                  </a:lnTo>
                  <a:lnTo>
                    <a:pt x="241160" y="145745"/>
                  </a:lnTo>
                  <a:lnTo>
                    <a:pt x="243090" y="145745"/>
                  </a:lnTo>
                  <a:lnTo>
                    <a:pt x="252471" y="144007"/>
                  </a:lnTo>
                  <a:lnTo>
                    <a:pt x="260273" y="139398"/>
                  </a:lnTo>
                  <a:lnTo>
                    <a:pt x="266075" y="132564"/>
                  </a:lnTo>
                  <a:lnTo>
                    <a:pt x="269455" y="124155"/>
                  </a:lnTo>
                  <a:lnTo>
                    <a:pt x="258203" y="121653"/>
                  </a:lnTo>
                  <a:lnTo>
                    <a:pt x="269924" y="121653"/>
                  </a:lnTo>
                  <a:lnTo>
                    <a:pt x="270167" y="120078"/>
                  </a:lnTo>
                  <a:lnTo>
                    <a:pt x="270217" y="110375"/>
                  </a:lnTo>
                  <a:lnTo>
                    <a:pt x="267195" y="102577"/>
                  </a:lnTo>
                  <a:lnTo>
                    <a:pt x="261442" y="96431"/>
                  </a:lnTo>
                  <a:lnTo>
                    <a:pt x="251286" y="85900"/>
                  </a:lnTo>
                  <a:lnTo>
                    <a:pt x="240074" y="73829"/>
                  </a:lnTo>
                  <a:lnTo>
                    <a:pt x="228995" y="61299"/>
                  </a:lnTo>
                  <a:lnTo>
                    <a:pt x="219240" y="49390"/>
                  </a:lnTo>
                  <a:lnTo>
                    <a:pt x="214414" y="43408"/>
                  </a:lnTo>
                  <a:lnTo>
                    <a:pt x="210769" y="38747"/>
                  </a:lnTo>
                  <a:lnTo>
                    <a:pt x="202704" y="36563"/>
                  </a:lnTo>
                  <a:lnTo>
                    <a:pt x="201714" y="36258"/>
                  </a:lnTo>
                  <a:lnTo>
                    <a:pt x="200113" y="36118"/>
                  </a:lnTo>
                  <a:lnTo>
                    <a:pt x="198983" y="36118"/>
                  </a:lnTo>
                  <a:lnTo>
                    <a:pt x="190119" y="35636"/>
                  </a:lnTo>
                  <a:close/>
                </a:path>
                <a:path w="341630" h="546735">
                  <a:moveTo>
                    <a:pt x="269924" y="121653"/>
                  </a:moveTo>
                  <a:lnTo>
                    <a:pt x="258203" y="121653"/>
                  </a:lnTo>
                  <a:lnTo>
                    <a:pt x="269557" y="123748"/>
                  </a:lnTo>
                  <a:lnTo>
                    <a:pt x="269862" y="122059"/>
                  </a:lnTo>
                  <a:lnTo>
                    <a:pt x="269924" y="121653"/>
                  </a:lnTo>
                  <a:close/>
                </a:path>
                <a:path w="341630" h="546735">
                  <a:moveTo>
                    <a:pt x="261480" y="0"/>
                  </a:moveTo>
                  <a:lnTo>
                    <a:pt x="254442" y="0"/>
                  </a:lnTo>
                  <a:lnTo>
                    <a:pt x="250825" y="863"/>
                  </a:lnTo>
                  <a:lnTo>
                    <a:pt x="247675" y="4267"/>
                  </a:lnTo>
                  <a:lnTo>
                    <a:pt x="244894" y="7226"/>
                  </a:lnTo>
                  <a:lnTo>
                    <a:pt x="243979" y="10274"/>
                  </a:lnTo>
                  <a:lnTo>
                    <a:pt x="243522" y="12687"/>
                  </a:lnTo>
                  <a:lnTo>
                    <a:pt x="243306" y="13639"/>
                  </a:lnTo>
                  <a:lnTo>
                    <a:pt x="243243" y="15506"/>
                  </a:lnTo>
                  <a:lnTo>
                    <a:pt x="243916" y="23596"/>
                  </a:lnTo>
                  <a:lnTo>
                    <a:pt x="246608" y="27266"/>
                  </a:lnTo>
                  <a:lnTo>
                    <a:pt x="250532" y="35636"/>
                  </a:lnTo>
                  <a:lnTo>
                    <a:pt x="275729" y="74955"/>
                  </a:lnTo>
                  <a:lnTo>
                    <a:pt x="311073" y="102184"/>
                  </a:lnTo>
                  <a:lnTo>
                    <a:pt x="306038" y="102184"/>
                  </a:lnTo>
                  <a:lnTo>
                    <a:pt x="318964" y="102577"/>
                  </a:lnTo>
                  <a:lnTo>
                    <a:pt x="314178" y="102577"/>
                  </a:lnTo>
                  <a:lnTo>
                    <a:pt x="324763" y="100397"/>
                  </a:lnTo>
                  <a:lnTo>
                    <a:pt x="332651" y="95088"/>
                  </a:lnTo>
                  <a:lnTo>
                    <a:pt x="338119" y="87545"/>
                  </a:lnTo>
                  <a:lnTo>
                    <a:pt x="340829" y="78790"/>
                  </a:lnTo>
                  <a:lnTo>
                    <a:pt x="329399" y="77139"/>
                  </a:lnTo>
                  <a:lnTo>
                    <a:pt x="340979" y="77139"/>
                  </a:lnTo>
                  <a:lnTo>
                    <a:pt x="341007" y="73829"/>
                  </a:lnTo>
                  <a:lnTo>
                    <a:pt x="340303" y="67686"/>
                  </a:lnTo>
                  <a:lnTo>
                    <a:pt x="338019" y="61536"/>
                  </a:lnTo>
                  <a:lnTo>
                    <a:pt x="337932" y="61299"/>
                  </a:lnTo>
                  <a:lnTo>
                    <a:pt x="337839" y="61048"/>
                  </a:lnTo>
                  <a:lnTo>
                    <a:pt x="333793" y="54906"/>
                  </a:lnTo>
                  <a:lnTo>
                    <a:pt x="328269" y="49580"/>
                  </a:lnTo>
                  <a:lnTo>
                    <a:pt x="316493" y="40766"/>
                  </a:lnTo>
                  <a:lnTo>
                    <a:pt x="303266" y="30564"/>
                  </a:lnTo>
                  <a:lnTo>
                    <a:pt x="290054" y="19878"/>
                  </a:lnTo>
                  <a:lnTo>
                    <a:pt x="278320" y="9613"/>
                  </a:lnTo>
                  <a:lnTo>
                    <a:pt x="272973" y="4419"/>
                  </a:lnTo>
                  <a:lnTo>
                    <a:pt x="267728" y="1041"/>
                  </a:lnTo>
                  <a:lnTo>
                    <a:pt x="261480" y="0"/>
                  </a:lnTo>
                  <a:close/>
                </a:path>
                <a:path w="341630" h="546735">
                  <a:moveTo>
                    <a:pt x="340979" y="77139"/>
                  </a:moveTo>
                  <a:lnTo>
                    <a:pt x="329399" y="77139"/>
                  </a:lnTo>
                  <a:lnTo>
                    <a:pt x="340906" y="78181"/>
                  </a:lnTo>
                  <a:lnTo>
                    <a:pt x="340979" y="7713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22"/>
            <p:cNvSpPr/>
            <p:nvPr/>
          </p:nvSpPr>
          <p:spPr>
            <a:xfrm>
              <a:off x="5060160" y="490680"/>
              <a:ext cx="312840" cy="495000"/>
            </a:xfrm>
            <a:custGeom>
              <a:avLst/>
              <a:gdLst/>
              <a:ahLst/>
              <a:rect l="l" t="t" r="r" b="b"/>
              <a:pathLst>
                <a:path w="313055" h="494665">
                  <a:moveTo>
                    <a:pt x="285330" y="0"/>
                  </a:moveTo>
                  <a:lnTo>
                    <a:pt x="269989" y="0"/>
                  </a:lnTo>
                  <a:lnTo>
                    <a:pt x="262343" y="2184"/>
                  </a:lnTo>
                  <a:lnTo>
                    <a:pt x="245630" y="31191"/>
                  </a:lnTo>
                  <a:lnTo>
                    <a:pt x="245833" y="50283"/>
                  </a:lnTo>
                  <a:lnTo>
                    <a:pt x="246723" y="87929"/>
                  </a:lnTo>
                  <a:lnTo>
                    <a:pt x="246926" y="107378"/>
                  </a:lnTo>
                  <a:lnTo>
                    <a:pt x="245808" y="168760"/>
                  </a:lnTo>
                  <a:lnTo>
                    <a:pt x="241871" y="239153"/>
                  </a:lnTo>
                  <a:lnTo>
                    <a:pt x="234031" y="290282"/>
                  </a:lnTo>
                  <a:lnTo>
                    <a:pt x="219350" y="339052"/>
                  </a:lnTo>
                  <a:lnTo>
                    <a:pt x="199060" y="384219"/>
                  </a:lnTo>
                  <a:lnTo>
                    <a:pt x="174393" y="424537"/>
                  </a:lnTo>
                  <a:lnTo>
                    <a:pt x="146583" y="458762"/>
                  </a:lnTo>
                  <a:lnTo>
                    <a:pt x="142189" y="463232"/>
                  </a:lnTo>
                  <a:lnTo>
                    <a:pt x="140944" y="468668"/>
                  </a:lnTo>
                  <a:lnTo>
                    <a:pt x="160718" y="494042"/>
                  </a:lnTo>
                  <a:lnTo>
                    <a:pt x="168694" y="493255"/>
                  </a:lnTo>
                  <a:lnTo>
                    <a:pt x="170459" y="490855"/>
                  </a:lnTo>
                  <a:lnTo>
                    <a:pt x="175933" y="487667"/>
                  </a:lnTo>
                  <a:lnTo>
                    <a:pt x="222361" y="443652"/>
                  </a:lnTo>
                  <a:lnTo>
                    <a:pt x="250374" y="406479"/>
                  </a:lnTo>
                  <a:lnTo>
                    <a:pt x="276456" y="360130"/>
                  </a:lnTo>
                  <a:lnTo>
                    <a:pt x="296761" y="305306"/>
                  </a:lnTo>
                  <a:lnTo>
                    <a:pt x="307441" y="242709"/>
                  </a:lnTo>
                  <a:lnTo>
                    <a:pt x="309846" y="203616"/>
                  </a:lnTo>
                  <a:lnTo>
                    <a:pt x="312285" y="138232"/>
                  </a:lnTo>
                  <a:lnTo>
                    <a:pt x="312547" y="110540"/>
                  </a:lnTo>
                  <a:lnTo>
                    <a:pt x="312344" y="89319"/>
                  </a:lnTo>
                  <a:lnTo>
                    <a:pt x="311454" y="51053"/>
                  </a:lnTo>
                  <a:lnTo>
                    <a:pt x="311251" y="33096"/>
                  </a:lnTo>
                  <a:lnTo>
                    <a:pt x="293458" y="2400"/>
                  </a:lnTo>
                  <a:lnTo>
                    <a:pt x="285330" y="0"/>
                  </a:lnTo>
                  <a:close/>
                </a:path>
                <a:path w="313055" h="494665">
                  <a:moveTo>
                    <a:pt x="39535" y="6311"/>
                  </a:moveTo>
                  <a:lnTo>
                    <a:pt x="24142" y="6311"/>
                  </a:lnTo>
                  <a:lnTo>
                    <a:pt x="16281" y="8915"/>
                  </a:lnTo>
                  <a:lnTo>
                    <a:pt x="0" y="38811"/>
                  </a:lnTo>
                  <a:lnTo>
                    <a:pt x="635" y="264172"/>
                  </a:lnTo>
                  <a:lnTo>
                    <a:pt x="24218" y="300456"/>
                  </a:lnTo>
                  <a:lnTo>
                    <a:pt x="32486" y="300456"/>
                  </a:lnTo>
                  <a:lnTo>
                    <a:pt x="62358" y="271835"/>
                  </a:lnTo>
                  <a:lnTo>
                    <a:pt x="63715" y="38811"/>
                  </a:lnTo>
                  <a:lnTo>
                    <a:pt x="63048" y="31688"/>
                  </a:lnTo>
                  <a:lnTo>
                    <a:pt x="39535" y="631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3"/>
            <p:cNvSpPr/>
            <p:nvPr/>
          </p:nvSpPr>
          <p:spPr>
            <a:xfrm>
              <a:off x="2518920" y="797400"/>
              <a:ext cx="146520" cy="29160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43" y="0"/>
                  </a:moveTo>
                  <a:lnTo>
                    <a:pt x="72025" y="40958"/>
                  </a:lnTo>
                  <a:lnTo>
                    <a:pt x="62320" y="78925"/>
                  </a:lnTo>
                  <a:lnTo>
                    <a:pt x="46155" y="120095"/>
                  </a:lnTo>
                  <a:lnTo>
                    <a:pt x="20856" y="170662"/>
                  </a:lnTo>
                  <a:lnTo>
                    <a:pt x="12389" y="186792"/>
                  </a:lnTo>
                  <a:lnTo>
                    <a:pt x="0" y="223643"/>
                  </a:lnTo>
                  <a:lnTo>
                    <a:pt x="3207" y="263909"/>
                  </a:lnTo>
                  <a:lnTo>
                    <a:pt x="41705" y="290322"/>
                  </a:lnTo>
                  <a:lnTo>
                    <a:pt x="44195" y="290868"/>
                  </a:lnTo>
                  <a:lnTo>
                    <a:pt x="53863" y="290868"/>
                  </a:lnTo>
                  <a:lnTo>
                    <a:pt x="56721" y="290322"/>
                  </a:lnTo>
                  <a:lnTo>
                    <a:pt x="111885" y="277739"/>
                  </a:lnTo>
                  <a:lnTo>
                    <a:pt x="139085" y="259384"/>
                  </a:lnTo>
                  <a:lnTo>
                    <a:pt x="146252" y="222513"/>
                  </a:lnTo>
                  <a:lnTo>
                    <a:pt x="141316" y="154381"/>
                  </a:lnTo>
                  <a:lnTo>
                    <a:pt x="128980" y="102916"/>
                  </a:lnTo>
                  <a:lnTo>
                    <a:pt x="116028" y="64246"/>
                  </a:lnTo>
                  <a:lnTo>
                    <a:pt x="99884" y="32048"/>
                  </a:lnTo>
                  <a:lnTo>
                    <a:pt x="77943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24"/>
            <p:cNvSpPr/>
            <p:nvPr/>
          </p:nvSpPr>
          <p:spPr>
            <a:xfrm>
              <a:off x="2471040" y="336600"/>
              <a:ext cx="145800" cy="29160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95" y="0"/>
                  </a:moveTo>
                  <a:lnTo>
                    <a:pt x="96931" y="152"/>
                  </a:lnTo>
                  <a:lnTo>
                    <a:pt x="94607" y="0"/>
                  </a:lnTo>
                  <a:lnTo>
                    <a:pt x="92003" y="152"/>
                  </a:lnTo>
                  <a:lnTo>
                    <a:pt x="34351" y="12782"/>
                  </a:lnTo>
                  <a:lnTo>
                    <a:pt x="7269" y="30972"/>
                  </a:lnTo>
                  <a:lnTo>
                    <a:pt x="0" y="67977"/>
                  </a:lnTo>
                  <a:lnTo>
                    <a:pt x="4615" y="136537"/>
                  </a:lnTo>
                  <a:lnTo>
                    <a:pt x="16948" y="187977"/>
                  </a:lnTo>
                  <a:lnTo>
                    <a:pt x="29894" y="226641"/>
                  </a:lnTo>
                  <a:lnTo>
                    <a:pt x="46031" y="258842"/>
                  </a:lnTo>
                  <a:lnTo>
                    <a:pt x="67937" y="290893"/>
                  </a:lnTo>
                  <a:lnTo>
                    <a:pt x="73898" y="249925"/>
                  </a:lnTo>
                  <a:lnTo>
                    <a:pt x="83601" y="211953"/>
                  </a:lnTo>
                  <a:lnTo>
                    <a:pt x="99769" y="170785"/>
                  </a:lnTo>
                  <a:lnTo>
                    <a:pt x="125074" y="120230"/>
                  </a:lnTo>
                  <a:lnTo>
                    <a:pt x="133468" y="103986"/>
                  </a:lnTo>
                  <a:lnTo>
                    <a:pt x="145731" y="66948"/>
                  </a:lnTo>
                  <a:lnTo>
                    <a:pt x="142487" y="26662"/>
                  </a:lnTo>
                  <a:lnTo>
                    <a:pt x="104361" y="673"/>
                  </a:lnTo>
                  <a:lnTo>
                    <a:pt x="101897" y="152"/>
                  </a:lnTo>
                  <a:lnTo>
                    <a:pt x="99395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object 25" descr=""/>
            <p:cNvPicPr/>
            <p:nvPr/>
          </p:nvPicPr>
          <p:blipFill>
            <a:blip r:embed="rId11"/>
            <a:stretch/>
          </p:blipFill>
          <p:spPr>
            <a:xfrm>
              <a:off x="2314080" y="793080"/>
              <a:ext cx="214200" cy="2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object 26" descr=""/>
            <p:cNvPicPr/>
            <p:nvPr/>
          </p:nvPicPr>
          <p:blipFill>
            <a:blip r:embed="rId12"/>
            <a:stretch/>
          </p:blipFill>
          <p:spPr>
            <a:xfrm>
              <a:off x="2607480" y="412200"/>
              <a:ext cx="214200" cy="2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object 27"/>
            <p:cNvSpPr/>
            <p:nvPr/>
          </p:nvSpPr>
          <p:spPr>
            <a:xfrm>
              <a:off x="2192400" y="663480"/>
              <a:ext cx="291240" cy="1465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25" y="0"/>
                  </a:moveTo>
                  <a:lnTo>
                    <a:pt x="26980" y="3228"/>
                  </a:lnTo>
                  <a:lnTo>
                    <a:pt x="711" y="41529"/>
                  </a:lnTo>
                  <a:lnTo>
                    <a:pt x="165" y="44018"/>
                  </a:lnTo>
                  <a:lnTo>
                    <a:pt x="0" y="46507"/>
                  </a:lnTo>
                  <a:lnTo>
                    <a:pt x="228" y="48958"/>
                  </a:lnTo>
                  <a:lnTo>
                    <a:pt x="0" y="51257"/>
                  </a:lnTo>
                  <a:lnTo>
                    <a:pt x="152" y="53936"/>
                  </a:lnTo>
                  <a:lnTo>
                    <a:pt x="13279" y="111919"/>
                  </a:lnTo>
                  <a:lnTo>
                    <a:pt x="31624" y="139112"/>
                  </a:lnTo>
                  <a:lnTo>
                    <a:pt x="68469" y="146260"/>
                  </a:lnTo>
                  <a:lnTo>
                    <a:pt x="136550" y="141287"/>
                  </a:lnTo>
                  <a:lnTo>
                    <a:pt x="188010" y="128935"/>
                  </a:lnTo>
                  <a:lnTo>
                    <a:pt x="226682" y="115982"/>
                  </a:lnTo>
                  <a:lnTo>
                    <a:pt x="258887" y="99839"/>
                  </a:lnTo>
                  <a:lnTo>
                    <a:pt x="290944" y="77914"/>
                  </a:lnTo>
                  <a:lnTo>
                    <a:pt x="249961" y="72007"/>
                  </a:lnTo>
                  <a:lnTo>
                    <a:pt x="211980" y="62298"/>
                  </a:lnTo>
                  <a:lnTo>
                    <a:pt x="170806" y="46119"/>
                  </a:lnTo>
                  <a:lnTo>
                    <a:pt x="120243" y="20802"/>
                  </a:lnTo>
                  <a:lnTo>
                    <a:pt x="104097" y="12353"/>
                  </a:lnTo>
                  <a:lnTo>
                    <a:pt x="67225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2652840" y="615240"/>
              <a:ext cx="291240" cy="1465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499" y="0"/>
                  </a:moveTo>
                  <a:lnTo>
                    <a:pt x="154419" y="4929"/>
                  </a:lnTo>
                  <a:lnTo>
                    <a:pt x="102948" y="17278"/>
                  </a:lnTo>
                  <a:lnTo>
                    <a:pt x="64265" y="30235"/>
                  </a:lnTo>
                  <a:lnTo>
                    <a:pt x="0" y="68315"/>
                  </a:lnTo>
                  <a:lnTo>
                    <a:pt x="40973" y="74221"/>
                  </a:lnTo>
                  <a:lnTo>
                    <a:pt x="78960" y="83939"/>
                  </a:lnTo>
                  <a:lnTo>
                    <a:pt x="120145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1" y="146145"/>
                  </a:lnTo>
                  <a:lnTo>
                    <a:pt x="263767" y="142902"/>
                  </a:lnTo>
                  <a:lnTo>
                    <a:pt x="290220" y="104726"/>
                  </a:lnTo>
                  <a:lnTo>
                    <a:pt x="290957" y="99747"/>
                  </a:lnTo>
                  <a:lnTo>
                    <a:pt x="290753" y="97283"/>
                  </a:lnTo>
                  <a:lnTo>
                    <a:pt x="290957" y="94972"/>
                  </a:lnTo>
                  <a:lnTo>
                    <a:pt x="290804" y="92369"/>
                  </a:lnTo>
                  <a:lnTo>
                    <a:pt x="290220" y="89486"/>
                  </a:lnTo>
                  <a:lnTo>
                    <a:pt x="277668" y="34351"/>
                  </a:lnTo>
                  <a:lnTo>
                    <a:pt x="259338" y="7164"/>
                  </a:lnTo>
                  <a:lnTo>
                    <a:pt x="22249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object 29" descr=""/>
            <p:cNvPicPr/>
            <p:nvPr/>
          </p:nvPicPr>
          <p:blipFill>
            <a:blip r:embed="rId13"/>
            <a:stretch/>
          </p:blipFill>
          <p:spPr>
            <a:xfrm>
              <a:off x="2268000" y="458640"/>
              <a:ext cx="2192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object 30" descr=""/>
            <p:cNvPicPr/>
            <p:nvPr/>
          </p:nvPicPr>
          <p:blipFill>
            <a:blip r:embed="rId14"/>
            <a:stretch/>
          </p:blipFill>
          <p:spPr>
            <a:xfrm>
              <a:off x="2648520" y="752040"/>
              <a:ext cx="21960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object 31"/>
            <p:cNvSpPr/>
            <p:nvPr/>
          </p:nvSpPr>
          <p:spPr>
            <a:xfrm>
              <a:off x="9515880" y="797400"/>
              <a:ext cx="146520" cy="29160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39" y="0"/>
                  </a:moveTo>
                  <a:lnTo>
                    <a:pt x="72022" y="40958"/>
                  </a:lnTo>
                  <a:lnTo>
                    <a:pt x="62317" y="78925"/>
                  </a:lnTo>
                  <a:lnTo>
                    <a:pt x="46151" y="120095"/>
                  </a:lnTo>
                  <a:lnTo>
                    <a:pt x="20853" y="170662"/>
                  </a:lnTo>
                  <a:lnTo>
                    <a:pt x="12387" y="186792"/>
                  </a:lnTo>
                  <a:lnTo>
                    <a:pt x="0" y="223643"/>
                  </a:lnTo>
                  <a:lnTo>
                    <a:pt x="3204" y="263909"/>
                  </a:lnTo>
                  <a:lnTo>
                    <a:pt x="41690" y="290322"/>
                  </a:lnTo>
                  <a:lnTo>
                    <a:pt x="44192" y="290868"/>
                  </a:lnTo>
                  <a:lnTo>
                    <a:pt x="53873" y="290868"/>
                  </a:lnTo>
                  <a:lnTo>
                    <a:pt x="56718" y="290322"/>
                  </a:lnTo>
                  <a:lnTo>
                    <a:pt x="111889" y="277739"/>
                  </a:lnTo>
                  <a:lnTo>
                    <a:pt x="139090" y="259384"/>
                  </a:lnTo>
                  <a:lnTo>
                    <a:pt x="146250" y="222513"/>
                  </a:lnTo>
                  <a:lnTo>
                    <a:pt x="141300" y="154381"/>
                  </a:lnTo>
                  <a:lnTo>
                    <a:pt x="128969" y="102916"/>
                  </a:lnTo>
                  <a:lnTo>
                    <a:pt x="116016" y="64246"/>
                  </a:lnTo>
                  <a:lnTo>
                    <a:pt x="99864" y="32048"/>
                  </a:lnTo>
                  <a:lnTo>
                    <a:pt x="77939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bject 32"/>
            <p:cNvSpPr/>
            <p:nvPr/>
          </p:nvSpPr>
          <p:spPr>
            <a:xfrm>
              <a:off x="9468000" y="336600"/>
              <a:ext cx="145800" cy="29160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89" y="0"/>
                  </a:moveTo>
                  <a:lnTo>
                    <a:pt x="96951" y="152"/>
                  </a:lnTo>
                  <a:lnTo>
                    <a:pt x="94627" y="0"/>
                  </a:lnTo>
                  <a:lnTo>
                    <a:pt x="91998" y="152"/>
                  </a:lnTo>
                  <a:lnTo>
                    <a:pt x="34351" y="12782"/>
                  </a:lnTo>
                  <a:lnTo>
                    <a:pt x="7267" y="30972"/>
                  </a:lnTo>
                  <a:lnTo>
                    <a:pt x="0" y="67977"/>
                  </a:lnTo>
                  <a:lnTo>
                    <a:pt x="4622" y="136537"/>
                  </a:lnTo>
                  <a:lnTo>
                    <a:pt x="16961" y="187977"/>
                  </a:lnTo>
                  <a:lnTo>
                    <a:pt x="29908" y="226641"/>
                  </a:lnTo>
                  <a:lnTo>
                    <a:pt x="46045" y="258842"/>
                  </a:lnTo>
                  <a:lnTo>
                    <a:pt x="67957" y="290893"/>
                  </a:lnTo>
                  <a:lnTo>
                    <a:pt x="73884" y="249925"/>
                  </a:lnTo>
                  <a:lnTo>
                    <a:pt x="83602" y="211953"/>
                  </a:lnTo>
                  <a:lnTo>
                    <a:pt x="99784" y="170785"/>
                  </a:lnTo>
                  <a:lnTo>
                    <a:pt x="125107" y="120230"/>
                  </a:lnTo>
                  <a:lnTo>
                    <a:pt x="133497" y="103986"/>
                  </a:lnTo>
                  <a:lnTo>
                    <a:pt x="145752" y="66948"/>
                  </a:lnTo>
                  <a:lnTo>
                    <a:pt x="142504" y="26662"/>
                  </a:lnTo>
                  <a:lnTo>
                    <a:pt x="104380" y="673"/>
                  </a:lnTo>
                  <a:lnTo>
                    <a:pt x="101904" y="152"/>
                  </a:lnTo>
                  <a:lnTo>
                    <a:pt x="99389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object 33" descr=""/>
            <p:cNvPicPr/>
            <p:nvPr/>
          </p:nvPicPr>
          <p:blipFill>
            <a:blip r:embed="rId15"/>
            <a:stretch/>
          </p:blipFill>
          <p:spPr>
            <a:xfrm>
              <a:off x="9311040" y="793080"/>
              <a:ext cx="214200" cy="2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object 34" descr=""/>
            <p:cNvPicPr/>
            <p:nvPr/>
          </p:nvPicPr>
          <p:blipFill>
            <a:blip r:embed="rId16"/>
            <a:stretch/>
          </p:blipFill>
          <p:spPr>
            <a:xfrm>
              <a:off x="9604440" y="412200"/>
              <a:ext cx="214200" cy="2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object 35"/>
            <p:cNvSpPr/>
            <p:nvPr/>
          </p:nvSpPr>
          <p:spPr>
            <a:xfrm>
              <a:off x="9189360" y="663480"/>
              <a:ext cx="291240" cy="1465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06" y="0"/>
                  </a:moveTo>
                  <a:lnTo>
                    <a:pt x="26956" y="3228"/>
                  </a:lnTo>
                  <a:lnTo>
                    <a:pt x="685" y="41529"/>
                  </a:lnTo>
                  <a:lnTo>
                    <a:pt x="165" y="44018"/>
                  </a:lnTo>
                  <a:lnTo>
                    <a:pt x="0" y="46507"/>
                  </a:lnTo>
                  <a:lnTo>
                    <a:pt x="215" y="48958"/>
                  </a:lnTo>
                  <a:lnTo>
                    <a:pt x="0" y="51257"/>
                  </a:lnTo>
                  <a:lnTo>
                    <a:pt x="114" y="53936"/>
                  </a:lnTo>
                  <a:lnTo>
                    <a:pt x="13259" y="111919"/>
                  </a:lnTo>
                  <a:lnTo>
                    <a:pt x="31600" y="139112"/>
                  </a:lnTo>
                  <a:lnTo>
                    <a:pt x="68444" y="146260"/>
                  </a:lnTo>
                  <a:lnTo>
                    <a:pt x="136524" y="141287"/>
                  </a:lnTo>
                  <a:lnTo>
                    <a:pt x="187991" y="128935"/>
                  </a:lnTo>
                  <a:lnTo>
                    <a:pt x="226668" y="115982"/>
                  </a:lnTo>
                  <a:lnTo>
                    <a:pt x="258874" y="99839"/>
                  </a:lnTo>
                  <a:lnTo>
                    <a:pt x="290931" y="77914"/>
                  </a:lnTo>
                  <a:lnTo>
                    <a:pt x="249947" y="72007"/>
                  </a:lnTo>
                  <a:lnTo>
                    <a:pt x="211962" y="62298"/>
                  </a:lnTo>
                  <a:lnTo>
                    <a:pt x="170788" y="46119"/>
                  </a:lnTo>
                  <a:lnTo>
                    <a:pt x="120230" y="20802"/>
                  </a:lnTo>
                  <a:lnTo>
                    <a:pt x="104082" y="12353"/>
                  </a:lnTo>
                  <a:lnTo>
                    <a:pt x="67206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bject 36"/>
            <p:cNvSpPr/>
            <p:nvPr/>
          </p:nvSpPr>
          <p:spPr>
            <a:xfrm>
              <a:off x="9649800" y="615240"/>
              <a:ext cx="291240" cy="1465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519" y="0"/>
                  </a:moveTo>
                  <a:lnTo>
                    <a:pt x="154432" y="4929"/>
                  </a:lnTo>
                  <a:lnTo>
                    <a:pt x="102955" y="17278"/>
                  </a:lnTo>
                  <a:lnTo>
                    <a:pt x="64271" y="30235"/>
                  </a:lnTo>
                  <a:lnTo>
                    <a:pt x="0" y="68315"/>
                  </a:lnTo>
                  <a:lnTo>
                    <a:pt x="40975" y="74221"/>
                  </a:lnTo>
                  <a:lnTo>
                    <a:pt x="78965" y="83939"/>
                  </a:lnTo>
                  <a:lnTo>
                    <a:pt x="120150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4" y="146145"/>
                  </a:lnTo>
                  <a:lnTo>
                    <a:pt x="263778" y="142902"/>
                  </a:lnTo>
                  <a:lnTo>
                    <a:pt x="290245" y="104726"/>
                  </a:lnTo>
                  <a:lnTo>
                    <a:pt x="290779" y="102287"/>
                  </a:lnTo>
                  <a:lnTo>
                    <a:pt x="290962" y="100129"/>
                  </a:lnTo>
                  <a:lnTo>
                    <a:pt x="290995" y="99747"/>
                  </a:lnTo>
                  <a:lnTo>
                    <a:pt x="290753" y="97283"/>
                  </a:lnTo>
                  <a:lnTo>
                    <a:pt x="290995" y="94972"/>
                  </a:lnTo>
                  <a:lnTo>
                    <a:pt x="290804" y="92369"/>
                  </a:lnTo>
                  <a:lnTo>
                    <a:pt x="290245" y="89486"/>
                  </a:lnTo>
                  <a:lnTo>
                    <a:pt x="277693" y="34351"/>
                  </a:lnTo>
                  <a:lnTo>
                    <a:pt x="259362" y="7164"/>
                  </a:lnTo>
                  <a:lnTo>
                    <a:pt x="22251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object 37" descr=""/>
            <p:cNvPicPr/>
            <p:nvPr/>
          </p:nvPicPr>
          <p:blipFill>
            <a:blip r:embed="rId17"/>
            <a:stretch/>
          </p:blipFill>
          <p:spPr>
            <a:xfrm>
              <a:off x="9264960" y="458640"/>
              <a:ext cx="21960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object 38" descr=""/>
            <p:cNvPicPr/>
            <p:nvPr/>
          </p:nvPicPr>
          <p:blipFill>
            <a:blip r:embed="rId18"/>
            <a:stretch/>
          </p:blipFill>
          <p:spPr>
            <a:xfrm>
              <a:off x="9645480" y="752040"/>
              <a:ext cx="219240" cy="21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object 2"/>
          <p:cNvGrpSpPr/>
          <p:nvPr/>
        </p:nvGrpSpPr>
        <p:grpSpPr>
          <a:xfrm>
            <a:off x="2106720" y="2413080"/>
            <a:ext cx="7920000" cy="11160000"/>
            <a:chOff x="2106720" y="2413080"/>
            <a:chExt cx="7920000" cy="11160000"/>
          </a:xfrm>
        </p:grpSpPr>
        <p:sp>
          <p:nvSpPr>
            <p:cNvPr id="68" name="object 3"/>
            <p:cNvSpPr/>
            <p:nvPr/>
          </p:nvSpPr>
          <p:spPr>
            <a:xfrm>
              <a:off x="2106720" y="2413080"/>
              <a:ext cx="7920000" cy="11160000"/>
            </a:xfrm>
            <a:custGeom>
              <a:avLst/>
              <a:gdLst/>
              <a:ahLst/>
              <a:rect l="l" t="t" r="r" b="b"/>
              <a:pathLst>
                <a:path w="7920355" h="11159490">
                  <a:moveTo>
                    <a:pt x="7919999" y="0"/>
                  </a:moveTo>
                  <a:lnTo>
                    <a:pt x="0" y="0"/>
                  </a:lnTo>
                  <a:lnTo>
                    <a:pt x="0" y="359410"/>
                  </a:lnTo>
                  <a:lnTo>
                    <a:pt x="0" y="10259060"/>
                  </a:lnTo>
                  <a:lnTo>
                    <a:pt x="0" y="11159490"/>
                  </a:lnTo>
                  <a:lnTo>
                    <a:pt x="7919999" y="11159490"/>
                  </a:lnTo>
                  <a:lnTo>
                    <a:pt x="7919999" y="10259492"/>
                  </a:lnTo>
                  <a:lnTo>
                    <a:pt x="7919999" y="10259060"/>
                  </a:lnTo>
                  <a:lnTo>
                    <a:pt x="7919999" y="359498"/>
                  </a:lnTo>
                  <a:lnTo>
                    <a:pt x="7559992" y="359486"/>
                  </a:lnTo>
                  <a:lnTo>
                    <a:pt x="7559992" y="10259060"/>
                  </a:lnTo>
                  <a:lnTo>
                    <a:pt x="359994" y="10259060"/>
                  </a:lnTo>
                  <a:lnTo>
                    <a:pt x="359994" y="359410"/>
                  </a:lnTo>
                  <a:lnTo>
                    <a:pt x="7919999" y="359410"/>
                  </a:lnTo>
                  <a:lnTo>
                    <a:pt x="7919999" y="0"/>
                  </a:lnTo>
                  <a:close/>
                </a:path>
              </a:pathLst>
            </a:custGeom>
            <a:solidFill>
              <a:srgbClr val="e1f4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bject 4"/>
            <p:cNvSpPr/>
            <p:nvPr/>
          </p:nvSpPr>
          <p:spPr>
            <a:xfrm>
              <a:off x="2466360" y="2772360"/>
              <a:ext cx="7200000" cy="9900720"/>
            </a:xfrm>
            <a:custGeom>
              <a:avLst/>
              <a:gdLst/>
              <a:ahLst/>
              <a:rect l="l" t="t" r="r" b="b"/>
              <a:pathLst>
                <a:path w="7200265" h="9900285">
                  <a:moveTo>
                    <a:pt x="7199998" y="9900005"/>
                  </a:moveTo>
                  <a:lnTo>
                    <a:pt x="0" y="9900005"/>
                  </a:lnTo>
                  <a:lnTo>
                    <a:pt x="0" y="0"/>
                  </a:lnTo>
                  <a:lnTo>
                    <a:pt x="7199998" y="0"/>
                  </a:lnTo>
                  <a:lnTo>
                    <a:pt x="7199998" y="9900005"/>
                  </a:lnTo>
                  <a:close/>
                </a:path>
              </a:pathLst>
            </a:custGeom>
            <a:noFill/>
            <a:ln w="12600">
              <a:solidFill>
                <a:srgbClr val="f49ac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50"/>
          <p:cNvSpPr/>
          <p:nvPr/>
        </p:nvSpPr>
        <p:spPr>
          <a:xfrm>
            <a:off x="162000" y="3544920"/>
            <a:ext cx="1674720" cy="1135080"/>
          </a:xfrm>
          <a:prstGeom prst="wedgeRoundRectCallout">
            <a:avLst>
              <a:gd name="adj1" fmla="val 85518"/>
              <a:gd name="adj2" fmla="val -607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4"/>
          <p:cNvSpPr/>
          <p:nvPr/>
        </p:nvSpPr>
        <p:spPr>
          <a:xfrm>
            <a:off x="162000" y="5688000"/>
            <a:ext cx="1639800" cy="1081080"/>
          </a:xfrm>
          <a:prstGeom prst="wedgeRoundRectCallout">
            <a:avLst>
              <a:gd name="adj1" fmla="val 68000"/>
              <a:gd name="adj2" fmla="val -4596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図 1" descr=""/>
          <p:cNvPicPr/>
          <p:nvPr/>
        </p:nvPicPr>
        <p:blipFill>
          <a:blip r:embed="rId19"/>
          <a:stretch/>
        </p:blipFill>
        <p:spPr>
          <a:xfrm>
            <a:off x="8678880" y="14027040"/>
            <a:ext cx="3220920" cy="184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5-06-18T20:07:11Z</dcterms:modified>
  <cp:revision>25</cp:revision>
  <dc:subject/>
  <dc:title>PowerPoint プレゼンテーション</dc:title>
</cp:coreProperties>
</file>