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716463" cy="6083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5800" y="242640"/>
            <a:ext cx="4244040" cy="10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5800" y="1423440"/>
            <a:ext cx="42440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35800" y="3266640"/>
            <a:ext cx="42440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5800" y="242640"/>
            <a:ext cx="4244040" cy="10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5800" y="1423440"/>
            <a:ext cx="20710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410920" y="1423440"/>
            <a:ext cx="20710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35800" y="3266640"/>
            <a:ext cx="20710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410920" y="3266640"/>
            <a:ext cx="20710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800" y="242640"/>
            <a:ext cx="4244040" cy="10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5800" y="1423440"/>
            <a:ext cx="13662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670760" y="1423440"/>
            <a:ext cx="13662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5720" y="1423440"/>
            <a:ext cx="13662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35800" y="3266640"/>
            <a:ext cx="13662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1670760" y="3266640"/>
            <a:ext cx="13662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3105720" y="3266640"/>
            <a:ext cx="13662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5800" y="242640"/>
            <a:ext cx="4244040" cy="10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35800" y="1423440"/>
            <a:ext cx="4244040" cy="35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5800" y="242640"/>
            <a:ext cx="4244040" cy="10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5800" y="1423440"/>
            <a:ext cx="4244040" cy="35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5800" y="242640"/>
            <a:ext cx="4244040" cy="10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5800" y="1423440"/>
            <a:ext cx="2071080" cy="35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410920" y="1423440"/>
            <a:ext cx="2071080" cy="35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5800" y="242640"/>
            <a:ext cx="4244040" cy="10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35800" y="242640"/>
            <a:ext cx="42440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5800" y="242640"/>
            <a:ext cx="4244040" cy="10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5800" y="1423440"/>
            <a:ext cx="20710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10920" y="1423440"/>
            <a:ext cx="2071080" cy="35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5800" y="3266640"/>
            <a:ext cx="20710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800" y="242640"/>
            <a:ext cx="4244040" cy="10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5800" y="1423440"/>
            <a:ext cx="2071080" cy="35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10920" y="1423440"/>
            <a:ext cx="20710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10920" y="3266640"/>
            <a:ext cx="20710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35800" y="242640"/>
            <a:ext cx="4244040" cy="10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35800" y="1423440"/>
            <a:ext cx="20710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10920" y="1423440"/>
            <a:ext cx="20710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35800" y="3266640"/>
            <a:ext cx="42440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2"/>
          <p:cNvSpPr/>
          <p:nvPr/>
        </p:nvSpPr>
        <p:spPr>
          <a:xfrm>
            <a:off x="1079640" y="1330200"/>
            <a:ext cx="2558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53"/>
          <p:cNvSpPr/>
          <p:nvPr/>
        </p:nvSpPr>
        <p:spPr>
          <a:xfrm>
            <a:off x="1079640" y="1434960"/>
            <a:ext cx="2558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4"/>
          <p:cNvSpPr/>
          <p:nvPr/>
        </p:nvSpPr>
        <p:spPr>
          <a:xfrm>
            <a:off x="1079640" y="3006720"/>
            <a:ext cx="2558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5"/>
          <p:cNvSpPr/>
          <p:nvPr/>
        </p:nvSpPr>
        <p:spPr>
          <a:xfrm>
            <a:off x="1079640" y="4640400"/>
            <a:ext cx="2558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6"/>
          <p:cNvSpPr/>
          <p:nvPr/>
        </p:nvSpPr>
        <p:spPr>
          <a:xfrm>
            <a:off x="1079640" y="4751280"/>
            <a:ext cx="2558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7"/>
          <p:cNvSpPr/>
          <p:nvPr/>
        </p:nvSpPr>
        <p:spPr>
          <a:xfrm>
            <a:off x="1330200" y="1079640"/>
            <a:ext cx="0" cy="392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8"/>
          <p:cNvSpPr/>
          <p:nvPr/>
        </p:nvSpPr>
        <p:spPr>
          <a:xfrm>
            <a:off x="1438200" y="1079640"/>
            <a:ext cx="0" cy="392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9"/>
          <p:cNvSpPr/>
          <p:nvPr/>
        </p:nvSpPr>
        <p:spPr>
          <a:xfrm>
            <a:off x="2357280" y="1079640"/>
            <a:ext cx="0" cy="392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60"/>
          <p:cNvSpPr/>
          <p:nvPr/>
        </p:nvSpPr>
        <p:spPr>
          <a:xfrm>
            <a:off x="3271680" y="1079640"/>
            <a:ext cx="0" cy="392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1"/>
          <p:cNvSpPr/>
          <p:nvPr/>
        </p:nvSpPr>
        <p:spPr>
          <a:xfrm>
            <a:off x="3384720" y="1079640"/>
            <a:ext cx="0" cy="392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2"/>
          <p:cNvSpPr/>
          <p:nvPr/>
        </p:nvSpPr>
        <p:spPr>
          <a:xfrm>
            <a:off x="1330200" y="1330200"/>
            <a:ext cx="2052720" cy="341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78"/>
          <p:cNvSpPr/>
          <p:nvPr/>
        </p:nvSpPr>
        <p:spPr>
          <a:xfrm>
            <a:off x="1547640" y="1547640"/>
            <a:ext cx="1619280" cy="298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86"/>
          <p:cNvSpPr/>
          <p:nvPr/>
        </p:nvSpPr>
        <p:spPr>
          <a:xfrm>
            <a:off x="1440000" y="1440000"/>
            <a:ext cx="1836720" cy="32032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42"/>
          <p:cNvSpPr/>
          <p:nvPr/>
        </p:nvSpPr>
        <p:spPr>
          <a:xfrm>
            <a:off x="127080" y="3438360"/>
            <a:ext cx="1028520" cy="703440"/>
          </a:xfrm>
          <a:prstGeom prst="wedgeRoundRectCallout">
            <a:avLst>
              <a:gd name="adj1" fmla="val 86884"/>
              <a:gd name="adj2" fmla="val -50675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43"/>
          <p:cNvSpPr/>
          <p:nvPr/>
        </p:nvSpPr>
        <p:spPr>
          <a:xfrm>
            <a:off x="98280" y="17542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44"/>
          <p:cNvSpPr/>
          <p:nvPr/>
        </p:nvSpPr>
        <p:spPr>
          <a:xfrm>
            <a:off x="809640" y="509436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45"/>
          <p:cNvSpPr/>
          <p:nvPr/>
        </p:nvSpPr>
        <p:spPr>
          <a:xfrm>
            <a:off x="2425680" y="48052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46"/>
          <p:cNvSpPr/>
          <p:nvPr/>
        </p:nvSpPr>
        <p:spPr>
          <a:xfrm>
            <a:off x="2425680" y="104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47"/>
          <p:cNvSpPr/>
          <p:nvPr/>
        </p:nvSpPr>
        <p:spPr>
          <a:xfrm>
            <a:off x="3581280" y="1638360"/>
            <a:ext cx="1028880" cy="720720"/>
          </a:xfrm>
          <a:prstGeom prst="wedgeRoundRectCallout">
            <a:avLst>
              <a:gd name="adj1" fmla="val -68981"/>
              <a:gd name="adj2" fmla="val -528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Picture 151" descr=""/>
          <p:cNvPicPr/>
          <p:nvPr/>
        </p:nvPicPr>
        <p:blipFill>
          <a:blip r:embed="rId2"/>
          <a:stretch/>
        </p:blipFill>
        <p:spPr>
          <a:xfrm>
            <a:off x="3492360" y="3114720"/>
            <a:ext cx="1170000" cy="1471680"/>
          </a:xfrm>
          <a:prstGeom prst="rect">
            <a:avLst/>
          </a:prstGeom>
          <a:ln w="0">
            <a:noFill/>
          </a:ln>
        </p:spPr>
      </p:pic>
      <p:pic>
        <p:nvPicPr>
          <p:cNvPr id="20" name="Picture 23" descr=""/>
          <p:cNvPicPr/>
          <p:nvPr/>
        </p:nvPicPr>
        <p:blipFill>
          <a:blip r:embed="rId3"/>
          <a:stretch/>
        </p:blipFill>
        <p:spPr>
          <a:xfrm>
            <a:off x="63360" y="485640"/>
            <a:ext cx="4589640" cy="39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17</dc:creator>
  <dc:description/>
  <dc:language>en-US</dc:language>
  <cp:lastModifiedBy>irodori17</cp:lastModifiedBy>
  <dcterms:modified xsi:type="dcterms:W3CDTF">2017-10-03T05:22:10Z</dcterms:modified>
  <cp:revision>24</cp:revision>
  <dc:subject/>
  <dc:title>PowerPoint プレゼンテーション</dc:title>
</cp:coreProperties>
</file>