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859338" cy="4859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" y="193680"/>
            <a:ext cx="4373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43000" y="1137240"/>
            <a:ext cx="43736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3000" y="2609280"/>
            <a:ext cx="43736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000" y="193680"/>
            <a:ext cx="4373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3000" y="1137240"/>
            <a:ext cx="21340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484000" y="1137240"/>
            <a:ext cx="21340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43000" y="2609280"/>
            <a:ext cx="21340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484000" y="2609280"/>
            <a:ext cx="21340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000" y="193680"/>
            <a:ext cx="4373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3000" y="1137240"/>
            <a:ext cx="14079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721880" y="1137240"/>
            <a:ext cx="14079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200400" y="1137240"/>
            <a:ext cx="14079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43000" y="2609280"/>
            <a:ext cx="14079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1721880" y="2609280"/>
            <a:ext cx="14079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3200400" y="2609280"/>
            <a:ext cx="14079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000" y="193680"/>
            <a:ext cx="4373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43000" y="1137240"/>
            <a:ext cx="43736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000" y="193680"/>
            <a:ext cx="4373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000" y="1137240"/>
            <a:ext cx="43736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000" y="193680"/>
            <a:ext cx="4373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000" y="1137240"/>
            <a:ext cx="213408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484000" y="1137240"/>
            <a:ext cx="213408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000" y="193680"/>
            <a:ext cx="4373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3000" y="193680"/>
            <a:ext cx="43736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000" y="193680"/>
            <a:ext cx="4373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3000" y="1137240"/>
            <a:ext cx="21340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84000" y="1137240"/>
            <a:ext cx="213408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3000" y="2609280"/>
            <a:ext cx="21340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" y="193680"/>
            <a:ext cx="4373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" y="1137240"/>
            <a:ext cx="213408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4000" y="1137240"/>
            <a:ext cx="21340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84000" y="2609280"/>
            <a:ext cx="21340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000" y="193680"/>
            <a:ext cx="4373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43000" y="1137240"/>
            <a:ext cx="21340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84000" y="1137240"/>
            <a:ext cx="21340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43000" y="2609280"/>
            <a:ext cx="43736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0" descr=""/>
          <p:cNvPicPr/>
          <p:nvPr/>
        </p:nvPicPr>
        <p:blipFill>
          <a:blip r:embed="rId2"/>
          <a:stretch/>
        </p:blipFill>
        <p:spPr>
          <a:xfrm>
            <a:off x="3594240" y="2344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Line 52"/>
          <p:cNvSpPr/>
          <p:nvPr/>
        </p:nvSpPr>
        <p:spPr>
          <a:xfrm>
            <a:off x="1079640" y="1330200"/>
            <a:ext cx="2703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3"/>
          <p:cNvSpPr/>
          <p:nvPr/>
        </p:nvSpPr>
        <p:spPr>
          <a:xfrm>
            <a:off x="1079640" y="1438200"/>
            <a:ext cx="2703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4"/>
          <p:cNvSpPr/>
          <p:nvPr/>
        </p:nvSpPr>
        <p:spPr>
          <a:xfrm>
            <a:off x="1079640" y="2430360"/>
            <a:ext cx="2703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5"/>
          <p:cNvSpPr/>
          <p:nvPr/>
        </p:nvSpPr>
        <p:spPr>
          <a:xfrm>
            <a:off x="1079640" y="3417840"/>
            <a:ext cx="2703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56"/>
          <p:cNvSpPr/>
          <p:nvPr/>
        </p:nvSpPr>
        <p:spPr>
          <a:xfrm>
            <a:off x="1079640" y="3525840"/>
            <a:ext cx="2703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7"/>
          <p:cNvSpPr/>
          <p:nvPr/>
        </p:nvSpPr>
        <p:spPr>
          <a:xfrm>
            <a:off x="13302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58"/>
          <p:cNvSpPr/>
          <p:nvPr/>
        </p:nvSpPr>
        <p:spPr>
          <a:xfrm>
            <a:off x="14382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9"/>
          <p:cNvSpPr/>
          <p:nvPr/>
        </p:nvSpPr>
        <p:spPr>
          <a:xfrm>
            <a:off x="243036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60"/>
          <p:cNvSpPr/>
          <p:nvPr/>
        </p:nvSpPr>
        <p:spPr>
          <a:xfrm>
            <a:off x="341964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61"/>
          <p:cNvSpPr/>
          <p:nvPr/>
        </p:nvSpPr>
        <p:spPr>
          <a:xfrm>
            <a:off x="352728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62"/>
          <p:cNvSpPr/>
          <p:nvPr/>
        </p:nvSpPr>
        <p:spPr>
          <a:xfrm>
            <a:off x="1330200" y="1330200"/>
            <a:ext cx="2195640" cy="219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78"/>
          <p:cNvSpPr/>
          <p:nvPr/>
        </p:nvSpPr>
        <p:spPr>
          <a:xfrm>
            <a:off x="1547640" y="1547640"/>
            <a:ext cx="1764000" cy="17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86"/>
          <p:cNvSpPr/>
          <p:nvPr/>
        </p:nvSpPr>
        <p:spPr>
          <a:xfrm>
            <a:off x="1440000" y="1440000"/>
            <a:ext cx="1979640" cy="1979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39"/>
          <p:cNvSpPr/>
          <p:nvPr/>
        </p:nvSpPr>
        <p:spPr>
          <a:xfrm>
            <a:off x="125280" y="2685960"/>
            <a:ext cx="1028880" cy="703440"/>
          </a:xfrm>
          <a:prstGeom prst="wedgeRoundRectCallout">
            <a:avLst>
              <a:gd name="adj1" fmla="val 85032"/>
              <a:gd name="adj2" fmla="val -4796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40"/>
          <p:cNvSpPr/>
          <p:nvPr/>
        </p:nvSpPr>
        <p:spPr>
          <a:xfrm>
            <a:off x="98280" y="17542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141"/>
          <p:cNvSpPr/>
          <p:nvPr/>
        </p:nvSpPr>
        <p:spPr>
          <a:xfrm>
            <a:off x="880920" y="3838680"/>
            <a:ext cx="3097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42"/>
          <p:cNvSpPr/>
          <p:nvPr/>
        </p:nvSpPr>
        <p:spPr>
          <a:xfrm>
            <a:off x="2455920" y="3559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43"/>
          <p:cNvSpPr/>
          <p:nvPr/>
        </p:nvSpPr>
        <p:spPr>
          <a:xfrm>
            <a:off x="2455920" y="1041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44"/>
          <p:cNvSpPr/>
          <p:nvPr/>
        </p:nvSpPr>
        <p:spPr>
          <a:xfrm>
            <a:off x="3726000" y="1566720"/>
            <a:ext cx="1028520" cy="720720"/>
          </a:xfrm>
          <a:prstGeom prst="wedgeRoundRectCallout">
            <a:avLst>
              <a:gd name="adj1" fmla="val -68981"/>
              <a:gd name="adj2" fmla="val -528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Picture 23" descr=""/>
          <p:cNvPicPr/>
          <p:nvPr/>
        </p:nvPicPr>
        <p:blipFill>
          <a:blip r:embed="rId3"/>
          <a:stretch/>
        </p:blipFill>
        <p:spPr>
          <a:xfrm>
            <a:off x="393840" y="414360"/>
            <a:ext cx="407340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18</dc:creator>
  <dc:description/>
  <dc:language>en-US</dc:language>
  <cp:lastModifiedBy>irodori18</cp:lastModifiedBy>
  <dcterms:modified xsi:type="dcterms:W3CDTF">2017-09-29T06:08:07Z</dcterms:modified>
  <cp:revision>29</cp:revision>
  <dc:subject/>
  <dc:title>PowerPoint プレゼンテーション</dc:title>
</cp:coreProperties>
</file>