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9" descr=""/>
          <p:cNvPicPr/>
          <p:nvPr/>
        </p:nvPicPr>
        <p:blipFill>
          <a:blip r:embed="rId2"/>
          <a:stretch/>
        </p:blipFill>
        <p:spPr>
          <a:xfrm>
            <a:off x="4889520" y="25081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2"/>
          <p:cNvGrpSpPr/>
          <p:nvPr/>
        </p:nvGrpSpPr>
        <p:grpSpPr>
          <a:xfrm>
            <a:off x="982800" y="982800"/>
            <a:ext cx="4190760" cy="2895480"/>
            <a:chOff x="982800" y="982800"/>
            <a:chExt cx="4190760" cy="2895480"/>
          </a:xfrm>
        </p:grpSpPr>
        <p:grpSp>
          <p:nvGrpSpPr>
            <p:cNvPr id="2" name="object 2"/>
            <p:cNvGrpSpPr/>
            <p:nvPr/>
          </p:nvGrpSpPr>
          <p:grpSpPr>
            <a:xfrm>
              <a:off x="1005840" y="3419280"/>
              <a:ext cx="435960" cy="436320"/>
              <a:chOff x="1005840" y="3419280"/>
              <a:chExt cx="435960" cy="436320"/>
            </a:xfrm>
          </p:grpSpPr>
          <p:sp>
            <p:nvSpPr>
              <p:cNvPr id="3" name="object 3"/>
              <p:cNvSpPr/>
              <p:nvPr/>
            </p:nvSpPr>
            <p:spPr>
              <a:xfrm>
                <a:off x="1005840" y="352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4"/>
              <p:cNvSpPr/>
              <p:nvPr/>
            </p:nvSpPr>
            <p:spPr>
              <a:xfrm>
                <a:off x="1005840" y="341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4714560" y="1005840"/>
              <a:ext cx="435960" cy="436320"/>
              <a:chOff x="4714560" y="1005840"/>
              <a:chExt cx="435960" cy="43632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4714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4823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4714560" y="3419280"/>
              <a:ext cx="435960" cy="436320"/>
              <a:chOff x="4714560" y="3419280"/>
              <a:chExt cx="435960" cy="43632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4714560" y="352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4823280" y="341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982800" y="1973160"/>
              <a:ext cx="304560" cy="914760"/>
              <a:chOff x="982800" y="1973160"/>
              <a:chExt cx="304560" cy="91476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211400" y="1973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982800" y="243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4869000" y="1973160"/>
              <a:ext cx="304560" cy="914760"/>
              <a:chOff x="4869000" y="1973160"/>
              <a:chExt cx="304560" cy="91476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4944960" y="1973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4869000" y="243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2620800" y="982800"/>
              <a:ext cx="914400" cy="304920"/>
              <a:chOff x="2620800" y="982800"/>
              <a:chExt cx="914400" cy="30492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3078000" y="98280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2620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2620800" y="3573360"/>
              <a:ext cx="914400" cy="304920"/>
              <a:chOff x="2620800" y="3573360"/>
              <a:chExt cx="914400" cy="30492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3078000" y="357336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2620800" y="364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" name="Rectangle 62"/>
          <p:cNvSpPr/>
          <p:nvPr/>
        </p:nvSpPr>
        <p:spPr>
          <a:xfrm>
            <a:off x="1332000" y="1332000"/>
            <a:ext cx="3492360" cy="2197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86"/>
          <p:cNvSpPr/>
          <p:nvPr/>
        </p:nvSpPr>
        <p:spPr>
          <a:xfrm>
            <a:off x="1440000" y="1440000"/>
            <a:ext cx="327636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140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141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Text Box 142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143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144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145"/>
          <p:cNvSpPr/>
          <p:nvPr/>
        </p:nvSpPr>
        <p:spPr>
          <a:xfrm>
            <a:off x="502272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147" descr=""/>
          <p:cNvPicPr/>
          <p:nvPr/>
        </p:nvPicPr>
        <p:blipFill>
          <a:blip r:embed="rId3"/>
          <a:stretch/>
        </p:blipFill>
        <p:spPr>
          <a:xfrm>
            <a:off x="1278000" y="414360"/>
            <a:ext cx="355896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8:48Z</dcterms:modified>
  <cp:revision>22</cp:revision>
  <dc:subject/>
  <dc:title>PowerPoint プレゼンテーション</dc:title>
</cp:coreProperties>
</file>