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2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grpSp>
          <p:nvGrpSpPr>
            <p:cNvPr id="1" name="object 2"/>
            <p:cNvGrpSpPr/>
            <p:nvPr/>
          </p:nvGrpSpPr>
          <p:grpSpPr>
            <a:xfrm>
              <a:off x="1973160" y="4869000"/>
              <a:ext cx="914760" cy="304560"/>
              <a:chOff x="1973160" y="4869000"/>
              <a:chExt cx="914760" cy="3045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243036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97316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973160" y="982800"/>
              <a:ext cx="914760" cy="304560"/>
              <a:chOff x="1973160" y="982800"/>
              <a:chExt cx="914760" cy="3045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243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973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3573360" y="2620800"/>
              <a:ext cx="304920" cy="914400"/>
              <a:chOff x="3573360" y="2620800"/>
              <a:chExt cx="304920" cy="91440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364932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357336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982800" y="2620800"/>
              <a:ext cx="304920" cy="914400"/>
              <a:chOff x="982800" y="2620800"/>
              <a:chExt cx="304920" cy="91440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140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98280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3419280" y="4714560"/>
              <a:ext cx="436320" cy="435960"/>
              <a:chOff x="3419280" y="4714560"/>
              <a:chExt cx="436320" cy="4359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341928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352800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3419280" y="1005840"/>
              <a:ext cx="436320" cy="435960"/>
              <a:chOff x="3419280" y="1005840"/>
              <a:chExt cx="436320" cy="4359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3419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3528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1005840" y="4714560"/>
              <a:ext cx="436320" cy="435960"/>
              <a:chOff x="1005840" y="4714560"/>
              <a:chExt cx="436320" cy="4359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100584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00584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62"/>
          <p:cNvSpPr/>
          <p:nvPr/>
        </p:nvSpPr>
        <p:spPr>
          <a:xfrm>
            <a:off x="1332000" y="1332000"/>
            <a:ext cx="219708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142"/>
          <p:cNvSpPr/>
          <p:nvPr/>
        </p:nvSpPr>
        <p:spPr>
          <a:xfrm>
            <a:off x="84240" y="3438360"/>
            <a:ext cx="1028520" cy="703440"/>
          </a:xfrm>
          <a:prstGeom prst="wedgeRoundRectCallout">
            <a:avLst>
              <a:gd name="adj1" fmla="val 91203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143"/>
          <p:cNvSpPr/>
          <p:nvPr/>
        </p:nvSpPr>
        <p:spPr>
          <a:xfrm>
            <a:off x="84240" y="1782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144"/>
          <p:cNvSpPr/>
          <p:nvPr/>
        </p:nvSpPr>
        <p:spPr>
          <a:xfrm>
            <a:off x="846000" y="51656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145"/>
          <p:cNvSpPr/>
          <p:nvPr/>
        </p:nvSpPr>
        <p:spPr>
          <a:xfrm>
            <a:off x="247500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46"/>
          <p:cNvSpPr/>
          <p:nvPr/>
        </p:nvSpPr>
        <p:spPr>
          <a:xfrm>
            <a:off x="247500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148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150" descr=""/>
          <p:cNvPicPr/>
          <p:nvPr/>
        </p:nvPicPr>
        <p:blipFill>
          <a:blip r:embed="rId3"/>
          <a:stretch/>
        </p:blipFill>
        <p:spPr>
          <a:xfrm>
            <a:off x="630360" y="341280"/>
            <a:ext cx="35589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9:47Z</dcterms:modified>
  <cp:revision>21</cp:revision>
  <dc:subject/>
  <dc:title>PowerPoint プレゼンテーション</dc:title>
</cp:coreProperties>
</file>