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2"/>
          <p:cNvGrpSpPr/>
          <p:nvPr/>
        </p:nvGrpSpPr>
        <p:grpSpPr>
          <a:xfrm>
            <a:off x="982800" y="982800"/>
            <a:ext cx="2895480" cy="4190760"/>
            <a:chOff x="982800" y="982800"/>
            <a:chExt cx="2895480" cy="4190760"/>
          </a:xfrm>
        </p:grpSpPr>
        <p:grpSp>
          <p:nvGrpSpPr>
            <p:cNvPr id="1" name="object 2"/>
            <p:cNvGrpSpPr/>
            <p:nvPr/>
          </p:nvGrpSpPr>
          <p:grpSpPr>
            <a:xfrm>
              <a:off x="1973160" y="4869000"/>
              <a:ext cx="914760" cy="304560"/>
              <a:chOff x="1973160" y="4869000"/>
              <a:chExt cx="914760" cy="3045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2430360" y="486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973160" y="494496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973160" y="982800"/>
              <a:ext cx="914760" cy="304560"/>
              <a:chOff x="1973160" y="982800"/>
              <a:chExt cx="914760" cy="3045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243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97316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3573360" y="2620800"/>
              <a:ext cx="304920" cy="914400"/>
              <a:chOff x="3573360" y="2620800"/>
              <a:chExt cx="304920" cy="91440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364932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357336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982800" y="2620800"/>
              <a:ext cx="304920" cy="914400"/>
              <a:chOff x="982800" y="2620800"/>
              <a:chExt cx="304920" cy="91440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140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98280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3419280" y="4714560"/>
              <a:ext cx="436320" cy="435960"/>
              <a:chOff x="3419280" y="4714560"/>
              <a:chExt cx="436320" cy="4359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341928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352800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3419280" y="1005840"/>
              <a:ext cx="436320" cy="435960"/>
              <a:chOff x="3419280" y="1005840"/>
              <a:chExt cx="436320" cy="4359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3419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3528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1005840" y="4714560"/>
              <a:ext cx="436320" cy="435960"/>
              <a:chOff x="1005840" y="4714560"/>
              <a:chExt cx="436320" cy="4359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100584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00584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62"/>
          <p:cNvSpPr/>
          <p:nvPr/>
        </p:nvSpPr>
        <p:spPr>
          <a:xfrm>
            <a:off x="1332000" y="1332000"/>
            <a:ext cx="2197080" cy="349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78"/>
          <p:cNvSpPr/>
          <p:nvPr/>
        </p:nvSpPr>
        <p:spPr>
          <a:xfrm>
            <a:off x="1547640" y="1547640"/>
            <a:ext cx="176400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86"/>
          <p:cNvSpPr/>
          <p:nvPr/>
        </p:nvSpPr>
        <p:spPr>
          <a:xfrm>
            <a:off x="1440000" y="1440000"/>
            <a:ext cx="197964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142"/>
          <p:cNvSpPr/>
          <p:nvPr/>
        </p:nvSpPr>
        <p:spPr>
          <a:xfrm>
            <a:off x="127080" y="3438360"/>
            <a:ext cx="1028520" cy="703440"/>
          </a:xfrm>
          <a:prstGeom prst="wedgeRoundRectCallout">
            <a:avLst>
              <a:gd name="adj1" fmla="val 86884"/>
              <a:gd name="adj2" fmla="val -5067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143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Text Box 144"/>
          <p:cNvSpPr/>
          <p:nvPr/>
        </p:nvSpPr>
        <p:spPr>
          <a:xfrm>
            <a:off x="885960" y="51674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145"/>
          <p:cNvSpPr/>
          <p:nvPr/>
        </p:nvSpPr>
        <p:spPr>
          <a:xfrm>
            <a:off x="249696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46"/>
          <p:cNvSpPr/>
          <p:nvPr/>
        </p:nvSpPr>
        <p:spPr>
          <a:xfrm>
            <a:off x="249696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47"/>
          <p:cNvSpPr/>
          <p:nvPr/>
        </p:nvSpPr>
        <p:spPr>
          <a:xfrm>
            <a:off x="3726000" y="163836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151" descr=""/>
          <p:cNvPicPr/>
          <p:nvPr/>
        </p:nvPicPr>
        <p:blipFill>
          <a:blip r:embed="rId2"/>
          <a:stretch/>
        </p:blipFill>
        <p:spPr>
          <a:xfrm>
            <a:off x="3584520" y="3156120"/>
            <a:ext cx="1212840" cy="152532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153" descr=""/>
          <p:cNvPicPr/>
          <p:nvPr/>
        </p:nvPicPr>
        <p:blipFill>
          <a:blip r:embed="rId3"/>
          <a:stretch/>
        </p:blipFill>
        <p:spPr>
          <a:xfrm>
            <a:off x="630360" y="414360"/>
            <a:ext cx="35589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9:16Z</dcterms:modified>
  <cp:revision>24</cp:revision>
  <dc:subject/>
  <dc:title>PowerPoint プレゼンテーション</dc:title>
</cp:coreProperties>
</file>