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932363" cy="58324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600" y="232560"/>
            <a:ext cx="4438440" cy="9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46600" y="1364400"/>
            <a:ext cx="4438440" cy="16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246600" y="3131280"/>
            <a:ext cx="4438440" cy="16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6600" y="232560"/>
            <a:ext cx="4438440" cy="9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46600" y="1364400"/>
            <a:ext cx="2165760" cy="16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521080" y="1364400"/>
            <a:ext cx="2165760" cy="16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246600" y="3131280"/>
            <a:ext cx="2165760" cy="16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2521080" y="3131280"/>
            <a:ext cx="2165760" cy="16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6600" y="232560"/>
            <a:ext cx="4438440" cy="9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46600" y="1364400"/>
            <a:ext cx="1428840" cy="16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1747440" y="1364400"/>
            <a:ext cx="1428840" cy="16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3247920" y="1364400"/>
            <a:ext cx="1428840" cy="16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246600" y="3131280"/>
            <a:ext cx="1428840" cy="16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1747440" y="3131280"/>
            <a:ext cx="1428840" cy="16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3247920" y="3131280"/>
            <a:ext cx="1428840" cy="16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6600" y="232560"/>
            <a:ext cx="4438440" cy="9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246600" y="1364400"/>
            <a:ext cx="443844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46600" y="232560"/>
            <a:ext cx="4438440" cy="9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46600" y="1364400"/>
            <a:ext cx="443844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6600" y="232560"/>
            <a:ext cx="4438440" cy="9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6600" y="1364400"/>
            <a:ext cx="216576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521080" y="1364400"/>
            <a:ext cx="216576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46600" y="232560"/>
            <a:ext cx="4438440" cy="9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246600" y="232560"/>
            <a:ext cx="4438440" cy="451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46600" y="232560"/>
            <a:ext cx="4438440" cy="9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46600" y="1364400"/>
            <a:ext cx="2165760" cy="16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521080" y="1364400"/>
            <a:ext cx="216576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46600" y="3131280"/>
            <a:ext cx="2165760" cy="16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6600" y="232560"/>
            <a:ext cx="4438440" cy="9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6600" y="1364400"/>
            <a:ext cx="216576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521080" y="1364400"/>
            <a:ext cx="2165760" cy="16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521080" y="3131280"/>
            <a:ext cx="2165760" cy="16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46600" y="232560"/>
            <a:ext cx="4438440" cy="9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46600" y="1364400"/>
            <a:ext cx="2165760" cy="16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2521080" y="1364400"/>
            <a:ext cx="2165760" cy="16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246600" y="3131280"/>
            <a:ext cx="4438440" cy="16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52"/>
          <p:cNvSpPr/>
          <p:nvPr/>
        </p:nvSpPr>
        <p:spPr>
          <a:xfrm>
            <a:off x="1079640" y="1330200"/>
            <a:ext cx="277488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Line 53"/>
          <p:cNvSpPr/>
          <p:nvPr/>
        </p:nvSpPr>
        <p:spPr>
          <a:xfrm>
            <a:off x="1079640" y="1434960"/>
            <a:ext cx="277488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Line 54"/>
          <p:cNvSpPr/>
          <p:nvPr/>
        </p:nvSpPr>
        <p:spPr>
          <a:xfrm>
            <a:off x="1079640" y="2916360"/>
            <a:ext cx="277488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55"/>
          <p:cNvSpPr/>
          <p:nvPr/>
        </p:nvSpPr>
        <p:spPr>
          <a:xfrm>
            <a:off x="1079640" y="4387680"/>
            <a:ext cx="277488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Line 56"/>
          <p:cNvSpPr/>
          <p:nvPr/>
        </p:nvSpPr>
        <p:spPr>
          <a:xfrm>
            <a:off x="1079640" y="4500720"/>
            <a:ext cx="277488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57"/>
          <p:cNvSpPr/>
          <p:nvPr/>
        </p:nvSpPr>
        <p:spPr>
          <a:xfrm>
            <a:off x="1330200" y="1079640"/>
            <a:ext cx="0" cy="36716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58"/>
          <p:cNvSpPr/>
          <p:nvPr/>
        </p:nvSpPr>
        <p:spPr>
          <a:xfrm>
            <a:off x="1438200" y="1079640"/>
            <a:ext cx="0" cy="36716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Line 59"/>
          <p:cNvSpPr/>
          <p:nvPr/>
        </p:nvSpPr>
        <p:spPr>
          <a:xfrm>
            <a:off x="2465280" y="1079640"/>
            <a:ext cx="0" cy="36716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Line 60"/>
          <p:cNvSpPr/>
          <p:nvPr/>
        </p:nvSpPr>
        <p:spPr>
          <a:xfrm>
            <a:off x="3487680" y="1079640"/>
            <a:ext cx="0" cy="36716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Line 61"/>
          <p:cNvSpPr/>
          <p:nvPr/>
        </p:nvSpPr>
        <p:spPr>
          <a:xfrm>
            <a:off x="3600360" y="1079640"/>
            <a:ext cx="0" cy="36716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62"/>
          <p:cNvSpPr/>
          <p:nvPr/>
        </p:nvSpPr>
        <p:spPr>
          <a:xfrm>
            <a:off x="1330200" y="1330200"/>
            <a:ext cx="2268720" cy="31687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Rectangle 78"/>
          <p:cNvSpPr/>
          <p:nvPr/>
        </p:nvSpPr>
        <p:spPr>
          <a:xfrm>
            <a:off x="1547640" y="1547640"/>
            <a:ext cx="1837080" cy="273528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Rectangle 86"/>
          <p:cNvSpPr/>
          <p:nvPr/>
        </p:nvSpPr>
        <p:spPr>
          <a:xfrm>
            <a:off x="1440000" y="1440000"/>
            <a:ext cx="2052360" cy="295272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AutoShape 142"/>
          <p:cNvSpPr/>
          <p:nvPr/>
        </p:nvSpPr>
        <p:spPr>
          <a:xfrm>
            <a:off x="127080" y="3438360"/>
            <a:ext cx="1028520" cy="703440"/>
          </a:xfrm>
          <a:prstGeom prst="wedgeRoundRectCallout">
            <a:avLst>
              <a:gd name="adj1" fmla="val 86884"/>
              <a:gd name="adj2" fmla="val -50675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AutoShape 143"/>
          <p:cNvSpPr/>
          <p:nvPr/>
        </p:nvSpPr>
        <p:spPr>
          <a:xfrm>
            <a:off x="98280" y="1754280"/>
            <a:ext cx="1028880" cy="57132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Text Box 144"/>
          <p:cNvSpPr/>
          <p:nvPr/>
        </p:nvSpPr>
        <p:spPr>
          <a:xfrm>
            <a:off x="885960" y="4842000"/>
            <a:ext cx="309708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用紙サイズの変更や、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　　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AutoShape 145"/>
          <p:cNvSpPr/>
          <p:nvPr/>
        </p:nvSpPr>
        <p:spPr>
          <a:xfrm>
            <a:off x="2496960" y="455436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AutoShape 146"/>
          <p:cNvSpPr/>
          <p:nvPr/>
        </p:nvSpPr>
        <p:spPr>
          <a:xfrm>
            <a:off x="2496960" y="104292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AutoShape 147"/>
          <p:cNvSpPr/>
          <p:nvPr/>
        </p:nvSpPr>
        <p:spPr>
          <a:xfrm>
            <a:off x="3797280" y="1638360"/>
            <a:ext cx="1028880" cy="720720"/>
          </a:xfrm>
          <a:prstGeom prst="wedgeRoundRectCallout">
            <a:avLst>
              <a:gd name="adj1" fmla="val -68981"/>
              <a:gd name="adj2" fmla="val -5287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" name="Picture 151" descr=""/>
          <p:cNvPicPr/>
          <p:nvPr/>
        </p:nvPicPr>
        <p:blipFill>
          <a:blip r:embed="rId2"/>
          <a:stretch/>
        </p:blipFill>
        <p:spPr>
          <a:xfrm>
            <a:off x="3846600" y="3132000"/>
            <a:ext cx="979560" cy="1233720"/>
          </a:xfrm>
          <a:prstGeom prst="rect">
            <a:avLst/>
          </a:prstGeom>
          <a:ln w="0">
            <a:noFill/>
          </a:ln>
        </p:spPr>
      </p:pic>
      <p:pic>
        <p:nvPicPr>
          <p:cNvPr id="20" name="Picture 23" descr=""/>
          <p:cNvPicPr/>
          <p:nvPr/>
        </p:nvPicPr>
        <p:blipFill>
          <a:blip r:embed="rId3"/>
          <a:stretch/>
        </p:blipFill>
        <p:spPr>
          <a:xfrm>
            <a:off x="189000" y="414360"/>
            <a:ext cx="4554360" cy="392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>irodori17</dc:creator>
  <dc:description/>
  <dc:language>en-US</dc:language>
  <cp:lastModifiedBy>irodori17</cp:lastModifiedBy>
  <dcterms:modified xsi:type="dcterms:W3CDTF">2017-10-03T08:57:38Z</dcterms:modified>
  <cp:revision>23</cp:revision>
  <dc:subject/>
  <dc:title>PowerPoint プレゼンテーション</dc:title>
</cp:coreProperties>
</file>