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932363" cy="5832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6600" y="313128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2108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4744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47920" y="136440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660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4744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47920" y="3131280"/>
            <a:ext cx="1428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6600" y="1364400"/>
            <a:ext cx="443844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443844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6600" y="232560"/>
            <a:ext cx="4438440" cy="45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1080" y="313128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6600" y="232560"/>
            <a:ext cx="443844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660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21080" y="1364400"/>
            <a:ext cx="2165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6600" y="3131280"/>
            <a:ext cx="44384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291636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38768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500720"/>
            <a:ext cx="277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46528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48768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600360" y="1079640"/>
            <a:ext cx="0" cy="36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268720" cy="316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837080" cy="2735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2052360" cy="295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85960" y="484200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96960" y="4554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797280" y="163836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846600" y="3132000"/>
            <a:ext cx="979560" cy="12337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155" descr=""/>
          <p:cNvPicPr/>
          <p:nvPr/>
        </p:nvPicPr>
        <p:blipFill>
          <a:blip r:embed="rId3"/>
          <a:stretch/>
        </p:blipFill>
        <p:spPr>
          <a:xfrm>
            <a:off x="185760" y="414360"/>
            <a:ext cx="456084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8:54:32Z</dcterms:modified>
  <cp:revision>22</cp:revision>
  <dc:subject/>
  <dc:title>PowerPoint プレゼンテーション</dc:title>
</cp:coreProperties>
</file>