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832475" cy="49323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1600" y="196560"/>
            <a:ext cx="5248440" cy="8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1600" y="1153800"/>
            <a:ext cx="524844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91600" y="2647800"/>
            <a:ext cx="524844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91600" y="196560"/>
            <a:ext cx="5248440" cy="8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91600" y="1153800"/>
            <a:ext cx="256104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2981160" y="1153800"/>
            <a:ext cx="256104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291600" y="2647800"/>
            <a:ext cx="256104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981160" y="2647800"/>
            <a:ext cx="256104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1600" y="196560"/>
            <a:ext cx="5248440" cy="8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91600" y="1153800"/>
            <a:ext cx="168984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066400" y="1153800"/>
            <a:ext cx="168984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841200" y="1153800"/>
            <a:ext cx="168984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291600" y="2647800"/>
            <a:ext cx="168984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2066400" y="2647800"/>
            <a:ext cx="168984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3841200" y="2647800"/>
            <a:ext cx="168984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1600" y="196560"/>
            <a:ext cx="5248440" cy="8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291600" y="1153800"/>
            <a:ext cx="5248440" cy="285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1600" y="196560"/>
            <a:ext cx="5248440" cy="8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1600" y="1153800"/>
            <a:ext cx="5248440" cy="285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1600" y="196560"/>
            <a:ext cx="5248440" cy="8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1600" y="1153800"/>
            <a:ext cx="2561040" cy="285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981160" y="1153800"/>
            <a:ext cx="2561040" cy="285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1600" y="196560"/>
            <a:ext cx="5248440" cy="8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291600" y="196560"/>
            <a:ext cx="5248440" cy="38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91600" y="196560"/>
            <a:ext cx="5248440" cy="8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91600" y="1153800"/>
            <a:ext cx="256104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81160" y="1153800"/>
            <a:ext cx="2561040" cy="285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91600" y="2647800"/>
            <a:ext cx="256104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1600" y="196560"/>
            <a:ext cx="5248440" cy="8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1600" y="1153800"/>
            <a:ext cx="2561040" cy="285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81160" y="1153800"/>
            <a:ext cx="256104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981160" y="2647800"/>
            <a:ext cx="256104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1600" y="196560"/>
            <a:ext cx="5248440" cy="8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1600" y="1153800"/>
            <a:ext cx="256104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981160" y="1153800"/>
            <a:ext cx="256104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1600" y="2647800"/>
            <a:ext cx="524844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0" descr=""/>
          <p:cNvPicPr/>
          <p:nvPr/>
        </p:nvPicPr>
        <p:blipFill>
          <a:blip r:embed="rId2"/>
          <a:stretch/>
        </p:blipFill>
        <p:spPr>
          <a:xfrm>
            <a:off x="4564080" y="25081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" name="Line 59"/>
          <p:cNvSpPr/>
          <p:nvPr/>
        </p:nvSpPr>
        <p:spPr>
          <a:xfrm>
            <a:off x="2916360" y="1079640"/>
            <a:ext cx="0" cy="27748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グループ化 1"/>
          <p:cNvGrpSpPr/>
          <p:nvPr/>
        </p:nvGrpSpPr>
        <p:grpSpPr>
          <a:xfrm>
            <a:off x="1079640" y="1079640"/>
            <a:ext cx="3671640" cy="2774880"/>
            <a:chOff x="1079640" y="1079640"/>
            <a:chExt cx="3671640" cy="2774880"/>
          </a:xfrm>
        </p:grpSpPr>
        <p:sp>
          <p:nvSpPr>
            <p:cNvPr id="3" name="Line 52"/>
            <p:cNvSpPr/>
            <p:nvPr/>
          </p:nvSpPr>
          <p:spPr>
            <a:xfrm>
              <a:off x="1079640" y="1330200"/>
              <a:ext cx="36716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53"/>
            <p:cNvSpPr/>
            <p:nvPr/>
          </p:nvSpPr>
          <p:spPr>
            <a:xfrm>
              <a:off x="1079640" y="1438200"/>
              <a:ext cx="36716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54"/>
            <p:cNvSpPr/>
            <p:nvPr/>
          </p:nvSpPr>
          <p:spPr>
            <a:xfrm>
              <a:off x="1079640" y="2465640"/>
              <a:ext cx="36716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55"/>
            <p:cNvSpPr/>
            <p:nvPr/>
          </p:nvSpPr>
          <p:spPr>
            <a:xfrm>
              <a:off x="1079640" y="3488040"/>
              <a:ext cx="36716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56"/>
            <p:cNvSpPr/>
            <p:nvPr/>
          </p:nvSpPr>
          <p:spPr>
            <a:xfrm>
              <a:off x="1079640" y="3596040"/>
              <a:ext cx="36716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57"/>
            <p:cNvSpPr/>
            <p:nvPr/>
          </p:nvSpPr>
          <p:spPr>
            <a:xfrm>
              <a:off x="1330200" y="1079640"/>
              <a:ext cx="0" cy="2774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58"/>
            <p:cNvSpPr/>
            <p:nvPr/>
          </p:nvSpPr>
          <p:spPr>
            <a:xfrm>
              <a:off x="1438200" y="1079640"/>
              <a:ext cx="0" cy="2774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60"/>
            <p:cNvSpPr/>
            <p:nvPr/>
          </p:nvSpPr>
          <p:spPr>
            <a:xfrm>
              <a:off x="4388400" y="1079640"/>
              <a:ext cx="0" cy="2774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61"/>
            <p:cNvSpPr/>
            <p:nvPr/>
          </p:nvSpPr>
          <p:spPr>
            <a:xfrm>
              <a:off x="4496400" y="1079640"/>
              <a:ext cx="0" cy="2774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62"/>
            <p:cNvSpPr/>
            <p:nvPr/>
          </p:nvSpPr>
          <p:spPr>
            <a:xfrm>
              <a:off x="1330200" y="1330200"/>
              <a:ext cx="3167640" cy="22676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78"/>
          <p:cNvSpPr/>
          <p:nvPr/>
        </p:nvSpPr>
        <p:spPr>
          <a:xfrm>
            <a:off x="1547640" y="1547640"/>
            <a:ext cx="2735280" cy="18370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86"/>
          <p:cNvSpPr/>
          <p:nvPr/>
        </p:nvSpPr>
        <p:spPr>
          <a:xfrm>
            <a:off x="1440000" y="1440000"/>
            <a:ext cx="2952720" cy="20523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139"/>
          <p:cNvSpPr/>
          <p:nvPr/>
        </p:nvSpPr>
        <p:spPr>
          <a:xfrm>
            <a:off x="125280" y="2685960"/>
            <a:ext cx="1028880" cy="703440"/>
          </a:xfrm>
          <a:prstGeom prst="wedgeRoundRectCallout">
            <a:avLst>
              <a:gd name="adj1" fmla="val 85032"/>
              <a:gd name="adj2" fmla="val -47967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140"/>
          <p:cNvSpPr/>
          <p:nvPr/>
        </p:nvSpPr>
        <p:spPr>
          <a:xfrm>
            <a:off x="98280" y="175428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Text Box 141"/>
          <p:cNvSpPr/>
          <p:nvPr/>
        </p:nvSpPr>
        <p:spPr>
          <a:xfrm>
            <a:off x="1536840" y="3882960"/>
            <a:ext cx="309708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、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　　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2941560" y="36320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143"/>
          <p:cNvSpPr/>
          <p:nvPr/>
        </p:nvSpPr>
        <p:spPr>
          <a:xfrm>
            <a:off x="2941560" y="10414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AutoShape 144"/>
          <p:cNvSpPr/>
          <p:nvPr/>
        </p:nvSpPr>
        <p:spPr>
          <a:xfrm>
            <a:off x="4697280" y="1566720"/>
            <a:ext cx="1028880" cy="720720"/>
          </a:xfrm>
          <a:prstGeom prst="wedgeRoundRectCallout">
            <a:avLst>
              <a:gd name="adj1" fmla="val -68981"/>
              <a:gd name="adj2" fmla="val -5287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" name="Picture 156" descr=""/>
          <p:cNvPicPr/>
          <p:nvPr/>
        </p:nvPicPr>
        <p:blipFill>
          <a:blip r:embed="rId3"/>
          <a:stretch/>
        </p:blipFill>
        <p:spPr>
          <a:xfrm>
            <a:off x="644400" y="414360"/>
            <a:ext cx="4543560" cy="39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17</dc:creator>
  <dc:description/>
  <dc:language>en-US</dc:language>
  <cp:lastModifiedBy>irodori17</cp:lastModifiedBy>
  <dcterms:modified xsi:type="dcterms:W3CDTF">2017-10-03T08:03:02Z</dcterms:modified>
  <cp:revision>27</cp:revision>
  <dc:subject/>
  <dc:title>PowerPoint プレゼンテーション</dc:title>
</cp:coreProperties>
</file>