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681788" cy="9734550"/>
  <p:notesSz cx="6681788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4080" y="2277720"/>
            <a:ext cx="6013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4080" y="5226840"/>
            <a:ext cx="6013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4080" y="227772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15680" y="227772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34080" y="522684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415680" y="522684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4080" y="2277720"/>
            <a:ext cx="1936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367360" y="2277720"/>
            <a:ext cx="1936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400640" y="2277720"/>
            <a:ext cx="1936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34080" y="5226840"/>
            <a:ext cx="1936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367360" y="5226840"/>
            <a:ext cx="1936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400640" y="5226840"/>
            <a:ext cx="1936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34080" y="2277720"/>
            <a:ext cx="6013080" cy="564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4080" y="2277720"/>
            <a:ext cx="6013080" cy="564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4080" y="2277720"/>
            <a:ext cx="2934360" cy="564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15680" y="2277720"/>
            <a:ext cx="2934360" cy="564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34080" y="388080"/>
            <a:ext cx="6013080" cy="75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4080" y="227772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15680" y="2277720"/>
            <a:ext cx="2934360" cy="564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34080" y="522684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34080" y="2277720"/>
            <a:ext cx="6013080" cy="564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4080" y="2277720"/>
            <a:ext cx="2934360" cy="564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15680" y="227772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415680" y="522684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4080" y="227772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15680" y="227772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34080" y="5226840"/>
            <a:ext cx="6013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4080" y="2277720"/>
            <a:ext cx="6013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4080" y="5226840"/>
            <a:ext cx="6013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4080" y="227772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5680" y="227772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34080" y="522684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415680" y="522684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4080" y="2277720"/>
            <a:ext cx="1936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367360" y="2277720"/>
            <a:ext cx="1936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400640" y="2277720"/>
            <a:ext cx="1936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34080" y="5226840"/>
            <a:ext cx="1936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367360" y="5226840"/>
            <a:ext cx="1936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400640" y="5226840"/>
            <a:ext cx="1936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4080" y="2277720"/>
            <a:ext cx="6013080" cy="564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4080" y="2277720"/>
            <a:ext cx="2934360" cy="564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15680" y="2277720"/>
            <a:ext cx="2934360" cy="564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34080" y="388080"/>
            <a:ext cx="6013080" cy="75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4080" y="227772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5680" y="2277720"/>
            <a:ext cx="2934360" cy="564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4080" y="522684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4080" y="2277720"/>
            <a:ext cx="2934360" cy="564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5680" y="227772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15680" y="522684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34080" y="227772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15680" y="2277720"/>
            <a:ext cx="293436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34080" y="5226840"/>
            <a:ext cx="6013080" cy="26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ject 2"/>
          <p:cNvGrpSpPr/>
          <p:nvPr/>
        </p:nvGrpSpPr>
        <p:grpSpPr>
          <a:xfrm>
            <a:off x="5675400" y="8736120"/>
            <a:ext cx="436320" cy="434880"/>
            <a:chOff x="5675400" y="8736120"/>
            <a:chExt cx="436320" cy="434880"/>
          </a:xfrm>
        </p:grpSpPr>
        <p:sp>
          <p:nvSpPr>
            <p:cNvPr id="1" name="object 3"/>
            <p:cNvSpPr/>
            <p:nvPr/>
          </p:nvSpPr>
          <p:spPr>
            <a:xfrm>
              <a:off x="5675400" y="8844480"/>
              <a:ext cx="436320" cy="326520"/>
            </a:xfrm>
            <a:custGeom>
              <a:avLst/>
              <a:gdLst/>
              <a:ahLst/>
              <a:rect l="l" t="t" r="r" b="b"/>
              <a:pathLst>
                <a:path w="432435" h="324484">
                  <a:moveTo>
                    <a:pt x="0" y="324002"/>
                  </a:moveTo>
                  <a:lnTo>
                    <a:pt x="0" y="0"/>
                  </a:lnTo>
                  <a:lnTo>
                    <a:pt x="432003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object 4"/>
            <p:cNvSpPr/>
            <p:nvPr/>
          </p:nvSpPr>
          <p:spPr>
            <a:xfrm>
              <a:off x="5784120" y="8736120"/>
              <a:ext cx="327600" cy="434880"/>
            </a:xfrm>
            <a:custGeom>
              <a:avLst/>
              <a:gdLst/>
              <a:ahLst/>
              <a:rect l="l" t="t" r="r" b="b"/>
              <a:pathLst>
                <a:path w="324485" h="432434">
                  <a:moveTo>
                    <a:pt x="324002" y="0"/>
                  </a:moveTo>
                  <a:lnTo>
                    <a:pt x="0" y="0"/>
                  </a:lnTo>
                  <a:lnTo>
                    <a:pt x="0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object 5"/>
          <p:cNvGrpSpPr/>
          <p:nvPr/>
        </p:nvGrpSpPr>
        <p:grpSpPr>
          <a:xfrm>
            <a:off x="563400" y="8736120"/>
            <a:ext cx="436680" cy="434880"/>
            <a:chOff x="563400" y="8736120"/>
            <a:chExt cx="436680" cy="434880"/>
          </a:xfrm>
        </p:grpSpPr>
        <p:sp>
          <p:nvSpPr>
            <p:cNvPr id="4" name="object 6"/>
            <p:cNvSpPr/>
            <p:nvPr/>
          </p:nvSpPr>
          <p:spPr>
            <a:xfrm>
              <a:off x="563400" y="8844480"/>
              <a:ext cx="436680" cy="32652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432003" y="324002"/>
                  </a:moveTo>
                  <a:lnTo>
                    <a:pt x="432003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object 7"/>
            <p:cNvSpPr/>
            <p:nvPr/>
          </p:nvSpPr>
          <p:spPr>
            <a:xfrm>
              <a:off x="563400" y="8736120"/>
              <a:ext cx="327600" cy="43488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0" y="0"/>
                  </a:moveTo>
                  <a:lnTo>
                    <a:pt x="324002" y="0"/>
                  </a:lnTo>
                  <a:lnTo>
                    <a:pt x="324002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object 8"/>
          <p:cNvGrpSpPr/>
          <p:nvPr/>
        </p:nvGrpSpPr>
        <p:grpSpPr>
          <a:xfrm>
            <a:off x="563400" y="563400"/>
            <a:ext cx="436680" cy="436680"/>
            <a:chOff x="563400" y="563400"/>
            <a:chExt cx="436680" cy="436680"/>
          </a:xfrm>
        </p:grpSpPr>
        <p:sp>
          <p:nvSpPr>
            <p:cNvPr id="7" name="object 9"/>
            <p:cNvSpPr/>
            <p:nvPr/>
          </p:nvSpPr>
          <p:spPr>
            <a:xfrm>
              <a:off x="563400" y="5634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432003" y="0"/>
                  </a:moveTo>
                  <a:lnTo>
                    <a:pt x="432003" y="324002"/>
                  </a:ln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object 10"/>
            <p:cNvSpPr/>
            <p:nvPr/>
          </p:nvSpPr>
          <p:spPr>
            <a:xfrm>
              <a:off x="563400" y="5634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0" y="432003"/>
                  </a:moveTo>
                  <a:lnTo>
                    <a:pt x="324002" y="432003"/>
                  </a:ln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" name="object 11"/>
          <p:cNvGrpSpPr/>
          <p:nvPr/>
        </p:nvGrpSpPr>
        <p:grpSpPr>
          <a:xfrm>
            <a:off x="5675400" y="563400"/>
            <a:ext cx="436320" cy="436680"/>
            <a:chOff x="5675400" y="563400"/>
            <a:chExt cx="436320" cy="436680"/>
          </a:xfrm>
        </p:grpSpPr>
        <p:sp>
          <p:nvSpPr>
            <p:cNvPr id="10" name="object 12"/>
            <p:cNvSpPr/>
            <p:nvPr/>
          </p:nvSpPr>
          <p:spPr>
            <a:xfrm>
              <a:off x="5675400" y="563400"/>
              <a:ext cx="436320" cy="327600"/>
            </a:xfrm>
            <a:custGeom>
              <a:avLst/>
              <a:gdLst/>
              <a:ahLst/>
              <a:rect l="l" t="t" r="r" b="b"/>
              <a:pathLst>
                <a:path w="432435" h="324484">
                  <a:moveTo>
                    <a:pt x="0" y="0"/>
                  </a:moveTo>
                  <a:lnTo>
                    <a:pt x="0" y="324002"/>
                  </a:lnTo>
                  <a:lnTo>
                    <a:pt x="432003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object 13"/>
            <p:cNvSpPr/>
            <p:nvPr/>
          </p:nvSpPr>
          <p:spPr>
            <a:xfrm>
              <a:off x="5784120" y="5634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5" h="432434">
                  <a:moveTo>
                    <a:pt x="324002" y="432003"/>
                  </a:moveTo>
                  <a:lnTo>
                    <a:pt x="0" y="432003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" name="object 14"/>
          <p:cNvGrpSpPr/>
          <p:nvPr/>
        </p:nvGrpSpPr>
        <p:grpSpPr>
          <a:xfrm>
            <a:off x="2879640" y="8889840"/>
            <a:ext cx="914400" cy="304920"/>
            <a:chOff x="2879640" y="8889840"/>
            <a:chExt cx="914400" cy="304920"/>
          </a:xfrm>
        </p:grpSpPr>
        <p:sp>
          <p:nvSpPr>
            <p:cNvPr id="13" name="object 15"/>
            <p:cNvSpPr/>
            <p:nvPr/>
          </p:nvSpPr>
          <p:spPr>
            <a:xfrm>
              <a:off x="3336840" y="8889840"/>
              <a:ext cx="360" cy="30492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8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object 16"/>
            <p:cNvSpPr/>
            <p:nvPr/>
          </p:nvSpPr>
          <p:spPr>
            <a:xfrm>
              <a:off x="2879640" y="896580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" name="object 17"/>
          <p:cNvGrpSpPr/>
          <p:nvPr/>
        </p:nvGrpSpPr>
        <p:grpSpPr>
          <a:xfrm>
            <a:off x="2879640" y="539640"/>
            <a:ext cx="914400" cy="304920"/>
            <a:chOff x="2879640" y="539640"/>
            <a:chExt cx="914400" cy="304920"/>
          </a:xfrm>
        </p:grpSpPr>
        <p:sp>
          <p:nvSpPr>
            <p:cNvPr id="16" name="object 18"/>
            <p:cNvSpPr/>
            <p:nvPr/>
          </p:nvSpPr>
          <p:spPr>
            <a:xfrm>
              <a:off x="3336840" y="539640"/>
              <a:ext cx="360" cy="30492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object 19"/>
            <p:cNvSpPr/>
            <p:nvPr/>
          </p:nvSpPr>
          <p:spPr>
            <a:xfrm>
              <a:off x="2879640" y="7682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" name="object 20"/>
          <p:cNvGrpSpPr/>
          <p:nvPr/>
        </p:nvGrpSpPr>
        <p:grpSpPr>
          <a:xfrm>
            <a:off x="539640" y="4410000"/>
            <a:ext cx="304920" cy="914400"/>
            <a:chOff x="539640" y="4410000"/>
            <a:chExt cx="304920" cy="914400"/>
          </a:xfrm>
        </p:grpSpPr>
        <p:sp>
          <p:nvSpPr>
            <p:cNvPr id="19" name="object 21"/>
            <p:cNvSpPr/>
            <p:nvPr/>
          </p:nvSpPr>
          <p:spPr>
            <a:xfrm>
              <a:off x="768600" y="441000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object 22"/>
            <p:cNvSpPr/>
            <p:nvPr/>
          </p:nvSpPr>
          <p:spPr>
            <a:xfrm>
              <a:off x="539640" y="4867200"/>
              <a:ext cx="30492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" name="object 23"/>
          <p:cNvGrpSpPr/>
          <p:nvPr/>
        </p:nvGrpSpPr>
        <p:grpSpPr>
          <a:xfrm>
            <a:off x="5829480" y="4410000"/>
            <a:ext cx="304560" cy="914400"/>
            <a:chOff x="5829480" y="4410000"/>
            <a:chExt cx="304560" cy="914400"/>
          </a:xfrm>
        </p:grpSpPr>
        <p:sp>
          <p:nvSpPr>
            <p:cNvPr id="22" name="object 24"/>
            <p:cNvSpPr/>
            <p:nvPr/>
          </p:nvSpPr>
          <p:spPr>
            <a:xfrm>
              <a:off x="5905440" y="441000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object 25"/>
            <p:cNvSpPr/>
            <p:nvPr/>
          </p:nvSpPr>
          <p:spPr>
            <a:xfrm>
              <a:off x="5829480" y="486720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" name="図 31" descr=""/>
          <p:cNvPicPr/>
          <p:nvPr/>
        </p:nvPicPr>
        <p:blipFill>
          <a:blip r:embed="rId2"/>
          <a:stretch/>
        </p:blipFill>
        <p:spPr>
          <a:xfrm>
            <a:off x="658800" y="115920"/>
            <a:ext cx="536256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object 2"/>
          <p:cNvGrpSpPr/>
          <p:nvPr/>
        </p:nvGrpSpPr>
        <p:grpSpPr>
          <a:xfrm>
            <a:off x="5675400" y="8736120"/>
            <a:ext cx="436320" cy="434880"/>
            <a:chOff x="5675400" y="8736120"/>
            <a:chExt cx="436320" cy="434880"/>
          </a:xfrm>
        </p:grpSpPr>
        <p:sp>
          <p:nvSpPr>
            <p:cNvPr id="62" name="object 3"/>
            <p:cNvSpPr/>
            <p:nvPr/>
          </p:nvSpPr>
          <p:spPr>
            <a:xfrm>
              <a:off x="5675400" y="8844480"/>
              <a:ext cx="436320" cy="326520"/>
            </a:xfrm>
            <a:custGeom>
              <a:avLst/>
              <a:gdLst/>
              <a:ahLst/>
              <a:rect l="l" t="t" r="r" b="b"/>
              <a:pathLst>
                <a:path w="432435" h="324484">
                  <a:moveTo>
                    <a:pt x="0" y="324002"/>
                  </a:moveTo>
                  <a:lnTo>
                    <a:pt x="0" y="0"/>
                  </a:lnTo>
                  <a:lnTo>
                    <a:pt x="432003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bject 4"/>
            <p:cNvSpPr/>
            <p:nvPr/>
          </p:nvSpPr>
          <p:spPr>
            <a:xfrm>
              <a:off x="5784120" y="8736120"/>
              <a:ext cx="327600" cy="434880"/>
            </a:xfrm>
            <a:custGeom>
              <a:avLst/>
              <a:gdLst/>
              <a:ahLst/>
              <a:rect l="l" t="t" r="r" b="b"/>
              <a:pathLst>
                <a:path w="324485" h="432434">
                  <a:moveTo>
                    <a:pt x="324002" y="0"/>
                  </a:moveTo>
                  <a:lnTo>
                    <a:pt x="0" y="0"/>
                  </a:lnTo>
                  <a:lnTo>
                    <a:pt x="0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object 5"/>
          <p:cNvGrpSpPr/>
          <p:nvPr/>
        </p:nvGrpSpPr>
        <p:grpSpPr>
          <a:xfrm>
            <a:off x="563400" y="8736120"/>
            <a:ext cx="436680" cy="434880"/>
            <a:chOff x="563400" y="8736120"/>
            <a:chExt cx="436680" cy="434880"/>
          </a:xfrm>
        </p:grpSpPr>
        <p:sp>
          <p:nvSpPr>
            <p:cNvPr id="65" name="object 6"/>
            <p:cNvSpPr/>
            <p:nvPr/>
          </p:nvSpPr>
          <p:spPr>
            <a:xfrm>
              <a:off x="563400" y="8844480"/>
              <a:ext cx="436680" cy="32652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432003" y="324002"/>
                  </a:moveTo>
                  <a:lnTo>
                    <a:pt x="432003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bject 7"/>
            <p:cNvSpPr/>
            <p:nvPr/>
          </p:nvSpPr>
          <p:spPr>
            <a:xfrm>
              <a:off x="563400" y="8736120"/>
              <a:ext cx="327600" cy="43488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0" y="0"/>
                  </a:moveTo>
                  <a:lnTo>
                    <a:pt x="324002" y="0"/>
                  </a:lnTo>
                  <a:lnTo>
                    <a:pt x="324002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object 8"/>
          <p:cNvGrpSpPr/>
          <p:nvPr/>
        </p:nvGrpSpPr>
        <p:grpSpPr>
          <a:xfrm>
            <a:off x="563400" y="563400"/>
            <a:ext cx="436680" cy="436680"/>
            <a:chOff x="563400" y="563400"/>
            <a:chExt cx="436680" cy="436680"/>
          </a:xfrm>
        </p:grpSpPr>
        <p:sp>
          <p:nvSpPr>
            <p:cNvPr id="68" name="object 9"/>
            <p:cNvSpPr/>
            <p:nvPr/>
          </p:nvSpPr>
          <p:spPr>
            <a:xfrm>
              <a:off x="563400" y="5634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432003" y="0"/>
                  </a:moveTo>
                  <a:lnTo>
                    <a:pt x="432003" y="324002"/>
                  </a:ln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bject 10"/>
            <p:cNvSpPr/>
            <p:nvPr/>
          </p:nvSpPr>
          <p:spPr>
            <a:xfrm>
              <a:off x="563400" y="5634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0" y="432003"/>
                  </a:moveTo>
                  <a:lnTo>
                    <a:pt x="324002" y="432003"/>
                  </a:ln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object 11"/>
          <p:cNvGrpSpPr/>
          <p:nvPr/>
        </p:nvGrpSpPr>
        <p:grpSpPr>
          <a:xfrm>
            <a:off x="5675400" y="563400"/>
            <a:ext cx="436320" cy="436680"/>
            <a:chOff x="5675400" y="563400"/>
            <a:chExt cx="436320" cy="436680"/>
          </a:xfrm>
        </p:grpSpPr>
        <p:sp>
          <p:nvSpPr>
            <p:cNvPr id="71" name="object 12"/>
            <p:cNvSpPr/>
            <p:nvPr/>
          </p:nvSpPr>
          <p:spPr>
            <a:xfrm>
              <a:off x="5675400" y="563400"/>
              <a:ext cx="436320" cy="327600"/>
            </a:xfrm>
            <a:custGeom>
              <a:avLst/>
              <a:gdLst/>
              <a:ahLst/>
              <a:rect l="l" t="t" r="r" b="b"/>
              <a:pathLst>
                <a:path w="432435" h="324484">
                  <a:moveTo>
                    <a:pt x="0" y="0"/>
                  </a:moveTo>
                  <a:lnTo>
                    <a:pt x="0" y="324002"/>
                  </a:lnTo>
                  <a:lnTo>
                    <a:pt x="432003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object 13"/>
            <p:cNvSpPr/>
            <p:nvPr/>
          </p:nvSpPr>
          <p:spPr>
            <a:xfrm>
              <a:off x="5784120" y="5634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5" h="432434">
                  <a:moveTo>
                    <a:pt x="324002" y="432003"/>
                  </a:moveTo>
                  <a:lnTo>
                    <a:pt x="0" y="432003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object 14"/>
          <p:cNvGrpSpPr/>
          <p:nvPr/>
        </p:nvGrpSpPr>
        <p:grpSpPr>
          <a:xfrm>
            <a:off x="2879640" y="8889840"/>
            <a:ext cx="914400" cy="304920"/>
            <a:chOff x="2879640" y="8889840"/>
            <a:chExt cx="914400" cy="304920"/>
          </a:xfrm>
        </p:grpSpPr>
        <p:sp>
          <p:nvSpPr>
            <p:cNvPr id="74" name="object 15"/>
            <p:cNvSpPr/>
            <p:nvPr/>
          </p:nvSpPr>
          <p:spPr>
            <a:xfrm>
              <a:off x="3336840" y="8889840"/>
              <a:ext cx="360" cy="30492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8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bject 16"/>
            <p:cNvSpPr/>
            <p:nvPr/>
          </p:nvSpPr>
          <p:spPr>
            <a:xfrm>
              <a:off x="2879640" y="896580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object 17"/>
          <p:cNvGrpSpPr/>
          <p:nvPr/>
        </p:nvGrpSpPr>
        <p:grpSpPr>
          <a:xfrm>
            <a:off x="2879640" y="539640"/>
            <a:ext cx="914400" cy="304920"/>
            <a:chOff x="2879640" y="539640"/>
            <a:chExt cx="914400" cy="304920"/>
          </a:xfrm>
        </p:grpSpPr>
        <p:sp>
          <p:nvSpPr>
            <p:cNvPr id="77" name="object 18"/>
            <p:cNvSpPr/>
            <p:nvPr/>
          </p:nvSpPr>
          <p:spPr>
            <a:xfrm>
              <a:off x="3336840" y="539640"/>
              <a:ext cx="360" cy="30492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bject 19"/>
            <p:cNvSpPr/>
            <p:nvPr/>
          </p:nvSpPr>
          <p:spPr>
            <a:xfrm>
              <a:off x="2879640" y="7682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object 20"/>
          <p:cNvGrpSpPr/>
          <p:nvPr/>
        </p:nvGrpSpPr>
        <p:grpSpPr>
          <a:xfrm>
            <a:off x="539640" y="4410000"/>
            <a:ext cx="304920" cy="914400"/>
            <a:chOff x="539640" y="4410000"/>
            <a:chExt cx="304920" cy="914400"/>
          </a:xfrm>
        </p:grpSpPr>
        <p:sp>
          <p:nvSpPr>
            <p:cNvPr id="80" name="object 21"/>
            <p:cNvSpPr/>
            <p:nvPr/>
          </p:nvSpPr>
          <p:spPr>
            <a:xfrm>
              <a:off x="768600" y="441000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bject 22"/>
            <p:cNvSpPr/>
            <p:nvPr/>
          </p:nvSpPr>
          <p:spPr>
            <a:xfrm>
              <a:off x="539640" y="4867200"/>
              <a:ext cx="30492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object 23"/>
          <p:cNvGrpSpPr/>
          <p:nvPr/>
        </p:nvGrpSpPr>
        <p:grpSpPr>
          <a:xfrm>
            <a:off x="5829480" y="4410000"/>
            <a:ext cx="304560" cy="914400"/>
            <a:chOff x="5829480" y="4410000"/>
            <a:chExt cx="304560" cy="914400"/>
          </a:xfrm>
        </p:grpSpPr>
        <p:sp>
          <p:nvSpPr>
            <p:cNvPr id="83" name="object 24"/>
            <p:cNvSpPr/>
            <p:nvPr/>
          </p:nvSpPr>
          <p:spPr>
            <a:xfrm>
              <a:off x="5905440" y="441000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bject 25"/>
            <p:cNvSpPr/>
            <p:nvPr/>
          </p:nvSpPr>
          <p:spPr>
            <a:xfrm>
              <a:off x="5829480" y="486720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図 31" descr=""/>
          <p:cNvPicPr/>
          <p:nvPr/>
        </p:nvPicPr>
        <p:blipFill>
          <a:blip r:embed="rId2"/>
          <a:stretch/>
        </p:blipFill>
        <p:spPr>
          <a:xfrm>
            <a:off x="658800" y="115920"/>
            <a:ext cx="5362560" cy="390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3"/>
          <p:cNvSpPr/>
          <p:nvPr/>
        </p:nvSpPr>
        <p:spPr>
          <a:xfrm>
            <a:off x="387360" y="938376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印字できない範囲は、水色で表示している箇所です。こちらには、オブジェクトを配置しないで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黒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グループ化 32"/>
          <p:cNvGrpSpPr/>
          <p:nvPr/>
        </p:nvGrpSpPr>
        <p:grpSpPr>
          <a:xfrm>
            <a:off x="39600" y="996840"/>
            <a:ext cx="5645160" cy="7743960"/>
            <a:chOff x="39600" y="996840"/>
            <a:chExt cx="5645160" cy="7743960"/>
          </a:xfrm>
        </p:grpSpPr>
        <p:grpSp>
          <p:nvGrpSpPr>
            <p:cNvPr id="88" name="object 26"/>
            <p:cNvGrpSpPr/>
            <p:nvPr/>
          </p:nvGrpSpPr>
          <p:grpSpPr>
            <a:xfrm>
              <a:off x="997200" y="996840"/>
              <a:ext cx="4687560" cy="7743960"/>
              <a:chOff x="997200" y="996840"/>
              <a:chExt cx="4687560" cy="7743960"/>
            </a:xfrm>
          </p:grpSpPr>
          <p:sp>
            <p:nvSpPr>
              <p:cNvPr id="89" name="object 27"/>
              <p:cNvSpPr/>
              <p:nvPr/>
            </p:nvSpPr>
            <p:spPr>
              <a:xfrm>
                <a:off x="1004760" y="998640"/>
                <a:ext cx="4680000" cy="7742160"/>
              </a:xfrm>
              <a:custGeom>
                <a:avLst/>
                <a:gdLst/>
                <a:ahLst/>
                <a:rect l="l" t="t" r="r" b="b"/>
                <a:pathLst>
                  <a:path w="4680585" h="7740650">
                    <a:moveTo>
                      <a:pt x="4680001" y="0"/>
                    </a:moveTo>
                    <a:lnTo>
                      <a:pt x="4310672" y="0"/>
                    </a:lnTo>
                    <a:lnTo>
                      <a:pt x="4310672" y="358140"/>
                    </a:lnTo>
                    <a:lnTo>
                      <a:pt x="4310672" y="6837680"/>
                    </a:lnTo>
                    <a:lnTo>
                      <a:pt x="782662" y="6837680"/>
                    </a:lnTo>
                    <a:lnTo>
                      <a:pt x="782662" y="358140"/>
                    </a:lnTo>
                    <a:lnTo>
                      <a:pt x="4310672" y="358140"/>
                    </a:lnTo>
                    <a:lnTo>
                      <a:pt x="4310672" y="0"/>
                    </a:lnTo>
                    <a:lnTo>
                      <a:pt x="0" y="0"/>
                    </a:lnTo>
                    <a:lnTo>
                      <a:pt x="0" y="358140"/>
                    </a:lnTo>
                    <a:lnTo>
                      <a:pt x="0" y="6837680"/>
                    </a:lnTo>
                    <a:lnTo>
                      <a:pt x="0" y="7740650"/>
                    </a:lnTo>
                    <a:lnTo>
                      <a:pt x="4680001" y="7740650"/>
                    </a:lnTo>
                    <a:lnTo>
                      <a:pt x="4680001" y="6837820"/>
                    </a:lnTo>
                    <a:lnTo>
                      <a:pt x="4680001" y="6837680"/>
                    </a:lnTo>
                    <a:lnTo>
                      <a:pt x="4680001" y="358140"/>
                    </a:lnTo>
                    <a:lnTo>
                      <a:pt x="4680001" y="357822"/>
                    </a:lnTo>
                    <a:lnTo>
                      <a:pt x="4680001" y="0"/>
                    </a:lnTo>
                    <a:close/>
                  </a:path>
                </a:pathLst>
              </a:custGeom>
              <a:solidFill>
                <a:srgbClr val="c7e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object 28"/>
              <p:cNvSpPr/>
              <p:nvPr/>
            </p:nvSpPr>
            <p:spPr>
              <a:xfrm>
                <a:off x="997200" y="996840"/>
                <a:ext cx="4680000" cy="7741440"/>
              </a:xfrm>
              <a:custGeom>
                <a:avLst/>
                <a:gdLst/>
                <a:ahLst/>
                <a:rect l="l" t="t" r="r" b="b"/>
                <a:pathLst>
                  <a:path w="4680585" h="7740015">
                    <a:moveTo>
                      <a:pt x="71996" y="7727302"/>
                    </a:moveTo>
                    <a:lnTo>
                      <a:pt x="22491" y="7727302"/>
                    </a:lnTo>
                    <a:lnTo>
                      <a:pt x="25298" y="7722641"/>
                    </a:lnTo>
                    <a:lnTo>
                      <a:pt x="14427" y="7716088"/>
                    </a:lnTo>
                    <a:lnTo>
                      <a:pt x="0" y="7740002"/>
                    </a:lnTo>
                    <a:lnTo>
                      <a:pt x="71996" y="7740002"/>
                    </a:lnTo>
                    <a:lnTo>
                      <a:pt x="71996" y="7727302"/>
                    </a:lnTo>
                    <a:close/>
                  </a:path>
                  <a:path w="4680585" h="7740015">
                    <a:moveTo>
                      <a:pt x="99682" y="7599337"/>
                    </a:moveTo>
                    <a:lnTo>
                      <a:pt x="88798" y="7592771"/>
                    </a:lnTo>
                    <a:lnTo>
                      <a:pt x="51612" y="7654430"/>
                    </a:lnTo>
                    <a:lnTo>
                      <a:pt x="62484" y="7660983"/>
                    </a:lnTo>
                    <a:lnTo>
                      <a:pt x="99682" y="7599337"/>
                    </a:lnTo>
                    <a:close/>
                  </a:path>
                  <a:path w="4680585" h="7740015">
                    <a:moveTo>
                      <a:pt x="174053" y="7476033"/>
                    </a:moveTo>
                    <a:lnTo>
                      <a:pt x="163182" y="7469467"/>
                    </a:lnTo>
                    <a:lnTo>
                      <a:pt x="125984" y="7531125"/>
                    </a:lnTo>
                    <a:lnTo>
                      <a:pt x="136867" y="7537678"/>
                    </a:lnTo>
                    <a:lnTo>
                      <a:pt x="174053" y="7476033"/>
                    </a:lnTo>
                    <a:close/>
                  </a:path>
                  <a:path w="4680585" h="7740015">
                    <a:moveTo>
                      <a:pt x="192722" y="7254481"/>
                    </a:moveTo>
                    <a:lnTo>
                      <a:pt x="180022" y="7254481"/>
                    </a:lnTo>
                    <a:lnTo>
                      <a:pt x="180022" y="7326477"/>
                    </a:lnTo>
                    <a:lnTo>
                      <a:pt x="192722" y="7326477"/>
                    </a:lnTo>
                    <a:lnTo>
                      <a:pt x="192722" y="7254481"/>
                    </a:lnTo>
                    <a:close/>
                  </a:path>
                  <a:path w="4680585" h="7740015">
                    <a:moveTo>
                      <a:pt x="192722" y="7110476"/>
                    </a:moveTo>
                    <a:lnTo>
                      <a:pt x="180022" y="7110476"/>
                    </a:lnTo>
                    <a:lnTo>
                      <a:pt x="180022" y="7182472"/>
                    </a:lnTo>
                    <a:lnTo>
                      <a:pt x="192722" y="7182472"/>
                    </a:lnTo>
                    <a:lnTo>
                      <a:pt x="192722" y="7110476"/>
                    </a:lnTo>
                    <a:close/>
                  </a:path>
                  <a:path w="4680585" h="7740015">
                    <a:moveTo>
                      <a:pt x="192722" y="6966471"/>
                    </a:moveTo>
                    <a:lnTo>
                      <a:pt x="180022" y="6966471"/>
                    </a:lnTo>
                    <a:lnTo>
                      <a:pt x="180022" y="7038480"/>
                    </a:lnTo>
                    <a:lnTo>
                      <a:pt x="192722" y="7038480"/>
                    </a:lnTo>
                    <a:lnTo>
                      <a:pt x="192722" y="6966471"/>
                    </a:lnTo>
                    <a:close/>
                  </a:path>
                  <a:path w="4680585" h="7740015">
                    <a:moveTo>
                      <a:pt x="192722" y="6822478"/>
                    </a:moveTo>
                    <a:lnTo>
                      <a:pt x="180022" y="6822478"/>
                    </a:lnTo>
                    <a:lnTo>
                      <a:pt x="180022" y="6894474"/>
                    </a:lnTo>
                    <a:lnTo>
                      <a:pt x="192722" y="6894474"/>
                    </a:lnTo>
                    <a:lnTo>
                      <a:pt x="192722" y="6822478"/>
                    </a:lnTo>
                    <a:close/>
                  </a:path>
                  <a:path w="4680585" h="7740015">
                    <a:moveTo>
                      <a:pt x="192722" y="6678473"/>
                    </a:moveTo>
                    <a:lnTo>
                      <a:pt x="180022" y="6678473"/>
                    </a:lnTo>
                    <a:lnTo>
                      <a:pt x="180022" y="6750469"/>
                    </a:lnTo>
                    <a:lnTo>
                      <a:pt x="192722" y="6750469"/>
                    </a:lnTo>
                    <a:lnTo>
                      <a:pt x="192722" y="6678473"/>
                    </a:lnTo>
                    <a:close/>
                  </a:path>
                  <a:path w="4680585" h="7740015">
                    <a:moveTo>
                      <a:pt x="192722" y="6534480"/>
                    </a:moveTo>
                    <a:lnTo>
                      <a:pt x="180022" y="6534480"/>
                    </a:lnTo>
                    <a:lnTo>
                      <a:pt x="180022" y="6606489"/>
                    </a:lnTo>
                    <a:lnTo>
                      <a:pt x="192722" y="6606489"/>
                    </a:lnTo>
                    <a:lnTo>
                      <a:pt x="192722" y="6534480"/>
                    </a:lnTo>
                    <a:close/>
                  </a:path>
                  <a:path w="4680585" h="7740015">
                    <a:moveTo>
                      <a:pt x="192722" y="6390487"/>
                    </a:moveTo>
                    <a:lnTo>
                      <a:pt x="180022" y="6390487"/>
                    </a:lnTo>
                    <a:lnTo>
                      <a:pt x="180022" y="6462484"/>
                    </a:lnTo>
                    <a:lnTo>
                      <a:pt x="192722" y="6462484"/>
                    </a:lnTo>
                    <a:lnTo>
                      <a:pt x="192722" y="6390487"/>
                    </a:lnTo>
                    <a:close/>
                  </a:path>
                  <a:path w="4680585" h="7740015">
                    <a:moveTo>
                      <a:pt x="192722" y="6246482"/>
                    </a:moveTo>
                    <a:lnTo>
                      <a:pt x="180022" y="6246482"/>
                    </a:lnTo>
                    <a:lnTo>
                      <a:pt x="180022" y="6318478"/>
                    </a:lnTo>
                    <a:lnTo>
                      <a:pt x="192722" y="6318478"/>
                    </a:lnTo>
                    <a:lnTo>
                      <a:pt x="192722" y="6246482"/>
                    </a:lnTo>
                    <a:close/>
                  </a:path>
                  <a:path w="4680585" h="7740015">
                    <a:moveTo>
                      <a:pt x="192722" y="6102477"/>
                    </a:moveTo>
                    <a:lnTo>
                      <a:pt x="180022" y="6102477"/>
                    </a:lnTo>
                    <a:lnTo>
                      <a:pt x="180022" y="6174473"/>
                    </a:lnTo>
                    <a:lnTo>
                      <a:pt x="192722" y="6174473"/>
                    </a:lnTo>
                    <a:lnTo>
                      <a:pt x="192722" y="6102477"/>
                    </a:lnTo>
                    <a:close/>
                  </a:path>
                  <a:path w="4680585" h="7740015">
                    <a:moveTo>
                      <a:pt x="192722" y="5958471"/>
                    </a:moveTo>
                    <a:lnTo>
                      <a:pt x="180022" y="5958471"/>
                    </a:lnTo>
                    <a:lnTo>
                      <a:pt x="180022" y="6030480"/>
                    </a:lnTo>
                    <a:lnTo>
                      <a:pt x="192722" y="6030480"/>
                    </a:lnTo>
                    <a:lnTo>
                      <a:pt x="192722" y="5958471"/>
                    </a:lnTo>
                    <a:close/>
                  </a:path>
                  <a:path w="4680585" h="7740015">
                    <a:moveTo>
                      <a:pt x="192722" y="5814479"/>
                    </a:moveTo>
                    <a:lnTo>
                      <a:pt x="180022" y="5814479"/>
                    </a:lnTo>
                    <a:lnTo>
                      <a:pt x="180022" y="5886475"/>
                    </a:lnTo>
                    <a:lnTo>
                      <a:pt x="192722" y="5886475"/>
                    </a:lnTo>
                    <a:lnTo>
                      <a:pt x="192722" y="5814479"/>
                    </a:lnTo>
                    <a:close/>
                  </a:path>
                  <a:path w="4680585" h="7740015">
                    <a:moveTo>
                      <a:pt x="192722" y="5670474"/>
                    </a:moveTo>
                    <a:lnTo>
                      <a:pt x="180022" y="5670474"/>
                    </a:lnTo>
                    <a:lnTo>
                      <a:pt x="180022" y="5742470"/>
                    </a:lnTo>
                    <a:lnTo>
                      <a:pt x="192722" y="5742470"/>
                    </a:lnTo>
                    <a:lnTo>
                      <a:pt x="192722" y="5670474"/>
                    </a:lnTo>
                    <a:close/>
                  </a:path>
                  <a:path w="4680585" h="7740015">
                    <a:moveTo>
                      <a:pt x="192722" y="5526468"/>
                    </a:moveTo>
                    <a:lnTo>
                      <a:pt x="180022" y="5526468"/>
                    </a:lnTo>
                    <a:lnTo>
                      <a:pt x="180022" y="5598477"/>
                    </a:lnTo>
                    <a:lnTo>
                      <a:pt x="192722" y="5598477"/>
                    </a:lnTo>
                    <a:lnTo>
                      <a:pt x="192722" y="5526468"/>
                    </a:lnTo>
                    <a:close/>
                  </a:path>
                  <a:path w="4680585" h="7740015">
                    <a:moveTo>
                      <a:pt x="192722" y="5382488"/>
                    </a:moveTo>
                    <a:lnTo>
                      <a:pt x="180022" y="5382488"/>
                    </a:lnTo>
                    <a:lnTo>
                      <a:pt x="180022" y="5454485"/>
                    </a:lnTo>
                    <a:lnTo>
                      <a:pt x="192722" y="5454485"/>
                    </a:lnTo>
                    <a:lnTo>
                      <a:pt x="192722" y="5382488"/>
                    </a:lnTo>
                    <a:close/>
                  </a:path>
                  <a:path w="4680585" h="7740015">
                    <a:moveTo>
                      <a:pt x="192722" y="5238483"/>
                    </a:moveTo>
                    <a:lnTo>
                      <a:pt x="180022" y="5238483"/>
                    </a:lnTo>
                    <a:lnTo>
                      <a:pt x="180022" y="5310479"/>
                    </a:lnTo>
                    <a:lnTo>
                      <a:pt x="192722" y="5310479"/>
                    </a:lnTo>
                    <a:lnTo>
                      <a:pt x="192722" y="5238483"/>
                    </a:lnTo>
                    <a:close/>
                  </a:path>
                  <a:path w="4680585" h="7740015">
                    <a:moveTo>
                      <a:pt x="192722" y="5094478"/>
                    </a:moveTo>
                    <a:lnTo>
                      <a:pt x="180022" y="5094478"/>
                    </a:lnTo>
                    <a:lnTo>
                      <a:pt x="180022" y="5166487"/>
                    </a:lnTo>
                    <a:lnTo>
                      <a:pt x="192722" y="5166487"/>
                    </a:lnTo>
                    <a:lnTo>
                      <a:pt x="192722" y="5094478"/>
                    </a:lnTo>
                    <a:close/>
                  </a:path>
                  <a:path w="4680585" h="7740015">
                    <a:moveTo>
                      <a:pt x="192722" y="4950485"/>
                    </a:moveTo>
                    <a:lnTo>
                      <a:pt x="180022" y="4950485"/>
                    </a:lnTo>
                    <a:lnTo>
                      <a:pt x="180022" y="5022481"/>
                    </a:lnTo>
                    <a:lnTo>
                      <a:pt x="192722" y="5022481"/>
                    </a:lnTo>
                    <a:lnTo>
                      <a:pt x="192722" y="4950485"/>
                    </a:lnTo>
                    <a:close/>
                  </a:path>
                  <a:path w="4680585" h="7740015">
                    <a:moveTo>
                      <a:pt x="192722" y="4806480"/>
                    </a:moveTo>
                    <a:lnTo>
                      <a:pt x="180022" y="4806480"/>
                    </a:lnTo>
                    <a:lnTo>
                      <a:pt x="180022" y="4878476"/>
                    </a:lnTo>
                    <a:lnTo>
                      <a:pt x="192722" y="4878476"/>
                    </a:lnTo>
                    <a:lnTo>
                      <a:pt x="192722" y="4806480"/>
                    </a:lnTo>
                    <a:close/>
                  </a:path>
                  <a:path w="4680585" h="7740015">
                    <a:moveTo>
                      <a:pt x="192722" y="4662475"/>
                    </a:moveTo>
                    <a:lnTo>
                      <a:pt x="180022" y="4662475"/>
                    </a:lnTo>
                    <a:lnTo>
                      <a:pt x="180022" y="4734471"/>
                    </a:lnTo>
                    <a:lnTo>
                      <a:pt x="192722" y="4734471"/>
                    </a:lnTo>
                    <a:lnTo>
                      <a:pt x="192722" y="4662475"/>
                    </a:lnTo>
                    <a:close/>
                  </a:path>
                  <a:path w="4680585" h="7740015">
                    <a:moveTo>
                      <a:pt x="192722" y="4518469"/>
                    </a:moveTo>
                    <a:lnTo>
                      <a:pt x="180022" y="4518469"/>
                    </a:lnTo>
                    <a:lnTo>
                      <a:pt x="180022" y="4590478"/>
                    </a:lnTo>
                    <a:lnTo>
                      <a:pt x="192722" y="4590478"/>
                    </a:lnTo>
                    <a:lnTo>
                      <a:pt x="192722" y="4518469"/>
                    </a:lnTo>
                    <a:close/>
                  </a:path>
                  <a:path w="4680585" h="7740015">
                    <a:moveTo>
                      <a:pt x="192722" y="4374477"/>
                    </a:moveTo>
                    <a:lnTo>
                      <a:pt x="180022" y="4374477"/>
                    </a:lnTo>
                    <a:lnTo>
                      <a:pt x="180022" y="4446473"/>
                    </a:lnTo>
                    <a:lnTo>
                      <a:pt x="192722" y="4446473"/>
                    </a:lnTo>
                    <a:lnTo>
                      <a:pt x="192722" y="4374477"/>
                    </a:lnTo>
                    <a:close/>
                  </a:path>
                  <a:path w="4680585" h="7740015">
                    <a:moveTo>
                      <a:pt x="192722" y="4230484"/>
                    </a:moveTo>
                    <a:lnTo>
                      <a:pt x="180022" y="4230484"/>
                    </a:lnTo>
                    <a:lnTo>
                      <a:pt x="180022" y="4302480"/>
                    </a:lnTo>
                    <a:lnTo>
                      <a:pt x="192722" y="4302480"/>
                    </a:lnTo>
                    <a:lnTo>
                      <a:pt x="192722" y="4230484"/>
                    </a:lnTo>
                    <a:close/>
                  </a:path>
                  <a:path w="4680585" h="7740015">
                    <a:moveTo>
                      <a:pt x="192722" y="4086479"/>
                    </a:moveTo>
                    <a:lnTo>
                      <a:pt x="180022" y="4086479"/>
                    </a:lnTo>
                    <a:lnTo>
                      <a:pt x="180022" y="4158488"/>
                    </a:lnTo>
                    <a:lnTo>
                      <a:pt x="192722" y="4158488"/>
                    </a:lnTo>
                    <a:lnTo>
                      <a:pt x="192722" y="4086479"/>
                    </a:lnTo>
                    <a:close/>
                  </a:path>
                  <a:path w="4680585" h="7740015">
                    <a:moveTo>
                      <a:pt x="192722" y="3942486"/>
                    </a:moveTo>
                    <a:lnTo>
                      <a:pt x="180022" y="3942486"/>
                    </a:lnTo>
                    <a:lnTo>
                      <a:pt x="180022" y="4014482"/>
                    </a:lnTo>
                    <a:lnTo>
                      <a:pt x="192722" y="4014482"/>
                    </a:lnTo>
                    <a:lnTo>
                      <a:pt x="192722" y="3942486"/>
                    </a:lnTo>
                    <a:close/>
                  </a:path>
                  <a:path w="4680585" h="7740015">
                    <a:moveTo>
                      <a:pt x="192722" y="3798481"/>
                    </a:moveTo>
                    <a:lnTo>
                      <a:pt x="180022" y="3798481"/>
                    </a:lnTo>
                    <a:lnTo>
                      <a:pt x="180022" y="3870477"/>
                    </a:lnTo>
                    <a:lnTo>
                      <a:pt x="192722" y="3870477"/>
                    </a:lnTo>
                    <a:lnTo>
                      <a:pt x="192722" y="3798481"/>
                    </a:lnTo>
                    <a:close/>
                  </a:path>
                  <a:path w="4680585" h="7740015">
                    <a:moveTo>
                      <a:pt x="192722" y="3654488"/>
                    </a:moveTo>
                    <a:lnTo>
                      <a:pt x="180022" y="3654488"/>
                    </a:lnTo>
                    <a:lnTo>
                      <a:pt x="180022" y="3726484"/>
                    </a:lnTo>
                    <a:lnTo>
                      <a:pt x="192722" y="3726484"/>
                    </a:lnTo>
                    <a:lnTo>
                      <a:pt x="192722" y="3654488"/>
                    </a:lnTo>
                    <a:close/>
                  </a:path>
                  <a:path w="4680585" h="7740015">
                    <a:moveTo>
                      <a:pt x="192722" y="3510483"/>
                    </a:moveTo>
                    <a:lnTo>
                      <a:pt x="180022" y="3510483"/>
                    </a:lnTo>
                    <a:lnTo>
                      <a:pt x="180022" y="3582479"/>
                    </a:lnTo>
                    <a:lnTo>
                      <a:pt x="192722" y="3582479"/>
                    </a:lnTo>
                    <a:lnTo>
                      <a:pt x="192722" y="3510483"/>
                    </a:lnTo>
                    <a:close/>
                  </a:path>
                  <a:path w="4680585" h="7740015">
                    <a:moveTo>
                      <a:pt x="192722" y="3366478"/>
                    </a:moveTo>
                    <a:lnTo>
                      <a:pt x="180022" y="3366478"/>
                    </a:lnTo>
                    <a:lnTo>
                      <a:pt x="180022" y="3438474"/>
                    </a:lnTo>
                    <a:lnTo>
                      <a:pt x="192722" y="3438474"/>
                    </a:lnTo>
                    <a:lnTo>
                      <a:pt x="192722" y="3366478"/>
                    </a:lnTo>
                    <a:close/>
                  </a:path>
                  <a:path w="4680585" h="7740015">
                    <a:moveTo>
                      <a:pt x="192722" y="3222485"/>
                    </a:moveTo>
                    <a:lnTo>
                      <a:pt x="180022" y="3222485"/>
                    </a:lnTo>
                    <a:lnTo>
                      <a:pt x="180022" y="3294481"/>
                    </a:lnTo>
                    <a:lnTo>
                      <a:pt x="192722" y="3294481"/>
                    </a:lnTo>
                    <a:lnTo>
                      <a:pt x="192722" y="3222485"/>
                    </a:lnTo>
                    <a:close/>
                  </a:path>
                  <a:path w="4680585" h="7740015">
                    <a:moveTo>
                      <a:pt x="192722" y="3078480"/>
                    </a:moveTo>
                    <a:lnTo>
                      <a:pt x="180022" y="3078480"/>
                    </a:lnTo>
                    <a:lnTo>
                      <a:pt x="180022" y="3150476"/>
                    </a:lnTo>
                    <a:lnTo>
                      <a:pt x="192722" y="3150476"/>
                    </a:lnTo>
                    <a:lnTo>
                      <a:pt x="192722" y="3078480"/>
                    </a:lnTo>
                    <a:close/>
                  </a:path>
                  <a:path w="4680585" h="7740015">
                    <a:moveTo>
                      <a:pt x="192722" y="2934487"/>
                    </a:moveTo>
                    <a:lnTo>
                      <a:pt x="180022" y="2934487"/>
                    </a:lnTo>
                    <a:lnTo>
                      <a:pt x="180022" y="3006483"/>
                    </a:lnTo>
                    <a:lnTo>
                      <a:pt x="192722" y="3006483"/>
                    </a:lnTo>
                    <a:lnTo>
                      <a:pt x="192722" y="2934487"/>
                    </a:lnTo>
                    <a:close/>
                  </a:path>
                  <a:path w="4680585" h="7740015">
                    <a:moveTo>
                      <a:pt x="192722" y="2790482"/>
                    </a:moveTo>
                    <a:lnTo>
                      <a:pt x="180022" y="2790482"/>
                    </a:lnTo>
                    <a:lnTo>
                      <a:pt x="180022" y="2862478"/>
                    </a:lnTo>
                    <a:lnTo>
                      <a:pt x="192722" y="2862478"/>
                    </a:lnTo>
                    <a:lnTo>
                      <a:pt x="192722" y="2790482"/>
                    </a:lnTo>
                    <a:close/>
                  </a:path>
                  <a:path w="4680585" h="7740015">
                    <a:moveTo>
                      <a:pt x="192722" y="2646476"/>
                    </a:moveTo>
                    <a:lnTo>
                      <a:pt x="180022" y="2646476"/>
                    </a:lnTo>
                    <a:lnTo>
                      <a:pt x="180022" y="2718473"/>
                    </a:lnTo>
                    <a:lnTo>
                      <a:pt x="192722" y="2718473"/>
                    </a:lnTo>
                    <a:lnTo>
                      <a:pt x="192722" y="2646476"/>
                    </a:lnTo>
                    <a:close/>
                  </a:path>
                  <a:path w="4680585" h="7740015">
                    <a:moveTo>
                      <a:pt x="192722" y="2502484"/>
                    </a:moveTo>
                    <a:lnTo>
                      <a:pt x="180022" y="2502484"/>
                    </a:lnTo>
                    <a:lnTo>
                      <a:pt x="180022" y="2574480"/>
                    </a:lnTo>
                    <a:lnTo>
                      <a:pt x="192722" y="2574480"/>
                    </a:lnTo>
                    <a:lnTo>
                      <a:pt x="192722" y="2502484"/>
                    </a:lnTo>
                    <a:close/>
                  </a:path>
                  <a:path w="4680585" h="7740015">
                    <a:moveTo>
                      <a:pt x="192722" y="1260005"/>
                    </a:moveTo>
                    <a:lnTo>
                      <a:pt x="180022" y="1260005"/>
                    </a:lnTo>
                    <a:lnTo>
                      <a:pt x="180022" y="1332001"/>
                    </a:lnTo>
                    <a:lnTo>
                      <a:pt x="192722" y="1332001"/>
                    </a:lnTo>
                    <a:lnTo>
                      <a:pt x="192722" y="1260005"/>
                    </a:lnTo>
                    <a:close/>
                  </a:path>
                  <a:path w="4680585" h="7740015">
                    <a:moveTo>
                      <a:pt x="192722" y="1116012"/>
                    </a:moveTo>
                    <a:lnTo>
                      <a:pt x="180022" y="1116012"/>
                    </a:lnTo>
                    <a:lnTo>
                      <a:pt x="180022" y="1188008"/>
                    </a:lnTo>
                    <a:lnTo>
                      <a:pt x="192722" y="1188008"/>
                    </a:lnTo>
                    <a:lnTo>
                      <a:pt x="192722" y="1116012"/>
                    </a:lnTo>
                    <a:close/>
                  </a:path>
                  <a:path w="4680585" h="7740015">
                    <a:moveTo>
                      <a:pt x="192722" y="972007"/>
                    </a:moveTo>
                    <a:lnTo>
                      <a:pt x="180022" y="972007"/>
                    </a:lnTo>
                    <a:lnTo>
                      <a:pt x="180022" y="1044003"/>
                    </a:lnTo>
                    <a:lnTo>
                      <a:pt x="192722" y="1044003"/>
                    </a:lnTo>
                    <a:lnTo>
                      <a:pt x="192722" y="972007"/>
                    </a:lnTo>
                    <a:close/>
                  </a:path>
                  <a:path w="4680585" h="7740015">
                    <a:moveTo>
                      <a:pt x="192722" y="828001"/>
                    </a:moveTo>
                    <a:lnTo>
                      <a:pt x="180022" y="828001"/>
                    </a:lnTo>
                    <a:lnTo>
                      <a:pt x="180022" y="899998"/>
                    </a:lnTo>
                    <a:lnTo>
                      <a:pt x="192722" y="899998"/>
                    </a:lnTo>
                    <a:lnTo>
                      <a:pt x="192722" y="828001"/>
                    </a:lnTo>
                    <a:close/>
                  </a:path>
                  <a:path w="4680585" h="7740015">
                    <a:moveTo>
                      <a:pt x="192722" y="684009"/>
                    </a:moveTo>
                    <a:lnTo>
                      <a:pt x="180022" y="684009"/>
                    </a:lnTo>
                    <a:lnTo>
                      <a:pt x="180022" y="756005"/>
                    </a:lnTo>
                    <a:lnTo>
                      <a:pt x="192722" y="756005"/>
                    </a:lnTo>
                    <a:lnTo>
                      <a:pt x="192722" y="684009"/>
                    </a:lnTo>
                    <a:close/>
                  </a:path>
                  <a:path w="4680585" h="7740015">
                    <a:moveTo>
                      <a:pt x="192722" y="540004"/>
                    </a:moveTo>
                    <a:lnTo>
                      <a:pt x="180022" y="540004"/>
                    </a:lnTo>
                    <a:lnTo>
                      <a:pt x="180022" y="612000"/>
                    </a:lnTo>
                    <a:lnTo>
                      <a:pt x="192722" y="612000"/>
                    </a:lnTo>
                    <a:lnTo>
                      <a:pt x="192722" y="540004"/>
                    </a:lnTo>
                    <a:close/>
                  </a:path>
                  <a:path w="4680585" h="7740015">
                    <a:moveTo>
                      <a:pt x="192722" y="396011"/>
                    </a:moveTo>
                    <a:lnTo>
                      <a:pt x="180022" y="396011"/>
                    </a:lnTo>
                    <a:lnTo>
                      <a:pt x="180022" y="468007"/>
                    </a:lnTo>
                    <a:lnTo>
                      <a:pt x="192722" y="468007"/>
                    </a:lnTo>
                    <a:lnTo>
                      <a:pt x="192722" y="396011"/>
                    </a:lnTo>
                    <a:close/>
                  </a:path>
                  <a:path w="4680585" h="7740015">
                    <a:moveTo>
                      <a:pt x="194043" y="226631"/>
                    </a:moveTo>
                    <a:lnTo>
                      <a:pt x="180022" y="324002"/>
                    </a:lnTo>
                    <a:lnTo>
                      <a:pt x="192722" y="324002"/>
                    </a:lnTo>
                    <a:lnTo>
                      <a:pt x="192811" y="245643"/>
                    </a:lnTo>
                    <a:lnTo>
                      <a:pt x="193052" y="239280"/>
                    </a:lnTo>
                    <a:lnTo>
                      <a:pt x="193471" y="232930"/>
                    </a:lnTo>
                    <a:lnTo>
                      <a:pt x="194043" y="226631"/>
                    </a:lnTo>
                    <a:close/>
                  </a:path>
                  <a:path w="4680585" h="7740015">
                    <a:moveTo>
                      <a:pt x="195008" y="2364562"/>
                    </a:moveTo>
                    <a:lnTo>
                      <a:pt x="183578" y="2359012"/>
                    </a:lnTo>
                    <a:lnTo>
                      <a:pt x="182664" y="2361044"/>
                    </a:lnTo>
                    <a:lnTo>
                      <a:pt x="182626" y="2361184"/>
                    </a:lnTo>
                    <a:lnTo>
                      <a:pt x="181343" y="2364346"/>
                    </a:lnTo>
                    <a:lnTo>
                      <a:pt x="180505" y="2367737"/>
                    </a:lnTo>
                    <a:lnTo>
                      <a:pt x="180098" y="2372131"/>
                    </a:lnTo>
                    <a:lnTo>
                      <a:pt x="180022" y="2430475"/>
                    </a:lnTo>
                    <a:lnTo>
                      <a:pt x="192722" y="2430475"/>
                    </a:lnTo>
                    <a:lnTo>
                      <a:pt x="192722" y="2371052"/>
                    </a:lnTo>
                    <a:lnTo>
                      <a:pt x="193497" y="2367686"/>
                    </a:lnTo>
                    <a:lnTo>
                      <a:pt x="195008" y="2364562"/>
                    </a:lnTo>
                    <a:close/>
                  </a:path>
                  <a:path w="4680585" h="7740015">
                    <a:moveTo>
                      <a:pt x="207200" y="7464336"/>
                    </a:moveTo>
                    <a:lnTo>
                      <a:pt x="201917" y="7448105"/>
                    </a:lnTo>
                    <a:lnTo>
                      <a:pt x="197827" y="7431545"/>
                    </a:lnTo>
                    <a:lnTo>
                      <a:pt x="194919" y="7414704"/>
                    </a:lnTo>
                    <a:lnTo>
                      <a:pt x="193217" y="7397661"/>
                    </a:lnTo>
                    <a:lnTo>
                      <a:pt x="180543" y="7398474"/>
                    </a:lnTo>
                    <a:lnTo>
                      <a:pt x="186143" y="7437653"/>
                    </a:lnTo>
                    <a:lnTo>
                      <a:pt x="195275" y="7468692"/>
                    </a:lnTo>
                    <a:lnTo>
                      <a:pt x="207200" y="7464336"/>
                    </a:lnTo>
                    <a:close/>
                  </a:path>
                  <a:path w="4680585" h="7740015">
                    <a:moveTo>
                      <a:pt x="216001" y="7727302"/>
                    </a:moveTo>
                    <a:lnTo>
                      <a:pt x="144005" y="7727302"/>
                    </a:lnTo>
                    <a:lnTo>
                      <a:pt x="144005" y="7740002"/>
                    </a:lnTo>
                    <a:lnTo>
                      <a:pt x="216001" y="7740002"/>
                    </a:lnTo>
                    <a:lnTo>
                      <a:pt x="216001" y="7727302"/>
                    </a:lnTo>
                    <a:close/>
                  </a:path>
                  <a:path w="4680585" h="7740015">
                    <a:moveTo>
                      <a:pt x="231521" y="1430134"/>
                    </a:moveTo>
                    <a:lnTo>
                      <a:pt x="225894" y="1429512"/>
                    </a:lnTo>
                    <a:lnTo>
                      <a:pt x="220243" y="1428991"/>
                    </a:lnTo>
                    <a:lnTo>
                      <a:pt x="214579" y="1428572"/>
                    </a:lnTo>
                    <a:lnTo>
                      <a:pt x="205905" y="1426286"/>
                    </a:lnTo>
                    <a:lnTo>
                      <a:pt x="198983" y="1421244"/>
                    </a:lnTo>
                    <a:lnTo>
                      <a:pt x="194386" y="1414068"/>
                    </a:lnTo>
                    <a:lnTo>
                      <a:pt x="192722" y="1405407"/>
                    </a:lnTo>
                    <a:lnTo>
                      <a:pt x="192722" y="1403997"/>
                    </a:lnTo>
                    <a:lnTo>
                      <a:pt x="180022" y="1403997"/>
                    </a:lnTo>
                    <a:lnTo>
                      <a:pt x="180022" y="1405407"/>
                    </a:lnTo>
                    <a:lnTo>
                      <a:pt x="182613" y="1418793"/>
                    </a:lnTo>
                    <a:lnTo>
                      <a:pt x="189738" y="1429893"/>
                    </a:lnTo>
                    <a:lnTo>
                      <a:pt x="200406" y="1437703"/>
                    </a:lnTo>
                    <a:lnTo>
                      <a:pt x="213626" y="1441234"/>
                    </a:lnTo>
                    <a:lnTo>
                      <a:pt x="224307" y="1442135"/>
                    </a:lnTo>
                    <a:lnTo>
                      <a:pt x="227203" y="1442427"/>
                    </a:lnTo>
                    <a:lnTo>
                      <a:pt x="230124" y="1442758"/>
                    </a:lnTo>
                    <a:lnTo>
                      <a:pt x="231521" y="1430134"/>
                    </a:lnTo>
                    <a:close/>
                  </a:path>
                  <a:path w="4680585" h="7740015">
                    <a:moveTo>
                      <a:pt x="245554" y="102006"/>
                    </a:moveTo>
                    <a:lnTo>
                      <a:pt x="206578" y="139280"/>
                    </a:lnTo>
                    <a:lnTo>
                      <a:pt x="199059" y="155752"/>
                    </a:lnTo>
                    <a:lnTo>
                      <a:pt x="210794" y="160604"/>
                    </a:lnTo>
                    <a:lnTo>
                      <a:pt x="217881" y="145072"/>
                    </a:lnTo>
                    <a:lnTo>
                      <a:pt x="226060" y="130086"/>
                    </a:lnTo>
                    <a:lnTo>
                      <a:pt x="235292" y="115709"/>
                    </a:lnTo>
                    <a:lnTo>
                      <a:pt x="245554" y="102006"/>
                    </a:lnTo>
                    <a:close/>
                  </a:path>
                  <a:path w="4680585" h="7740015">
                    <a:moveTo>
                      <a:pt x="248437" y="7352728"/>
                    </a:moveTo>
                    <a:lnTo>
                      <a:pt x="237553" y="7346162"/>
                    </a:lnTo>
                    <a:lnTo>
                      <a:pt x="200367" y="7407821"/>
                    </a:lnTo>
                    <a:lnTo>
                      <a:pt x="211239" y="7414374"/>
                    </a:lnTo>
                    <a:lnTo>
                      <a:pt x="248437" y="7352728"/>
                    </a:lnTo>
                    <a:close/>
                  </a:path>
                  <a:path w="4680585" h="7740015">
                    <a:moveTo>
                      <a:pt x="287375" y="7572832"/>
                    </a:moveTo>
                    <a:lnTo>
                      <a:pt x="274129" y="7561999"/>
                    </a:lnTo>
                    <a:lnTo>
                      <a:pt x="261708" y="7550277"/>
                    </a:lnTo>
                    <a:lnTo>
                      <a:pt x="250151" y="7537704"/>
                    </a:lnTo>
                    <a:lnTo>
                      <a:pt x="239496" y="7524318"/>
                    </a:lnTo>
                    <a:lnTo>
                      <a:pt x="229285" y="7531875"/>
                    </a:lnTo>
                    <a:lnTo>
                      <a:pt x="247942" y="7554265"/>
                    </a:lnTo>
                    <a:lnTo>
                      <a:pt x="251891" y="7558405"/>
                    </a:lnTo>
                    <a:lnTo>
                      <a:pt x="258495" y="7564907"/>
                    </a:lnTo>
                    <a:lnTo>
                      <a:pt x="265341" y="7571181"/>
                    </a:lnTo>
                    <a:lnTo>
                      <a:pt x="272402" y="7577188"/>
                    </a:lnTo>
                    <a:lnTo>
                      <a:pt x="279692" y="7582941"/>
                    </a:lnTo>
                    <a:lnTo>
                      <a:pt x="287375" y="7572832"/>
                    </a:lnTo>
                    <a:close/>
                  </a:path>
                  <a:path w="4680585" h="7740015">
                    <a:moveTo>
                      <a:pt x="321373" y="2330704"/>
                    </a:moveTo>
                    <a:lnTo>
                      <a:pt x="317500" y="2318601"/>
                    </a:lnTo>
                    <a:lnTo>
                      <a:pt x="315214" y="2319337"/>
                    </a:lnTo>
                    <a:lnTo>
                      <a:pt x="302818" y="2323033"/>
                    </a:lnTo>
                    <a:lnTo>
                      <a:pt x="289229" y="2326652"/>
                    </a:lnTo>
                    <a:lnTo>
                      <a:pt x="275463" y="2329853"/>
                    </a:lnTo>
                    <a:lnTo>
                      <a:pt x="261543" y="2332621"/>
                    </a:lnTo>
                    <a:lnTo>
                      <a:pt x="247472" y="2334971"/>
                    </a:lnTo>
                    <a:lnTo>
                      <a:pt x="249351" y="2347531"/>
                    </a:lnTo>
                    <a:lnTo>
                      <a:pt x="267589" y="2344407"/>
                    </a:lnTo>
                    <a:lnTo>
                      <a:pt x="285724" y="2340559"/>
                    </a:lnTo>
                    <a:lnTo>
                      <a:pt x="303669" y="2335987"/>
                    </a:lnTo>
                    <a:lnTo>
                      <a:pt x="321373" y="2330704"/>
                    </a:lnTo>
                    <a:close/>
                  </a:path>
                  <a:path w="4680585" h="7740015">
                    <a:moveTo>
                      <a:pt x="322808" y="7229424"/>
                    </a:moveTo>
                    <a:lnTo>
                      <a:pt x="311937" y="7222858"/>
                    </a:lnTo>
                    <a:lnTo>
                      <a:pt x="274739" y="7284517"/>
                    </a:lnTo>
                    <a:lnTo>
                      <a:pt x="285623" y="7291070"/>
                    </a:lnTo>
                    <a:lnTo>
                      <a:pt x="322808" y="7229424"/>
                    </a:lnTo>
                    <a:close/>
                  </a:path>
                  <a:path w="4680585" h="7740015">
                    <a:moveTo>
                      <a:pt x="356273" y="24930"/>
                    </a:moveTo>
                    <a:lnTo>
                      <a:pt x="352259" y="12877"/>
                    </a:lnTo>
                    <a:lnTo>
                      <a:pt x="347548" y="14503"/>
                    </a:lnTo>
                    <a:lnTo>
                      <a:pt x="331851" y="20688"/>
                    </a:lnTo>
                    <a:lnTo>
                      <a:pt x="316687" y="27876"/>
                    </a:lnTo>
                    <a:lnTo>
                      <a:pt x="302107" y="36017"/>
                    </a:lnTo>
                    <a:lnTo>
                      <a:pt x="288137" y="45085"/>
                    </a:lnTo>
                    <a:lnTo>
                      <a:pt x="295389" y="55511"/>
                    </a:lnTo>
                    <a:lnTo>
                      <a:pt x="309791" y="46228"/>
                    </a:lnTo>
                    <a:lnTo>
                      <a:pt x="324764" y="38023"/>
                    </a:lnTo>
                    <a:lnTo>
                      <a:pt x="340271" y="30911"/>
                    </a:lnTo>
                    <a:lnTo>
                      <a:pt x="356273" y="24930"/>
                    </a:lnTo>
                    <a:close/>
                  </a:path>
                  <a:path w="4680585" h="7740015">
                    <a:moveTo>
                      <a:pt x="359994" y="7727302"/>
                    </a:moveTo>
                    <a:lnTo>
                      <a:pt x="287997" y="7727302"/>
                    </a:lnTo>
                    <a:lnTo>
                      <a:pt x="287997" y="7740002"/>
                    </a:lnTo>
                    <a:lnTo>
                      <a:pt x="359994" y="7740002"/>
                    </a:lnTo>
                    <a:lnTo>
                      <a:pt x="359994" y="7727302"/>
                    </a:lnTo>
                    <a:close/>
                  </a:path>
                  <a:path w="4680585" h="7740015">
                    <a:moveTo>
                      <a:pt x="373583" y="1469605"/>
                    </a:moveTo>
                    <a:lnTo>
                      <a:pt x="356628" y="1462201"/>
                    </a:lnTo>
                    <a:lnTo>
                      <a:pt x="339356" y="1455470"/>
                    </a:lnTo>
                    <a:lnTo>
                      <a:pt x="321843" y="1449438"/>
                    </a:lnTo>
                    <a:lnTo>
                      <a:pt x="304139" y="1444129"/>
                    </a:lnTo>
                    <a:lnTo>
                      <a:pt x="300736" y="1456372"/>
                    </a:lnTo>
                    <a:lnTo>
                      <a:pt x="301548" y="1456601"/>
                    </a:lnTo>
                    <a:lnTo>
                      <a:pt x="318706" y="1461757"/>
                    </a:lnTo>
                    <a:lnTo>
                      <a:pt x="335534" y="1467586"/>
                    </a:lnTo>
                    <a:lnTo>
                      <a:pt x="352056" y="1474050"/>
                    </a:lnTo>
                    <a:lnTo>
                      <a:pt x="368261" y="1481137"/>
                    </a:lnTo>
                    <a:lnTo>
                      <a:pt x="373583" y="1469605"/>
                    </a:lnTo>
                    <a:close/>
                  </a:path>
                  <a:path w="4680585" h="7740015">
                    <a:moveTo>
                      <a:pt x="397179" y="7106120"/>
                    </a:moveTo>
                    <a:lnTo>
                      <a:pt x="386308" y="7099554"/>
                    </a:lnTo>
                    <a:lnTo>
                      <a:pt x="349123" y="7161212"/>
                    </a:lnTo>
                    <a:lnTo>
                      <a:pt x="359994" y="7167766"/>
                    </a:lnTo>
                    <a:lnTo>
                      <a:pt x="397179" y="7106120"/>
                    </a:lnTo>
                    <a:close/>
                  </a:path>
                  <a:path w="4680585" h="7740015">
                    <a:moveTo>
                      <a:pt x="413423" y="7620775"/>
                    </a:moveTo>
                    <a:lnTo>
                      <a:pt x="396405" y="7618844"/>
                    </a:lnTo>
                    <a:lnTo>
                      <a:pt x="379603" y="7615720"/>
                    </a:lnTo>
                    <a:lnTo>
                      <a:pt x="363093" y="7611402"/>
                    </a:lnTo>
                    <a:lnTo>
                      <a:pt x="346938" y="7605916"/>
                    </a:lnTo>
                    <a:lnTo>
                      <a:pt x="342430" y="7617777"/>
                    </a:lnTo>
                    <a:lnTo>
                      <a:pt x="359219" y="7623492"/>
                    </a:lnTo>
                    <a:lnTo>
                      <a:pt x="376516" y="7628039"/>
                    </a:lnTo>
                    <a:lnTo>
                      <a:pt x="394271" y="7631366"/>
                    </a:lnTo>
                    <a:lnTo>
                      <a:pt x="412457" y="7633436"/>
                    </a:lnTo>
                    <a:lnTo>
                      <a:pt x="413423" y="7620775"/>
                    </a:lnTo>
                    <a:close/>
                  </a:path>
                  <a:path w="4680585" h="7740015">
                    <a:moveTo>
                      <a:pt x="452767" y="2263787"/>
                    </a:moveTo>
                    <a:lnTo>
                      <a:pt x="445274" y="2253538"/>
                    </a:lnTo>
                    <a:lnTo>
                      <a:pt x="441960" y="2255951"/>
                    </a:lnTo>
                    <a:lnTo>
                      <a:pt x="434555" y="2261133"/>
                    </a:lnTo>
                    <a:lnTo>
                      <a:pt x="390525" y="2287828"/>
                    </a:lnTo>
                    <a:lnTo>
                      <a:pt x="384009" y="2291207"/>
                    </a:lnTo>
                    <a:lnTo>
                      <a:pt x="389775" y="2302522"/>
                    </a:lnTo>
                    <a:lnTo>
                      <a:pt x="406069" y="2293810"/>
                    </a:lnTo>
                    <a:lnTo>
                      <a:pt x="422033" y="2284425"/>
                    </a:lnTo>
                    <a:lnTo>
                      <a:pt x="437616" y="2274405"/>
                    </a:lnTo>
                    <a:lnTo>
                      <a:pt x="452767" y="2263787"/>
                    </a:lnTo>
                    <a:close/>
                  </a:path>
                  <a:path w="4680585" h="7740015">
                    <a:moveTo>
                      <a:pt x="494880" y="0"/>
                    </a:moveTo>
                    <a:lnTo>
                      <a:pt x="427050" y="50"/>
                    </a:lnTo>
                    <a:lnTo>
                      <a:pt x="422871" y="152"/>
                    </a:lnTo>
                    <a:lnTo>
                      <a:pt x="423329" y="12852"/>
                    </a:lnTo>
                    <a:lnTo>
                      <a:pt x="426212" y="12750"/>
                    </a:lnTo>
                    <a:lnTo>
                      <a:pt x="429107" y="12700"/>
                    </a:lnTo>
                    <a:lnTo>
                      <a:pt x="494880" y="12700"/>
                    </a:lnTo>
                    <a:lnTo>
                      <a:pt x="494880" y="0"/>
                    </a:lnTo>
                    <a:close/>
                  </a:path>
                  <a:path w="4680585" h="7740015">
                    <a:moveTo>
                      <a:pt x="495909" y="1551901"/>
                    </a:moveTo>
                    <a:lnTo>
                      <a:pt x="482142" y="1539532"/>
                    </a:lnTo>
                    <a:lnTo>
                      <a:pt x="467880" y="1527721"/>
                    </a:lnTo>
                    <a:lnTo>
                      <a:pt x="453161" y="1516481"/>
                    </a:lnTo>
                    <a:lnTo>
                      <a:pt x="438035" y="1505864"/>
                    </a:lnTo>
                    <a:lnTo>
                      <a:pt x="430949" y="1516392"/>
                    </a:lnTo>
                    <a:lnTo>
                      <a:pt x="441833" y="1523949"/>
                    </a:lnTo>
                    <a:lnTo>
                      <a:pt x="452475" y="1531810"/>
                    </a:lnTo>
                    <a:lnTo>
                      <a:pt x="462864" y="1539963"/>
                    </a:lnTo>
                    <a:lnTo>
                      <a:pt x="474421" y="1549641"/>
                    </a:lnTo>
                    <a:lnTo>
                      <a:pt x="487235" y="1561172"/>
                    </a:lnTo>
                    <a:lnTo>
                      <a:pt x="495909" y="1551901"/>
                    </a:lnTo>
                    <a:close/>
                  </a:path>
                  <a:path w="4680585" h="7740015">
                    <a:moveTo>
                      <a:pt x="503110" y="7036905"/>
                    </a:moveTo>
                    <a:lnTo>
                      <a:pt x="502132" y="7024243"/>
                    </a:lnTo>
                    <a:lnTo>
                      <a:pt x="496455" y="7024802"/>
                    </a:lnTo>
                    <a:lnTo>
                      <a:pt x="484682" y="7026681"/>
                    </a:lnTo>
                    <a:lnTo>
                      <a:pt x="473202" y="7029513"/>
                    </a:lnTo>
                    <a:lnTo>
                      <a:pt x="462026" y="7033260"/>
                    </a:lnTo>
                    <a:lnTo>
                      <a:pt x="450723" y="7038111"/>
                    </a:lnTo>
                    <a:lnTo>
                      <a:pt x="448729" y="7039115"/>
                    </a:lnTo>
                    <a:lnTo>
                      <a:pt x="443128" y="7042074"/>
                    </a:lnTo>
                    <a:lnTo>
                      <a:pt x="440258" y="7043674"/>
                    </a:lnTo>
                    <a:lnTo>
                      <a:pt x="437426" y="7045376"/>
                    </a:lnTo>
                    <a:lnTo>
                      <a:pt x="434670" y="7047179"/>
                    </a:lnTo>
                    <a:lnTo>
                      <a:pt x="441604" y="7057822"/>
                    </a:lnTo>
                    <a:lnTo>
                      <a:pt x="455904" y="7049732"/>
                    </a:lnTo>
                    <a:lnTo>
                      <a:pt x="471055" y="7043509"/>
                    </a:lnTo>
                    <a:lnTo>
                      <a:pt x="486867" y="7039203"/>
                    </a:lnTo>
                    <a:lnTo>
                      <a:pt x="503110" y="7036905"/>
                    </a:lnTo>
                    <a:close/>
                  </a:path>
                  <a:path w="4680585" h="7740015">
                    <a:moveTo>
                      <a:pt x="503999" y="7727302"/>
                    </a:moveTo>
                    <a:lnTo>
                      <a:pt x="432003" y="7727302"/>
                    </a:lnTo>
                    <a:lnTo>
                      <a:pt x="432003" y="7740002"/>
                    </a:lnTo>
                    <a:lnTo>
                      <a:pt x="503999" y="7740002"/>
                    </a:lnTo>
                    <a:lnTo>
                      <a:pt x="503999" y="7727302"/>
                    </a:lnTo>
                    <a:close/>
                  </a:path>
                  <a:path w="4680585" h="7740015">
                    <a:moveTo>
                      <a:pt x="556501" y="2159038"/>
                    </a:moveTo>
                    <a:lnTo>
                      <a:pt x="546176" y="2151646"/>
                    </a:lnTo>
                    <a:lnTo>
                      <a:pt x="539965" y="2160117"/>
                    </a:lnTo>
                    <a:lnTo>
                      <a:pt x="533971" y="2167902"/>
                    </a:lnTo>
                    <a:lnTo>
                      <a:pt x="527824" y="2175548"/>
                    </a:lnTo>
                    <a:lnTo>
                      <a:pt x="521500" y="2183066"/>
                    </a:lnTo>
                    <a:lnTo>
                      <a:pt x="512864" y="2192858"/>
                    </a:lnTo>
                    <a:lnTo>
                      <a:pt x="509993" y="2195957"/>
                    </a:lnTo>
                    <a:lnTo>
                      <a:pt x="508381" y="2197684"/>
                    </a:lnTo>
                    <a:lnTo>
                      <a:pt x="499783" y="2206612"/>
                    </a:lnTo>
                    <a:lnTo>
                      <a:pt x="508812" y="2215553"/>
                    </a:lnTo>
                    <a:lnTo>
                      <a:pt x="521563" y="2202154"/>
                    </a:lnTo>
                    <a:lnTo>
                      <a:pt x="533781" y="2188235"/>
                    </a:lnTo>
                    <a:lnTo>
                      <a:pt x="545452" y="2173846"/>
                    </a:lnTo>
                    <a:lnTo>
                      <a:pt x="556501" y="2159038"/>
                    </a:lnTo>
                    <a:close/>
                  </a:path>
                  <a:path w="4680585" h="7740015">
                    <a:moveTo>
                      <a:pt x="556539" y="7622565"/>
                    </a:moveTo>
                    <a:lnTo>
                      <a:pt x="484543" y="7621956"/>
                    </a:lnTo>
                    <a:lnTo>
                      <a:pt x="484441" y="7634656"/>
                    </a:lnTo>
                    <a:lnTo>
                      <a:pt x="556437" y="7635265"/>
                    </a:lnTo>
                    <a:lnTo>
                      <a:pt x="556539" y="7622565"/>
                    </a:lnTo>
                    <a:close/>
                  </a:path>
                  <a:path w="4680585" h="7740015">
                    <a:moveTo>
                      <a:pt x="586282" y="1668360"/>
                    </a:moveTo>
                    <a:lnTo>
                      <a:pt x="577100" y="1652333"/>
                    </a:lnTo>
                    <a:lnTo>
                      <a:pt x="567258" y="1636649"/>
                    </a:lnTo>
                    <a:lnTo>
                      <a:pt x="556793" y="1621370"/>
                    </a:lnTo>
                    <a:lnTo>
                      <a:pt x="545744" y="1606524"/>
                    </a:lnTo>
                    <a:lnTo>
                      <a:pt x="535711" y="1614309"/>
                    </a:lnTo>
                    <a:lnTo>
                      <a:pt x="543179" y="1624203"/>
                    </a:lnTo>
                    <a:lnTo>
                      <a:pt x="550379" y="1634312"/>
                    </a:lnTo>
                    <a:lnTo>
                      <a:pt x="572897" y="1670342"/>
                    </a:lnTo>
                    <a:lnTo>
                      <a:pt x="575144" y="1674456"/>
                    </a:lnTo>
                    <a:lnTo>
                      <a:pt x="586282" y="1668360"/>
                    </a:lnTo>
                    <a:close/>
                  </a:path>
                  <a:path w="4680585" h="7740015">
                    <a:moveTo>
                      <a:pt x="622096" y="2026996"/>
                    </a:moveTo>
                    <a:lnTo>
                      <a:pt x="609968" y="2023237"/>
                    </a:lnTo>
                    <a:lnTo>
                      <a:pt x="605231" y="2037676"/>
                    </a:lnTo>
                    <a:lnTo>
                      <a:pt x="600024" y="2051888"/>
                    </a:lnTo>
                    <a:lnTo>
                      <a:pt x="594360" y="2065883"/>
                    </a:lnTo>
                    <a:lnTo>
                      <a:pt x="586651" y="2082990"/>
                    </a:lnTo>
                    <a:lnTo>
                      <a:pt x="584390" y="2087689"/>
                    </a:lnTo>
                    <a:lnTo>
                      <a:pt x="583247" y="2090013"/>
                    </a:lnTo>
                    <a:lnTo>
                      <a:pt x="594614" y="2095665"/>
                    </a:lnTo>
                    <a:lnTo>
                      <a:pt x="602513" y="2078926"/>
                    </a:lnTo>
                    <a:lnTo>
                      <a:pt x="609739" y="2061870"/>
                    </a:lnTo>
                    <a:lnTo>
                      <a:pt x="616280" y="2044534"/>
                    </a:lnTo>
                    <a:lnTo>
                      <a:pt x="622096" y="2026996"/>
                    </a:lnTo>
                    <a:close/>
                  </a:path>
                  <a:path w="4680585" h="7740015">
                    <a:moveTo>
                      <a:pt x="635368" y="1807413"/>
                    </a:moveTo>
                    <a:lnTo>
                      <a:pt x="631723" y="1789277"/>
                    </a:lnTo>
                    <a:lnTo>
                      <a:pt x="627341" y="1771269"/>
                    </a:lnTo>
                    <a:lnTo>
                      <a:pt x="622249" y="1753450"/>
                    </a:lnTo>
                    <a:lnTo>
                      <a:pt x="616445" y="1735912"/>
                    </a:lnTo>
                    <a:lnTo>
                      <a:pt x="604469" y="1740141"/>
                    </a:lnTo>
                    <a:lnTo>
                      <a:pt x="608647" y="1752561"/>
                    </a:lnTo>
                    <a:lnTo>
                      <a:pt x="612482" y="1765134"/>
                    </a:lnTo>
                    <a:lnTo>
                      <a:pt x="615937" y="1777873"/>
                    </a:lnTo>
                    <a:lnTo>
                      <a:pt x="620026" y="1795183"/>
                    </a:lnTo>
                    <a:lnTo>
                      <a:pt x="620560" y="1797710"/>
                    </a:lnTo>
                    <a:lnTo>
                      <a:pt x="621385" y="1801698"/>
                    </a:lnTo>
                    <a:lnTo>
                      <a:pt x="622147" y="1805673"/>
                    </a:lnTo>
                    <a:lnTo>
                      <a:pt x="622871" y="1809661"/>
                    </a:lnTo>
                    <a:lnTo>
                      <a:pt x="635368" y="1807413"/>
                    </a:lnTo>
                    <a:close/>
                  </a:path>
                  <a:path w="4680585" h="7740015">
                    <a:moveTo>
                      <a:pt x="638873" y="0"/>
                    </a:moveTo>
                    <a:lnTo>
                      <a:pt x="566877" y="0"/>
                    </a:lnTo>
                    <a:lnTo>
                      <a:pt x="566877" y="12700"/>
                    </a:lnTo>
                    <a:lnTo>
                      <a:pt x="638873" y="12700"/>
                    </a:lnTo>
                    <a:lnTo>
                      <a:pt x="638873" y="0"/>
                    </a:lnTo>
                    <a:close/>
                  </a:path>
                  <a:path w="4680585" h="7740015">
                    <a:moveTo>
                      <a:pt x="642721" y="1890001"/>
                    </a:moveTo>
                    <a:lnTo>
                      <a:pt x="642632" y="1880997"/>
                    </a:lnTo>
                    <a:lnTo>
                      <a:pt x="629945" y="1881238"/>
                    </a:lnTo>
                    <a:lnTo>
                      <a:pt x="629983" y="1890001"/>
                    </a:lnTo>
                    <a:lnTo>
                      <a:pt x="629818" y="1903653"/>
                    </a:lnTo>
                    <a:lnTo>
                      <a:pt x="629259" y="1916391"/>
                    </a:lnTo>
                    <a:lnTo>
                      <a:pt x="628383" y="1928698"/>
                    </a:lnTo>
                    <a:lnTo>
                      <a:pt x="627176" y="1940915"/>
                    </a:lnTo>
                    <a:lnTo>
                      <a:pt x="625640" y="1953044"/>
                    </a:lnTo>
                    <a:lnTo>
                      <a:pt x="638225" y="1954809"/>
                    </a:lnTo>
                    <a:lnTo>
                      <a:pt x="640181" y="1938731"/>
                    </a:lnTo>
                    <a:lnTo>
                      <a:pt x="641591" y="1922538"/>
                    </a:lnTo>
                    <a:lnTo>
                      <a:pt x="642442" y="1906270"/>
                    </a:lnTo>
                    <a:lnTo>
                      <a:pt x="642721" y="1890001"/>
                    </a:lnTo>
                    <a:close/>
                  </a:path>
                  <a:path w="4680585" h="7740015">
                    <a:moveTo>
                      <a:pt x="646112" y="7023798"/>
                    </a:moveTo>
                    <a:lnTo>
                      <a:pt x="574116" y="7023798"/>
                    </a:lnTo>
                    <a:lnTo>
                      <a:pt x="574116" y="7036498"/>
                    </a:lnTo>
                    <a:lnTo>
                      <a:pt x="646112" y="7036498"/>
                    </a:lnTo>
                    <a:lnTo>
                      <a:pt x="646112" y="7023798"/>
                    </a:lnTo>
                    <a:close/>
                  </a:path>
                  <a:path w="4680585" h="7740015">
                    <a:moveTo>
                      <a:pt x="647992" y="7727302"/>
                    </a:moveTo>
                    <a:lnTo>
                      <a:pt x="575995" y="7727302"/>
                    </a:lnTo>
                    <a:lnTo>
                      <a:pt x="575995" y="7740002"/>
                    </a:lnTo>
                    <a:lnTo>
                      <a:pt x="647992" y="7740002"/>
                    </a:lnTo>
                    <a:lnTo>
                      <a:pt x="647992" y="7727302"/>
                    </a:lnTo>
                    <a:close/>
                  </a:path>
                  <a:path w="4680585" h="7740015">
                    <a:moveTo>
                      <a:pt x="700532" y="7623823"/>
                    </a:moveTo>
                    <a:lnTo>
                      <a:pt x="628535" y="7623200"/>
                    </a:lnTo>
                    <a:lnTo>
                      <a:pt x="628434" y="7635900"/>
                    </a:lnTo>
                    <a:lnTo>
                      <a:pt x="700430" y="7636523"/>
                    </a:lnTo>
                    <a:lnTo>
                      <a:pt x="700532" y="7623823"/>
                    </a:lnTo>
                    <a:close/>
                  </a:path>
                  <a:path w="4680585" h="7740015">
                    <a:moveTo>
                      <a:pt x="782866" y="0"/>
                    </a:moveTo>
                    <a:lnTo>
                      <a:pt x="710869" y="0"/>
                    </a:lnTo>
                    <a:lnTo>
                      <a:pt x="710869" y="12700"/>
                    </a:lnTo>
                    <a:lnTo>
                      <a:pt x="782866" y="12700"/>
                    </a:lnTo>
                    <a:lnTo>
                      <a:pt x="782866" y="0"/>
                    </a:lnTo>
                    <a:close/>
                  </a:path>
                  <a:path w="4680585" h="7740015">
                    <a:moveTo>
                      <a:pt x="790117" y="7023798"/>
                    </a:moveTo>
                    <a:lnTo>
                      <a:pt x="718121" y="7023798"/>
                    </a:lnTo>
                    <a:lnTo>
                      <a:pt x="718121" y="7036498"/>
                    </a:lnTo>
                    <a:lnTo>
                      <a:pt x="790117" y="7036498"/>
                    </a:lnTo>
                    <a:lnTo>
                      <a:pt x="790117" y="7023798"/>
                    </a:lnTo>
                    <a:close/>
                  </a:path>
                  <a:path w="4680585" h="7740015">
                    <a:moveTo>
                      <a:pt x="791997" y="7727302"/>
                    </a:moveTo>
                    <a:lnTo>
                      <a:pt x="720001" y="7727302"/>
                    </a:lnTo>
                    <a:lnTo>
                      <a:pt x="720001" y="7740002"/>
                    </a:lnTo>
                    <a:lnTo>
                      <a:pt x="791997" y="7740002"/>
                    </a:lnTo>
                    <a:lnTo>
                      <a:pt x="791997" y="7727302"/>
                    </a:lnTo>
                    <a:close/>
                  </a:path>
                  <a:path w="4680585" h="7740015">
                    <a:moveTo>
                      <a:pt x="844537" y="7625080"/>
                    </a:moveTo>
                    <a:lnTo>
                      <a:pt x="772528" y="7624445"/>
                    </a:lnTo>
                    <a:lnTo>
                      <a:pt x="772426" y="7637145"/>
                    </a:lnTo>
                    <a:lnTo>
                      <a:pt x="844423" y="7637780"/>
                    </a:lnTo>
                    <a:lnTo>
                      <a:pt x="844537" y="7625080"/>
                    </a:lnTo>
                    <a:close/>
                  </a:path>
                  <a:path w="4680585" h="7740015">
                    <a:moveTo>
                      <a:pt x="926871" y="0"/>
                    </a:moveTo>
                    <a:lnTo>
                      <a:pt x="854875" y="0"/>
                    </a:lnTo>
                    <a:lnTo>
                      <a:pt x="854875" y="12700"/>
                    </a:lnTo>
                    <a:lnTo>
                      <a:pt x="926871" y="12700"/>
                    </a:lnTo>
                    <a:lnTo>
                      <a:pt x="926871" y="0"/>
                    </a:lnTo>
                    <a:close/>
                  </a:path>
                  <a:path w="4680585" h="7740015">
                    <a:moveTo>
                      <a:pt x="934110" y="7023798"/>
                    </a:moveTo>
                    <a:lnTo>
                      <a:pt x="862114" y="7023798"/>
                    </a:lnTo>
                    <a:lnTo>
                      <a:pt x="862114" y="7036498"/>
                    </a:lnTo>
                    <a:lnTo>
                      <a:pt x="934110" y="7036498"/>
                    </a:lnTo>
                    <a:lnTo>
                      <a:pt x="934110" y="7023798"/>
                    </a:lnTo>
                    <a:close/>
                  </a:path>
                  <a:path w="4680585" h="7740015">
                    <a:moveTo>
                      <a:pt x="936002" y="7727302"/>
                    </a:moveTo>
                    <a:lnTo>
                      <a:pt x="864006" y="7727302"/>
                    </a:lnTo>
                    <a:lnTo>
                      <a:pt x="864006" y="7740002"/>
                    </a:lnTo>
                    <a:lnTo>
                      <a:pt x="936002" y="7740002"/>
                    </a:lnTo>
                    <a:lnTo>
                      <a:pt x="936002" y="7727302"/>
                    </a:lnTo>
                    <a:close/>
                  </a:path>
                  <a:path w="4680585" h="7740015">
                    <a:moveTo>
                      <a:pt x="988529" y="7626324"/>
                    </a:moveTo>
                    <a:lnTo>
                      <a:pt x="916533" y="7625689"/>
                    </a:lnTo>
                    <a:lnTo>
                      <a:pt x="916419" y="7638389"/>
                    </a:lnTo>
                    <a:lnTo>
                      <a:pt x="988415" y="7639024"/>
                    </a:lnTo>
                    <a:lnTo>
                      <a:pt x="988529" y="7626324"/>
                    </a:lnTo>
                    <a:close/>
                  </a:path>
                  <a:path w="4680585" h="7740015">
                    <a:moveTo>
                      <a:pt x="1070876" y="0"/>
                    </a:moveTo>
                    <a:lnTo>
                      <a:pt x="998880" y="0"/>
                    </a:lnTo>
                    <a:lnTo>
                      <a:pt x="998880" y="12700"/>
                    </a:lnTo>
                    <a:lnTo>
                      <a:pt x="1070876" y="12700"/>
                    </a:lnTo>
                    <a:lnTo>
                      <a:pt x="1070876" y="0"/>
                    </a:lnTo>
                    <a:close/>
                  </a:path>
                  <a:path w="4680585" h="7740015">
                    <a:moveTo>
                      <a:pt x="1078115" y="7023798"/>
                    </a:moveTo>
                    <a:lnTo>
                      <a:pt x="1006119" y="7023798"/>
                    </a:lnTo>
                    <a:lnTo>
                      <a:pt x="1006119" y="7036498"/>
                    </a:lnTo>
                    <a:lnTo>
                      <a:pt x="1078115" y="7036498"/>
                    </a:lnTo>
                    <a:lnTo>
                      <a:pt x="1078115" y="7023798"/>
                    </a:lnTo>
                    <a:close/>
                  </a:path>
                  <a:path w="4680585" h="7740015">
                    <a:moveTo>
                      <a:pt x="1079995" y="7727302"/>
                    </a:moveTo>
                    <a:lnTo>
                      <a:pt x="1007999" y="7727302"/>
                    </a:lnTo>
                    <a:lnTo>
                      <a:pt x="1007999" y="7740002"/>
                    </a:lnTo>
                    <a:lnTo>
                      <a:pt x="1079995" y="7740002"/>
                    </a:lnTo>
                    <a:lnTo>
                      <a:pt x="1079995" y="7727302"/>
                    </a:lnTo>
                    <a:close/>
                  </a:path>
                  <a:path w="4680585" h="7740015">
                    <a:moveTo>
                      <a:pt x="1132522" y="7627582"/>
                    </a:moveTo>
                    <a:lnTo>
                      <a:pt x="1060526" y="7626947"/>
                    </a:lnTo>
                    <a:lnTo>
                      <a:pt x="1060411" y="7639647"/>
                    </a:lnTo>
                    <a:lnTo>
                      <a:pt x="1132408" y="7640282"/>
                    </a:lnTo>
                    <a:lnTo>
                      <a:pt x="1132522" y="7627582"/>
                    </a:lnTo>
                    <a:close/>
                  </a:path>
                  <a:path w="4680585" h="7740015">
                    <a:moveTo>
                      <a:pt x="1214869" y="0"/>
                    </a:moveTo>
                    <a:lnTo>
                      <a:pt x="1142873" y="0"/>
                    </a:lnTo>
                    <a:lnTo>
                      <a:pt x="1142873" y="12700"/>
                    </a:lnTo>
                    <a:lnTo>
                      <a:pt x="1214869" y="12700"/>
                    </a:lnTo>
                    <a:lnTo>
                      <a:pt x="1214869" y="0"/>
                    </a:lnTo>
                    <a:close/>
                  </a:path>
                  <a:path w="4680585" h="7740015">
                    <a:moveTo>
                      <a:pt x="1222121" y="7023798"/>
                    </a:moveTo>
                    <a:lnTo>
                      <a:pt x="1150124" y="7023798"/>
                    </a:lnTo>
                    <a:lnTo>
                      <a:pt x="1150124" y="7036498"/>
                    </a:lnTo>
                    <a:lnTo>
                      <a:pt x="1222121" y="7036498"/>
                    </a:lnTo>
                    <a:lnTo>
                      <a:pt x="1222121" y="7023798"/>
                    </a:lnTo>
                    <a:close/>
                  </a:path>
                  <a:path w="4680585" h="7740015">
                    <a:moveTo>
                      <a:pt x="1224000" y="7727302"/>
                    </a:moveTo>
                    <a:lnTo>
                      <a:pt x="1152004" y="7727302"/>
                    </a:lnTo>
                    <a:lnTo>
                      <a:pt x="1152004" y="7740002"/>
                    </a:lnTo>
                    <a:lnTo>
                      <a:pt x="1224000" y="7740002"/>
                    </a:lnTo>
                    <a:lnTo>
                      <a:pt x="1224000" y="7727302"/>
                    </a:lnTo>
                    <a:close/>
                  </a:path>
                  <a:path w="4680585" h="7740015">
                    <a:moveTo>
                      <a:pt x="1276515" y="7628839"/>
                    </a:moveTo>
                    <a:lnTo>
                      <a:pt x="1204518" y="7628204"/>
                    </a:lnTo>
                    <a:lnTo>
                      <a:pt x="1204404" y="7640904"/>
                    </a:lnTo>
                    <a:lnTo>
                      <a:pt x="1276413" y="7641539"/>
                    </a:lnTo>
                    <a:lnTo>
                      <a:pt x="1276515" y="7628839"/>
                    </a:lnTo>
                    <a:close/>
                  </a:path>
                  <a:path w="4680585" h="7740015">
                    <a:moveTo>
                      <a:pt x="1358874" y="0"/>
                    </a:moveTo>
                    <a:lnTo>
                      <a:pt x="1286878" y="0"/>
                    </a:lnTo>
                    <a:lnTo>
                      <a:pt x="1286878" y="12700"/>
                    </a:lnTo>
                    <a:lnTo>
                      <a:pt x="1358874" y="12700"/>
                    </a:lnTo>
                    <a:lnTo>
                      <a:pt x="1358874" y="0"/>
                    </a:lnTo>
                    <a:close/>
                  </a:path>
                  <a:path w="4680585" h="7740015">
                    <a:moveTo>
                      <a:pt x="1366113" y="7023798"/>
                    </a:moveTo>
                    <a:lnTo>
                      <a:pt x="1294117" y="7023798"/>
                    </a:lnTo>
                    <a:lnTo>
                      <a:pt x="1294117" y="7036498"/>
                    </a:lnTo>
                    <a:lnTo>
                      <a:pt x="1366113" y="7036498"/>
                    </a:lnTo>
                    <a:lnTo>
                      <a:pt x="1366113" y="7023798"/>
                    </a:lnTo>
                    <a:close/>
                  </a:path>
                  <a:path w="4680585" h="7740015">
                    <a:moveTo>
                      <a:pt x="1367993" y="7727302"/>
                    </a:moveTo>
                    <a:lnTo>
                      <a:pt x="1295996" y="7727302"/>
                    </a:lnTo>
                    <a:lnTo>
                      <a:pt x="1295996" y="7740002"/>
                    </a:lnTo>
                    <a:lnTo>
                      <a:pt x="1367993" y="7740002"/>
                    </a:lnTo>
                    <a:lnTo>
                      <a:pt x="1367993" y="7727302"/>
                    </a:lnTo>
                    <a:close/>
                  </a:path>
                  <a:path w="4680585" h="7740015">
                    <a:moveTo>
                      <a:pt x="1420507" y="7630084"/>
                    </a:moveTo>
                    <a:lnTo>
                      <a:pt x="1348511" y="7629449"/>
                    </a:lnTo>
                    <a:lnTo>
                      <a:pt x="1348409" y="7642149"/>
                    </a:lnTo>
                    <a:lnTo>
                      <a:pt x="1420393" y="7642784"/>
                    </a:lnTo>
                    <a:lnTo>
                      <a:pt x="1420507" y="7630084"/>
                    </a:lnTo>
                    <a:close/>
                  </a:path>
                  <a:path w="4680585" h="7740015">
                    <a:moveTo>
                      <a:pt x="1502867" y="0"/>
                    </a:moveTo>
                    <a:lnTo>
                      <a:pt x="1430870" y="0"/>
                    </a:lnTo>
                    <a:lnTo>
                      <a:pt x="1430870" y="12700"/>
                    </a:lnTo>
                    <a:lnTo>
                      <a:pt x="1502867" y="12700"/>
                    </a:lnTo>
                    <a:lnTo>
                      <a:pt x="1502867" y="0"/>
                    </a:lnTo>
                    <a:close/>
                  </a:path>
                  <a:path w="4680585" h="7740015">
                    <a:moveTo>
                      <a:pt x="1510118" y="7023798"/>
                    </a:moveTo>
                    <a:lnTo>
                      <a:pt x="1438122" y="7023798"/>
                    </a:lnTo>
                    <a:lnTo>
                      <a:pt x="1438122" y="7036498"/>
                    </a:lnTo>
                    <a:lnTo>
                      <a:pt x="1510118" y="7036498"/>
                    </a:lnTo>
                    <a:lnTo>
                      <a:pt x="1510118" y="7023798"/>
                    </a:lnTo>
                    <a:close/>
                  </a:path>
                  <a:path w="4680585" h="7740015">
                    <a:moveTo>
                      <a:pt x="1511998" y="7727302"/>
                    </a:moveTo>
                    <a:lnTo>
                      <a:pt x="1440002" y="7727302"/>
                    </a:lnTo>
                    <a:lnTo>
                      <a:pt x="1440002" y="7740002"/>
                    </a:lnTo>
                    <a:lnTo>
                      <a:pt x="1511998" y="7740002"/>
                    </a:lnTo>
                    <a:lnTo>
                      <a:pt x="1511998" y="7727302"/>
                    </a:lnTo>
                    <a:close/>
                  </a:path>
                  <a:path w="4680585" h="7740015">
                    <a:moveTo>
                      <a:pt x="1564500" y="7631341"/>
                    </a:moveTo>
                    <a:lnTo>
                      <a:pt x="1492504" y="7630706"/>
                    </a:lnTo>
                    <a:lnTo>
                      <a:pt x="1492389" y="7643406"/>
                    </a:lnTo>
                    <a:lnTo>
                      <a:pt x="1564398" y="7644041"/>
                    </a:lnTo>
                    <a:lnTo>
                      <a:pt x="1564500" y="7631341"/>
                    </a:lnTo>
                    <a:close/>
                  </a:path>
                  <a:path w="4680585" h="7740015">
                    <a:moveTo>
                      <a:pt x="1646872" y="0"/>
                    </a:moveTo>
                    <a:lnTo>
                      <a:pt x="1574876" y="0"/>
                    </a:lnTo>
                    <a:lnTo>
                      <a:pt x="1574876" y="12700"/>
                    </a:lnTo>
                    <a:lnTo>
                      <a:pt x="1646872" y="12700"/>
                    </a:lnTo>
                    <a:lnTo>
                      <a:pt x="1646872" y="0"/>
                    </a:lnTo>
                    <a:close/>
                  </a:path>
                  <a:path w="4680585" h="7740015">
                    <a:moveTo>
                      <a:pt x="1654111" y="7023798"/>
                    </a:moveTo>
                    <a:lnTo>
                      <a:pt x="1582115" y="7023798"/>
                    </a:lnTo>
                    <a:lnTo>
                      <a:pt x="1582115" y="7036498"/>
                    </a:lnTo>
                    <a:lnTo>
                      <a:pt x="1654111" y="7036498"/>
                    </a:lnTo>
                    <a:lnTo>
                      <a:pt x="1654111" y="7023798"/>
                    </a:lnTo>
                    <a:close/>
                  </a:path>
                  <a:path w="4680585" h="7740015">
                    <a:moveTo>
                      <a:pt x="1656003" y="7727302"/>
                    </a:moveTo>
                    <a:lnTo>
                      <a:pt x="1584007" y="7727302"/>
                    </a:lnTo>
                    <a:lnTo>
                      <a:pt x="1584007" y="7740002"/>
                    </a:lnTo>
                    <a:lnTo>
                      <a:pt x="1656003" y="7740002"/>
                    </a:lnTo>
                    <a:lnTo>
                      <a:pt x="1656003" y="7727302"/>
                    </a:lnTo>
                    <a:close/>
                  </a:path>
                  <a:path w="4680585" h="7740015">
                    <a:moveTo>
                      <a:pt x="1708505" y="7632586"/>
                    </a:moveTo>
                    <a:lnTo>
                      <a:pt x="1636509" y="7631963"/>
                    </a:lnTo>
                    <a:lnTo>
                      <a:pt x="1636395" y="7644663"/>
                    </a:lnTo>
                    <a:lnTo>
                      <a:pt x="1708391" y="7645286"/>
                    </a:lnTo>
                    <a:lnTo>
                      <a:pt x="1708505" y="7632586"/>
                    </a:lnTo>
                    <a:close/>
                  </a:path>
                  <a:path w="4680585" h="7740015">
                    <a:moveTo>
                      <a:pt x="1790865" y="0"/>
                    </a:moveTo>
                    <a:lnTo>
                      <a:pt x="1718868" y="0"/>
                    </a:lnTo>
                    <a:lnTo>
                      <a:pt x="1718868" y="12700"/>
                    </a:lnTo>
                    <a:lnTo>
                      <a:pt x="1790865" y="12700"/>
                    </a:lnTo>
                    <a:lnTo>
                      <a:pt x="1790865" y="0"/>
                    </a:lnTo>
                    <a:close/>
                  </a:path>
                  <a:path w="4680585" h="7740015">
                    <a:moveTo>
                      <a:pt x="1798116" y="7023798"/>
                    </a:moveTo>
                    <a:lnTo>
                      <a:pt x="1726120" y="7023798"/>
                    </a:lnTo>
                    <a:lnTo>
                      <a:pt x="1726120" y="7036498"/>
                    </a:lnTo>
                    <a:lnTo>
                      <a:pt x="1798116" y="7036498"/>
                    </a:lnTo>
                    <a:lnTo>
                      <a:pt x="1798116" y="7023798"/>
                    </a:lnTo>
                    <a:close/>
                  </a:path>
                  <a:path w="4680585" h="7740015">
                    <a:moveTo>
                      <a:pt x="1799996" y="7727302"/>
                    </a:moveTo>
                    <a:lnTo>
                      <a:pt x="1728000" y="7727302"/>
                    </a:lnTo>
                    <a:lnTo>
                      <a:pt x="1728000" y="7740002"/>
                    </a:lnTo>
                    <a:lnTo>
                      <a:pt x="1799996" y="7740002"/>
                    </a:lnTo>
                    <a:lnTo>
                      <a:pt x="1799996" y="7727302"/>
                    </a:lnTo>
                    <a:close/>
                  </a:path>
                  <a:path w="4680585" h="7740015">
                    <a:moveTo>
                      <a:pt x="1852498" y="7633843"/>
                    </a:moveTo>
                    <a:lnTo>
                      <a:pt x="1780489" y="7633208"/>
                    </a:lnTo>
                    <a:lnTo>
                      <a:pt x="1780387" y="7645908"/>
                    </a:lnTo>
                    <a:lnTo>
                      <a:pt x="1852383" y="7646530"/>
                    </a:lnTo>
                    <a:lnTo>
                      <a:pt x="1852498" y="7633843"/>
                    </a:lnTo>
                    <a:close/>
                  </a:path>
                  <a:path w="4680585" h="7740015">
                    <a:moveTo>
                      <a:pt x="1934870" y="0"/>
                    </a:moveTo>
                    <a:lnTo>
                      <a:pt x="1862874" y="0"/>
                    </a:lnTo>
                    <a:lnTo>
                      <a:pt x="1862874" y="12700"/>
                    </a:lnTo>
                    <a:lnTo>
                      <a:pt x="1934870" y="12700"/>
                    </a:lnTo>
                    <a:lnTo>
                      <a:pt x="1934870" y="0"/>
                    </a:lnTo>
                    <a:close/>
                  </a:path>
                  <a:path w="4680585" h="7740015">
                    <a:moveTo>
                      <a:pt x="1942109" y="7023798"/>
                    </a:moveTo>
                    <a:lnTo>
                      <a:pt x="1870113" y="7023798"/>
                    </a:lnTo>
                    <a:lnTo>
                      <a:pt x="1870113" y="7036498"/>
                    </a:lnTo>
                    <a:lnTo>
                      <a:pt x="1942109" y="7036498"/>
                    </a:lnTo>
                    <a:lnTo>
                      <a:pt x="1942109" y="7023798"/>
                    </a:lnTo>
                    <a:close/>
                  </a:path>
                  <a:path w="4680585" h="7740015">
                    <a:moveTo>
                      <a:pt x="1944001" y="7727302"/>
                    </a:moveTo>
                    <a:lnTo>
                      <a:pt x="1872005" y="7727302"/>
                    </a:lnTo>
                    <a:lnTo>
                      <a:pt x="1872005" y="7740002"/>
                    </a:lnTo>
                    <a:lnTo>
                      <a:pt x="1944001" y="7740002"/>
                    </a:lnTo>
                    <a:lnTo>
                      <a:pt x="1944001" y="7727302"/>
                    </a:lnTo>
                    <a:close/>
                  </a:path>
                  <a:path w="4680585" h="7740015">
                    <a:moveTo>
                      <a:pt x="1996490" y="7635087"/>
                    </a:moveTo>
                    <a:lnTo>
                      <a:pt x="1924494" y="7634465"/>
                    </a:lnTo>
                    <a:lnTo>
                      <a:pt x="1924380" y="7647165"/>
                    </a:lnTo>
                    <a:lnTo>
                      <a:pt x="1996376" y="7647787"/>
                    </a:lnTo>
                    <a:lnTo>
                      <a:pt x="1996490" y="7635087"/>
                    </a:lnTo>
                    <a:close/>
                  </a:path>
                  <a:path w="4680585" h="7740015">
                    <a:moveTo>
                      <a:pt x="2078875" y="0"/>
                    </a:moveTo>
                    <a:lnTo>
                      <a:pt x="2006879" y="0"/>
                    </a:lnTo>
                    <a:lnTo>
                      <a:pt x="2006879" y="12700"/>
                    </a:lnTo>
                    <a:lnTo>
                      <a:pt x="2078875" y="12700"/>
                    </a:lnTo>
                    <a:lnTo>
                      <a:pt x="2078875" y="0"/>
                    </a:lnTo>
                    <a:close/>
                  </a:path>
                  <a:path w="4680585" h="7740015">
                    <a:moveTo>
                      <a:pt x="2086114" y="7023798"/>
                    </a:moveTo>
                    <a:lnTo>
                      <a:pt x="2014118" y="7023798"/>
                    </a:lnTo>
                    <a:lnTo>
                      <a:pt x="2014118" y="7036498"/>
                    </a:lnTo>
                    <a:lnTo>
                      <a:pt x="2086114" y="7036498"/>
                    </a:lnTo>
                    <a:lnTo>
                      <a:pt x="2086114" y="7023798"/>
                    </a:lnTo>
                    <a:close/>
                  </a:path>
                  <a:path w="4680585" h="7740015">
                    <a:moveTo>
                      <a:pt x="2087994" y="7727302"/>
                    </a:moveTo>
                    <a:lnTo>
                      <a:pt x="2015998" y="7727302"/>
                    </a:lnTo>
                    <a:lnTo>
                      <a:pt x="2015998" y="7740002"/>
                    </a:lnTo>
                    <a:lnTo>
                      <a:pt x="2087994" y="7740002"/>
                    </a:lnTo>
                    <a:lnTo>
                      <a:pt x="2087994" y="7727302"/>
                    </a:lnTo>
                    <a:close/>
                  </a:path>
                  <a:path w="4680585" h="7740015">
                    <a:moveTo>
                      <a:pt x="2140483" y="7636332"/>
                    </a:moveTo>
                    <a:lnTo>
                      <a:pt x="2068487" y="7635722"/>
                    </a:lnTo>
                    <a:lnTo>
                      <a:pt x="2068372" y="7648422"/>
                    </a:lnTo>
                    <a:lnTo>
                      <a:pt x="2140369" y="7649032"/>
                    </a:lnTo>
                    <a:lnTo>
                      <a:pt x="2140483" y="7636332"/>
                    </a:lnTo>
                    <a:close/>
                  </a:path>
                  <a:path w="4680585" h="7740015">
                    <a:moveTo>
                      <a:pt x="2222868" y="0"/>
                    </a:moveTo>
                    <a:lnTo>
                      <a:pt x="2150872" y="0"/>
                    </a:lnTo>
                    <a:lnTo>
                      <a:pt x="2150872" y="12700"/>
                    </a:lnTo>
                    <a:lnTo>
                      <a:pt x="2222868" y="12700"/>
                    </a:lnTo>
                    <a:lnTo>
                      <a:pt x="2222868" y="0"/>
                    </a:lnTo>
                    <a:close/>
                  </a:path>
                  <a:path w="4680585" h="7740015">
                    <a:moveTo>
                      <a:pt x="2230120" y="7023798"/>
                    </a:moveTo>
                    <a:lnTo>
                      <a:pt x="2158123" y="7023798"/>
                    </a:lnTo>
                    <a:lnTo>
                      <a:pt x="2158123" y="7036498"/>
                    </a:lnTo>
                    <a:lnTo>
                      <a:pt x="2230120" y="7036498"/>
                    </a:lnTo>
                    <a:lnTo>
                      <a:pt x="2230120" y="7023798"/>
                    </a:lnTo>
                    <a:close/>
                  </a:path>
                  <a:path w="4680585" h="7740015">
                    <a:moveTo>
                      <a:pt x="2231999" y="7727302"/>
                    </a:moveTo>
                    <a:lnTo>
                      <a:pt x="2160003" y="7727302"/>
                    </a:lnTo>
                    <a:lnTo>
                      <a:pt x="2160003" y="7740002"/>
                    </a:lnTo>
                    <a:lnTo>
                      <a:pt x="2231999" y="7740002"/>
                    </a:lnTo>
                    <a:lnTo>
                      <a:pt x="2231999" y="7727302"/>
                    </a:lnTo>
                    <a:close/>
                  </a:path>
                  <a:path w="4680585" h="7740015">
                    <a:moveTo>
                      <a:pt x="2284476" y="7637589"/>
                    </a:moveTo>
                    <a:lnTo>
                      <a:pt x="2212479" y="7636967"/>
                    </a:lnTo>
                    <a:lnTo>
                      <a:pt x="2212365" y="7649667"/>
                    </a:lnTo>
                    <a:lnTo>
                      <a:pt x="2284361" y="7650289"/>
                    </a:lnTo>
                    <a:lnTo>
                      <a:pt x="2284476" y="7637589"/>
                    </a:lnTo>
                    <a:close/>
                  </a:path>
                  <a:path w="4680585" h="7740015">
                    <a:moveTo>
                      <a:pt x="2366873" y="0"/>
                    </a:moveTo>
                    <a:lnTo>
                      <a:pt x="2294877" y="0"/>
                    </a:lnTo>
                    <a:lnTo>
                      <a:pt x="2294877" y="12700"/>
                    </a:lnTo>
                    <a:lnTo>
                      <a:pt x="2366873" y="12700"/>
                    </a:lnTo>
                    <a:lnTo>
                      <a:pt x="2366873" y="0"/>
                    </a:lnTo>
                    <a:close/>
                  </a:path>
                  <a:path w="4680585" h="7740015">
                    <a:moveTo>
                      <a:pt x="2374112" y="7023798"/>
                    </a:moveTo>
                    <a:lnTo>
                      <a:pt x="2302116" y="7023798"/>
                    </a:lnTo>
                    <a:lnTo>
                      <a:pt x="2302116" y="7036498"/>
                    </a:lnTo>
                    <a:lnTo>
                      <a:pt x="2374112" y="7036498"/>
                    </a:lnTo>
                    <a:lnTo>
                      <a:pt x="2374112" y="7023798"/>
                    </a:lnTo>
                    <a:close/>
                  </a:path>
                  <a:path w="4680585" h="7740015">
                    <a:moveTo>
                      <a:pt x="2375992" y="7727302"/>
                    </a:moveTo>
                    <a:lnTo>
                      <a:pt x="2303996" y="7727302"/>
                    </a:lnTo>
                    <a:lnTo>
                      <a:pt x="2303996" y="7740002"/>
                    </a:lnTo>
                    <a:lnTo>
                      <a:pt x="2375992" y="7740002"/>
                    </a:lnTo>
                    <a:lnTo>
                      <a:pt x="2375992" y="7727302"/>
                    </a:lnTo>
                    <a:close/>
                  </a:path>
                  <a:path w="4680585" h="7740015">
                    <a:moveTo>
                      <a:pt x="2428468" y="7638847"/>
                    </a:moveTo>
                    <a:lnTo>
                      <a:pt x="2356472" y="7638224"/>
                    </a:lnTo>
                    <a:lnTo>
                      <a:pt x="2356358" y="7650924"/>
                    </a:lnTo>
                    <a:lnTo>
                      <a:pt x="2428354" y="7651547"/>
                    </a:lnTo>
                    <a:lnTo>
                      <a:pt x="2428468" y="7638847"/>
                    </a:lnTo>
                    <a:close/>
                  </a:path>
                  <a:path w="4680585" h="7740015">
                    <a:moveTo>
                      <a:pt x="2510866" y="0"/>
                    </a:moveTo>
                    <a:lnTo>
                      <a:pt x="2438870" y="0"/>
                    </a:lnTo>
                    <a:lnTo>
                      <a:pt x="2438870" y="12700"/>
                    </a:lnTo>
                    <a:lnTo>
                      <a:pt x="2510866" y="12700"/>
                    </a:lnTo>
                    <a:lnTo>
                      <a:pt x="2510866" y="0"/>
                    </a:lnTo>
                    <a:close/>
                  </a:path>
                  <a:path w="4680585" h="7740015">
                    <a:moveTo>
                      <a:pt x="2518118" y="7023798"/>
                    </a:moveTo>
                    <a:lnTo>
                      <a:pt x="2446109" y="7023798"/>
                    </a:lnTo>
                    <a:lnTo>
                      <a:pt x="2446109" y="7036498"/>
                    </a:lnTo>
                    <a:lnTo>
                      <a:pt x="2518118" y="7036498"/>
                    </a:lnTo>
                    <a:lnTo>
                      <a:pt x="2518118" y="7023798"/>
                    </a:lnTo>
                    <a:close/>
                  </a:path>
                  <a:path w="4680585" h="7740015">
                    <a:moveTo>
                      <a:pt x="2520010" y="7727302"/>
                    </a:moveTo>
                    <a:lnTo>
                      <a:pt x="2448001" y="7727302"/>
                    </a:lnTo>
                    <a:lnTo>
                      <a:pt x="2448001" y="7740002"/>
                    </a:lnTo>
                    <a:lnTo>
                      <a:pt x="2520010" y="7740002"/>
                    </a:lnTo>
                    <a:lnTo>
                      <a:pt x="2520010" y="7727302"/>
                    </a:lnTo>
                    <a:close/>
                  </a:path>
                  <a:path w="4680585" h="7740015">
                    <a:moveTo>
                      <a:pt x="2572474" y="7640091"/>
                    </a:moveTo>
                    <a:lnTo>
                      <a:pt x="2500465" y="7639469"/>
                    </a:lnTo>
                    <a:lnTo>
                      <a:pt x="2500363" y="7652169"/>
                    </a:lnTo>
                    <a:lnTo>
                      <a:pt x="2572359" y="7652791"/>
                    </a:lnTo>
                    <a:lnTo>
                      <a:pt x="2572474" y="7640091"/>
                    </a:lnTo>
                    <a:close/>
                  </a:path>
                  <a:path w="4680585" h="7740015">
                    <a:moveTo>
                      <a:pt x="2654871" y="0"/>
                    </a:moveTo>
                    <a:lnTo>
                      <a:pt x="2582875" y="0"/>
                    </a:lnTo>
                    <a:lnTo>
                      <a:pt x="2582875" y="12700"/>
                    </a:lnTo>
                    <a:lnTo>
                      <a:pt x="2654871" y="12700"/>
                    </a:lnTo>
                    <a:lnTo>
                      <a:pt x="2654871" y="0"/>
                    </a:lnTo>
                    <a:close/>
                  </a:path>
                  <a:path w="4680585" h="7740015">
                    <a:moveTo>
                      <a:pt x="2662110" y="7023798"/>
                    </a:moveTo>
                    <a:lnTo>
                      <a:pt x="2590114" y="7023798"/>
                    </a:lnTo>
                    <a:lnTo>
                      <a:pt x="2590114" y="7036498"/>
                    </a:lnTo>
                    <a:lnTo>
                      <a:pt x="2662110" y="7036498"/>
                    </a:lnTo>
                    <a:lnTo>
                      <a:pt x="2662110" y="7023798"/>
                    </a:lnTo>
                    <a:close/>
                  </a:path>
                  <a:path w="4680585" h="7740015">
                    <a:moveTo>
                      <a:pt x="2664002" y="7727302"/>
                    </a:moveTo>
                    <a:lnTo>
                      <a:pt x="2592006" y="7727302"/>
                    </a:lnTo>
                    <a:lnTo>
                      <a:pt x="2592006" y="7740002"/>
                    </a:lnTo>
                    <a:lnTo>
                      <a:pt x="2664002" y="7740002"/>
                    </a:lnTo>
                    <a:lnTo>
                      <a:pt x="2664002" y="7727302"/>
                    </a:lnTo>
                    <a:close/>
                  </a:path>
                  <a:path w="4680585" h="7740015">
                    <a:moveTo>
                      <a:pt x="2716466" y="7641349"/>
                    </a:moveTo>
                    <a:lnTo>
                      <a:pt x="2644470" y="7640726"/>
                    </a:lnTo>
                    <a:lnTo>
                      <a:pt x="2644356" y="7653426"/>
                    </a:lnTo>
                    <a:lnTo>
                      <a:pt x="2716352" y="7654049"/>
                    </a:lnTo>
                    <a:lnTo>
                      <a:pt x="2716466" y="7641349"/>
                    </a:lnTo>
                    <a:close/>
                  </a:path>
                  <a:path w="4680585" h="7740015">
                    <a:moveTo>
                      <a:pt x="2798876" y="0"/>
                    </a:moveTo>
                    <a:lnTo>
                      <a:pt x="2726867" y="0"/>
                    </a:lnTo>
                    <a:lnTo>
                      <a:pt x="2726867" y="12700"/>
                    </a:lnTo>
                    <a:lnTo>
                      <a:pt x="2798876" y="12700"/>
                    </a:lnTo>
                    <a:lnTo>
                      <a:pt x="2798876" y="0"/>
                    </a:lnTo>
                    <a:close/>
                  </a:path>
                  <a:path w="4680585" h="7740015">
                    <a:moveTo>
                      <a:pt x="2806115" y="7023798"/>
                    </a:moveTo>
                    <a:lnTo>
                      <a:pt x="2734119" y="7023798"/>
                    </a:lnTo>
                    <a:lnTo>
                      <a:pt x="2734119" y="7036498"/>
                    </a:lnTo>
                    <a:lnTo>
                      <a:pt x="2806115" y="7036498"/>
                    </a:lnTo>
                    <a:lnTo>
                      <a:pt x="2806115" y="7023798"/>
                    </a:lnTo>
                    <a:close/>
                  </a:path>
                  <a:path w="4680585" h="7740015">
                    <a:moveTo>
                      <a:pt x="2808008" y="7727302"/>
                    </a:moveTo>
                    <a:lnTo>
                      <a:pt x="2736011" y="7727302"/>
                    </a:lnTo>
                    <a:lnTo>
                      <a:pt x="2736011" y="7740002"/>
                    </a:lnTo>
                    <a:lnTo>
                      <a:pt x="2808008" y="7740002"/>
                    </a:lnTo>
                    <a:lnTo>
                      <a:pt x="2808008" y="7727302"/>
                    </a:lnTo>
                    <a:close/>
                  </a:path>
                  <a:path w="4680585" h="7740015">
                    <a:moveTo>
                      <a:pt x="2860459" y="7642606"/>
                    </a:moveTo>
                    <a:lnTo>
                      <a:pt x="2788462" y="7641984"/>
                    </a:lnTo>
                    <a:lnTo>
                      <a:pt x="2788348" y="7654684"/>
                    </a:lnTo>
                    <a:lnTo>
                      <a:pt x="2860344" y="7655306"/>
                    </a:lnTo>
                    <a:lnTo>
                      <a:pt x="2860459" y="7642606"/>
                    </a:lnTo>
                    <a:close/>
                  </a:path>
                  <a:path w="4680585" h="7740015">
                    <a:moveTo>
                      <a:pt x="2942882" y="0"/>
                    </a:moveTo>
                    <a:lnTo>
                      <a:pt x="2870873" y="0"/>
                    </a:lnTo>
                    <a:lnTo>
                      <a:pt x="2870873" y="12700"/>
                    </a:lnTo>
                    <a:lnTo>
                      <a:pt x="2942882" y="12700"/>
                    </a:lnTo>
                    <a:lnTo>
                      <a:pt x="2942882" y="0"/>
                    </a:lnTo>
                    <a:close/>
                  </a:path>
                  <a:path w="4680585" h="7740015">
                    <a:moveTo>
                      <a:pt x="2950121" y="7023798"/>
                    </a:moveTo>
                    <a:lnTo>
                      <a:pt x="2878124" y="7023798"/>
                    </a:lnTo>
                    <a:lnTo>
                      <a:pt x="2878124" y="7036498"/>
                    </a:lnTo>
                    <a:lnTo>
                      <a:pt x="2950121" y="7036498"/>
                    </a:lnTo>
                    <a:lnTo>
                      <a:pt x="2950121" y="7023798"/>
                    </a:lnTo>
                    <a:close/>
                  </a:path>
                  <a:path w="4680585" h="7740015">
                    <a:moveTo>
                      <a:pt x="2952000" y="7727302"/>
                    </a:moveTo>
                    <a:lnTo>
                      <a:pt x="2879991" y="7727302"/>
                    </a:lnTo>
                    <a:lnTo>
                      <a:pt x="2879991" y="7740002"/>
                    </a:lnTo>
                    <a:lnTo>
                      <a:pt x="2952000" y="7740002"/>
                    </a:lnTo>
                    <a:lnTo>
                      <a:pt x="2952000" y="7727302"/>
                    </a:lnTo>
                    <a:close/>
                  </a:path>
                  <a:path w="4680585" h="7740015">
                    <a:moveTo>
                      <a:pt x="3004451" y="7643850"/>
                    </a:moveTo>
                    <a:lnTo>
                      <a:pt x="2932455" y="7643215"/>
                    </a:lnTo>
                    <a:lnTo>
                      <a:pt x="2932341" y="7655915"/>
                    </a:lnTo>
                    <a:lnTo>
                      <a:pt x="3004337" y="7656550"/>
                    </a:lnTo>
                    <a:lnTo>
                      <a:pt x="3004451" y="7643850"/>
                    </a:lnTo>
                    <a:close/>
                  </a:path>
                  <a:path w="4680585" h="7740015">
                    <a:moveTo>
                      <a:pt x="3086874" y="0"/>
                    </a:moveTo>
                    <a:lnTo>
                      <a:pt x="3014878" y="0"/>
                    </a:lnTo>
                    <a:lnTo>
                      <a:pt x="3014878" y="12700"/>
                    </a:lnTo>
                    <a:lnTo>
                      <a:pt x="3086874" y="12700"/>
                    </a:lnTo>
                    <a:lnTo>
                      <a:pt x="3086874" y="0"/>
                    </a:lnTo>
                    <a:close/>
                  </a:path>
                  <a:path w="4680585" h="7740015">
                    <a:moveTo>
                      <a:pt x="3094126" y="7023798"/>
                    </a:moveTo>
                    <a:lnTo>
                      <a:pt x="3022117" y="7023798"/>
                    </a:lnTo>
                    <a:lnTo>
                      <a:pt x="3022117" y="7036498"/>
                    </a:lnTo>
                    <a:lnTo>
                      <a:pt x="3094126" y="7036498"/>
                    </a:lnTo>
                    <a:lnTo>
                      <a:pt x="3094126" y="7023798"/>
                    </a:lnTo>
                    <a:close/>
                  </a:path>
                  <a:path w="4680585" h="7740015">
                    <a:moveTo>
                      <a:pt x="3095993" y="7727302"/>
                    </a:moveTo>
                    <a:lnTo>
                      <a:pt x="3023997" y="7727302"/>
                    </a:lnTo>
                    <a:lnTo>
                      <a:pt x="3023997" y="7740002"/>
                    </a:lnTo>
                    <a:lnTo>
                      <a:pt x="3095993" y="7740002"/>
                    </a:lnTo>
                    <a:lnTo>
                      <a:pt x="3095993" y="7727302"/>
                    </a:lnTo>
                    <a:close/>
                  </a:path>
                  <a:path w="4680585" h="7740015">
                    <a:moveTo>
                      <a:pt x="3148444" y="7645108"/>
                    </a:moveTo>
                    <a:lnTo>
                      <a:pt x="3076448" y="7644485"/>
                    </a:lnTo>
                    <a:lnTo>
                      <a:pt x="3076346" y="7657173"/>
                    </a:lnTo>
                    <a:lnTo>
                      <a:pt x="3148342" y="7657808"/>
                    </a:lnTo>
                    <a:lnTo>
                      <a:pt x="3148444" y="7645108"/>
                    </a:lnTo>
                    <a:close/>
                  </a:path>
                  <a:path w="4680585" h="7740015">
                    <a:moveTo>
                      <a:pt x="3230880" y="0"/>
                    </a:moveTo>
                    <a:lnTo>
                      <a:pt x="3158883" y="0"/>
                    </a:lnTo>
                    <a:lnTo>
                      <a:pt x="3158883" y="12700"/>
                    </a:lnTo>
                    <a:lnTo>
                      <a:pt x="3230880" y="12700"/>
                    </a:lnTo>
                    <a:lnTo>
                      <a:pt x="3230880" y="0"/>
                    </a:lnTo>
                    <a:close/>
                  </a:path>
                  <a:path w="4680585" h="7740015">
                    <a:moveTo>
                      <a:pt x="3238119" y="7023798"/>
                    </a:moveTo>
                    <a:lnTo>
                      <a:pt x="3166122" y="7023798"/>
                    </a:lnTo>
                    <a:lnTo>
                      <a:pt x="3166122" y="7036498"/>
                    </a:lnTo>
                    <a:lnTo>
                      <a:pt x="3238119" y="7036498"/>
                    </a:lnTo>
                    <a:lnTo>
                      <a:pt x="3238119" y="7023798"/>
                    </a:lnTo>
                    <a:close/>
                  </a:path>
                  <a:path w="4680585" h="7740015">
                    <a:moveTo>
                      <a:pt x="3239998" y="7727302"/>
                    </a:moveTo>
                    <a:lnTo>
                      <a:pt x="3168002" y="7727302"/>
                    </a:lnTo>
                    <a:lnTo>
                      <a:pt x="3168002" y="7740002"/>
                    </a:lnTo>
                    <a:lnTo>
                      <a:pt x="3239998" y="7740002"/>
                    </a:lnTo>
                    <a:lnTo>
                      <a:pt x="3239998" y="7727302"/>
                    </a:lnTo>
                    <a:close/>
                  </a:path>
                  <a:path w="4680585" h="7740015">
                    <a:moveTo>
                      <a:pt x="3292437" y="7646352"/>
                    </a:moveTo>
                    <a:lnTo>
                      <a:pt x="3220440" y="7645730"/>
                    </a:lnTo>
                    <a:lnTo>
                      <a:pt x="3220339" y="7658430"/>
                    </a:lnTo>
                    <a:lnTo>
                      <a:pt x="3292322" y="7659052"/>
                    </a:lnTo>
                    <a:lnTo>
                      <a:pt x="3292437" y="7646352"/>
                    </a:lnTo>
                    <a:close/>
                  </a:path>
                  <a:path w="4680585" h="7740015">
                    <a:moveTo>
                      <a:pt x="3374885" y="0"/>
                    </a:moveTo>
                    <a:lnTo>
                      <a:pt x="3302876" y="0"/>
                    </a:lnTo>
                    <a:lnTo>
                      <a:pt x="3302876" y="12700"/>
                    </a:lnTo>
                    <a:lnTo>
                      <a:pt x="3374885" y="12700"/>
                    </a:lnTo>
                    <a:lnTo>
                      <a:pt x="3374885" y="0"/>
                    </a:lnTo>
                    <a:close/>
                  </a:path>
                  <a:path w="4680585" h="7740015">
                    <a:moveTo>
                      <a:pt x="3382124" y="7023798"/>
                    </a:moveTo>
                    <a:lnTo>
                      <a:pt x="3310128" y="7023798"/>
                    </a:lnTo>
                    <a:lnTo>
                      <a:pt x="3310128" y="7036498"/>
                    </a:lnTo>
                    <a:lnTo>
                      <a:pt x="3382124" y="7036498"/>
                    </a:lnTo>
                    <a:lnTo>
                      <a:pt x="3382124" y="7023798"/>
                    </a:lnTo>
                    <a:close/>
                  </a:path>
                  <a:path w="4680585" h="7740015">
                    <a:moveTo>
                      <a:pt x="3384004" y="7727302"/>
                    </a:moveTo>
                    <a:lnTo>
                      <a:pt x="3311995" y="7727302"/>
                    </a:lnTo>
                    <a:lnTo>
                      <a:pt x="3311995" y="7740002"/>
                    </a:lnTo>
                    <a:lnTo>
                      <a:pt x="3384004" y="7740002"/>
                    </a:lnTo>
                    <a:lnTo>
                      <a:pt x="3384004" y="7727302"/>
                    </a:lnTo>
                    <a:close/>
                  </a:path>
                  <a:path w="4680585" h="7740015">
                    <a:moveTo>
                      <a:pt x="3436429" y="7647610"/>
                    </a:moveTo>
                    <a:lnTo>
                      <a:pt x="3364433" y="7646975"/>
                    </a:lnTo>
                    <a:lnTo>
                      <a:pt x="3364319" y="7659675"/>
                    </a:lnTo>
                    <a:lnTo>
                      <a:pt x="3436315" y="7660310"/>
                    </a:lnTo>
                    <a:lnTo>
                      <a:pt x="3436429" y="7647610"/>
                    </a:lnTo>
                    <a:close/>
                  </a:path>
                  <a:path w="4680585" h="7740015">
                    <a:moveTo>
                      <a:pt x="3518865" y="0"/>
                    </a:moveTo>
                    <a:lnTo>
                      <a:pt x="3446869" y="0"/>
                    </a:lnTo>
                    <a:lnTo>
                      <a:pt x="3446869" y="12700"/>
                    </a:lnTo>
                    <a:lnTo>
                      <a:pt x="3518865" y="12700"/>
                    </a:lnTo>
                    <a:lnTo>
                      <a:pt x="3518865" y="0"/>
                    </a:lnTo>
                    <a:close/>
                  </a:path>
                  <a:path w="4680585" h="7740015">
                    <a:moveTo>
                      <a:pt x="3526129" y="7023798"/>
                    </a:moveTo>
                    <a:lnTo>
                      <a:pt x="3454120" y="7023798"/>
                    </a:lnTo>
                    <a:lnTo>
                      <a:pt x="3454120" y="7036498"/>
                    </a:lnTo>
                    <a:lnTo>
                      <a:pt x="3526129" y="7036498"/>
                    </a:lnTo>
                    <a:lnTo>
                      <a:pt x="3526129" y="7023798"/>
                    </a:lnTo>
                    <a:close/>
                  </a:path>
                  <a:path w="4680585" h="7740015">
                    <a:moveTo>
                      <a:pt x="3527996" y="7727302"/>
                    </a:moveTo>
                    <a:lnTo>
                      <a:pt x="3456000" y="7727302"/>
                    </a:lnTo>
                    <a:lnTo>
                      <a:pt x="3456000" y="7740002"/>
                    </a:lnTo>
                    <a:lnTo>
                      <a:pt x="3527996" y="7740002"/>
                    </a:lnTo>
                    <a:lnTo>
                      <a:pt x="3527996" y="7727302"/>
                    </a:lnTo>
                    <a:close/>
                  </a:path>
                  <a:path w="4680585" h="7740015">
                    <a:moveTo>
                      <a:pt x="3580422" y="7648867"/>
                    </a:moveTo>
                    <a:lnTo>
                      <a:pt x="3508425" y="7648232"/>
                    </a:lnTo>
                    <a:lnTo>
                      <a:pt x="3508311" y="7660932"/>
                    </a:lnTo>
                    <a:lnTo>
                      <a:pt x="3580320" y="7661567"/>
                    </a:lnTo>
                    <a:lnTo>
                      <a:pt x="3580422" y="7648867"/>
                    </a:lnTo>
                    <a:close/>
                  </a:path>
                  <a:path w="4680585" h="7740015">
                    <a:moveTo>
                      <a:pt x="3662870" y="0"/>
                    </a:moveTo>
                    <a:lnTo>
                      <a:pt x="3590874" y="0"/>
                    </a:lnTo>
                    <a:lnTo>
                      <a:pt x="3590874" y="12700"/>
                    </a:lnTo>
                    <a:lnTo>
                      <a:pt x="3662870" y="12700"/>
                    </a:lnTo>
                    <a:lnTo>
                      <a:pt x="3662870" y="0"/>
                    </a:lnTo>
                    <a:close/>
                  </a:path>
                  <a:path w="4680585" h="7740015">
                    <a:moveTo>
                      <a:pt x="3670109" y="7023798"/>
                    </a:moveTo>
                    <a:lnTo>
                      <a:pt x="3598113" y="7023798"/>
                    </a:lnTo>
                    <a:lnTo>
                      <a:pt x="3598113" y="7036498"/>
                    </a:lnTo>
                    <a:lnTo>
                      <a:pt x="3670109" y="7036498"/>
                    </a:lnTo>
                    <a:lnTo>
                      <a:pt x="3670109" y="7023798"/>
                    </a:lnTo>
                    <a:close/>
                  </a:path>
                  <a:path w="4680585" h="7740015">
                    <a:moveTo>
                      <a:pt x="3672001" y="7727302"/>
                    </a:moveTo>
                    <a:lnTo>
                      <a:pt x="3600005" y="7727302"/>
                    </a:lnTo>
                    <a:lnTo>
                      <a:pt x="3600005" y="7740002"/>
                    </a:lnTo>
                    <a:lnTo>
                      <a:pt x="3672001" y="7740002"/>
                    </a:lnTo>
                    <a:lnTo>
                      <a:pt x="3672001" y="7727302"/>
                    </a:lnTo>
                    <a:close/>
                  </a:path>
                  <a:path w="4680585" h="7740015">
                    <a:moveTo>
                      <a:pt x="3724427" y="7650112"/>
                    </a:moveTo>
                    <a:lnTo>
                      <a:pt x="3652431" y="7649489"/>
                    </a:lnTo>
                    <a:lnTo>
                      <a:pt x="3652316" y="7662189"/>
                    </a:lnTo>
                    <a:lnTo>
                      <a:pt x="3724313" y="7662812"/>
                    </a:lnTo>
                    <a:lnTo>
                      <a:pt x="3724427" y="7650112"/>
                    </a:lnTo>
                    <a:close/>
                  </a:path>
                  <a:path w="4680585" h="7740015">
                    <a:moveTo>
                      <a:pt x="3806875" y="0"/>
                    </a:moveTo>
                    <a:lnTo>
                      <a:pt x="3734866" y="0"/>
                    </a:lnTo>
                    <a:lnTo>
                      <a:pt x="3734866" y="12700"/>
                    </a:lnTo>
                    <a:lnTo>
                      <a:pt x="3806875" y="12700"/>
                    </a:lnTo>
                    <a:lnTo>
                      <a:pt x="3806875" y="0"/>
                    </a:lnTo>
                    <a:close/>
                  </a:path>
                  <a:path w="4680585" h="7740015">
                    <a:moveTo>
                      <a:pt x="3814114" y="7023798"/>
                    </a:moveTo>
                    <a:lnTo>
                      <a:pt x="3742118" y="7023798"/>
                    </a:lnTo>
                    <a:lnTo>
                      <a:pt x="3742118" y="7036498"/>
                    </a:lnTo>
                    <a:lnTo>
                      <a:pt x="3814114" y="7036498"/>
                    </a:lnTo>
                    <a:lnTo>
                      <a:pt x="3814114" y="7023798"/>
                    </a:lnTo>
                    <a:close/>
                  </a:path>
                  <a:path w="4680585" h="7740015">
                    <a:moveTo>
                      <a:pt x="3816007" y="7727302"/>
                    </a:moveTo>
                    <a:lnTo>
                      <a:pt x="3744010" y="7727302"/>
                    </a:lnTo>
                    <a:lnTo>
                      <a:pt x="3744010" y="7740002"/>
                    </a:lnTo>
                    <a:lnTo>
                      <a:pt x="3816007" y="7740002"/>
                    </a:lnTo>
                    <a:lnTo>
                      <a:pt x="3816007" y="7727302"/>
                    </a:lnTo>
                    <a:close/>
                  </a:path>
                  <a:path w="4680585" h="7740015">
                    <a:moveTo>
                      <a:pt x="3868420" y="7651369"/>
                    </a:moveTo>
                    <a:lnTo>
                      <a:pt x="3796423" y="7650734"/>
                    </a:lnTo>
                    <a:lnTo>
                      <a:pt x="3796309" y="7663434"/>
                    </a:lnTo>
                    <a:lnTo>
                      <a:pt x="3868305" y="7664069"/>
                    </a:lnTo>
                    <a:lnTo>
                      <a:pt x="3868420" y="7651369"/>
                    </a:lnTo>
                    <a:close/>
                  </a:path>
                  <a:path w="4680585" h="7740015">
                    <a:moveTo>
                      <a:pt x="3950868" y="0"/>
                    </a:moveTo>
                    <a:lnTo>
                      <a:pt x="3878872" y="0"/>
                    </a:lnTo>
                    <a:lnTo>
                      <a:pt x="3878872" y="12700"/>
                    </a:lnTo>
                    <a:lnTo>
                      <a:pt x="3950868" y="12700"/>
                    </a:lnTo>
                    <a:lnTo>
                      <a:pt x="3950868" y="0"/>
                    </a:lnTo>
                    <a:close/>
                  </a:path>
                  <a:path w="4680585" h="7740015">
                    <a:moveTo>
                      <a:pt x="3958120" y="7023798"/>
                    </a:moveTo>
                    <a:lnTo>
                      <a:pt x="3886111" y="7023798"/>
                    </a:lnTo>
                    <a:lnTo>
                      <a:pt x="3886111" y="7036498"/>
                    </a:lnTo>
                    <a:lnTo>
                      <a:pt x="3958120" y="7036498"/>
                    </a:lnTo>
                    <a:lnTo>
                      <a:pt x="3958120" y="7023798"/>
                    </a:lnTo>
                    <a:close/>
                  </a:path>
                  <a:path w="4680585" h="7740015">
                    <a:moveTo>
                      <a:pt x="3960012" y="7727302"/>
                    </a:moveTo>
                    <a:lnTo>
                      <a:pt x="3888003" y="7727302"/>
                    </a:lnTo>
                    <a:lnTo>
                      <a:pt x="3888003" y="7740002"/>
                    </a:lnTo>
                    <a:lnTo>
                      <a:pt x="3960012" y="7740002"/>
                    </a:lnTo>
                    <a:lnTo>
                      <a:pt x="3960012" y="7727302"/>
                    </a:lnTo>
                    <a:close/>
                  </a:path>
                  <a:path w="4680585" h="7740015">
                    <a:moveTo>
                      <a:pt x="4012412" y="7652626"/>
                    </a:moveTo>
                    <a:lnTo>
                      <a:pt x="3940416" y="7651991"/>
                    </a:lnTo>
                    <a:lnTo>
                      <a:pt x="3940302" y="7664691"/>
                    </a:lnTo>
                    <a:lnTo>
                      <a:pt x="4012298" y="7665326"/>
                    </a:lnTo>
                    <a:lnTo>
                      <a:pt x="4012412" y="7652626"/>
                    </a:lnTo>
                    <a:close/>
                  </a:path>
                  <a:path w="4680585" h="7740015">
                    <a:moveTo>
                      <a:pt x="4094873" y="0"/>
                    </a:moveTo>
                    <a:lnTo>
                      <a:pt x="4022877" y="0"/>
                    </a:lnTo>
                    <a:lnTo>
                      <a:pt x="4022877" y="12700"/>
                    </a:lnTo>
                    <a:lnTo>
                      <a:pt x="4094873" y="12700"/>
                    </a:lnTo>
                    <a:lnTo>
                      <a:pt x="4094873" y="0"/>
                    </a:lnTo>
                    <a:close/>
                  </a:path>
                  <a:path w="4680585" h="7740015">
                    <a:moveTo>
                      <a:pt x="4102125" y="7023798"/>
                    </a:moveTo>
                    <a:lnTo>
                      <a:pt x="4030116" y="7023798"/>
                    </a:lnTo>
                    <a:lnTo>
                      <a:pt x="4030116" y="7036498"/>
                    </a:lnTo>
                    <a:lnTo>
                      <a:pt x="4102125" y="7036498"/>
                    </a:lnTo>
                    <a:lnTo>
                      <a:pt x="4102125" y="7023798"/>
                    </a:lnTo>
                    <a:close/>
                  </a:path>
                  <a:path w="4680585" h="7740015">
                    <a:moveTo>
                      <a:pt x="4103992" y="7727302"/>
                    </a:moveTo>
                    <a:lnTo>
                      <a:pt x="4031996" y="7727302"/>
                    </a:lnTo>
                    <a:lnTo>
                      <a:pt x="4031996" y="7740002"/>
                    </a:lnTo>
                    <a:lnTo>
                      <a:pt x="4103992" y="7740002"/>
                    </a:lnTo>
                    <a:lnTo>
                      <a:pt x="4103992" y="7727302"/>
                    </a:lnTo>
                    <a:close/>
                  </a:path>
                  <a:path w="4680585" h="7740015">
                    <a:moveTo>
                      <a:pt x="4156418" y="7653858"/>
                    </a:moveTo>
                    <a:lnTo>
                      <a:pt x="4084409" y="7653236"/>
                    </a:lnTo>
                    <a:lnTo>
                      <a:pt x="4084307" y="7665936"/>
                    </a:lnTo>
                    <a:lnTo>
                      <a:pt x="4156303" y="7666558"/>
                    </a:lnTo>
                    <a:lnTo>
                      <a:pt x="4156418" y="7653858"/>
                    </a:lnTo>
                    <a:close/>
                  </a:path>
                  <a:path w="4680585" h="7740015">
                    <a:moveTo>
                      <a:pt x="4238879" y="0"/>
                    </a:moveTo>
                    <a:lnTo>
                      <a:pt x="4166870" y="0"/>
                    </a:lnTo>
                    <a:lnTo>
                      <a:pt x="4166870" y="12700"/>
                    </a:lnTo>
                    <a:lnTo>
                      <a:pt x="4238879" y="12700"/>
                    </a:lnTo>
                    <a:lnTo>
                      <a:pt x="4238879" y="0"/>
                    </a:lnTo>
                    <a:close/>
                  </a:path>
                  <a:path w="4680585" h="7740015">
                    <a:moveTo>
                      <a:pt x="4246118" y="7023798"/>
                    </a:moveTo>
                    <a:lnTo>
                      <a:pt x="4174121" y="7023798"/>
                    </a:lnTo>
                    <a:lnTo>
                      <a:pt x="4174121" y="7036498"/>
                    </a:lnTo>
                    <a:lnTo>
                      <a:pt x="4246118" y="7036498"/>
                    </a:lnTo>
                    <a:lnTo>
                      <a:pt x="4246118" y="7023798"/>
                    </a:lnTo>
                    <a:close/>
                  </a:path>
                  <a:path w="4680585" h="7740015">
                    <a:moveTo>
                      <a:pt x="4247997" y="7727302"/>
                    </a:moveTo>
                    <a:lnTo>
                      <a:pt x="4176001" y="7727302"/>
                    </a:lnTo>
                    <a:lnTo>
                      <a:pt x="4176001" y="7740002"/>
                    </a:lnTo>
                    <a:lnTo>
                      <a:pt x="4247997" y="7740002"/>
                    </a:lnTo>
                    <a:lnTo>
                      <a:pt x="4247997" y="7727302"/>
                    </a:lnTo>
                    <a:close/>
                  </a:path>
                  <a:path w="4680585" h="7740015">
                    <a:moveTo>
                      <a:pt x="4300398" y="7655115"/>
                    </a:moveTo>
                    <a:lnTo>
                      <a:pt x="4228414" y="7654493"/>
                    </a:lnTo>
                    <a:lnTo>
                      <a:pt x="4228300" y="7667193"/>
                    </a:lnTo>
                    <a:lnTo>
                      <a:pt x="4300296" y="7667815"/>
                    </a:lnTo>
                    <a:lnTo>
                      <a:pt x="4300398" y="7655115"/>
                    </a:lnTo>
                    <a:close/>
                  </a:path>
                  <a:path w="4680585" h="7740015">
                    <a:moveTo>
                      <a:pt x="4382884" y="0"/>
                    </a:moveTo>
                    <a:lnTo>
                      <a:pt x="4310875" y="0"/>
                    </a:lnTo>
                    <a:lnTo>
                      <a:pt x="4310875" y="12700"/>
                    </a:lnTo>
                    <a:lnTo>
                      <a:pt x="4382884" y="12700"/>
                    </a:lnTo>
                    <a:lnTo>
                      <a:pt x="4382884" y="0"/>
                    </a:lnTo>
                    <a:close/>
                  </a:path>
                  <a:path w="4680585" h="7740015">
                    <a:moveTo>
                      <a:pt x="4389831" y="7027583"/>
                    </a:moveTo>
                    <a:lnTo>
                      <a:pt x="4357446" y="7023798"/>
                    </a:lnTo>
                    <a:lnTo>
                      <a:pt x="4318127" y="7023798"/>
                    </a:lnTo>
                    <a:lnTo>
                      <a:pt x="4318127" y="7036498"/>
                    </a:lnTo>
                    <a:lnTo>
                      <a:pt x="4357014" y="7036498"/>
                    </a:lnTo>
                    <a:lnTo>
                      <a:pt x="4364571" y="7036714"/>
                    </a:lnTo>
                    <a:lnTo>
                      <a:pt x="4372102" y="7037375"/>
                    </a:lnTo>
                    <a:lnTo>
                      <a:pt x="4379569" y="7038454"/>
                    </a:lnTo>
                    <a:lnTo>
                      <a:pt x="4386948" y="7039953"/>
                    </a:lnTo>
                    <a:lnTo>
                      <a:pt x="4389831" y="7027583"/>
                    </a:lnTo>
                    <a:close/>
                  </a:path>
                  <a:path w="4680585" h="7740015">
                    <a:moveTo>
                      <a:pt x="4392003" y="7727302"/>
                    </a:moveTo>
                    <a:lnTo>
                      <a:pt x="4319994" y="7727302"/>
                    </a:lnTo>
                    <a:lnTo>
                      <a:pt x="4319994" y="7740002"/>
                    </a:lnTo>
                    <a:lnTo>
                      <a:pt x="4392003" y="7740002"/>
                    </a:lnTo>
                    <a:lnTo>
                      <a:pt x="4392003" y="7727302"/>
                    </a:lnTo>
                    <a:close/>
                  </a:path>
                  <a:path w="4680585" h="7740015">
                    <a:moveTo>
                      <a:pt x="4444365" y="7679918"/>
                    </a:moveTo>
                    <a:lnTo>
                      <a:pt x="4373765" y="7665796"/>
                    </a:lnTo>
                    <a:lnTo>
                      <a:pt x="4371276" y="7678242"/>
                    </a:lnTo>
                    <a:lnTo>
                      <a:pt x="4441876" y="7692364"/>
                    </a:lnTo>
                    <a:lnTo>
                      <a:pt x="4444365" y="7679918"/>
                    </a:lnTo>
                    <a:close/>
                  </a:path>
                  <a:path w="4680585" h="7740015">
                    <a:moveTo>
                      <a:pt x="4492739" y="7119645"/>
                    </a:moveTo>
                    <a:lnTo>
                      <a:pt x="4485538" y="7102818"/>
                    </a:lnTo>
                    <a:lnTo>
                      <a:pt x="4476407" y="7087273"/>
                    </a:lnTo>
                    <a:lnTo>
                      <a:pt x="4465523" y="7073112"/>
                    </a:lnTo>
                    <a:lnTo>
                      <a:pt x="4453039" y="7060489"/>
                    </a:lnTo>
                    <a:lnTo>
                      <a:pt x="4444568" y="7069950"/>
                    </a:lnTo>
                    <a:lnTo>
                      <a:pt x="4456100" y="7081647"/>
                    </a:lnTo>
                    <a:lnTo>
                      <a:pt x="4466056" y="7094664"/>
                    </a:lnTo>
                    <a:lnTo>
                      <a:pt x="4474324" y="7108799"/>
                    </a:lnTo>
                    <a:lnTo>
                      <a:pt x="4480763" y="7123887"/>
                    </a:lnTo>
                    <a:lnTo>
                      <a:pt x="4492739" y="7119645"/>
                    </a:lnTo>
                    <a:close/>
                  </a:path>
                  <a:path w="4680585" h="7740015">
                    <a:moveTo>
                      <a:pt x="4526877" y="0"/>
                    </a:moveTo>
                    <a:lnTo>
                      <a:pt x="4454880" y="0"/>
                    </a:lnTo>
                    <a:lnTo>
                      <a:pt x="4454880" y="12700"/>
                    </a:lnTo>
                    <a:lnTo>
                      <a:pt x="4526877" y="12700"/>
                    </a:lnTo>
                    <a:lnTo>
                      <a:pt x="4526877" y="0"/>
                    </a:lnTo>
                    <a:close/>
                  </a:path>
                  <a:path w="4680585" h="7740015">
                    <a:moveTo>
                      <a:pt x="4534471" y="7257466"/>
                    </a:moveTo>
                    <a:lnTo>
                      <a:pt x="4513681" y="7188530"/>
                    </a:lnTo>
                    <a:lnTo>
                      <a:pt x="4501515" y="7192200"/>
                    </a:lnTo>
                    <a:lnTo>
                      <a:pt x="4522317" y="7261136"/>
                    </a:lnTo>
                    <a:lnTo>
                      <a:pt x="4534471" y="7257466"/>
                    </a:lnTo>
                    <a:close/>
                  </a:path>
                  <a:path w="4680585" h="7740015">
                    <a:moveTo>
                      <a:pt x="4535995" y="7727302"/>
                    </a:moveTo>
                    <a:lnTo>
                      <a:pt x="4463999" y="7727302"/>
                    </a:lnTo>
                    <a:lnTo>
                      <a:pt x="4463999" y="7740002"/>
                    </a:lnTo>
                    <a:lnTo>
                      <a:pt x="4535995" y="7740002"/>
                    </a:lnTo>
                    <a:lnTo>
                      <a:pt x="4535995" y="7727302"/>
                    </a:lnTo>
                    <a:close/>
                  </a:path>
                  <a:path w="4680585" h="7740015">
                    <a:moveTo>
                      <a:pt x="4576051" y="7395324"/>
                    </a:moveTo>
                    <a:lnTo>
                      <a:pt x="4555261" y="7326401"/>
                    </a:lnTo>
                    <a:lnTo>
                      <a:pt x="4543107" y="7330072"/>
                    </a:lnTo>
                    <a:lnTo>
                      <a:pt x="4563884" y="7398994"/>
                    </a:lnTo>
                    <a:lnTo>
                      <a:pt x="4576051" y="7395324"/>
                    </a:lnTo>
                    <a:close/>
                  </a:path>
                  <a:path w="4680585" h="7740015">
                    <a:moveTo>
                      <a:pt x="4585576" y="7708163"/>
                    </a:moveTo>
                    <a:lnTo>
                      <a:pt x="4514964" y="7694028"/>
                    </a:lnTo>
                    <a:lnTo>
                      <a:pt x="4512488" y="7706487"/>
                    </a:lnTo>
                    <a:lnTo>
                      <a:pt x="4583074" y="7720609"/>
                    </a:lnTo>
                    <a:lnTo>
                      <a:pt x="4585576" y="7708163"/>
                    </a:lnTo>
                    <a:close/>
                  </a:path>
                  <a:path w="4680585" h="7740015">
                    <a:moveTo>
                      <a:pt x="4617631" y="7533208"/>
                    </a:moveTo>
                    <a:lnTo>
                      <a:pt x="4602607" y="7483386"/>
                    </a:lnTo>
                    <a:lnTo>
                      <a:pt x="4602404" y="7482662"/>
                    </a:lnTo>
                    <a:lnTo>
                      <a:pt x="4596841" y="7464272"/>
                    </a:lnTo>
                    <a:lnTo>
                      <a:pt x="4584687" y="7467930"/>
                    </a:lnTo>
                    <a:lnTo>
                      <a:pt x="4605477" y="7536866"/>
                    </a:lnTo>
                    <a:lnTo>
                      <a:pt x="4617631" y="7533208"/>
                    </a:lnTo>
                    <a:close/>
                  </a:path>
                  <a:path w="4680585" h="7740015">
                    <a:moveTo>
                      <a:pt x="4659211" y="7671067"/>
                    </a:moveTo>
                    <a:lnTo>
                      <a:pt x="4638421" y="7602144"/>
                    </a:lnTo>
                    <a:lnTo>
                      <a:pt x="4626254" y="7605801"/>
                    </a:lnTo>
                    <a:lnTo>
                      <a:pt x="4647057" y="7674724"/>
                    </a:lnTo>
                    <a:lnTo>
                      <a:pt x="4659211" y="7671067"/>
                    </a:lnTo>
                    <a:close/>
                  </a:path>
                  <a:path w="4680585" h="7740015">
                    <a:moveTo>
                      <a:pt x="4670869" y="0"/>
                    </a:moveTo>
                    <a:lnTo>
                      <a:pt x="4598873" y="0"/>
                    </a:lnTo>
                    <a:lnTo>
                      <a:pt x="4598873" y="12700"/>
                    </a:lnTo>
                    <a:lnTo>
                      <a:pt x="4670869" y="12700"/>
                    </a:lnTo>
                    <a:lnTo>
                      <a:pt x="4670869" y="0"/>
                    </a:lnTo>
                    <a:close/>
                  </a:path>
                  <a:path w="4680585" h="7740015">
                    <a:moveTo>
                      <a:pt x="4680013" y="7694854"/>
                    </a:moveTo>
                    <a:lnTo>
                      <a:pt x="4667313" y="7694854"/>
                    </a:lnTo>
                    <a:lnTo>
                      <a:pt x="4667313" y="7724508"/>
                    </a:lnTo>
                    <a:lnTo>
                      <a:pt x="4656175" y="7722286"/>
                    </a:lnTo>
                    <a:lnTo>
                      <a:pt x="4655172" y="7727302"/>
                    </a:lnTo>
                    <a:lnTo>
                      <a:pt x="4608004" y="7727302"/>
                    </a:lnTo>
                    <a:lnTo>
                      <a:pt x="4608004" y="7740002"/>
                    </a:lnTo>
                    <a:lnTo>
                      <a:pt x="4680001" y="7740002"/>
                    </a:lnTo>
                    <a:lnTo>
                      <a:pt x="4680013" y="7724508"/>
                    </a:lnTo>
                    <a:lnTo>
                      <a:pt x="4680013" y="7694854"/>
                    </a:lnTo>
                    <a:close/>
                  </a:path>
                  <a:path w="4680585" h="7740015">
                    <a:moveTo>
                      <a:pt x="4680013" y="7550861"/>
                    </a:moveTo>
                    <a:lnTo>
                      <a:pt x="4667313" y="7550861"/>
                    </a:lnTo>
                    <a:lnTo>
                      <a:pt x="4667313" y="7622857"/>
                    </a:lnTo>
                    <a:lnTo>
                      <a:pt x="4680013" y="7622857"/>
                    </a:lnTo>
                    <a:lnTo>
                      <a:pt x="4680013" y="7550861"/>
                    </a:lnTo>
                    <a:close/>
                  </a:path>
                  <a:path w="4680585" h="7740015">
                    <a:moveTo>
                      <a:pt x="4680013" y="7406856"/>
                    </a:moveTo>
                    <a:lnTo>
                      <a:pt x="4667313" y="7406856"/>
                    </a:lnTo>
                    <a:lnTo>
                      <a:pt x="4667313" y="7478852"/>
                    </a:lnTo>
                    <a:lnTo>
                      <a:pt x="4680013" y="7478852"/>
                    </a:lnTo>
                    <a:lnTo>
                      <a:pt x="4680013" y="7406856"/>
                    </a:lnTo>
                    <a:close/>
                  </a:path>
                  <a:path w="4680585" h="7740015">
                    <a:moveTo>
                      <a:pt x="4680013" y="7262850"/>
                    </a:moveTo>
                    <a:lnTo>
                      <a:pt x="4667313" y="7262850"/>
                    </a:lnTo>
                    <a:lnTo>
                      <a:pt x="4667313" y="7334859"/>
                    </a:lnTo>
                    <a:lnTo>
                      <a:pt x="4680013" y="7334859"/>
                    </a:lnTo>
                    <a:lnTo>
                      <a:pt x="4680013" y="7262850"/>
                    </a:lnTo>
                    <a:close/>
                  </a:path>
                  <a:path w="4680585" h="7740015">
                    <a:moveTo>
                      <a:pt x="4680013" y="7118858"/>
                    </a:moveTo>
                    <a:lnTo>
                      <a:pt x="4667313" y="7118858"/>
                    </a:lnTo>
                    <a:lnTo>
                      <a:pt x="4667313" y="7190854"/>
                    </a:lnTo>
                    <a:lnTo>
                      <a:pt x="4680013" y="7190854"/>
                    </a:lnTo>
                    <a:lnTo>
                      <a:pt x="4680013" y="7118858"/>
                    </a:lnTo>
                    <a:close/>
                  </a:path>
                  <a:path w="4680585" h="7740015">
                    <a:moveTo>
                      <a:pt x="4680013" y="6974853"/>
                    </a:moveTo>
                    <a:lnTo>
                      <a:pt x="4667313" y="6974853"/>
                    </a:lnTo>
                    <a:lnTo>
                      <a:pt x="4667313" y="7046849"/>
                    </a:lnTo>
                    <a:lnTo>
                      <a:pt x="4680013" y="7046849"/>
                    </a:lnTo>
                    <a:lnTo>
                      <a:pt x="4680013" y="6974853"/>
                    </a:lnTo>
                    <a:close/>
                  </a:path>
                  <a:path w="4680585" h="7740015">
                    <a:moveTo>
                      <a:pt x="4680013" y="6830847"/>
                    </a:moveTo>
                    <a:lnTo>
                      <a:pt x="4667313" y="6830847"/>
                    </a:lnTo>
                    <a:lnTo>
                      <a:pt x="4667313" y="6902856"/>
                    </a:lnTo>
                    <a:lnTo>
                      <a:pt x="4680013" y="6902856"/>
                    </a:lnTo>
                    <a:lnTo>
                      <a:pt x="4680013" y="6830847"/>
                    </a:lnTo>
                    <a:close/>
                  </a:path>
                  <a:path w="4680585" h="7740015">
                    <a:moveTo>
                      <a:pt x="4680013" y="6686867"/>
                    </a:moveTo>
                    <a:lnTo>
                      <a:pt x="4667313" y="6686867"/>
                    </a:lnTo>
                    <a:lnTo>
                      <a:pt x="4667313" y="6758864"/>
                    </a:lnTo>
                    <a:lnTo>
                      <a:pt x="4680013" y="6758864"/>
                    </a:lnTo>
                    <a:lnTo>
                      <a:pt x="4680013" y="6686867"/>
                    </a:lnTo>
                    <a:close/>
                  </a:path>
                  <a:path w="4680585" h="7740015">
                    <a:moveTo>
                      <a:pt x="4680013" y="6542862"/>
                    </a:moveTo>
                    <a:lnTo>
                      <a:pt x="4667313" y="6542862"/>
                    </a:lnTo>
                    <a:lnTo>
                      <a:pt x="4667313" y="6614858"/>
                    </a:lnTo>
                    <a:lnTo>
                      <a:pt x="4680013" y="6614858"/>
                    </a:lnTo>
                    <a:lnTo>
                      <a:pt x="4680013" y="6542862"/>
                    </a:lnTo>
                    <a:close/>
                  </a:path>
                  <a:path w="4680585" h="7740015">
                    <a:moveTo>
                      <a:pt x="4680013" y="6398857"/>
                    </a:moveTo>
                    <a:lnTo>
                      <a:pt x="4667313" y="6398857"/>
                    </a:lnTo>
                    <a:lnTo>
                      <a:pt x="4667313" y="6470853"/>
                    </a:lnTo>
                    <a:lnTo>
                      <a:pt x="4680013" y="6470853"/>
                    </a:lnTo>
                    <a:lnTo>
                      <a:pt x="4680013" y="6398857"/>
                    </a:lnTo>
                    <a:close/>
                  </a:path>
                  <a:path w="4680585" h="7740015">
                    <a:moveTo>
                      <a:pt x="4680013" y="6254851"/>
                    </a:moveTo>
                    <a:lnTo>
                      <a:pt x="4667313" y="6254851"/>
                    </a:lnTo>
                    <a:lnTo>
                      <a:pt x="4667313" y="6326860"/>
                    </a:lnTo>
                    <a:lnTo>
                      <a:pt x="4680013" y="6326860"/>
                    </a:lnTo>
                    <a:lnTo>
                      <a:pt x="4680013" y="6254851"/>
                    </a:lnTo>
                    <a:close/>
                  </a:path>
                  <a:path w="4680585" h="7740015">
                    <a:moveTo>
                      <a:pt x="4680013" y="6110859"/>
                    </a:moveTo>
                    <a:lnTo>
                      <a:pt x="4667313" y="6110859"/>
                    </a:lnTo>
                    <a:lnTo>
                      <a:pt x="4667313" y="6182855"/>
                    </a:lnTo>
                    <a:lnTo>
                      <a:pt x="4680013" y="6182855"/>
                    </a:lnTo>
                    <a:lnTo>
                      <a:pt x="4680013" y="6110859"/>
                    </a:lnTo>
                    <a:close/>
                  </a:path>
                  <a:path w="4680585" h="7740015">
                    <a:moveTo>
                      <a:pt x="4680013" y="5966853"/>
                    </a:moveTo>
                    <a:lnTo>
                      <a:pt x="4667313" y="5966853"/>
                    </a:lnTo>
                    <a:lnTo>
                      <a:pt x="4667313" y="6038850"/>
                    </a:lnTo>
                    <a:lnTo>
                      <a:pt x="4680013" y="6038850"/>
                    </a:lnTo>
                    <a:lnTo>
                      <a:pt x="4680013" y="5966853"/>
                    </a:lnTo>
                    <a:close/>
                  </a:path>
                  <a:path w="4680585" h="7740015">
                    <a:moveTo>
                      <a:pt x="4680013" y="5822848"/>
                    </a:moveTo>
                    <a:lnTo>
                      <a:pt x="4667313" y="5822848"/>
                    </a:lnTo>
                    <a:lnTo>
                      <a:pt x="4667313" y="5894857"/>
                    </a:lnTo>
                    <a:lnTo>
                      <a:pt x="4680013" y="5894857"/>
                    </a:lnTo>
                    <a:lnTo>
                      <a:pt x="4680013" y="5822848"/>
                    </a:lnTo>
                    <a:close/>
                  </a:path>
                  <a:path w="4680585" h="7740015">
                    <a:moveTo>
                      <a:pt x="4680013" y="5678856"/>
                    </a:moveTo>
                    <a:lnTo>
                      <a:pt x="4667313" y="5678856"/>
                    </a:lnTo>
                    <a:lnTo>
                      <a:pt x="4667313" y="5750852"/>
                    </a:lnTo>
                    <a:lnTo>
                      <a:pt x="4680013" y="5750852"/>
                    </a:lnTo>
                    <a:lnTo>
                      <a:pt x="4680013" y="5678856"/>
                    </a:lnTo>
                    <a:close/>
                  </a:path>
                  <a:path w="4680585" h="7740015">
                    <a:moveTo>
                      <a:pt x="4680013" y="5534863"/>
                    </a:moveTo>
                    <a:lnTo>
                      <a:pt x="4667313" y="5534863"/>
                    </a:lnTo>
                    <a:lnTo>
                      <a:pt x="4667313" y="5606859"/>
                    </a:lnTo>
                    <a:lnTo>
                      <a:pt x="4680013" y="5606859"/>
                    </a:lnTo>
                    <a:lnTo>
                      <a:pt x="4680013" y="5534863"/>
                    </a:lnTo>
                    <a:close/>
                  </a:path>
                  <a:path w="4680585" h="7740015">
                    <a:moveTo>
                      <a:pt x="4680013" y="5390858"/>
                    </a:moveTo>
                    <a:lnTo>
                      <a:pt x="4667313" y="5390858"/>
                    </a:lnTo>
                    <a:lnTo>
                      <a:pt x="4667313" y="5462854"/>
                    </a:lnTo>
                    <a:lnTo>
                      <a:pt x="4680013" y="5462854"/>
                    </a:lnTo>
                    <a:lnTo>
                      <a:pt x="4680013" y="5390858"/>
                    </a:lnTo>
                    <a:close/>
                  </a:path>
                  <a:path w="4680585" h="7740015">
                    <a:moveTo>
                      <a:pt x="4680013" y="5246852"/>
                    </a:moveTo>
                    <a:lnTo>
                      <a:pt x="4667313" y="5246852"/>
                    </a:lnTo>
                    <a:lnTo>
                      <a:pt x="4667313" y="5318861"/>
                    </a:lnTo>
                    <a:lnTo>
                      <a:pt x="4680013" y="5318861"/>
                    </a:lnTo>
                    <a:lnTo>
                      <a:pt x="4680013" y="5246852"/>
                    </a:lnTo>
                    <a:close/>
                  </a:path>
                  <a:path w="4680585" h="7740015">
                    <a:moveTo>
                      <a:pt x="4680013" y="5102860"/>
                    </a:moveTo>
                    <a:lnTo>
                      <a:pt x="4667313" y="5102860"/>
                    </a:lnTo>
                    <a:lnTo>
                      <a:pt x="4667313" y="5174856"/>
                    </a:lnTo>
                    <a:lnTo>
                      <a:pt x="4680013" y="5174856"/>
                    </a:lnTo>
                    <a:lnTo>
                      <a:pt x="4680013" y="5102860"/>
                    </a:lnTo>
                    <a:close/>
                  </a:path>
                  <a:path w="4680585" h="7740015">
                    <a:moveTo>
                      <a:pt x="4680013" y="4958854"/>
                    </a:moveTo>
                    <a:lnTo>
                      <a:pt x="4667313" y="4958854"/>
                    </a:lnTo>
                    <a:lnTo>
                      <a:pt x="4667313" y="5030851"/>
                    </a:lnTo>
                    <a:lnTo>
                      <a:pt x="4680013" y="5030851"/>
                    </a:lnTo>
                    <a:lnTo>
                      <a:pt x="4680013" y="4958854"/>
                    </a:lnTo>
                    <a:close/>
                  </a:path>
                  <a:path w="4680585" h="7740015">
                    <a:moveTo>
                      <a:pt x="4680013" y="4814849"/>
                    </a:moveTo>
                    <a:lnTo>
                      <a:pt x="4667313" y="4814849"/>
                    </a:lnTo>
                    <a:lnTo>
                      <a:pt x="4667313" y="4886858"/>
                    </a:lnTo>
                    <a:lnTo>
                      <a:pt x="4680013" y="4886858"/>
                    </a:lnTo>
                    <a:lnTo>
                      <a:pt x="4680013" y="4814849"/>
                    </a:lnTo>
                    <a:close/>
                  </a:path>
                  <a:path w="4680585" h="7740015">
                    <a:moveTo>
                      <a:pt x="4680013" y="4670857"/>
                    </a:moveTo>
                    <a:lnTo>
                      <a:pt x="4667313" y="4670857"/>
                    </a:lnTo>
                    <a:lnTo>
                      <a:pt x="4667313" y="4742853"/>
                    </a:lnTo>
                    <a:lnTo>
                      <a:pt x="4680013" y="4742853"/>
                    </a:lnTo>
                    <a:lnTo>
                      <a:pt x="4680013" y="4670857"/>
                    </a:lnTo>
                    <a:close/>
                  </a:path>
                  <a:path w="4680585" h="7740015">
                    <a:moveTo>
                      <a:pt x="4680013" y="4526851"/>
                    </a:moveTo>
                    <a:lnTo>
                      <a:pt x="4667313" y="4526851"/>
                    </a:lnTo>
                    <a:lnTo>
                      <a:pt x="4667313" y="4598848"/>
                    </a:lnTo>
                    <a:lnTo>
                      <a:pt x="4680013" y="4598848"/>
                    </a:lnTo>
                    <a:lnTo>
                      <a:pt x="4680013" y="4526851"/>
                    </a:lnTo>
                    <a:close/>
                  </a:path>
                  <a:path w="4680585" h="7740015">
                    <a:moveTo>
                      <a:pt x="4680013" y="4382859"/>
                    </a:moveTo>
                    <a:lnTo>
                      <a:pt x="4667313" y="4382859"/>
                    </a:lnTo>
                    <a:lnTo>
                      <a:pt x="4667313" y="4454868"/>
                    </a:lnTo>
                    <a:lnTo>
                      <a:pt x="4680013" y="4454868"/>
                    </a:lnTo>
                    <a:lnTo>
                      <a:pt x="4680013" y="4382859"/>
                    </a:lnTo>
                    <a:close/>
                  </a:path>
                  <a:path w="4680585" h="7740015">
                    <a:moveTo>
                      <a:pt x="4680013" y="4238853"/>
                    </a:moveTo>
                    <a:lnTo>
                      <a:pt x="4667313" y="4238853"/>
                    </a:lnTo>
                    <a:lnTo>
                      <a:pt x="4667313" y="4310862"/>
                    </a:lnTo>
                    <a:lnTo>
                      <a:pt x="4680013" y="4310862"/>
                    </a:lnTo>
                    <a:lnTo>
                      <a:pt x="4680013" y="4238853"/>
                    </a:lnTo>
                    <a:close/>
                  </a:path>
                  <a:path w="4680585" h="7740015">
                    <a:moveTo>
                      <a:pt x="4680013" y="4094861"/>
                    </a:moveTo>
                    <a:lnTo>
                      <a:pt x="4667313" y="4094861"/>
                    </a:lnTo>
                    <a:lnTo>
                      <a:pt x="4667313" y="4166857"/>
                    </a:lnTo>
                    <a:lnTo>
                      <a:pt x="4680013" y="4166857"/>
                    </a:lnTo>
                    <a:lnTo>
                      <a:pt x="4680013" y="4094861"/>
                    </a:lnTo>
                    <a:close/>
                  </a:path>
                  <a:path w="4680585" h="7740015">
                    <a:moveTo>
                      <a:pt x="4680013" y="3950855"/>
                    </a:moveTo>
                    <a:lnTo>
                      <a:pt x="4667313" y="3950855"/>
                    </a:lnTo>
                    <a:lnTo>
                      <a:pt x="4667313" y="4022852"/>
                    </a:lnTo>
                    <a:lnTo>
                      <a:pt x="4680013" y="4022852"/>
                    </a:lnTo>
                    <a:lnTo>
                      <a:pt x="4680013" y="3950855"/>
                    </a:lnTo>
                    <a:close/>
                  </a:path>
                  <a:path w="4680585" h="7740015">
                    <a:moveTo>
                      <a:pt x="4680013" y="3806863"/>
                    </a:moveTo>
                    <a:lnTo>
                      <a:pt x="4667313" y="3806863"/>
                    </a:lnTo>
                    <a:lnTo>
                      <a:pt x="4667313" y="3878859"/>
                    </a:lnTo>
                    <a:lnTo>
                      <a:pt x="4680013" y="3878859"/>
                    </a:lnTo>
                    <a:lnTo>
                      <a:pt x="4680013" y="3806863"/>
                    </a:lnTo>
                    <a:close/>
                  </a:path>
                  <a:path w="4680585" h="7740015">
                    <a:moveTo>
                      <a:pt x="4680013" y="3662857"/>
                    </a:moveTo>
                    <a:lnTo>
                      <a:pt x="4667313" y="3662857"/>
                    </a:lnTo>
                    <a:lnTo>
                      <a:pt x="4667313" y="3734854"/>
                    </a:lnTo>
                    <a:lnTo>
                      <a:pt x="4680013" y="3734854"/>
                    </a:lnTo>
                    <a:lnTo>
                      <a:pt x="4680013" y="3662857"/>
                    </a:lnTo>
                    <a:close/>
                  </a:path>
                  <a:path w="4680585" h="7740015">
                    <a:moveTo>
                      <a:pt x="4680013" y="3518865"/>
                    </a:moveTo>
                    <a:lnTo>
                      <a:pt x="4667313" y="3518865"/>
                    </a:lnTo>
                    <a:lnTo>
                      <a:pt x="4667313" y="3590861"/>
                    </a:lnTo>
                    <a:lnTo>
                      <a:pt x="4680013" y="3590861"/>
                    </a:lnTo>
                    <a:lnTo>
                      <a:pt x="4680013" y="3518865"/>
                    </a:lnTo>
                    <a:close/>
                  </a:path>
                  <a:path w="4680585" h="7740015">
                    <a:moveTo>
                      <a:pt x="4680013" y="3374860"/>
                    </a:moveTo>
                    <a:lnTo>
                      <a:pt x="4667313" y="3374860"/>
                    </a:lnTo>
                    <a:lnTo>
                      <a:pt x="4667313" y="3446856"/>
                    </a:lnTo>
                    <a:lnTo>
                      <a:pt x="4680013" y="3446856"/>
                    </a:lnTo>
                    <a:lnTo>
                      <a:pt x="4680013" y="3374860"/>
                    </a:lnTo>
                    <a:close/>
                  </a:path>
                  <a:path w="4680585" h="7740015">
                    <a:moveTo>
                      <a:pt x="4680013" y="3230867"/>
                    </a:moveTo>
                    <a:lnTo>
                      <a:pt x="4667313" y="3230867"/>
                    </a:lnTo>
                    <a:lnTo>
                      <a:pt x="4667313" y="3302863"/>
                    </a:lnTo>
                    <a:lnTo>
                      <a:pt x="4680013" y="3302863"/>
                    </a:lnTo>
                    <a:lnTo>
                      <a:pt x="4680013" y="3230867"/>
                    </a:lnTo>
                    <a:close/>
                  </a:path>
                  <a:path w="4680585" h="7740015">
                    <a:moveTo>
                      <a:pt x="4680013" y="3086862"/>
                    </a:moveTo>
                    <a:lnTo>
                      <a:pt x="4667313" y="3086862"/>
                    </a:lnTo>
                    <a:lnTo>
                      <a:pt x="4667313" y="3158858"/>
                    </a:lnTo>
                    <a:lnTo>
                      <a:pt x="4680013" y="3158858"/>
                    </a:lnTo>
                    <a:lnTo>
                      <a:pt x="4680013" y="3086862"/>
                    </a:lnTo>
                    <a:close/>
                  </a:path>
                  <a:path w="4680585" h="7740015">
                    <a:moveTo>
                      <a:pt x="4680013" y="2942856"/>
                    </a:moveTo>
                    <a:lnTo>
                      <a:pt x="4667313" y="2942856"/>
                    </a:lnTo>
                    <a:lnTo>
                      <a:pt x="4667313" y="3014853"/>
                    </a:lnTo>
                    <a:lnTo>
                      <a:pt x="4680013" y="3014853"/>
                    </a:lnTo>
                    <a:lnTo>
                      <a:pt x="4680013" y="2942856"/>
                    </a:lnTo>
                    <a:close/>
                  </a:path>
                  <a:path w="4680585" h="7740015">
                    <a:moveTo>
                      <a:pt x="4680013" y="2798851"/>
                    </a:moveTo>
                    <a:lnTo>
                      <a:pt x="4667313" y="2798851"/>
                    </a:lnTo>
                    <a:lnTo>
                      <a:pt x="4667313" y="2870847"/>
                    </a:lnTo>
                    <a:lnTo>
                      <a:pt x="4680013" y="2870847"/>
                    </a:lnTo>
                    <a:lnTo>
                      <a:pt x="4680013" y="2798851"/>
                    </a:lnTo>
                    <a:close/>
                  </a:path>
                  <a:path w="4680585" h="7740015">
                    <a:moveTo>
                      <a:pt x="4680013" y="2654858"/>
                    </a:moveTo>
                    <a:lnTo>
                      <a:pt x="4667313" y="2654858"/>
                    </a:lnTo>
                    <a:lnTo>
                      <a:pt x="4667313" y="2726855"/>
                    </a:lnTo>
                    <a:lnTo>
                      <a:pt x="4680013" y="2726855"/>
                    </a:lnTo>
                    <a:lnTo>
                      <a:pt x="4680013" y="2654858"/>
                    </a:lnTo>
                    <a:close/>
                  </a:path>
                  <a:path w="4680585" h="7740015">
                    <a:moveTo>
                      <a:pt x="4680013" y="2510866"/>
                    </a:moveTo>
                    <a:lnTo>
                      <a:pt x="4667313" y="2510866"/>
                    </a:lnTo>
                    <a:lnTo>
                      <a:pt x="4667313" y="2582862"/>
                    </a:lnTo>
                    <a:lnTo>
                      <a:pt x="4680013" y="2582862"/>
                    </a:lnTo>
                    <a:lnTo>
                      <a:pt x="4680013" y="2510866"/>
                    </a:lnTo>
                    <a:close/>
                  </a:path>
                  <a:path w="4680585" h="7740015">
                    <a:moveTo>
                      <a:pt x="4680013" y="2366861"/>
                    </a:moveTo>
                    <a:lnTo>
                      <a:pt x="4667313" y="2366861"/>
                    </a:lnTo>
                    <a:lnTo>
                      <a:pt x="4667313" y="2438857"/>
                    </a:lnTo>
                    <a:lnTo>
                      <a:pt x="4680013" y="2438857"/>
                    </a:lnTo>
                    <a:lnTo>
                      <a:pt x="4680013" y="2366861"/>
                    </a:lnTo>
                    <a:close/>
                  </a:path>
                  <a:path w="4680585" h="7740015">
                    <a:moveTo>
                      <a:pt x="4680013" y="2222855"/>
                    </a:moveTo>
                    <a:lnTo>
                      <a:pt x="4667313" y="2222855"/>
                    </a:lnTo>
                    <a:lnTo>
                      <a:pt x="4667313" y="2294852"/>
                    </a:lnTo>
                    <a:lnTo>
                      <a:pt x="4680013" y="2294852"/>
                    </a:lnTo>
                    <a:lnTo>
                      <a:pt x="4680013" y="2222855"/>
                    </a:lnTo>
                    <a:close/>
                  </a:path>
                  <a:path w="4680585" h="7740015">
                    <a:moveTo>
                      <a:pt x="4680013" y="2078863"/>
                    </a:moveTo>
                    <a:lnTo>
                      <a:pt x="4667313" y="2078863"/>
                    </a:lnTo>
                    <a:lnTo>
                      <a:pt x="4667313" y="2150859"/>
                    </a:lnTo>
                    <a:lnTo>
                      <a:pt x="4680013" y="2150859"/>
                    </a:lnTo>
                    <a:lnTo>
                      <a:pt x="4680013" y="2078863"/>
                    </a:lnTo>
                    <a:close/>
                  </a:path>
                  <a:path w="4680585" h="7740015">
                    <a:moveTo>
                      <a:pt x="4680013" y="1934857"/>
                    </a:moveTo>
                    <a:lnTo>
                      <a:pt x="4667313" y="1934857"/>
                    </a:lnTo>
                    <a:lnTo>
                      <a:pt x="4667313" y="2006854"/>
                    </a:lnTo>
                    <a:lnTo>
                      <a:pt x="4680013" y="2006854"/>
                    </a:lnTo>
                    <a:lnTo>
                      <a:pt x="4680013" y="1934857"/>
                    </a:lnTo>
                    <a:close/>
                  </a:path>
                  <a:path w="4680585" h="7740015">
                    <a:moveTo>
                      <a:pt x="4680013" y="1790852"/>
                    </a:moveTo>
                    <a:lnTo>
                      <a:pt x="4667313" y="1790852"/>
                    </a:lnTo>
                    <a:lnTo>
                      <a:pt x="4667313" y="1862848"/>
                    </a:lnTo>
                    <a:lnTo>
                      <a:pt x="4680013" y="1862848"/>
                    </a:lnTo>
                    <a:lnTo>
                      <a:pt x="4680013" y="1790852"/>
                    </a:lnTo>
                    <a:close/>
                  </a:path>
                  <a:path w="4680585" h="7740015">
                    <a:moveTo>
                      <a:pt x="4680013" y="1646859"/>
                    </a:moveTo>
                    <a:lnTo>
                      <a:pt x="4667313" y="1646859"/>
                    </a:lnTo>
                    <a:lnTo>
                      <a:pt x="4667313" y="1718856"/>
                    </a:lnTo>
                    <a:lnTo>
                      <a:pt x="4680013" y="1718856"/>
                    </a:lnTo>
                    <a:lnTo>
                      <a:pt x="4680013" y="1646859"/>
                    </a:lnTo>
                    <a:close/>
                  </a:path>
                  <a:path w="4680585" h="7740015">
                    <a:moveTo>
                      <a:pt x="4680013" y="1502867"/>
                    </a:moveTo>
                    <a:lnTo>
                      <a:pt x="4667313" y="1502867"/>
                    </a:lnTo>
                    <a:lnTo>
                      <a:pt x="4667313" y="1574863"/>
                    </a:lnTo>
                    <a:lnTo>
                      <a:pt x="4680013" y="1574863"/>
                    </a:lnTo>
                    <a:lnTo>
                      <a:pt x="4680013" y="1502867"/>
                    </a:lnTo>
                    <a:close/>
                  </a:path>
                  <a:path w="4680585" h="7740015">
                    <a:moveTo>
                      <a:pt x="4680013" y="1358861"/>
                    </a:moveTo>
                    <a:lnTo>
                      <a:pt x="4667313" y="1358861"/>
                    </a:lnTo>
                    <a:lnTo>
                      <a:pt x="4667313" y="1430858"/>
                    </a:lnTo>
                    <a:lnTo>
                      <a:pt x="4680013" y="1430858"/>
                    </a:lnTo>
                    <a:lnTo>
                      <a:pt x="4680013" y="1358861"/>
                    </a:lnTo>
                    <a:close/>
                  </a:path>
                  <a:path w="4680585" h="7740015">
                    <a:moveTo>
                      <a:pt x="4680013" y="1214856"/>
                    </a:moveTo>
                    <a:lnTo>
                      <a:pt x="4667313" y="1214856"/>
                    </a:lnTo>
                    <a:lnTo>
                      <a:pt x="4667313" y="1286852"/>
                    </a:lnTo>
                    <a:lnTo>
                      <a:pt x="4680013" y="1286852"/>
                    </a:lnTo>
                    <a:lnTo>
                      <a:pt x="4680013" y="1214856"/>
                    </a:lnTo>
                    <a:close/>
                  </a:path>
                  <a:path w="4680585" h="7740015">
                    <a:moveTo>
                      <a:pt x="4680013" y="1070864"/>
                    </a:moveTo>
                    <a:lnTo>
                      <a:pt x="4667313" y="1070864"/>
                    </a:lnTo>
                    <a:lnTo>
                      <a:pt x="4667313" y="1142860"/>
                    </a:lnTo>
                    <a:lnTo>
                      <a:pt x="4680013" y="1142860"/>
                    </a:lnTo>
                    <a:lnTo>
                      <a:pt x="4680013" y="1070864"/>
                    </a:lnTo>
                    <a:close/>
                  </a:path>
                  <a:path w="4680585" h="7740015">
                    <a:moveTo>
                      <a:pt x="4680013" y="926858"/>
                    </a:moveTo>
                    <a:lnTo>
                      <a:pt x="4667313" y="926858"/>
                    </a:lnTo>
                    <a:lnTo>
                      <a:pt x="4667313" y="998855"/>
                    </a:lnTo>
                    <a:lnTo>
                      <a:pt x="4680013" y="998855"/>
                    </a:lnTo>
                    <a:lnTo>
                      <a:pt x="4680013" y="926858"/>
                    </a:lnTo>
                    <a:close/>
                  </a:path>
                  <a:path w="4680585" h="7740015">
                    <a:moveTo>
                      <a:pt x="4680013" y="782866"/>
                    </a:moveTo>
                    <a:lnTo>
                      <a:pt x="4667313" y="782866"/>
                    </a:lnTo>
                    <a:lnTo>
                      <a:pt x="4667313" y="854862"/>
                    </a:lnTo>
                    <a:lnTo>
                      <a:pt x="4680013" y="854862"/>
                    </a:lnTo>
                    <a:lnTo>
                      <a:pt x="4680013" y="782866"/>
                    </a:lnTo>
                    <a:close/>
                  </a:path>
                  <a:path w="4680585" h="7740015">
                    <a:moveTo>
                      <a:pt x="4680013" y="638860"/>
                    </a:moveTo>
                    <a:lnTo>
                      <a:pt x="4667313" y="638860"/>
                    </a:lnTo>
                    <a:lnTo>
                      <a:pt x="4667313" y="710857"/>
                    </a:lnTo>
                    <a:lnTo>
                      <a:pt x="4680013" y="710857"/>
                    </a:lnTo>
                    <a:lnTo>
                      <a:pt x="4680013" y="638860"/>
                    </a:lnTo>
                    <a:close/>
                  </a:path>
                  <a:path w="4680585" h="7740015">
                    <a:moveTo>
                      <a:pt x="4680013" y="494868"/>
                    </a:moveTo>
                    <a:lnTo>
                      <a:pt x="4667313" y="494868"/>
                    </a:lnTo>
                    <a:lnTo>
                      <a:pt x="4667313" y="566864"/>
                    </a:lnTo>
                    <a:lnTo>
                      <a:pt x="4680013" y="566864"/>
                    </a:lnTo>
                    <a:lnTo>
                      <a:pt x="4680013" y="494868"/>
                    </a:lnTo>
                    <a:close/>
                  </a:path>
                  <a:path w="4680585" h="7740015">
                    <a:moveTo>
                      <a:pt x="4680013" y="350862"/>
                    </a:moveTo>
                    <a:lnTo>
                      <a:pt x="4667313" y="350862"/>
                    </a:lnTo>
                    <a:lnTo>
                      <a:pt x="4667313" y="422859"/>
                    </a:lnTo>
                    <a:lnTo>
                      <a:pt x="4680013" y="422859"/>
                    </a:lnTo>
                    <a:lnTo>
                      <a:pt x="4680013" y="350862"/>
                    </a:lnTo>
                    <a:close/>
                  </a:path>
                  <a:path w="4680585" h="7740015">
                    <a:moveTo>
                      <a:pt x="4680013" y="206857"/>
                    </a:moveTo>
                    <a:lnTo>
                      <a:pt x="4667313" y="206857"/>
                    </a:lnTo>
                    <a:lnTo>
                      <a:pt x="4667313" y="278853"/>
                    </a:lnTo>
                    <a:lnTo>
                      <a:pt x="4680013" y="278853"/>
                    </a:lnTo>
                    <a:lnTo>
                      <a:pt x="4680013" y="206857"/>
                    </a:lnTo>
                    <a:close/>
                  </a:path>
                  <a:path w="4680585" h="7740015">
                    <a:moveTo>
                      <a:pt x="4680013" y="62852"/>
                    </a:moveTo>
                    <a:lnTo>
                      <a:pt x="4667313" y="62852"/>
                    </a:lnTo>
                    <a:lnTo>
                      <a:pt x="4667313" y="134848"/>
                    </a:lnTo>
                    <a:lnTo>
                      <a:pt x="4680013" y="134848"/>
                    </a:lnTo>
                    <a:lnTo>
                      <a:pt x="4680013" y="62852"/>
                    </a:lnTo>
                    <a:close/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object 29"/>
              <p:cNvSpPr/>
              <p:nvPr/>
            </p:nvSpPr>
            <p:spPr>
              <a:xfrm>
                <a:off x="997200" y="996840"/>
                <a:ext cx="4680000" cy="7741440"/>
              </a:xfrm>
              <a:custGeom>
                <a:avLst/>
                <a:gdLst/>
                <a:ahLst/>
                <a:rect l="l" t="t" r="r" b="b"/>
                <a:pathLst>
                  <a:path w="4680585" h="7740015">
                    <a:moveTo>
                      <a:pt x="216001" y="0"/>
                    </a:moveTo>
                    <a:lnTo>
                      <a:pt x="144005" y="0"/>
                    </a:lnTo>
                    <a:lnTo>
                      <a:pt x="144005" y="12700"/>
                    </a:lnTo>
                    <a:lnTo>
                      <a:pt x="216001" y="12700"/>
                    </a:lnTo>
                    <a:lnTo>
                      <a:pt x="216001" y="0"/>
                    </a:lnTo>
                    <a:close/>
                  </a:path>
                  <a:path w="4680585" h="7740015">
                    <a:moveTo>
                      <a:pt x="359994" y="0"/>
                    </a:moveTo>
                    <a:lnTo>
                      <a:pt x="287997" y="0"/>
                    </a:lnTo>
                    <a:lnTo>
                      <a:pt x="287997" y="12700"/>
                    </a:lnTo>
                    <a:lnTo>
                      <a:pt x="359994" y="12700"/>
                    </a:lnTo>
                    <a:lnTo>
                      <a:pt x="359994" y="0"/>
                    </a:lnTo>
                    <a:close/>
                  </a:path>
                  <a:path w="4680585" h="7740015">
                    <a:moveTo>
                      <a:pt x="503999" y="0"/>
                    </a:moveTo>
                    <a:lnTo>
                      <a:pt x="432003" y="0"/>
                    </a:lnTo>
                    <a:lnTo>
                      <a:pt x="432003" y="12700"/>
                    </a:lnTo>
                    <a:lnTo>
                      <a:pt x="503999" y="12700"/>
                    </a:lnTo>
                    <a:lnTo>
                      <a:pt x="503999" y="0"/>
                    </a:lnTo>
                    <a:close/>
                  </a:path>
                  <a:path w="4680585" h="7740015">
                    <a:moveTo>
                      <a:pt x="648004" y="0"/>
                    </a:moveTo>
                    <a:lnTo>
                      <a:pt x="576008" y="0"/>
                    </a:lnTo>
                    <a:lnTo>
                      <a:pt x="576008" y="12700"/>
                    </a:lnTo>
                    <a:lnTo>
                      <a:pt x="648004" y="12700"/>
                    </a:lnTo>
                    <a:lnTo>
                      <a:pt x="648004" y="0"/>
                    </a:lnTo>
                    <a:close/>
                  </a:path>
                  <a:path w="4680585" h="7740015">
                    <a:moveTo>
                      <a:pt x="792010" y="0"/>
                    </a:moveTo>
                    <a:lnTo>
                      <a:pt x="720013" y="0"/>
                    </a:lnTo>
                    <a:lnTo>
                      <a:pt x="720013" y="12700"/>
                    </a:lnTo>
                    <a:lnTo>
                      <a:pt x="792010" y="12700"/>
                    </a:lnTo>
                    <a:lnTo>
                      <a:pt x="792010" y="0"/>
                    </a:lnTo>
                    <a:close/>
                  </a:path>
                  <a:path w="4680585" h="7740015">
                    <a:moveTo>
                      <a:pt x="936002" y="0"/>
                    </a:moveTo>
                    <a:lnTo>
                      <a:pt x="864006" y="0"/>
                    </a:lnTo>
                    <a:lnTo>
                      <a:pt x="864006" y="12700"/>
                    </a:lnTo>
                    <a:lnTo>
                      <a:pt x="936002" y="12700"/>
                    </a:lnTo>
                    <a:lnTo>
                      <a:pt x="936002" y="0"/>
                    </a:lnTo>
                    <a:close/>
                  </a:path>
                  <a:path w="4680585" h="7740015">
                    <a:moveTo>
                      <a:pt x="1079995" y="0"/>
                    </a:moveTo>
                    <a:lnTo>
                      <a:pt x="1007998" y="0"/>
                    </a:lnTo>
                    <a:lnTo>
                      <a:pt x="1007998" y="12700"/>
                    </a:lnTo>
                    <a:lnTo>
                      <a:pt x="1079995" y="12700"/>
                    </a:lnTo>
                    <a:lnTo>
                      <a:pt x="1079995" y="0"/>
                    </a:lnTo>
                    <a:close/>
                  </a:path>
                  <a:path w="4680585" h="7740015">
                    <a:moveTo>
                      <a:pt x="1224000" y="0"/>
                    </a:moveTo>
                    <a:lnTo>
                      <a:pt x="1152004" y="0"/>
                    </a:lnTo>
                    <a:lnTo>
                      <a:pt x="1152004" y="12700"/>
                    </a:lnTo>
                    <a:lnTo>
                      <a:pt x="1224000" y="12700"/>
                    </a:lnTo>
                    <a:lnTo>
                      <a:pt x="1224000" y="0"/>
                    </a:lnTo>
                    <a:close/>
                  </a:path>
                  <a:path w="4680585" h="7740015">
                    <a:moveTo>
                      <a:pt x="1368005" y="0"/>
                    </a:moveTo>
                    <a:lnTo>
                      <a:pt x="1296009" y="0"/>
                    </a:lnTo>
                    <a:lnTo>
                      <a:pt x="1296009" y="12700"/>
                    </a:lnTo>
                    <a:lnTo>
                      <a:pt x="1368005" y="12700"/>
                    </a:lnTo>
                    <a:lnTo>
                      <a:pt x="1368005" y="0"/>
                    </a:lnTo>
                    <a:close/>
                  </a:path>
                  <a:path w="4680585" h="7740015">
                    <a:moveTo>
                      <a:pt x="1511998" y="0"/>
                    </a:moveTo>
                    <a:lnTo>
                      <a:pt x="1440002" y="0"/>
                    </a:lnTo>
                    <a:lnTo>
                      <a:pt x="1440002" y="12700"/>
                    </a:lnTo>
                    <a:lnTo>
                      <a:pt x="1511998" y="12700"/>
                    </a:lnTo>
                    <a:lnTo>
                      <a:pt x="1511998" y="0"/>
                    </a:lnTo>
                    <a:close/>
                  </a:path>
                  <a:path w="4680585" h="7740015">
                    <a:moveTo>
                      <a:pt x="1656003" y="0"/>
                    </a:moveTo>
                    <a:lnTo>
                      <a:pt x="1584007" y="0"/>
                    </a:lnTo>
                    <a:lnTo>
                      <a:pt x="1584007" y="12700"/>
                    </a:lnTo>
                    <a:lnTo>
                      <a:pt x="1656003" y="12700"/>
                    </a:lnTo>
                    <a:lnTo>
                      <a:pt x="1656003" y="0"/>
                    </a:lnTo>
                    <a:close/>
                  </a:path>
                  <a:path w="4680585" h="7740015">
                    <a:moveTo>
                      <a:pt x="1799996" y="0"/>
                    </a:moveTo>
                    <a:lnTo>
                      <a:pt x="1728000" y="0"/>
                    </a:lnTo>
                    <a:lnTo>
                      <a:pt x="1728000" y="12700"/>
                    </a:lnTo>
                    <a:lnTo>
                      <a:pt x="1799996" y="12700"/>
                    </a:lnTo>
                    <a:lnTo>
                      <a:pt x="1799996" y="0"/>
                    </a:lnTo>
                    <a:close/>
                  </a:path>
                  <a:path w="4680585" h="7740015">
                    <a:moveTo>
                      <a:pt x="1944001" y="0"/>
                    </a:moveTo>
                    <a:lnTo>
                      <a:pt x="1872005" y="0"/>
                    </a:lnTo>
                    <a:lnTo>
                      <a:pt x="1872005" y="12700"/>
                    </a:lnTo>
                    <a:lnTo>
                      <a:pt x="1944001" y="12700"/>
                    </a:lnTo>
                    <a:lnTo>
                      <a:pt x="1944001" y="0"/>
                    </a:lnTo>
                    <a:close/>
                  </a:path>
                  <a:path w="4680585" h="7740015">
                    <a:moveTo>
                      <a:pt x="2087994" y="0"/>
                    </a:moveTo>
                    <a:lnTo>
                      <a:pt x="2015998" y="0"/>
                    </a:lnTo>
                    <a:lnTo>
                      <a:pt x="2015998" y="12700"/>
                    </a:lnTo>
                    <a:lnTo>
                      <a:pt x="2087994" y="12700"/>
                    </a:lnTo>
                    <a:lnTo>
                      <a:pt x="2087994" y="0"/>
                    </a:lnTo>
                    <a:close/>
                  </a:path>
                  <a:path w="4680585" h="7740015">
                    <a:moveTo>
                      <a:pt x="2231999" y="0"/>
                    </a:moveTo>
                    <a:lnTo>
                      <a:pt x="2160003" y="0"/>
                    </a:lnTo>
                    <a:lnTo>
                      <a:pt x="2160003" y="12700"/>
                    </a:lnTo>
                    <a:lnTo>
                      <a:pt x="2231999" y="12700"/>
                    </a:lnTo>
                    <a:lnTo>
                      <a:pt x="2231999" y="0"/>
                    </a:lnTo>
                    <a:close/>
                  </a:path>
                  <a:path w="4680585" h="7740015">
                    <a:moveTo>
                      <a:pt x="2376004" y="0"/>
                    </a:moveTo>
                    <a:lnTo>
                      <a:pt x="2304008" y="0"/>
                    </a:lnTo>
                    <a:lnTo>
                      <a:pt x="2304008" y="12700"/>
                    </a:lnTo>
                    <a:lnTo>
                      <a:pt x="2376004" y="12700"/>
                    </a:lnTo>
                    <a:lnTo>
                      <a:pt x="2376004" y="0"/>
                    </a:lnTo>
                    <a:close/>
                  </a:path>
                  <a:path w="4680585" h="7740015">
                    <a:moveTo>
                      <a:pt x="2520010" y="0"/>
                    </a:moveTo>
                    <a:lnTo>
                      <a:pt x="2448013" y="0"/>
                    </a:lnTo>
                    <a:lnTo>
                      <a:pt x="2448013" y="12700"/>
                    </a:lnTo>
                    <a:lnTo>
                      <a:pt x="2520010" y="12700"/>
                    </a:lnTo>
                    <a:lnTo>
                      <a:pt x="2520010" y="0"/>
                    </a:lnTo>
                    <a:close/>
                  </a:path>
                  <a:path w="4680585" h="7740015">
                    <a:moveTo>
                      <a:pt x="2664002" y="0"/>
                    </a:moveTo>
                    <a:lnTo>
                      <a:pt x="2591993" y="0"/>
                    </a:lnTo>
                    <a:lnTo>
                      <a:pt x="2591993" y="12700"/>
                    </a:lnTo>
                    <a:lnTo>
                      <a:pt x="2664002" y="12700"/>
                    </a:lnTo>
                    <a:lnTo>
                      <a:pt x="2664002" y="0"/>
                    </a:lnTo>
                    <a:close/>
                  </a:path>
                  <a:path w="4680585" h="7740015">
                    <a:moveTo>
                      <a:pt x="2808008" y="0"/>
                    </a:moveTo>
                    <a:lnTo>
                      <a:pt x="2735999" y="0"/>
                    </a:lnTo>
                    <a:lnTo>
                      <a:pt x="2735999" y="12700"/>
                    </a:lnTo>
                    <a:lnTo>
                      <a:pt x="2808008" y="12700"/>
                    </a:lnTo>
                    <a:lnTo>
                      <a:pt x="2808008" y="0"/>
                    </a:lnTo>
                    <a:close/>
                  </a:path>
                  <a:path w="4680585" h="7740015">
                    <a:moveTo>
                      <a:pt x="2952000" y="0"/>
                    </a:moveTo>
                    <a:lnTo>
                      <a:pt x="2880004" y="0"/>
                    </a:lnTo>
                    <a:lnTo>
                      <a:pt x="2880004" y="12700"/>
                    </a:lnTo>
                    <a:lnTo>
                      <a:pt x="2952000" y="12700"/>
                    </a:lnTo>
                    <a:lnTo>
                      <a:pt x="2952000" y="0"/>
                    </a:lnTo>
                    <a:close/>
                  </a:path>
                  <a:path w="4680585" h="7740015">
                    <a:moveTo>
                      <a:pt x="3096005" y="0"/>
                    </a:moveTo>
                    <a:lnTo>
                      <a:pt x="3024009" y="0"/>
                    </a:lnTo>
                    <a:lnTo>
                      <a:pt x="3024009" y="12700"/>
                    </a:lnTo>
                    <a:lnTo>
                      <a:pt x="3096005" y="12700"/>
                    </a:lnTo>
                    <a:lnTo>
                      <a:pt x="3096005" y="0"/>
                    </a:lnTo>
                    <a:close/>
                  </a:path>
                  <a:path w="4680585" h="7740015">
                    <a:moveTo>
                      <a:pt x="3240011" y="0"/>
                    </a:moveTo>
                    <a:lnTo>
                      <a:pt x="3168002" y="0"/>
                    </a:lnTo>
                    <a:lnTo>
                      <a:pt x="3168002" y="12700"/>
                    </a:lnTo>
                    <a:lnTo>
                      <a:pt x="3240011" y="12700"/>
                    </a:lnTo>
                    <a:lnTo>
                      <a:pt x="3240011" y="0"/>
                    </a:lnTo>
                    <a:close/>
                  </a:path>
                  <a:path w="4680585" h="7740015">
                    <a:moveTo>
                      <a:pt x="3384003" y="0"/>
                    </a:moveTo>
                    <a:lnTo>
                      <a:pt x="3312007" y="0"/>
                    </a:lnTo>
                    <a:lnTo>
                      <a:pt x="3312007" y="12700"/>
                    </a:lnTo>
                    <a:lnTo>
                      <a:pt x="3384003" y="12700"/>
                    </a:lnTo>
                    <a:lnTo>
                      <a:pt x="3384003" y="0"/>
                    </a:lnTo>
                    <a:close/>
                  </a:path>
                  <a:path w="4680585" h="7740015">
                    <a:moveTo>
                      <a:pt x="3528009" y="0"/>
                    </a:moveTo>
                    <a:lnTo>
                      <a:pt x="3456012" y="0"/>
                    </a:lnTo>
                    <a:lnTo>
                      <a:pt x="3456012" y="12700"/>
                    </a:lnTo>
                    <a:lnTo>
                      <a:pt x="3528009" y="12700"/>
                    </a:lnTo>
                    <a:lnTo>
                      <a:pt x="3528009" y="0"/>
                    </a:lnTo>
                    <a:close/>
                  </a:path>
                  <a:path w="4680585" h="7740015">
                    <a:moveTo>
                      <a:pt x="3672014" y="0"/>
                    </a:moveTo>
                    <a:lnTo>
                      <a:pt x="3600005" y="0"/>
                    </a:lnTo>
                    <a:lnTo>
                      <a:pt x="3600005" y="12700"/>
                    </a:lnTo>
                    <a:lnTo>
                      <a:pt x="3672014" y="12700"/>
                    </a:lnTo>
                    <a:lnTo>
                      <a:pt x="3672014" y="0"/>
                    </a:lnTo>
                    <a:close/>
                  </a:path>
                  <a:path w="4680585" h="7740015">
                    <a:moveTo>
                      <a:pt x="3816007" y="0"/>
                    </a:moveTo>
                    <a:lnTo>
                      <a:pt x="3743998" y="0"/>
                    </a:lnTo>
                    <a:lnTo>
                      <a:pt x="3743998" y="12700"/>
                    </a:lnTo>
                    <a:lnTo>
                      <a:pt x="3816007" y="12700"/>
                    </a:lnTo>
                    <a:lnTo>
                      <a:pt x="3816007" y="0"/>
                    </a:lnTo>
                    <a:close/>
                  </a:path>
                  <a:path w="4680585" h="7740015">
                    <a:moveTo>
                      <a:pt x="3959999" y="0"/>
                    </a:moveTo>
                    <a:lnTo>
                      <a:pt x="3888003" y="0"/>
                    </a:lnTo>
                    <a:lnTo>
                      <a:pt x="3888003" y="12700"/>
                    </a:lnTo>
                    <a:lnTo>
                      <a:pt x="3959999" y="12700"/>
                    </a:lnTo>
                    <a:lnTo>
                      <a:pt x="3959999" y="0"/>
                    </a:lnTo>
                    <a:close/>
                  </a:path>
                  <a:path w="4680585" h="7740015">
                    <a:moveTo>
                      <a:pt x="4104004" y="0"/>
                    </a:moveTo>
                    <a:lnTo>
                      <a:pt x="4032008" y="0"/>
                    </a:lnTo>
                    <a:lnTo>
                      <a:pt x="4032008" y="12700"/>
                    </a:lnTo>
                    <a:lnTo>
                      <a:pt x="4104004" y="12700"/>
                    </a:lnTo>
                    <a:lnTo>
                      <a:pt x="4104004" y="0"/>
                    </a:lnTo>
                    <a:close/>
                  </a:path>
                  <a:path w="4680585" h="7740015">
                    <a:moveTo>
                      <a:pt x="4248010" y="0"/>
                    </a:moveTo>
                    <a:lnTo>
                      <a:pt x="4176001" y="0"/>
                    </a:lnTo>
                    <a:lnTo>
                      <a:pt x="4176001" y="12700"/>
                    </a:lnTo>
                    <a:lnTo>
                      <a:pt x="4248010" y="12700"/>
                    </a:lnTo>
                    <a:lnTo>
                      <a:pt x="4248010" y="0"/>
                    </a:lnTo>
                    <a:close/>
                  </a:path>
                  <a:path w="4680585" h="7740015">
                    <a:moveTo>
                      <a:pt x="4392002" y="0"/>
                    </a:moveTo>
                    <a:lnTo>
                      <a:pt x="4320006" y="0"/>
                    </a:lnTo>
                    <a:lnTo>
                      <a:pt x="4320006" y="12700"/>
                    </a:lnTo>
                    <a:lnTo>
                      <a:pt x="4392002" y="12700"/>
                    </a:lnTo>
                    <a:lnTo>
                      <a:pt x="4392002" y="0"/>
                    </a:lnTo>
                    <a:close/>
                  </a:path>
                  <a:path w="4680585" h="7740015">
                    <a:moveTo>
                      <a:pt x="4536008" y="0"/>
                    </a:moveTo>
                    <a:lnTo>
                      <a:pt x="4464011" y="0"/>
                    </a:lnTo>
                    <a:lnTo>
                      <a:pt x="4464011" y="12700"/>
                    </a:lnTo>
                    <a:lnTo>
                      <a:pt x="4536008" y="12700"/>
                    </a:lnTo>
                    <a:lnTo>
                      <a:pt x="4536008" y="0"/>
                    </a:lnTo>
                    <a:close/>
                  </a:path>
                  <a:path w="4680585" h="7740015">
                    <a:moveTo>
                      <a:pt x="4608004" y="0"/>
                    </a:moveTo>
                    <a:lnTo>
                      <a:pt x="4608004" y="12700"/>
                    </a:lnTo>
                    <a:lnTo>
                      <a:pt x="4680000" y="12712"/>
                    </a:lnTo>
                    <a:lnTo>
                      <a:pt x="4680000" y="12"/>
                    </a:lnTo>
                    <a:lnTo>
                      <a:pt x="4608004" y="0"/>
                    </a:lnTo>
                    <a:close/>
                  </a:path>
                  <a:path w="4680585" h="7740015">
                    <a:moveTo>
                      <a:pt x="4680000" y="72009"/>
                    </a:moveTo>
                    <a:lnTo>
                      <a:pt x="4667300" y="72009"/>
                    </a:lnTo>
                    <a:lnTo>
                      <a:pt x="4667300" y="144005"/>
                    </a:lnTo>
                    <a:lnTo>
                      <a:pt x="4680000" y="144005"/>
                    </a:lnTo>
                    <a:lnTo>
                      <a:pt x="4680000" y="72009"/>
                    </a:lnTo>
                    <a:close/>
                  </a:path>
                  <a:path w="4680585" h="7740015">
                    <a:moveTo>
                      <a:pt x="4680000" y="216014"/>
                    </a:moveTo>
                    <a:lnTo>
                      <a:pt x="4667300" y="216014"/>
                    </a:lnTo>
                    <a:lnTo>
                      <a:pt x="4667300" y="288010"/>
                    </a:lnTo>
                    <a:lnTo>
                      <a:pt x="4680000" y="288010"/>
                    </a:lnTo>
                    <a:lnTo>
                      <a:pt x="4680000" y="216014"/>
                    </a:lnTo>
                    <a:close/>
                  </a:path>
                  <a:path w="4680585" h="7740015">
                    <a:moveTo>
                      <a:pt x="4680000" y="360019"/>
                    </a:moveTo>
                    <a:lnTo>
                      <a:pt x="4667300" y="360019"/>
                    </a:lnTo>
                    <a:lnTo>
                      <a:pt x="4667300" y="432015"/>
                    </a:lnTo>
                    <a:lnTo>
                      <a:pt x="4680000" y="432015"/>
                    </a:lnTo>
                    <a:lnTo>
                      <a:pt x="4680000" y="360019"/>
                    </a:lnTo>
                    <a:close/>
                  </a:path>
                  <a:path w="4680585" h="7740015">
                    <a:moveTo>
                      <a:pt x="4680000" y="504012"/>
                    </a:moveTo>
                    <a:lnTo>
                      <a:pt x="4667300" y="504012"/>
                    </a:lnTo>
                    <a:lnTo>
                      <a:pt x="4667300" y="576008"/>
                    </a:lnTo>
                    <a:lnTo>
                      <a:pt x="4680000" y="576008"/>
                    </a:lnTo>
                    <a:lnTo>
                      <a:pt x="4680000" y="504012"/>
                    </a:lnTo>
                    <a:close/>
                  </a:path>
                  <a:path w="4680585" h="7740015">
                    <a:moveTo>
                      <a:pt x="4680000" y="648017"/>
                    </a:moveTo>
                    <a:lnTo>
                      <a:pt x="4667300" y="648017"/>
                    </a:lnTo>
                    <a:lnTo>
                      <a:pt x="4667300" y="720013"/>
                    </a:lnTo>
                    <a:lnTo>
                      <a:pt x="4680000" y="720013"/>
                    </a:lnTo>
                    <a:lnTo>
                      <a:pt x="4680000" y="648017"/>
                    </a:lnTo>
                    <a:close/>
                  </a:path>
                  <a:path w="4680585" h="7740015">
                    <a:moveTo>
                      <a:pt x="4680000" y="792022"/>
                    </a:moveTo>
                    <a:lnTo>
                      <a:pt x="4667300" y="792022"/>
                    </a:lnTo>
                    <a:lnTo>
                      <a:pt x="4667300" y="864019"/>
                    </a:lnTo>
                    <a:lnTo>
                      <a:pt x="4680000" y="864019"/>
                    </a:lnTo>
                    <a:lnTo>
                      <a:pt x="4680000" y="792022"/>
                    </a:lnTo>
                    <a:close/>
                  </a:path>
                  <a:path w="4680585" h="7740015">
                    <a:moveTo>
                      <a:pt x="4680000" y="936015"/>
                    </a:moveTo>
                    <a:lnTo>
                      <a:pt x="4667300" y="936015"/>
                    </a:lnTo>
                    <a:lnTo>
                      <a:pt x="4667300" y="1008011"/>
                    </a:lnTo>
                    <a:lnTo>
                      <a:pt x="4680000" y="1008011"/>
                    </a:lnTo>
                    <a:lnTo>
                      <a:pt x="4680000" y="936015"/>
                    </a:lnTo>
                    <a:close/>
                  </a:path>
                  <a:path w="4680585" h="7740015">
                    <a:moveTo>
                      <a:pt x="4680000" y="1080008"/>
                    </a:moveTo>
                    <a:lnTo>
                      <a:pt x="4667300" y="1080008"/>
                    </a:lnTo>
                    <a:lnTo>
                      <a:pt x="4667300" y="1152004"/>
                    </a:lnTo>
                    <a:lnTo>
                      <a:pt x="4680000" y="1152004"/>
                    </a:lnTo>
                    <a:lnTo>
                      <a:pt x="4680000" y="1080008"/>
                    </a:lnTo>
                    <a:close/>
                  </a:path>
                  <a:path w="4680585" h="7740015">
                    <a:moveTo>
                      <a:pt x="4680000" y="1224013"/>
                    </a:moveTo>
                    <a:lnTo>
                      <a:pt x="4667300" y="1224013"/>
                    </a:lnTo>
                    <a:lnTo>
                      <a:pt x="4667300" y="1296009"/>
                    </a:lnTo>
                    <a:lnTo>
                      <a:pt x="4680000" y="1296009"/>
                    </a:lnTo>
                    <a:lnTo>
                      <a:pt x="4680000" y="1224013"/>
                    </a:lnTo>
                    <a:close/>
                  </a:path>
                  <a:path w="4680585" h="7740015">
                    <a:moveTo>
                      <a:pt x="4680000" y="1368018"/>
                    </a:moveTo>
                    <a:lnTo>
                      <a:pt x="4667300" y="1368018"/>
                    </a:lnTo>
                    <a:lnTo>
                      <a:pt x="4667300" y="1440014"/>
                    </a:lnTo>
                    <a:lnTo>
                      <a:pt x="4680000" y="1440014"/>
                    </a:lnTo>
                    <a:lnTo>
                      <a:pt x="4680000" y="1368018"/>
                    </a:lnTo>
                    <a:close/>
                  </a:path>
                  <a:path w="4680585" h="7740015">
                    <a:moveTo>
                      <a:pt x="4680000" y="1512023"/>
                    </a:moveTo>
                    <a:lnTo>
                      <a:pt x="4667300" y="1512023"/>
                    </a:lnTo>
                    <a:lnTo>
                      <a:pt x="4667300" y="1584020"/>
                    </a:lnTo>
                    <a:lnTo>
                      <a:pt x="4680000" y="1584020"/>
                    </a:lnTo>
                    <a:lnTo>
                      <a:pt x="4680000" y="1512023"/>
                    </a:lnTo>
                    <a:close/>
                  </a:path>
                  <a:path w="4680585" h="7740015">
                    <a:moveTo>
                      <a:pt x="4680000" y="1656016"/>
                    </a:moveTo>
                    <a:lnTo>
                      <a:pt x="4667300" y="1656016"/>
                    </a:lnTo>
                    <a:lnTo>
                      <a:pt x="4667300" y="1728012"/>
                    </a:lnTo>
                    <a:lnTo>
                      <a:pt x="4680000" y="1728012"/>
                    </a:lnTo>
                    <a:lnTo>
                      <a:pt x="4680000" y="1656016"/>
                    </a:lnTo>
                    <a:close/>
                  </a:path>
                  <a:path w="4680585" h="7740015">
                    <a:moveTo>
                      <a:pt x="4680000" y="1800021"/>
                    </a:moveTo>
                    <a:lnTo>
                      <a:pt x="4667300" y="1800021"/>
                    </a:lnTo>
                    <a:lnTo>
                      <a:pt x="4667300" y="1872018"/>
                    </a:lnTo>
                    <a:lnTo>
                      <a:pt x="4680000" y="1872018"/>
                    </a:lnTo>
                    <a:lnTo>
                      <a:pt x="4680000" y="1800021"/>
                    </a:lnTo>
                    <a:close/>
                  </a:path>
                  <a:path w="4680585" h="7740015">
                    <a:moveTo>
                      <a:pt x="4680000" y="1944014"/>
                    </a:moveTo>
                    <a:lnTo>
                      <a:pt x="4667300" y="1944014"/>
                    </a:lnTo>
                    <a:lnTo>
                      <a:pt x="4667300" y="2016010"/>
                    </a:lnTo>
                    <a:lnTo>
                      <a:pt x="4680000" y="2016010"/>
                    </a:lnTo>
                    <a:lnTo>
                      <a:pt x="4680000" y="1944014"/>
                    </a:lnTo>
                    <a:close/>
                  </a:path>
                  <a:path w="4680585" h="7740015">
                    <a:moveTo>
                      <a:pt x="4680000" y="2088019"/>
                    </a:moveTo>
                    <a:lnTo>
                      <a:pt x="4667300" y="2088019"/>
                    </a:lnTo>
                    <a:lnTo>
                      <a:pt x="4667300" y="2160016"/>
                    </a:lnTo>
                    <a:lnTo>
                      <a:pt x="4680000" y="2160016"/>
                    </a:lnTo>
                    <a:lnTo>
                      <a:pt x="4680000" y="2088019"/>
                    </a:lnTo>
                    <a:close/>
                  </a:path>
                  <a:path w="4680585" h="7740015">
                    <a:moveTo>
                      <a:pt x="4680000" y="2232012"/>
                    </a:moveTo>
                    <a:lnTo>
                      <a:pt x="4667300" y="2232012"/>
                    </a:lnTo>
                    <a:lnTo>
                      <a:pt x="4667300" y="2304008"/>
                    </a:lnTo>
                    <a:lnTo>
                      <a:pt x="4680000" y="2304008"/>
                    </a:lnTo>
                    <a:lnTo>
                      <a:pt x="4680000" y="2232012"/>
                    </a:lnTo>
                    <a:close/>
                  </a:path>
                  <a:path w="4680585" h="7740015">
                    <a:moveTo>
                      <a:pt x="4680000" y="2376017"/>
                    </a:moveTo>
                    <a:lnTo>
                      <a:pt x="4667300" y="2376017"/>
                    </a:lnTo>
                    <a:lnTo>
                      <a:pt x="4667300" y="2448013"/>
                    </a:lnTo>
                    <a:lnTo>
                      <a:pt x="4680000" y="2448013"/>
                    </a:lnTo>
                    <a:lnTo>
                      <a:pt x="4680000" y="2376017"/>
                    </a:lnTo>
                    <a:close/>
                  </a:path>
                  <a:path w="4680585" h="7740015">
                    <a:moveTo>
                      <a:pt x="4680000" y="2520022"/>
                    </a:moveTo>
                    <a:lnTo>
                      <a:pt x="4667300" y="2520022"/>
                    </a:lnTo>
                    <a:lnTo>
                      <a:pt x="4667300" y="2592019"/>
                    </a:lnTo>
                    <a:lnTo>
                      <a:pt x="4680000" y="2592019"/>
                    </a:lnTo>
                    <a:lnTo>
                      <a:pt x="4680000" y="2520022"/>
                    </a:lnTo>
                    <a:close/>
                  </a:path>
                  <a:path w="4680585" h="7740015">
                    <a:moveTo>
                      <a:pt x="4680000" y="2664015"/>
                    </a:moveTo>
                    <a:lnTo>
                      <a:pt x="4667300" y="2664015"/>
                    </a:lnTo>
                    <a:lnTo>
                      <a:pt x="4667300" y="2736011"/>
                    </a:lnTo>
                    <a:lnTo>
                      <a:pt x="4680000" y="2736011"/>
                    </a:lnTo>
                    <a:lnTo>
                      <a:pt x="4680000" y="2664015"/>
                    </a:lnTo>
                    <a:close/>
                  </a:path>
                  <a:path w="4680585" h="7740015">
                    <a:moveTo>
                      <a:pt x="4680000" y="2808008"/>
                    </a:moveTo>
                    <a:lnTo>
                      <a:pt x="4667300" y="2808008"/>
                    </a:lnTo>
                    <a:lnTo>
                      <a:pt x="4667300" y="2880004"/>
                    </a:lnTo>
                    <a:lnTo>
                      <a:pt x="4680000" y="2880004"/>
                    </a:lnTo>
                    <a:lnTo>
                      <a:pt x="4680000" y="2808008"/>
                    </a:lnTo>
                    <a:close/>
                  </a:path>
                  <a:path w="4680585" h="7740015">
                    <a:moveTo>
                      <a:pt x="4680000" y="2952013"/>
                    </a:moveTo>
                    <a:lnTo>
                      <a:pt x="4667300" y="2952013"/>
                    </a:lnTo>
                    <a:lnTo>
                      <a:pt x="4667300" y="3024009"/>
                    </a:lnTo>
                    <a:lnTo>
                      <a:pt x="4680000" y="3024009"/>
                    </a:lnTo>
                    <a:lnTo>
                      <a:pt x="4680000" y="2952013"/>
                    </a:lnTo>
                    <a:close/>
                  </a:path>
                  <a:path w="4680585" h="7740015">
                    <a:moveTo>
                      <a:pt x="4680000" y="3096018"/>
                    </a:moveTo>
                    <a:lnTo>
                      <a:pt x="4667300" y="3096018"/>
                    </a:lnTo>
                    <a:lnTo>
                      <a:pt x="4667300" y="3168015"/>
                    </a:lnTo>
                    <a:lnTo>
                      <a:pt x="4680000" y="3168015"/>
                    </a:lnTo>
                    <a:lnTo>
                      <a:pt x="4680000" y="3096018"/>
                    </a:lnTo>
                    <a:close/>
                  </a:path>
                  <a:path w="4680585" h="7740015">
                    <a:moveTo>
                      <a:pt x="4680000" y="3240024"/>
                    </a:moveTo>
                    <a:lnTo>
                      <a:pt x="4667300" y="3240024"/>
                    </a:lnTo>
                    <a:lnTo>
                      <a:pt x="4667300" y="3312020"/>
                    </a:lnTo>
                    <a:lnTo>
                      <a:pt x="4680000" y="3312020"/>
                    </a:lnTo>
                    <a:lnTo>
                      <a:pt x="4680000" y="3240024"/>
                    </a:lnTo>
                    <a:close/>
                  </a:path>
                  <a:path w="4680585" h="7740015">
                    <a:moveTo>
                      <a:pt x="4680000" y="3384016"/>
                    </a:moveTo>
                    <a:lnTo>
                      <a:pt x="4667300" y="3384016"/>
                    </a:lnTo>
                    <a:lnTo>
                      <a:pt x="4667300" y="3456012"/>
                    </a:lnTo>
                    <a:lnTo>
                      <a:pt x="4680000" y="3456012"/>
                    </a:lnTo>
                    <a:lnTo>
                      <a:pt x="4680000" y="3384016"/>
                    </a:lnTo>
                    <a:close/>
                  </a:path>
                  <a:path w="4680585" h="7740015">
                    <a:moveTo>
                      <a:pt x="4680000" y="3528021"/>
                    </a:moveTo>
                    <a:lnTo>
                      <a:pt x="4667300" y="3528021"/>
                    </a:lnTo>
                    <a:lnTo>
                      <a:pt x="4667300" y="3600018"/>
                    </a:lnTo>
                    <a:lnTo>
                      <a:pt x="4680000" y="3600018"/>
                    </a:lnTo>
                    <a:lnTo>
                      <a:pt x="4680000" y="3528021"/>
                    </a:lnTo>
                    <a:close/>
                  </a:path>
                  <a:path w="4680585" h="7740015">
                    <a:moveTo>
                      <a:pt x="4680000" y="3672014"/>
                    </a:moveTo>
                    <a:lnTo>
                      <a:pt x="4667300" y="3672014"/>
                    </a:lnTo>
                    <a:lnTo>
                      <a:pt x="4667300" y="3744010"/>
                    </a:lnTo>
                    <a:lnTo>
                      <a:pt x="4680000" y="3744010"/>
                    </a:lnTo>
                    <a:lnTo>
                      <a:pt x="4680000" y="3672014"/>
                    </a:lnTo>
                    <a:close/>
                  </a:path>
                  <a:path w="4680585" h="7740015">
                    <a:moveTo>
                      <a:pt x="4680000" y="3816019"/>
                    </a:moveTo>
                    <a:lnTo>
                      <a:pt x="4667300" y="3816019"/>
                    </a:lnTo>
                    <a:lnTo>
                      <a:pt x="4667300" y="3888016"/>
                    </a:lnTo>
                    <a:lnTo>
                      <a:pt x="4680000" y="3888016"/>
                    </a:lnTo>
                    <a:lnTo>
                      <a:pt x="4680000" y="3816019"/>
                    </a:lnTo>
                    <a:close/>
                  </a:path>
                  <a:path w="4680585" h="7740015">
                    <a:moveTo>
                      <a:pt x="4680000" y="3960012"/>
                    </a:moveTo>
                    <a:lnTo>
                      <a:pt x="4667300" y="3960012"/>
                    </a:lnTo>
                    <a:lnTo>
                      <a:pt x="4667300" y="4032008"/>
                    </a:lnTo>
                    <a:lnTo>
                      <a:pt x="4680000" y="4032008"/>
                    </a:lnTo>
                    <a:lnTo>
                      <a:pt x="4680000" y="3960012"/>
                    </a:lnTo>
                    <a:close/>
                  </a:path>
                  <a:path w="4680585" h="7740015">
                    <a:moveTo>
                      <a:pt x="4680000" y="4104017"/>
                    </a:moveTo>
                    <a:lnTo>
                      <a:pt x="4667300" y="4104017"/>
                    </a:lnTo>
                    <a:lnTo>
                      <a:pt x="4667300" y="4176014"/>
                    </a:lnTo>
                    <a:lnTo>
                      <a:pt x="4680000" y="4176014"/>
                    </a:lnTo>
                    <a:lnTo>
                      <a:pt x="4680000" y="4104017"/>
                    </a:lnTo>
                    <a:close/>
                  </a:path>
                  <a:path w="4680585" h="7740015">
                    <a:moveTo>
                      <a:pt x="4680000" y="4248010"/>
                    </a:moveTo>
                    <a:lnTo>
                      <a:pt x="4667300" y="4248010"/>
                    </a:lnTo>
                    <a:lnTo>
                      <a:pt x="4667300" y="4320019"/>
                    </a:lnTo>
                    <a:lnTo>
                      <a:pt x="4680000" y="4320019"/>
                    </a:lnTo>
                    <a:lnTo>
                      <a:pt x="4680000" y="4248010"/>
                    </a:lnTo>
                    <a:close/>
                  </a:path>
                  <a:path w="4680585" h="7740015">
                    <a:moveTo>
                      <a:pt x="4680000" y="4392015"/>
                    </a:moveTo>
                    <a:lnTo>
                      <a:pt x="4667300" y="4392015"/>
                    </a:lnTo>
                    <a:lnTo>
                      <a:pt x="4667300" y="4464024"/>
                    </a:lnTo>
                    <a:lnTo>
                      <a:pt x="4680000" y="4464024"/>
                    </a:lnTo>
                    <a:lnTo>
                      <a:pt x="4680000" y="4392015"/>
                    </a:lnTo>
                    <a:close/>
                  </a:path>
                  <a:path w="4680585" h="7740015">
                    <a:moveTo>
                      <a:pt x="4680000" y="4536008"/>
                    </a:moveTo>
                    <a:lnTo>
                      <a:pt x="4667300" y="4536008"/>
                    </a:lnTo>
                    <a:lnTo>
                      <a:pt x="4667300" y="4608004"/>
                    </a:lnTo>
                    <a:lnTo>
                      <a:pt x="4680000" y="4608004"/>
                    </a:lnTo>
                    <a:lnTo>
                      <a:pt x="4680000" y="4536008"/>
                    </a:lnTo>
                    <a:close/>
                  </a:path>
                  <a:path w="4680585" h="7740015">
                    <a:moveTo>
                      <a:pt x="4680000" y="4680000"/>
                    </a:moveTo>
                    <a:lnTo>
                      <a:pt x="4667300" y="4680000"/>
                    </a:lnTo>
                    <a:lnTo>
                      <a:pt x="4667300" y="4752009"/>
                    </a:lnTo>
                    <a:lnTo>
                      <a:pt x="4680000" y="4752009"/>
                    </a:lnTo>
                    <a:lnTo>
                      <a:pt x="4680000" y="4680000"/>
                    </a:lnTo>
                    <a:close/>
                  </a:path>
                  <a:path w="4680585" h="7740015">
                    <a:moveTo>
                      <a:pt x="4680000" y="4824006"/>
                    </a:moveTo>
                    <a:lnTo>
                      <a:pt x="4667300" y="4824006"/>
                    </a:lnTo>
                    <a:lnTo>
                      <a:pt x="4667300" y="4896015"/>
                    </a:lnTo>
                    <a:lnTo>
                      <a:pt x="4680000" y="4896015"/>
                    </a:lnTo>
                    <a:lnTo>
                      <a:pt x="4680000" y="4824006"/>
                    </a:lnTo>
                    <a:close/>
                  </a:path>
                  <a:path w="4680585" h="7740015">
                    <a:moveTo>
                      <a:pt x="4680000" y="4968011"/>
                    </a:moveTo>
                    <a:lnTo>
                      <a:pt x="4667300" y="4968011"/>
                    </a:lnTo>
                    <a:lnTo>
                      <a:pt x="4667300" y="5040007"/>
                    </a:lnTo>
                    <a:lnTo>
                      <a:pt x="4680000" y="5040007"/>
                    </a:lnTo>
                    <a:lnTo>
                      <a:pt x="4680000" y="4968011"/>
                    </a:lnTo>
                    <a:close/>
                  </a:path>
                  <a:path w="4680585" h="7740015">
                    <a:moveTo>
                      <a:pt x="4680000" y="5112016"/>
                    </a:moveTo>
                    <a:lnTo>
                      <a:pt x="4667300" y="5112016"/>
                    </a:lnTo>
                    <a:lnTo>
                      <a:pt x="4667300" y="5184013"/>
                    </a:lnTo>
                    <a:lnTo>
                      <a:pt x="4680000" y="5184013"/>
                    </a:lnTo>
                    <a:lnTo>
                      <a:pt x="4680000" y="5112016"/>
                    </a:lnTo>
                    <a:close/>
                  </a:path>
                  <a:path w="4680585" h="7740015">
                    <a:moveTo>
                      <a:pt x="4680000" y="5256009"/>
                    </a:moveTo>
                    <a:lnTo>
                      <a:pt x="4667300" y="5256009"/>
                    </a:lnTo>
                    <a:lnTo>
                      <a:pt x="4667300" y="5328018"/>
                    </a:lnTo>
                    <a:lnTo>
                      <a:pt x="4680000" y="5328018"/>
                    </a:lnTo>
                    <a:lnTo>
                      <a:pt x="4680000" y="5256009"/>
                    </a:lnTo>
                    <a:close/>
                  </a:path>
                  <a:path w="4680585" h="7740015">
                    <a:moveTo>
                      <a:pt x="4680000" y="5400014"/>
                    </a:moveTo>
                    <a:lnTo>
                      <a:pt x="4667300" y="5400014"/>
                    </a:lnTo>
                    <a:lnTo>
                      <a:pt x="4667300" y="5472010"/>
                    </a:lnTo>
                    <a:lnTo>
                      <a:pt x="4680000" y="5472010"/>
                    </a:lnTo>
                    <a:lnTo>
                      <a:pt x="4680000" y="5400014"/>
                    </a:lnTo>
                    <a:close/>
                  </a:path>
                  <a:path w="4680585" h="7740015">
                    <a:moveTo>
                      <a:pt x="4680000" y="5544019"/>
                    </a:moveTo>
                    <a:lnTo>
                      <a:pt x="4667300" y="5544019"/>
                    </a:lnTo>
                    <a:lnTo>
                      <a:pt x="4667300" y="5616016"/>
                    </a:lnTo>
                    <a:lnTo>
                      <a:pt x="4680000" y="5616016"/>
                    </a:lnTo>
                    <a:lnTo>
                      <a:pt x="4680000" y="5544019"/>
                    </a:lnTo>
                    <a:close/>
                  </a:path>
                  <a:path w="4680585" h="7740015">
                    <a:moveTo>
                      <a:pt x="4680000" y="5687999"/>
                    </a:moveTo>
                    <a:lnTo>
                      <a:pt x="4667300" y="5687999"/>
                    </a:lnTo>
                    <a:lnTo>
                      <a:pt x="4667300" y="5760008"/>
                    </a:lnTo>
                    <a:lnTo>
                      <a:pt x="4680000" y="5760008"/>
                    </a:lnTo>
                    <a:lnTo>
                      <a:pt x="4680000" y="5687999"/>
                    </a:lnTo>
                    <a:close/>
                  </a:path>
                  <a:path w="4680585" h="7740015">
                    <a:moveTo>
                      <a:pt x="4680000" y="5832005"/>
                    </a:moveTo>
                    <a:lnTo>
                      <a:pt x="4667300" y="5832005"/>
                    </a:lnTo>
                    <a:lnTo>
                      <a:pt x="4667300" y="5904014"/>
                    </a:lnTo>
                    <a:lnTo>
                      <a:pt x="4680000" y="5904014"/>
                    </a:lnTo>
                    <a:lnTo>
                      <a:pt x="4680000" y="5832005"/>
                    </a:lnTo>
                    <a:close/>
                  </a:path>
                  <a:path w="4680585" h="7740015">
                    <a:moveTo>
                      <a:pt x="4680000" y="5976010"/>
                    </a:moveTo>
                    <a:lnTo>
                      <a:pt x="4667300" y="5976010"/>
                    </a:lnTo>
                    <a:lnTo>
                      <a:pt x="4667300" y="6048006"/>
                    </a:lnTo>
                    <a:lnTo>
                      <a:pt x="4680000" y="6048006"/>
                    </a:lnTo>
                    <a:lnTo>
                      <a:pt x="4680000" y="5976010"/>
                    </a:lnTo>
                    <a:close/>
                  </a:path>
                  <a:path w="4680585" h="7740015">
                    <a:moveTo>
                      <a:pt x="4680000" y="6120015"/>
                    </a:moveTo>
                    <a:lnTo>
                      <a:pt x="4667300" y="6120015"/>
                    </a:lnTo>
                    <a:lnTo>
                      <a:pt x="4667300" y="6192012"/>
                    </a:lnTo>
                    <a:lnTo>
                      <a:pt x="4680000" y="6192012"/>
                    </a:lnTo>
                    <a:lnTo>
                      <a:pt x="4680000" y="6120015"/>
                    </a:lnTo>
                    <a:close/>
                  </a:path>
                  <a:path w="4680585" h="7740015">
                    <a:moveTo>
                      <a:pt x="4680000" y="6264008"/>
                    </a:moveTo>
                    <a:lnTo>
                      <a:pt x="4667300" y="6264008"/>
                    </a:lnTo>
                    <a:lnTo>
                      <a:pt x="4667300" y="6336017"/>
                    </a:lnTo>
                    <a:lnTo>
                      <a:pt x="4680000" y="6336017"/>
                    </a:lnTo>
                    <a:lnTo>
                      <a:pt x="4680000" y="6264008"/>
                    </a:lnTo>
                    <a:close/>
                  </a:path>
                  <a:path w="4680585" h="7740015">
                    <a:moveTo>
                      <a:pt x="4680000" y="6408013"/>
                    </a:moveTo>
                    <a:lnTo>
                      <a:pt x="4667300" y="6408013"/>
                    </a:lnTo>
                    <a:lnTo>
                      <a:pt x="4667300" y="6480009"/>
                    </a:lnTo>
                    <a:lnTo>
                      <a:pt x="4680000" y="6480009"/>
                    </a:lnTo>
                    <a:lnTo>
                      <a:pt x="4680000" y="6408013"/>
                    </a:lnTo>
                    <a:close/>
                  </a:path>
                  <a:path w="4680585" h="7740015">
                    <a:moveTo>
                      <a:pt x="4680000" y="6552018"/>
                    </a:moveTo>
                    <a:lnTo>
                      <a:pt x="4667300" y="6552018"/>
                    </a:lnTo>
                    <a:lnTo>
                      <a:pt x="4667300" y="6624015"/>
                    </a:lnTo>
                    <a:lnTo>
                      <a:pt x="4680000" y="6624015"/>
                    </a:lnTo>
                    <a:lnTo>
                      <a:pt x="4680000" y="6552018"/>
                    </a:lnTo>
                    <a:close/>
                  </a:path>
                  <a:path w="4680585" h="7740015">
                    <a:moveTo>
                      <a:pt x="4680000" y="6696011"/>
                    </a:moveTo>
                    <a:lnTo>
                      <a:pt x="4667300" y="6696011"/>
                    </a:lnTo>
                    <a:lnTo>
                      <a:pt x="4667300" y="6768020"/>
                    </a:lnTo>
                    <a:lnTo>
                      <a:pt x="4680000" y="6768020"/>
                    </a:lnTo>
                    <a:lnTo>
                      <a:pt x="4680000" y="6696011"/>
                    </a:lnTo>
                    <a:close/>
                  </a:path>
                  <a:path w="4680585" h="7740015">
                    <a:moveTo>
                      <a:pt x="4680000" y="6840004"/>
                    </a:moveTo>
                    <a:lnTo>
                      <a:pt x="4667300" y="6840004"/>
                    </a:lnTo>
                    <a:lnTo>
                      <a:pt x="4667300" y="6912013"/>
                    </a:lnTo>
                    <a:lnTo>
                      <a:pt x="4680000" y="6912013"/>
                    </a:lnTo>
                    <a:lnTo>
                      <a:pt x="4680000" y="6840004"/>
                    </a:lnTo>
                    <a:close/>
                  </a:path>
                  <a:path w="4680585" h="7740015">
                    <a:moveTo>
                      <a:pt x="4680000" y="6984009"/>
                    </a:moveTo>
                    <a:lnTo>
                      <a:pt x="4667300" y="6984009"/>
                    </a:lnTo>
                    <a:lnTo>
                      <a:pt x="4667300" y="7056005"/>
                    </a:lnTo>
                    <a:lnTo>
                      <a:pt x="4680000" y="7056005"/>
                    </a:lnTo>
                    <a:lnTo>
                      <a:pt x="4680000" y="6984009"/>
                    </a:lnTo>
                    <a:close/>
                  </a:path>
                  <a:path w="4680585" h="7740015">
                    <a:moveTo>
                      <a:pt x="4680000" y="7128014"/>
                    </a:moveTo>
                    <a:lnTo>
                      <a:pt x="4667300" y="7128014"/>
                    </a:lnTo>
                    <a:lnTo>
                      <a:pt x="4667300" y="7200011"/>
                    </a:lnTo>
                    <a:lnTo>
                      <a:pt x="4680000" y="7200011"/>
                    </a:lnTo>
                    <a:lnTo>
                      <a:pt x="4680000" y="7128014"/>
                    </a:lnTo>
                    <a:close/>
                  </a:path>
                  <a:path w="4680585" h="7740015">
                    <a:moveTo>
                      <a:pt x="4680000" y="7272007"/>
                    </a:moveTo>
                    <a:lnTo>
                      <a:pt x="4667300" y="7272007"/>
                    </a:lnTo>
                    <a:lnTo>
                      <a:pt x="4667300" y="7344016"/>
                    </a:lnTo>
                    <a:lnTo>
                      <a:pt x="4680000" y="7344016"/>
                    </a:lnTo>
                    <a:lnTo>
                      <a:pt x="4680000" y="7272007"/>
                    </a:lnTo>
                    <a:close/>
                  </a:path>
                  <a:path w="4680585" h="7740015">
                    <a:moveTo>
                      <a:pt x="4680000" y="7416012"/>
                    </a:moveTo>
                    <a:lnTo>
                      <a:pt x="4667300" y="7416012"/>
                    </a:lnTo>
                    <a:lnTo>
                      <a:pt x="4667300" y="7488008"/>
                    </a:lnTo>
                    <a:lnTo>
                      <a:pt x="4680000" y="7488008"/>
                    </a:lnTo>
                    <a:lnTo>
                      <a:pt x="4680000" y="7416012"/>
                    </a:lnTo>
                    <a:close/>
                  </a:path>
                  <a:path w="4680585" h="7740015">
                    <a:moveTo>
                      <a:pt x="4680000" y="7560017"/>
                    </a:moveTo>
                    <a:lnTo>
                      <a:pt x="4667300" y="7560017"/>
                    </a:lnTo>
                    <a:lnTo>
                      <a:pt x="4667300" y="7632014"/>
                    </a:lnTo>
                    <a:lnTo>
                      <a:pt x="4680000" y="7632014"/>
                    </a:lnTo>
                    <a:lnTo>
                      <a:pt x="4680000" y="7560017"/>
                    </a:lnTo>
                    <a:close/>
                  </a:path>
                  <a:path w="4680585" h="7740015">
                    <a:moveTo>
                      <a:pt x="4680000" y="7704010"/>
                    </a:moveTo>
                    <a:lnTo>
                      <a:pt x="4667300" y="7704010"/>
                    </a:lnTo>
                    <a:lnTo>
                      <a:pt x="4667300" y="7727315"/>
                    </a:lnTo>
                    <a:lnTo>
                      <a:pt x="4643996" y="7727315"/>
                    </a:lnTo>
                    <a:lnTo>
                      <a:pt x="4643996" y="7740015"/>
                    </a:lnTo>
                    <a:lnTo>
                      <a:pt x="4680000" y="7740015"/>
                    </a:lnTo>
                    <a:lnTo>
                      <a:pt x="4680000" y="7704010"/>
                    </a:lnTo>
                    <a:close/>
                  </a:path>
                  <a:path w="4680585" h="7740015">
                    <a:moveTo>
                      <a:pt x="4572000" y="7727315"/>
                    </a:moveTo>
                    <a:lnTo>
                      <a:pt x="4500003" y="7727315"/>
                    </a:lnTo>
                    <a:lnTo>
                      <a:pt x="4500003" y="7740015"/>
                    </a:lnTo>
                    <a:lnTo>
                      <a:pt x="4572000" y="7740015"/>
                    </a:lnTo>
                    <a:lnTo>
                      <a:pt x="4572000" y="7727315"/>
                    </a:lnTo>
                    <a:close/>
                  </a:path>
                  <a:path w="4680585" h="7740015">
                    <a:moveTo>
                      <a:pt x="4427994" y="7727315"/>
                    </a:moveTo>
                    <a:lnTo>
                      <a:pt x="4355998" y="7727315"/>
                    </a:lnTo>
                    <a:lnTo>
                      <a:pt x="4355998" y="7740015"/>
                    </a:lnTo>
                    <a:lnTo>
                      <a:pt x="4427994" y="7740015"/>
                    </a:lnTo>
                    <a:lnTo>
                      <a:pt x="4427994" y="7727315"/>
                    </a:lnTo>
                    <a:close/>
                  </a:path>
                  <a:path w="4680585" h="7740015">
                    <a:moveTo>
                      <a:pt x="4283989" y="7727315"/>
                    </a:moveTo>
                    <a:lnTo>
                      <a:pt x="4211993" y="7727315"/>
                    </a:lnTo>
                    <a:lnTo>
                      <a:pt x="4211993" y="7740015"/>
                    </a:lnTo>
                    <a:lnTo>
                      <a:pt x="4283989" y="7740015"/>
                    </a:lnTo>
                    <a:lnTo>
                      <a:pt x="4283989" y="7727315"/>
                    </a:lnTo>
                    <a:close/>
                  </a:path>
                  <a:path w="4680585" h="7740015">
                    <a:moveTo>
                      <a:pt x="4139996" y="7727315"/>
                    </a:moveTo>
                    <a:lnTo>
                      <a:pt x="4067987" y="7727315"/>
                    </a:lnTo>
                    <a:lnTo>
                      <a:pt x="4067987" y="7740015"/>
                    </a:lnTo>
                    <a:lnTo>
                      <a:pt x="4139996" y="7740015"/>
                    </a:lnTo>
                    <a:lnTo>
                      <a:pt x="4139996" y="7727315"/>
                    </a:lnTo>
                    <a:close/>
                  </a:path>
                  <a:path w="4680585" h="7740015">
                    <a:moveTo>
                      <a:pt x="3995991" y="7727315"/>
                    </a:moveTo>
                    <a:lnTo>
                      <a:pt x="3923995" y="7727315"/>
                    </a:lnTo>
                    <a:lnTo>
                      <a:pt x="3923995" y="7740015"/>
                    </a:lnTo>
                    <a:lnTo>
                      <a:pt x="3995991" y="7740015"/>
                    </a:lnTo>
                    <a:lnTo>
                      <a:pt x="3995991" y="7727315"/>
                    </a:lnTo>
                    <a:close/>
                  </a:path>
                  <a:path w="4680585" h="7740015">
                    <a:moveTo>
                      <a:pt x="3851986" y="7727315"/>
                    </a:moveTo>
                    <a:lnTo>
                      <a:pt x="3779989" y="7727315"/>
                    </a:lnTo>
                    <a:lnTo>
                      <a:pt x="3779989" y="7740015"/>
                    </a:lnTo>
                    <a:lnTo>
                      <a:pt x="3851986" y="7740015"/>
                    </a:lnTo>
                    <a:lnTo>
                      <a:pt x="3851986" y="7727315"/>
                    </a:lnTo>
                    <a:close/>
                  </a:path>
                  <a:path w="4680585" h="7740015">
                    <a:moveTo>
                      <a:pt x="3708006" y="7727315"/>
                    </a:moveTo>
                    <a:lnTo>
                      <a:pt x="3635997" y="7727315"/>
                    </a:lnTo>
                    <a:lnTo>
                      <a:pt x="3635997" y="7740015"/>
                    </a:lnTo>
                    <a:lnTo>
                      <a:pt x="3708006" y="7740015"/>
                    </a:lnTo>
                    <a:lnTo>
                      <a:pt x="3708006" y="7727315"/>
                    </a:lnTo>
                    <a:close/>
                  </a:path>
                  <a:path w="4680585" h="7740015">
                    <a:moveTo>
                      <a:pt x="3564001" y="7727315"/>
                    </a:moveTo>
                    <a:lnTo>
                      <a:pt x="3492004" y="7727315"/>
                    </a:lnTo>
                    <a:lnTo>
                      <a:pt x="3492004" y="7740015"/>
                    </a:lnTo>
                    <a:lnTo>
                      <a:pt x="3564001" y="7740015"/>
                    </a:lnTo>
                    <a:lnTo>
                      <a:pt x="3564001" y="7727315"/>
                    </a:lnTo>
                    <a:close/>
                  </a:path>
                  <a:path w="4680585" h="7740015">
                    <a:moveTo>
                      <a:pt x="3419995" y="7727315"/>
                    </a:moveTo>
                    <a:lnTo>
                      <a:pt x="3347999" y="7727315"/>
                    </a:lnTo>
                    <a:lnTo>
                      <a:pt x="3347999" y="7740015"/>
                    </a:lnTo>
                    <a:lnTo>
                      <a:pt x="3419995" y="7740015"/>
                    </a:lnTo>
                    <a:lnTo>
                      <a:pt x="3419995" y="7727315"/>
                    </a:lnTo>
                    <a:close/>
                  </a:path>
                  <a:path w="4680585" h="7740015">
                    <a:moveTo>
                      <a:pt x="3276003" y="7727315"/>
                    </a:moveTo>
                    <a:lnTo>
                      <a:pt x="3203994" y="7727315"/>
                    </a:lnTo>
                    <a:lnTo>
                      <a:pt x="3203994" y="7740015"/>
                    </a:lnTo>
                    <a:lnTo>
                      <a:pt x="3276003" y="7740015"/>
                    </a:lnTo>
                    <a:lnTo>
                      <a:pt x="3276003" y="7727315"/>
                    </a:lnTo>
                    <a:close/>
                  </a:path>
                  <a:path w="4680585" h="7740015">
                    <a:moveTo>
                      <a:pt x="3131997" y="7727315"/>
                    </a:moveTo>
                    <a:lnTo>
                      <a:pt x="3059988" y="7727315"/>
                    </a:lnTo>
                    <a:lnTo>
                      <a:pt x="3059988" y="7740015"/>
                    </a:lnTo>
                    <a:lnTo>
                      <a:pt x="3131997" y="7740015"/>
                    </a:lnTo>
                    <a:lnTo>
                      <a:pt x="3131997" y="7727315"/>
                    </a:lnTo>
                    <a:close/>
                  </a:path>
                  <a:path w="4680585" h="7740015">
                    <a:moveTo>
                      <a:pt x="2987992" y="7727315"/>
                    </a:moveTo>
                    <a:lnTo>
                      <a:pt x="2915996" y="7727315"/>
                    </a:lnTo>
                    <a:lnTo>
                      <a:pt x="2915996" y="7740015"/>
                    </a:lnTo>
                    <a:lnTo>
                      <a:pt x="2987992" y="7740015"/>
                    </a:lnTo>
                    <a:lnTo>
                      <a:pt x="2987992" y="7727315"/>
                    </a:lnTo>
                    <a:close/>
                  </a:path>
                  <a:path w="4680585" h="7740015">
                    <a:moveTo>
                      <a:pt x="2843987" y="7727315"/>
                    </a:moveTo>
                    <a:lnTo>
                      <a:pt x="2771990" y="7727315"/>
                    </a:lnTo>
                    <a:lnTo>
                      <a:pt x="2771990" y="7740015"/>
                    </a:lnTo>
                    <a:lnTo>
                      <a:pt x="2843987" y="7740015"/>
                    </a:lnTo>
                    <a:lnTo>
                      <a:pt x="2843987" y="7727315"/>
                    </a:lnTo>
                    <a:close/>
                  </a:path>
                  <a:path w="4680585" h="7740015">
                    <a:moveTo>
                      <a:pt x="2699994" y="7727315"/>
                    </a:moveTo>
                    <a:lnTo>
                      <a:pt x="2627985" y="7727315"/>
                    </a:lnTo>
                    <a:lnTo>
                      <a:pt x="2627985" y="7740015"/>
                    </a:lnTo>
                    <a:lnTo>
                      <a:pt x="2699994" y="7740015"/>
                    </a:lnTo>
                    <a:lnTo>
                      <a:pt x="2699994" y="7727315"/>
                    </a:lnTo>
                    <a:close/>
                  </a:path>
                  <a:path w="4680585" h="7740015">
                    <a:moveTo>
                      <a:pt x="2556002" y="7727315"/>
                    </a:moveTo>
                    <a:lnTo>
                      <a:pt x="2484005" y="7727315"/>
                    </a:lnTo>
                    <a:lnTo>
                      <a:pt x="2484005" y="7740015"/>
                    </a:lnTo>
                    <a:lnTo>
                      <a:pt x="2556002" y="7740015"/>
                    </a:lnTo>
                    <a:lnTo>
                      <a:pt x="2556002" y="7727315"/>
                    </a:lnTo>
                    <a:close/>
                  </a:path>
                  <a:path w="4680585" h="7740015">
                    <a:moveTo>
                      <a:pt x="2411996" y="7727315"/>
                    </a:moveTo>
                    <a:lnTo>
                      <a:pt x="2340000" y="7727315"/>
                    </a:lnTo>
                    <a:lnTo>
                      <a:pt x="2340000" y="7740015"/>
                    </a:lnTo>
                    <a:lnTo>
                      <a:pt x="2411996" y="7740015"/>
                    </a:lnTo>
                    <a:lnTo>
                      <a:pt x="2411996" y="7727315"/>
                    </a:lnTo>
                    <a:close/>
                  </a:path>
                  <a:path w="4680585" h="7740015">
                    <a:moveTo>
                      <a:pt x="2267991" y="7727315"/>
                    </a:moveTo>
                    <a:lnTo>
                      <a:pt x="2195995" y="7727315"/>
                    </a:lnTo>
                    <a:lnTo>
                      <a:pt x="2195995" y="7740015"/>
                    </a:lnTo>
                    <a:lnTo>
                      <a:pt x="2267991" y="7740015"/>
                    </a:lnTo>
                    <a:lnTo>
                      <a:pt x="2267991" y="7727315"/>
                    </a:lnTo>
                    <a:close/>
                  </a:path>
                  <a:path w="4680585" h="7740015">
                    <a:moveTo>
                      <a:pt x="2123986" y="7727315"/>
                    </a:moveTo>
                    <a:lnTo>
                      <a:pt x="2051989" y="7727315"/>
                    </a:lnTo>
                    <a:lnTo>
                      <a:pt x="2051989" y="7740015"/>
                    </a:lnTo>
                    <a:lnTo>
                      <a:pt x="2123986" y="7740015"/>
                    </a:lnTo>
                    <a:lnTo>
                      <a:pt x="2123986" y="7727315"/>
                    </a:lnTo>
                    <a:close/>
                  </a:path>
                  <a:path w="4680585" h="7740015">
                    <a:moveTo>
                      <a:pt x="1979993" y="7727315"/>
                    </a:moveTo>
                    <a:lnTo>
                      <a:pt x="1907997" y="7727315"/>
                    </a:lnTo>
                    <a:lnTo>
                      <a:pt x="1907997" y="7740015"/>
                    </a:lnTo>
                    <a:lnTo>
                      <a:pt x="1979993" y="7740015"/>
                    </a:lnTo>
                    <a:lnTo>
                      <a:pt x="1979993" y="7727315"/>
                    </a:lnTo>
                    <a:close/>
                  </a:path>
                  <a:path w="4680585" h="7740015">
                    <a:moveTo>
                      <a:pt x="1835988" y="7727315"/>
                    </a:moveTo>
                    <a:lnTo>
                      <a:pt x="1763991" y="7727315"/>
                    </a:lnTo>
                    <a:lnTo>
                      <a:pt x="1763991" y="7740015"/>
                    </a:lnTo>
                    <a:lnTo>
                      <a:pt x="1835988" y="7740015"/>
                    </a:lnTo>
                    <a:lnTo>
                      <a:pt x="1835988" y="7727315"/>
                    </a:lnTo>
                    <a:close/>
                  </a:path>
                  <a:path w="4680585" h="7740015">
                    <a:moveTo>
                      <a:pt x="1691995" y="7727315"/>
                    </a:moveTo>
                    <a:lnTo>
                      <a:pt x="1619999" y="7727315"/>
                    </a:lnTo>
                    <a:lnTo>
                      <a:pt x="1619999" y="7740015"/>
                    </a:lnTo>
                    <a:lnTo>
                      <a:pt x="1691995" y="7740015"/>
                    </a:lnTo>
                    <a:lnTo>
                      <a:pt x="1691995" y="7727315"/>
                    </a:lnTo>
                    <a:close/>
                  </a:path>
                  <a:path w="4680585" h="7740015">
                    <a:moveTo>
                      <a:pt x="1547990" y="7727315"/>
                    </a:moveTo>
                    <a:lnTo>
                      <a:pt x="1475994" y="7727315"/>
                    </a:lnTo>
                    <a:lnTo>
                      <a:pt x="1475994" y="7740015"/>
                    </a:lnTo>
                    <a:lnTo>
                      <a:pt x="1547990" y="7740015"/>
                    </a:lnTo>
                    <a:lnTo>
                      <a:pt x="1547990" y="7727315"/>
                    </a:lnTo>
                    <a:close/>
                  </a:path>
                  <a:path w="4680585" h="7740015">
                    <a:moveTo>
                      <a:pt x="1403997" y="7727315"/>
                    </a:moveTo>
                    <a:lnTo>
                      <a:pt x="1332001" y="7727315"/>
                    </a:lnTo>
                    <a:lnTo>
                      <a:pt x="1332001" y="7740015"/>
                    </a:lnTo>
                    <a:lnTo>
                      <a:pt x="1403997" y="7740015"/>
                    </a:lnTo>
                    <a:lnTo>
                      <a:pt x="1403997" y="7727315"/>
                    </a:lnTo>
                    <a:close/>
                  </a:path>
                  <a:path w="4680585" h="7740015">
                    <a:moveTo>
                      <a:pt x="1259992" y="7727315"/>
                    </a:moveTo>
                    <a:lnTo>
                      <a:pt x="1187996" y="7727315"/>
                    </a:lnTo>
                    <a:lnTo>
                      <a:pt x="1187996" y="7740015"/>
                    </a:lnTo>
                    <a:lnTo>
                      <a:pt x="1259992" y="7740015"/>
                    </a:lnTo>
                    <a:lnTo>
                      <a:pt x="1259992" y="7727315"/>
                    </a:lnTo>
                    <a:close/>
                  </a:path>
                  <a:path w="4680585" h="7740015">
                    <a:moveTo>
                      <a:pt x="1115987" y="7727315"/>
                    </a:moveTo>
                    <a:lnTo>
                      <a:pt x="1043990" y="7727315"/>
                    </a:lnTo>
                    <a:lnTo>
                      <a:pt x="1043990" y="7740015"/>
                    </a:lnTo>
                    <a:lnTo>
                      <a:pt x="1115987" y="7740015"/>
                    </a:lnTo>
                    <a:lnTo>
                      <a:pt x="1115987" y="7727315"/>
                    </a:lnTo>
                    <a:close/>
                  </a:path>
                  <a:path w="4680585" h="7740015">
                    <a:moveTo>
                      <a:pt x="971994" y="7727315"/>
                    </a:moveTo>
                    <a:lnTo>
                      <a:pt x="899998" y="7727315"/>
                    </a:lnTo>
                    <a:lnTo>
                      <a:pt x="899998" y="7740015"/>
                    </a:lnTo>
                    <a:lnTo>
                      <a:pt x="971994" y="7740015"/>
                    </a:lnTo>
                    <a:lnTo>
                      <a:pt x="971994" y="7727315"/>
                    </a:lnTo>
                    <a:close/>
                  </a:path>
                  <a:path w="4680585" h="7740015">
                    <a:moveTo>
                      <a:pt x="827989" y="7727315"/>
                    </a:moveTo>
                    <a:lnTo>
                      <a:pt x="755992" y="7727315"/>
                    </a:lnTo>
                    <a:lnTo>
                      <a:pt x="755992" y="7740015"/>
                    </a:lnTo>
                    <a:lnTo>
                      <a:pt x="827989" y="7740015"/>
                    </a:lnTo>
                    <a:lnTo>
                      <a:pt x="827989" y="7727315"/>
                    </a:lnTo>
                    <a:close/>
                  </a:path>
                  <a:path w="4680585" h="7740015">
                    <a:moveTo>
                      <a:pt x="683996" y="7727315"/>
                    </a:moveTo>
                    <a:lnTo>
                      <a:pt x="612000" y="7727315"/>
                    </a:lnTo>
                    <a:lnTo>
                      <a:pt x="612000" y="7740015"/>
                    </a:lnTo>
                    <a:lnTo>
                      <a:pt x="683996" y="7740015"/>
                    </a:lnTo>
                    <a:lnTo>
                      <a:pt x="683996" y="7727315"/>
                    </a:lnTo>
                    <a:close/>
                  </a:path>
                  <a:path w="4680585" h="7740015">
                    <a:moveTo>
                      <a:pt x="539991" y="7727315"/>
                    </a:moveTo>
                    <a:lnTo>
                      <a:pt x="467995" y="7727315"/>
                    </a:lnTo>
                    <a:lnTo>
                      <a:pt x="467995" y="7740015"/>
                    </a:lnTo>
                    <a:lnTo>
                      <a:pt x="539991" y="7740015"/>
                    </a:lnTo>
                    <a:lnTo>
                      <a:pt x="539991" y="7727315"/>
                    </a:lnTo>
                    <a:close/>
                  </a:path>
                  <a:path w="4680585" h="7740015">
                    <a:moveTo>
                      <a:pt x="395986" y="7727315"/>
                    </a:moveTo>
                    <a:lnTo>
                      <a:pt x="323989" y="7727315"/>
                    </a:lnTo>
                    <a:lnTo>
                      <a:pt x="323989" y="7740015"/>
                    </a:lnTo>
                    <a:lnTo>
                      <a:pt x="395986" y="7740015"/>
                    </a:lnTo>
                    <a:lnTo>
                      <a:pt x="395986" y="7727315"/>
                    </a:lnTo>
                    <a:close/>
                  </a:path>
                  <a:path w="4680585" h="7740015">
                    <a:moveTo>
                      <a:pt x="251993" y="7727315"/>
                    </a:moveTo>
                    <a:lnTo>
                      <a:pt x="179997" y="7727315"/>
                    </a:lnTo>
                    <a:lnTo>
                      <a:pt x="179997" y="7740015"/>
                    </a:lnTo>
                    <a:lnTo>
                      <a:pt x="251993" y="7740015"/>
                    </a:lnTo>
                    <a:lnTo>
                      <a:pt x="251993" y="7727315"/>
                    </a:lnTo>
                    <a:close/>
                  </a:path>
                  <a:path w="4680585" h="7740015">
                    <a:moveTo>
                      <a:pt x="107988" y="7727315"/>
                    </a:moveTo>
                    <a:lnTo>
                      <a:pt x="35991" y="7727315"/>
                    </a:lnTo>
                    <a:lnTo>
                      <a:pt x="35991" y="7740015"/>
                    </a:lnTo>
                    <a:lnTo>
                      <a:pt x="107988" y="7740015"/>
                    </a:lnTo>
                    <a:lnTo>
                      <a:pt x="107988" y="7727315"/>
                    </a:lnTo>
                    <a:close/>
                  </a:path>
                  <a:path w="4680585" h="7740015">
                    <a:moveTo>
                      <a:pt x="12700" y="7632014"/>
                    </a:moveTo>
                    <a:lnTo>
                      <a:pt x="0" y="7632014"/>
                    </a:lnTo>
                    <a:lnTo>
                      <a:pt x="0" y="7704010"/>
                    </a:lnTo>
                    <a:lnTo>
                      <a:pt x="12700" y="7704010"/>
                    </a:lnTo>
                    <a:lnTo>
                      <a:pt x="12700" y="7632014"/>
                    </a:lnTo>
                    <a:close/>
                  </a:path>
                  <a:path w="4680585" h="7740015">
                    <a:moveTo>
                      <a:pt x="12700" y="7488008"/>
                    </a:moveTo>
                    <a:lnTo>
                      <a:pt x="0" y="7488008"/>
                    </a:lnTo>
                    <a:lnTo>
                      <a:pt x="0" y="7560005"/>
                    </a:lnTo>
                    <a:lnTo>
                      <a:pt x="12700" y="7560005"/>
                    </a:lnTo>
                    <a:lnTo>
                      <a:pt x="12700" y="7488008"/>
                    </a:lnTo>
                    <a:close/>
                  </a:path>
                  <a:path w="4680585" h="7740015">
                    <a:moveTo>
                      <a:pt x="12700" y="7344003"/>
                    </a:moveTo>
                    <a:lnTo>
                      <a:pt x="0" y="7344003"/>
                    </a:lnTo>
                    <a:lnTo>
                      <a:pt x="0" y="7415999"/>
                    </a:lnTo>
                    <a:lnTo>
                      <a:pt x="12700" y="7415999"/>
                    </a:lnTo>
                    <a:lnTo>
                      <a:pt x="12700" y="7344003"/>
                    </a:lnTo>
                    <a:close/>
                  </a:path>
                  <a:path w="4680585" h="7740015">
                    <a:moveTo>
                      <a:pt x="12700" y="7199998"/>
                    </a:moveTo>
                    <a:lnTo>
                      <a:pt x="0" y="7199998"/>
                    </a:lnTo>
                    <a:lnTo>
                      <a:pt x="0" y="7272007"/>
                    </a:lnTo>
                    <a:lnTo>
                      <a:pt x="12700" y="7272007"/>
                    </a:lnTo>
                    <a:lnTo>
                      <a:pt x="12700" y="7199998"/>
                    </a:lnTo>
                    <a:close/>
                  </a:path>
                  <a:path w="4680585" h="7740015">
                    <a:moveTo>
                      <a:pt x="12700" y="7056005"/>
                    </a:moveTo>
                    <a:lnTo>
                      <a:pt x="0" y="7056005"/>
                    </a:lnTo>
                    <a:lnTo>
                      <a:pt x="0" y="7128002"/>
                    </a:lnTo>
                    <a:lnTo>
                      <a:pt x="12700" y="7128002"/>
                    </a:lnTo>
                    <a:lnTo>
                      <a:pt x="12700" y="7056005"/>
                    </a:lnTo>
                    <a:close/>
                  </a:path>
                  <a:path w="4680585" h="7740015">
                    <a:moveTo>
                      <a:pt x="12700" y="6912000"/>
                    </a:moveTo>
                    <a:lnTo>
                      <a:pt x="0" y="6912000"/>
                    </a:lnTo>
                    <a:lnTo>
                      <a:pt x="0" y="6983996"/>
                    </a:lnTo>
                    <a:lnTo>
                      <a:pt x="12700" y="6983996"/>
                    </a:lnTo>
                    <a:lnTo>
                      <a:pt x="12700" y="6912000"/>
                    </a:lnTo>
                    <a:close/>
                  </a:path>
                  <a:path w="4680585" h="7740015">
                    <a:moveTo>
                      <a:pt x="12700" y="6768007"/>
                    </a:moveTo>
                    <a:lnTo>
                      <a:pt x="0" y="6768007"/>
                    </a:lnTo>
                    <a:lnTo>
                      <a:pt x="0" y="6840016"/>
                    </a:lnTo>
                    <a:lnTo>
                      <a:pt x="12700" y="6840016"/>
                    </a:lnTo>
                    <a:lnTo>
                      <a:pt x="12700" y="6768007"/>
                    </a:lnTo>
                    <a:close/>
                  </a:path>
                  <a:path w="4680585" h="7740015">
                    <a:moveTo>
                      <a:pt x="12700" y="6624015"/>
                    </a:moveTo>
                    <a:lnTo>
                      <a:pt x="0" y="6624015"/>
                    </a:lnTo>
                    <a:lnTo>
                      <a:pt x="0" y="6696011"/>
                    </a:lnTo>
                    <a:lnTo>
                      <a:pt x="12700" y="6696011"/>
                    </a:lnTo>
                    <a:lnTo>
                      <a:pt x="12700" y="6624015"/>
                    </a:lnTo>
                    <a:close/>
                  </a:path>
                  <a:path w="4680585" h="7740015">
                    <a:moveTo>
                      <a:pt x="12700" y="6480009"/>
                    </a:moveTo>
                    <a:lnTo>
                      <a:pt x="0" y="6480009"/>
                    </a:lnTo>
                    <a:lnTo>
                      <a:pt x="0" y="6552006"/>
                    </a:lnTo>
                    <a:lnTo>
                      <a:pt x="12700" y="6552006"/>
                    </a:lnTo>
                    <a:lnTo>
                      <a:pt x="12700" y="6480009"/>
                    </a:lnTo>
                    <a:close/>
                  </a:path>
                  <a:path w="4680585" h="7740015">
                    <a:moveTo>
                      <a:pt x="12700" y="6336004"/>
                    </a:moveTo>
                    <a:lnTo>
                      <a:pt x="0" y="6336004"/>
                    </a:lnTo>
                    <a:lnTo>
                      <a:pt x="0" y="6408000"/>
                    </a:lnTo>
                    <a:lnTo>
                      <a:pt x="12700" y="6408000"/>
                    </a:lnTo>
                    <a:lnTo>
                      <a:pt x="12700" y="6336004"/>
                    </a:lnTo>
                    <a:close/>
                  </a:path>
                  <a:path w="4680585" h="7740015">
                    <a:moveTo>
                      <a:pt x="12700" y="6191999"/>
                    </a:moveTo>
                    <a:lnTo>
                      <a:pt x="0" y="6191999"/>
                    </a:lnTo>
                    <a:lnTo>
                      <a:pt x="0" y="6264008"/>
                    </a:lnTo>
                    <a:lnTo>
                      <a:pt x="12700" y="6264008"/>
                    </a:lnTo>
                    <a:lnTo>
                      <a:pt x="12700" y="6191999"/>
                    </a:lnTo>
                    <a:close/>
                  </a:path>
                  <a:path w="4680585" h="7740015">
                    <a:moveTo>
                      <a:pt x="12700" y="6048006"/>
                    </a:moveTo>
                    <a:lnTo>
                      <a:pt x="0" y="6048006"/>
                    </a:lnTo>
                    <a:lnTo>
                      <a:pt x="0" y="6120003"/>
                    </a:lnTo>
                    <a:lnTo>
                      <a:pt x="12700" y="6120003"/>
                    </a:lnTo>
                    <a:lnTo>
                      <a:pt x="12700" y="6048006"/>
                    </a:lnTo>
                    <a:close/>
                  </a:path>
                  <a:path w="4680585" h="7740015">
                    <a:moveTo>
                      <a:pt x="12700" y="5904001"/>
                    </a:moveTo>
                    <a:lnTo>
                      <a:pt x="0" y="5904001"/>
                    </a:lnTo>
                    <a:lnTo>
                      <a:pt x="0" y="5975997"/>
                    </a:lnTo>
                    <a:lnTo>
                      <a:pt x="12700" y="5975997"/>
                    </a:lnTo>
                    <a:lnTo>
                      <a:pt x="12700" y="5904001"/>
                    </a:lnTo>
                    <a:close/>
                  </a:path>
                  <a:path w="4680585" h="7740015">
                    <a:moveTo>
                      <a:pt x="12700" y="5759996"/>
                    </a:moveTo>
                    <a:lnTo>
                      <a:pt x="0" y="5759996"/>
                    </a:lnTo>
                    <a:lnTo>
                      <a:pt x="0" y="5832005"/>
                    </a:lnTo>
                    <a:lnTo>
                      <a:pt x="12700" y="5832005"/>
                    </a:lnTo>
                    <a:lnTo>
                      <a:pt x="12700" y="5759996"/>
                    </a:lnTo>
                    <a:close/>
                  </a:path>
                  <a:path w="4680585" h="7740015">
                    <a:moveTo>
                      <a:pt x="12700" y="5616016"/>
                    </a:moveTo>
                    <a:lnTo>
                      <a:pt x="0" y="5616016"/>
                    </a:lnTo>
                    <a:lnTo>
                      <a:pt x="0" y="5688012"/>
                    </a:lnTo>
                    <a:lnTo>
                      <a:pt x="12700" y="5688012"/>
                    </a:lnTo>
                    <a:lnTo>
                      <a:pt x="12700" y="5616016"/>
                    </a:lnTo>
                    <a:close/>
                  </a:path>
                  <a:path w="4680585" h="7740015">
                    <a:moveTo>
                      <a:pt x="12700" y="5472010"/>
                    </a:moveTo>
                    <a:lnTo>
                      <a:pt x="0" y="5472010"/>
                    </a:lnTo>
                    <a:lnTo>
                      <a:pt x="0" y="5544007"/>
                    </a:lnTo>
                    <a:lnTo>
                      <a:pt x="12700" y="5544007"/>
                    </a:lnTo>
                    <a:lnTo>
                      <a:pt x="12700" y="5472010"/>
                    </a:lnTo>
                    <a:close/>
                  </a:path>
                  <a:path w="4680585" h="7740015">
                    <a:moveTo>
                      <a:pt x="12700" y="5328005"/>
                    </a:moveTo>
                    <a:lnTo>
                      <a:pt x="0" y="5328005"/>
                    </a:lnTo>
                    <a:lnTo>
                      <a:pt x="0" y="5400014"/>
                    </a:lnTo>
                    <a:lnTo>
                      <a:pt x="12700" y="5400014"/>
                    </a:lnTo>
                    <a:lnTo>
                      <a:pt x="12700" y="5328005"/>
                    </a:lnTo>
                    <a:close/>
                  </a:path>
                  <a:path w="4680585" h="7740015">
                    <a:moveTo>
                      <a:pt x="12700" y="5184013"/>
                    </a:moveTo>
                    <a:lnTo>
                      <a:pt x="0" y="5184013"/>
                    </a:lnTo>
                    <a:lnTo>
                      <a:pt x="0" y="5256009"/>
                    </a:lnTo>
                    <a:lnTo>
                      <a:pt x="12700" y="5256009"/>
                    </a:lnTo>
                    <a:lnTo>
                      <a:pt x="12700" y="5184013"/>
                    </a:lnTo>
                    <a:close/>
                  </a:path>
                  <a:path w="4680585" h="7740015">
                    <a:moveTo>
                      <a:pt x="12700" y="5040007"/>
                    </a:moveTo>
                    <a:lnTo>
                      <a:pt x="0" y="5040007"/>
                    </a:lnTo>
                    <a:lnTo>
                      <a:pt x="0" y="5112004"/>
                    </a:lnTo>
                    <a:lnTo>
                      <a:pt x="12700" y="5112004"/>
                    </a:lnTo>
                    <a:lnTo>
                      <a:pt x="12700" y="5040007"/>
                    </a:lnTo>
                    <a:close/>
                  </a:path>
                  <a:path w="4680585" h="7740015">
                    <a:moveTo>
                      <a:pt x="12700" y="4896002"/>
                    </a:moveTo>
                    <a:lnTo>
                      <a:pt x="0" y="4896002"/>
                    </a:lnTo>
                    <a:lnTo>
                      <a:pt x="0" y="4967998"/>
                    </a:lnTo>
                    <a:lnTo>
                      <a:pt x="12700" y="4967998"/>
                    </a:lnTo>
                    <a:lnTo>
                      <a:pt x="12700" y="4896002"/>
                    </a:lnTo>
                    <a:close/>
                  </a:path>
                  <a:path w="4680585" h="7740015">
                    <a:moveTo>
                      <a:pt x="12700" y="4751997"/>
                    </a:moveTo>
                    <a:lnTo>
                      <a:pt x="0" y="4751997"/>
                    </a:lnTo>
                    <a:lnTo>
                      <a:pt x="0" y="4824006"/>
                    </a:lnTo>
                    <a:lnTo>
                      <a:pt x="12700" y="4824006"/>
                    </a:lnTo>
                    <a:lnTo>
                      <a:pt x="12700" y="4751997"/>
                    </a:lnTo>
                    <a:close/>
                  </a:path>
                  <a:path w="4680585" h="7740015">
                    <a:moveTo>
                      <a:pt x="12700" y="4608004"/>
                    </a:moveTo>
                    <a:lnTo>
                      <a:pt x="0" y="4608004"/>
                    </a:lnTo>
                    <a:lnTo>
                      <a:pt x="0" y="4680000"/>
                    </a:lnTo>
                    <a:lnTo>
                      <a:pt x="12700" y="4680000"/>
                    </a:lnTo>
                    <a:lnTo>
                      <a:pt x="12700" y="4608004"/>
                    </a:lnTo>
                    <a:close/>
                  </a:path>
                  <a:path w="4680585" h="7740015">
                    <a:moveTo>
                      <a:pt x="12700" y="4464011"/>
                    </a:moveTo>
                    <a:lnTo>
                      <a:pt x="0" y="4464011"/>
                    </a:lnTo>
                    <a:lnTo>
                      <a:pt x="0" y="4536008"/>
                    </a:lnTo>
                    <a:lnTo>
                      <a:pt x="12700" y="4536008"/>
                    </a:lnTo>
                    <a:lnTo>
                      <a:pt x="12700" y="4464011"/>
                    </a:lnTo>
                    <a:close/>
                  </a:path>
                  <a:path w="4680585" h="7740015">
                    <a:moveTo>
                      <a:pt x="12700" y="4320006"/>
                    </a:moveTo>
                    <a:lnTo>
                      <a:pt x="0" y="4320006"/>
                    </a:lnTo>
                    <a:lnTo>
                      <a:pt x="0" y="4392015"/>
                    </a:lnTo>
                    <a:lnTo>
                      <a:pt x="12700" y="4392015"/>
                    </a:lnTo>
                    <a:lnTo>
                      <a:pt x="12700" y="4320006"/>
                    </a:lnTo>
                    <a:close/>
                  </a:path>
                  <a:path w="4680585" h="7740015">
                    <a:moveTo>
                      <a:pt x="12700" y="4176014"/>
                    </a:moveTo>
                    <a:lnTo>
                      <a:pt x="0" y="4176014"/>
                    </a:lnTo>
                    <a:lnTo>
                      <a:pt x="0" y="4248010"/>
                    </a:lnTo>
                    <a:lnTo>
                      <a:pt x="12700" y="4248010"/>
                    </a:lnTo>
                    <a:lnTo>
                      <a:pt x="12700" y="4176014"/>
                    </a:lnTo>
                    <a:close/>
                  </a:path>
                  <a:path w="4680585" h="7740015">
                    <a:moveTo>
                      <a:pt x="12700" y="4032008"/>
                    </a:moveTo>
                    <a:lnTo>
                      <a:pt x="0" y="4032008"/>
                    </a:lnTo>
                    <a:lnTo>
                      <a:pt x="0" y="4104005"/>
                    </a:lnTo>
                    <a:lnTo>
                      <a:pt x="12700" y="4104005"/>
                    </a:lnTo>
                    <a:lnTo>
                      <a:pt x="12700" y="4032008"/>
                    </a:lnTo>
                    <a:close/>
                  </a:path>
                  <a:path w="4680585" h="7740015">
                    <a:moveTo>
                      <a:pt x="12700" y="3888003"/>
                    </a:moveTo>
                    <a:lnTo>
                      <a:pt x="0" y="3888003"/>
                    </a:lnTo>
                    <a:lnTo>
                      <a:pt x="0" y="3959999"/>
                    </a:lnTo>
                    <a:lnTo>
                      <a:pt x="12700" y="3959999"/>
                    </a:lnTo>
                    <a:lnTo>
                      <a:pt x="12700" y="3888003"/>
                    </a:lnTo>
                    <a:close/>
                  </a:path>
                  <a:path w="4680585" h="7740015">
                    <a:moveTo>
                      <a:pt x="12700" y="3744010"/>
                    </a:moveTo>
                    <a:lnTo>
                      <a:pt x="0" y="3744010"/>
                    </a:lnTo>
                    <a:lnTo>
                      <a:pt x="0" y="3816007"/>
                    </a:lnTo>
                    <a:lnTo>
                      <a:pt x="12700" y="3816007"/>
                    </a:lnTo>
                    <a:lnTo>
                      <a:pt x="12700" y="3744010"/>
                    </a:lnTo>
                    <a:close/>
                  </a:path>
                  <a:path w="4680585" h="7740015">
                    <a:moveTo>
                      <a:pt x="12700" y="3600005"/>
                    </a:moveTo>
                    <a:lnTo>
                      <a:pt x="0" y="3600005"/>
                    </a:lnTo>
                    <a:lnTo>
                      <a:pt x="0" y="3672001"/>
                    </a:lnTo>
                    <a:lnTo>
                      <a:pt x="12700" y="3672001"/>
                    </a:lnTo>
                    <a:lnTo>
                      <a:pt x="12700" y="3600005"/>
                    </a:lnTo>
                    <a:close/>
                  </a:path>
                  <a:path w="4680585" h="7740015">
                    <a:moveTo>
                      <a:pt x="12700" y="3456012"/>
                    </a:moveTo>
                    <a:lnTo>
                      <a:pt x="0" y="3456012"/>
                    </a:lnTo>
                    <a:lnTo>
                      <a:pt x="0" y="3528009"/>
                    </a:lnTo>
                    <a:lnTo>
                      <a:pt x="12700" y="3528009"/>
                    </a:lnTo>
                    <a:lnTo>
                      <a:pt x="12700" y="3456012"/>
                    </a:lnTo>
                    <a:close/>
                  </a:path>
                  <a:path w="4680585" h="7740015">
                    <a:moveTo>
                      <a:pt x="12700" y="3312007"/>
                    </a:moveTo>
                    <a:lnTo>
                      <a:pt x="0" y="3312007"/>
                    </a:lnTo>
                    <a:lnTo>
                      <a:pt x="0" y="3384003"/>
                    </a:lnTo>
                    <a:lnTo>
                      <a:pt x="12700" y="3384003"/>
                    </a:lnTo>
                    <a:lnTo>
                      <a:pt x="12700" y="3312007"/>
                    </a:lnTo>
                    <a:close/>
                  </a:path>
                  <a:path w="4680585" h="7740015">
                    <a:moveTo>
                      <a:pt x="12700" y="3168015"/>
                    </a:moveTo>
                    <a:lnTo>
                      <a:pt x="0" y="3168015"/>
                    </a:lnTo>
                    <a:lnTo>
                      <a:pt x="0" y="3240011"/>
                    </a:lnTo>
                    <a:lnTo>
                      <a:pt x="12700" y="3240011"/>
                    </a:lnTo>
                    <a:lnTo>
                      <a:pt x="12700" y="3168015"/>
                    </a:lnTo>
                    <a:close/>
                  </a:path>
                  <a:path w="4680585" h="7740015">
                    <a:moveTo>
                      <a:pt x="12700" y="3024009"/>
                    </a:moveTo>
                    <a:lnTo>
                      <a:pt x="0" y="3024009"/>
                    </a:lnTo>
                    <a:lnTo>
                      <a:pt x="0" y="3096006"/>
                    </a:lnTo>
                    <a:lnTo>
                      <a:pt x="12700" y="3096006"/>
                    </a:lnTo>
                    <a:lnTo>
                      <a:pt x="12700" y="3024009"/>
                    </a:lnTo>
                    <a:close/>
                  </a:path>
                  <a:path w="4680585" h="7740015">
                    <a:moveTo>
                      <a:pt x="12700" y="2880004"/>
                    </a:moveTo>
                    <a:lnTo>
                      <a:pt x="0" y="2880004"/>
                    </a:lnTo>
                    <a:lnTo>
                      <a:pt x="0" y="2952000"/>
                    </a:lnTo>
                    <a:lnTo>
                      <a:pt x="12700" y="2952000"/>
                    </a:lnTo>
                    <a:lnTo>
                      <a:pt x="12700" y="2880004"/>
                    </a:lnTo>
                    <a:close/>
                  </a:path>
                  <a:path w="4680585" h="7740015">
                    <a:moveTo>
                      <a:pt x="12700" y="2736011"/>
                    </a:moveTo>
                    <a:lnTo>
                      <a:pt x="0" y="2736011"/>
                    </a:lnTo>
                    <a:lnTo>
                      <a:pt x="0" y="2808008"/>
                    </a:lnTo>
                    <a:lnTo>
                      <a:pt x="12700" y="2808008"/>
                    </a:lnTo>
                    <a:lnTo>
                      <a:pt x="12700" y="2736011"/>
                    </a:lnTo>
                    <a:close/>
                  </a:path>
                  <a:path w="4680585" h="7740015">
                    <a:moveTo>
                      <a:pt x="12700" y="2592006"/>
                    </a:moveTo>
                    <a:lnTo>
                      <a:pt x="0" y="2592006"/>
                    </a:lnTo>
                    <a:lnTo>
                      <a:pt x="0" y="2664002"/>
                    </a:lnTo>
                    <a:lnTo>
                      <a:pt x="12700" y="2664002"/>
                    </a:lnTo>
                    <a:lnTo>
                      <a:pt x="12700" y="2592006"/>
                    </a:lnTo>
                    <a:close/>
                  </a:path>
                  <a:path w="4680585" h="7740015">
                    <a:moveTo>
                      <a:pt x="12700" y="2448013"/>
                    </a:moveTo>
                    <a:lnTo>
                      <a:pt x="0" y="2448013"/>
                    </a:lnTo>
                    <a:lnTo>
                      <a:pt x="0" y="2520010"/>
                    </a:lnTo>
                    <a:lnTo>
                      <a:pt x="12700" y="2520010"/>
                    </a:lnTo>
                    <a:lnTo>
                      <a:pt x="12700" y="2448013"/>
                    </a:lnTo>
                    <a:close/>
                  </a:path>
                  <a:path w="4680585" h="7740015">
                    <a:moveTo>
                      <a:pt x="12700" y="2304008"/>
                    </a:moveTo>
                    <a:lnTo>
                      <a:pt x="0" y="2304008"/>
                    </a:lnTo>
                    <a:lnTo>
                      <a:pt x="0" y="2376004"/>
                    </a:lnTo>
                    <a:lnTo>
                      <a:pt x="12700" y="2376004"/>
                    </a:lnTo>
                    <a:lnTo>
                      <a:pt x="12700" y="2304008"/>
                    </a:lnTo>
                    <a:close/>
                  </a:path>
                  <a:path w="4680585" h="7740015">
                    <a:moveTo>
                      <a:pt x="12700" y="2160016"/>
                    </a:moveTo>
                    <a:lnTo>
                      <a:pt x="0" y="2160016"/>
                    </a:lnTo>
                    <a:lnTo>
                      <a:pt x="0" y="2232012"/>
                    </a:lnTo>
                    <a:lnTo>
                      <a:pt x="12700" y="2232012"/>
                    </a:lnTo>
                    <a:lnTo>
                      <a:pt x="12700" y="2160016"/>
                    </a:lnTo>
                    <a:close/>
                  </a:path>
                  <a:path w="4680585" h="7740015">
                    <a:moveTo>
                      <a:pt x="12700" y="2016010"/>
                    </a:moveTo>
                    <a:lnTo>
                      <a:pt x="0" y="2016010"/>
                    </a:lnTo>
                    <a:lnTo>
                      <a:pt x="0" y="2088007"/>
                    </a:lnTo>
                    <a:lnTo>
                      <a:pt x="12700" y="2088007"/>
                    </a:lnTo>
                    <a:lnTo>
                      <a:pt x="12700" y="2016010"/>
                    </a:lnTo>
                    <a:close/>
                  </a:path>
                  <a:path w="4680585" h="7740015">
                    <a:moveTo>
                      <a:pt x="12700" y="1872005"/>
                    </a:moveTo>
                    <a:lnTo>
                      <a:pt x="0" y="1872005"/>
                    </a:lnTo>
                    <a:lnTo>
                      <a:pt x="0" y="1944001"/>
                    </a:lnTo>
                    <a:lnTo>
                      <a:pt x="12700" y="1944001"/>
                    </a:lnTo>
                    <a:lnTo>
                      <a:pt x="12700" y="1872005"/>
                    </a:lnTo>
                    <a:close/>
                  </a:path>
                  <a:path w="4680585" h="7740015">
                    <a:moveTo>
                      <a:pt x="12700" y="1728012"/>
                    </a:moveTo>
                    <a:lnTo>
                      <a:pt x="0" y="1728012"/>
                    </a:lnTo>
                    <a:lnTo>
                      <a:pt x="0" y="1800009"/>
                    </a:lnTo>
                    <a:lnTo>
                      <a:pt x="12700" y="1800009"/>
                    </a:lnTo>
                    <a:lnTo>
                      <a:pt x="12700" y="1728012"/>
                    </a:lnTo>
                    <a:close/>
                  </a:path>
                  <a:path w="4680585" h="7740015">
                    <a:moveTo>
                      <a:pt x="12700" y="1584007"/>
                    </a:moveTo>
                    <a:lnTo>
                      <a:pt x="0" y="1584007"/>
                    </a:lnTo>
                    <a:lnTo>
                      <a:pt x="0" y="1656003"/>
                    </a:lnTo>
                    <a:lnTo>
                      <a:pt x="12700" y="1656003"/>
                    </a:lnTo>
                    <a:lnTo>
                      <a:pt x="12700" y="1584007"/>
                    </a:lnTo>
                    <a:close/>
                  </a:path>
                  <a:path w="4680585" h="7740015">
                    <a:moveTo>
                      <a:pt x="12700" y="1440014"/>
                    </a:moveTo>
                    <a:lnTo>
                      <a:pt x="0" y="1440014"/>
                    </a:lnTo>
                    <a:lnTo>
                      <a:pt x="0" y="1512011"/>
                    </a:lnTo>
                    <a:lnTo>
                      <a:pt x="12700" y="1512011"/>
                    </a:lnTo>
                    <a:lnTo>
                      <a:pt x="12700" y="1440014"/>
                    </a:lnTo>
                    <a:close/>
                  </a:path>
                  <a:path w="4680585" h="7740015">
                    <a:moveTo>
                      <a:pt x="12700" y="1296009"/>
                    </a:moveTo>
                    <a:lnTo>
                      <a:pt x="0" y="1296009"/>
                    </a:lnTo>
                    <a:lnTo>
                      <a:pt x="0" y="1368005"/>
                    </a:lnTo>
                    <a:lnTo>
                      <a:pt x="12700" y="1368005"/>
                    </a:lnTo>
                    <a:lnTo>
                      <a:pt x="12700" y="1296009"/>
                    </a:lnTo>
                    <a:close/>
                  </a:path>
                  <a:path w="4680585" h="7740015">
                    <a:moveTo>
                      <a:pt x="12700" y="1152004"/>
                    </a:moveTo>
                    <a:lnTo>
                      <a:pt x="0" y="1152004"/>
                    </a:lnTo>
                    <a:lnTo>
                      <a:pt x="0" y="1224000"/>
                    </a:lnTo>
                    <a:lnTo>
                      <a:pt x="12700" y="1224000"/>
                    </a:lnTo>
                    <a:lnTo>
                      <a:pt x="12700" y="1152004"/>
                    </a:lnTo>
                    <a:close/>
                  </a:path>
                  <a:path w="4680585" h="7740015">
                    <a:moveTo>
                      <a:pt x="12700" y="1008011"/>
                    </a:moveTo>
                    <a:lnTo>
                      <a:pt x="0" y="1008011"/>
                    </a:lnTo>
                    <a:lnTo>
                      <a:pt x="0" y="1080008"/>
                    </a:lnTo>
                    <a:lnTo>
                      <a:pt x="12700" y="1080008"/>
                    </a:lnTo>
                    <a:lnTo>
                      <a:pt x="12700" y="1008011"/>
                    </a:lnTo>
                    <a:close/>
                  </a:path>
                  <a:path w="4680585" h="7740015">
                    <a:moveTo>
                      <a:pt x="12700" y="864006"/>
                    </a:moveTo>
                    <a:lnTo>
                      <a:pt x="0" y="864006"/>
                    </a:lnTo>
                    <a:lnTo>
                      <a:pt x="0" y="936002"/>
                    </a:lnTo>
                    <a:lnTo>
                      <a:pt x="12700" y="936002"/>
                    </a:lnTo>
                    <a:lnTo>
                      <a:pt x="12700" y="864006"/>
                    </a:lnTo>
                    <a:close/>
                  </a:path>
                  <a:path w="4680585" h="7740015">
                    <a:moveTo>
                      <a:pt x="12700" y="720013"/>
                    </a:moveTo>
                    <a:lnTo>
                      <a:pt x="0" y="720013"/>
                    </a:lnTo>
                    <a:lnTo>
                      <a:pt x="0" y="792010"/>
                    </a:lnTo>
                    <a:lnTo>
                      <a:pt x="12700" y="792010"/>
                    </a:lnTo>
                    <a:lnTo>
                      <a:pt x="12700" y="720013"/>
                    </a:lnTo>
                    <a:close/>
                  </a:path>
                  <a:path w="4680585" h="7740015">
                    <a:moveTo>
                      <a:pt x="12700" y="576008"/>
                    </a:moveTo>
                    <a:lnTo>
                      <a:pt x="0" y="576008"/>
                    </a:lnTo>
                    <a:lnTo>
                      <a:pt x="0" y="648004"/>
                    </a:lnTo>
                    <a:lnTo>
                      <a:pt x="12700" y="648004"/>
                    </a:lnTo>
                    <a:lnTo>
                      <a:pt x="12700" y="576008"/>
                    </a:lnTo>
                    <a:close/>
                  </a:path>
                  <a:path w="4680585" h="7740015">
                    <a:moveTo>
                      <a:pt x="12700" y="432015"/>
                    </a:moveTo>
                    <a:lnTo>
                      <a:pt x="0" y="432015"/>
                    </a:lnTo>
                    <a:lnTo>
                      <a:pt x="0" y="504012"/>
                    </a:lnTo>
                    <a:lnTo>
                      <a:pt x="12700" y="504012"/>
                    </a:lnTo>
                    <a:lnTo>
                      <a:pt x="12700" y="432015"/>
                    </a:lnTo>
                    <a:close/>
                  </a:path>
                  <a:path w="4680585" h="7740015">
                    <a:moveTo>
                      <a:pt x="12700" y="288010"/>
                    </a:moveTo>
                    <a:lnTo>
                      <a:pt x="0" y="288010"/>
                    </a:lnTo>
                    <a:lnTo>
                      <a:pt x="0" y="360006"/>
                    </a:lnTo>
                    <a:lnTo>
                      <a:pt x="12700" y="360006"/>
                    </a:lnTo>
                    <a:lnTo>
                      <a:pt x="12700" y="288010"/>
                    </a:lnTo>
                    <a:close/>
                  </a:path>
                  <a:path w="4680585" h="7740015">
                    <a:moveTo>
                      <a:pt x="12700" y="144005"/>
                    </a:moveTo>
                    <a:lnTo>
                      <a:pt x="0" y="144005"/>
                    </a:lnTo>
                    <a:lnTo>
                      <a:pt x="0" y="216001"/>
                    </a:lnTo>
                    <a:lnTo>
                      <a:pt x="12700" y="216001"/>
                    </a:lnTo>
                    <a:lnTo>
                      <a:pt x="12700" y="144005"/>
                    </a:lnTo>
                    <a:close/>
                  </a:path>
                  <a:path w="4680585" h="7740015">
                    <a:moveTo>
                      <a:pt x="72009" y="0"/>
                    </a:moveTo>
                    <a:lnTo>
                      <a:pt x="0" y="0"/>
                    </a:lnTo>
                    <a:lnTo>
                      <a:pt x="0" y="72009"/>
                    </a:lnTo>
                    <a:lnTo>
                      <a:pt x="12700" y="72009"/>
                    </a:lnTo>
                    <a:lnTo>
                      <a:pt x="12700" y="12700"/>
                    </a:lnTo>
                    <a:lnTo>
                      <a:pt x="72009" y="12700"/>
                    </a:lnTo>
                    <a:lnTo>
                      <a:pt x="72009" y="0"/>
                    </a:lnTo>
                    <a:close/>
                  </a:path>
                </a:pathLst>
              </a:custGeom>
              <a:solidFill>
                <a:srgbClr val="2e3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object 30"/>
              <p:cNvSpPr/>
              <p:nvPr/>
            </p:nvSpPr>
            <p:spPr>
              <a:xfrm>
                <a:off x="1787400" y="1356840"/>
                <a:ext cx="3527640" cy="6481440"/>
              </a:xfrm>
              <a:custGeom>
                <a:avLst/>
                <a:gdLst/>
                <a:ahLst/>
                <a:rect l="l" t="t" r="r" b="b"/>
                <a:pathLst>
                  <a:path w="3528060" h="6480175">
                    <a:moveTo>
                      <a:pt x="3527996" y="0"/>
                    </a:moveTo>
                    <a:lnTo>
                      <a:pt x="0" y="0"/>
                    </a:lnTo>
                    <a:lnTo>
                      <a:pt x="0" y="6479997"/>
                    </a:lnTo>
                    <a:lnTo>
                      <a:pt x="3527996" y="6479997"/>
                    </a:lnTo>
                    <a:lnTo>
                      <a:pt x="352799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object 31"/>
              <p:cNvSpPr/>
              <p:nvPr/>
            </p:nvSpPr>
            <p:spPr>
              <a:xfrm>
                <a:off x="5279040" y="135684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36195" h="36194">
                    <a:moveTo>
                      <a:pt x="0" y="0"/>
                    </a:moveTo>
                    <a:lnTo>
                      <a:pt x="-29532" y="0"/>
                    </a:lnTo>
                    <a:lnTo>
                      <a:pt x="-29532" y="-29532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object 32"/>
              <p:cNvSpPr/>
              <p:nvPr/>
            </p:nvSpPr>
            <p:spPr>
              <a:xfrm>
                <a:off x="5315040" y="1464840"/>
                <a:ext cx="360" cy="6301440"/>
              </a:xfrm>
              <a:custGeom>
                <a:avLst/>
                <a:gdLst/>
                <a:ahLst/>
                <a:rect l="l" t="t" r="r" b="b"/>
                <a:pathLst>
                  <a:path w="0" h="6300470">
                    <a:moveTo>
                      <a:pt x="0" y="0"/>
                    </a:moveTo>
                    <a:lnTo>
                      <a:pt x="0" y="630000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object 33"/>
              <p:cNvSpPr/>
              <p:nvPr/>
            </p:nvSpPr>
            <p:spPr>
              <a:xfrm>
                <a:off x="5279040" y="780192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36195" h="36195">
                    <a:moveTo>
                      <a:pt x="-29532" y="0"/>
                    </a:moveTo>
                    <a:lnTo>
                      <a:pt x="-29532" y="-29532"/>
                    </a:lnTo>
                    <a:lnTo>
                      <a:pt x="0" y="-29532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object 34"/>
              <p:cNvSpPr/>
              <p:nvPr/>
            </p:nvSpPr>
            <p:spPr>
              <a:xfrm>
                <a:off x="1858680" y="7837920"/>
                <a:ext cx="3349800" cy="360"/>
              </a:xfrm>
              <a:custGeom>
                <a:avLst/>
                <a:gdLst/>
                <a:ahLst/>
                <a:rect l="l" t="t" r="r" b="b"/>
                <a:pathLst>
                  <a:path w="3350260" h="0">
                    <a:moveTo>
                      <a:pt x="3350196" y="0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object 35"/>
              <p:cNvSpPr/>
              <p:nvPr/>
            </p:nvSpPr>
            <p:spPr>
              <a:xfrm>
                <a:off x="1787400" y="780192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36194" h="36195">
                    <a:moveTo>
                      <a:pt x="-29545" y="-29532"/>
                    </a:moveTo>
                    <a:lnTo>
                      <a:pt x="0" y="-2953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object 36"/>
              <p:cNvSpPr/>
              <p:nvPr/>
            </p:nvSpPr>
            <p:spPr>
              <a:xfrm>
                <a:off x="1787400" y="1428840"/>
                <a:ext cx="360" cy="6301440"/>
              </a:xfrm>
              <a:custGeom>
                <a:avLst/>
                <a:gdLst/>
                <a:ahLst/>
                <a:rect l="l" t="t" r="r" b="b"/>
                <a:pathLst>
                  <a:path w="0" h="6300470">
                    <a:moveTo>
                      <a:pt x="0" y="6300000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object 37"/>
              <p:cNvSpPr/>
              <p:nvPr/>
            </p:nvSpPr>
            <p:spPr>
              <a:xfrm>
                <a:off x="1787400" y="135684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36194" h="36194">
                    <a:moveTo>
                      <a:pt x="0" y="-29532"/>
                    </a:moveTo>
                    <a:lnTo>
                      <a:pt x="0" y="0"/>
                    </a:lnTo>
                    <a:lnTo>
                      <a:pt x="-29545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object 38"/>
              <p:cNvSpPr/>
              <p:nvPr/>
            </p:nvSpPr>
            <p:spPr>
              <a:xfrm>
                <a:off x="1893960" y="1356840"/>
                <a:ext cx="3349800" cy="360"/>
              </a:xfrm>
              <a:custGeom>
                <a:avLst/>
                <a:gdLst/>
                <a:ahLst/>
                <a:rect l="l" t="t" r="r" b="b"/>
                <a:pathLst>
                  <a:path w="3350260" h="0">
                    <a:moveTo>
                      <a:pt x="0" y="0"/>
                    </a:moveTo>
                    <a:lnTo>
                      <a:pt x="3350196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AutoShape 121"/>
            <p:cNvSpPr/>
            <p:nvPr/>
          </p:nvSpPr>
          <p:spPr>
            <a:xfrm>
              <a:off x="62280" y="5857920"/>
              <a:ext cx="1107720" cy="879480"/>
            </a:xfrm>
            <a:prstGeom prst="wedgeRoundRectCallout">
              <a:avLst>
                <a:gd name="adj1" fmla="val 104824"/>
                <a:gd name="adj2" fmla="val -5185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122"/>
            <p:cNvSpPr/>
            <p:nvPr/>
          </p:nvSpPr>
          <p:spPr>
            <a:xfrm>
              <a:off x="39600" y="2085480"/>
              <a:ext cx="824040" cy="841320"/>
            </a:xfrm>
            <a:prstGeom prst="wedgeRoundRectCallout">
              <a:avLst>
                <a:gd name="adj1" fmla="val 59046"/>
                <a:gd name="adj2" fmla="val -4853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4080" y="388080"/>
            <a:ext cx="6013080" cy="16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34080" y="2277720"/>
            <a:ext cx="6013080" cy="564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bject 30"/>
          <p:cNvSpPr/>
          <p:nvPr/>
        </p:nvSpPr>
        <p:spPr>
          <a:xfrm>
            <a:off x="1787400" y="1357200"/>
            <a:ext cx="3527640" cy="6480360"/>
          </a:xfrm>
          <a:custGeom>
            <a:avLst/>
            <a:gdLst/>
            <a:ahLst/>
            <a:rect l="l" t="t" r="r" b="b"/>
            <a:pathLst>
              <a:path w="3528060" h="6480175">
                <a:moveTo>
                  <a:pt x="3527996" y="0"/>
                </a:moveTo>
                <a:lnTo>
                  <a:pt x="0" y="0"/>
                </a:lnTo>
                <a:lnTo>
                  <a:pt x="0" y="6479997"/>
                </a:lnTo>
                <a:lnTo>
                  <a:pt x="3527996" y="6479997"/>
                </a:lnTo>
                <a:lnTo>
                  <a:pt x="352799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6T03:27:09Z</dcterms:created>
  <dc:creator>A18-008</dc:creator>
  <dc:description/>
  <dc:language>en-US</dc:language>
  <cp:lastModifiedBy>HP Inc.</cp:lastModifiedBy>
  <dcterms:modified xsi:type="dcterms:W3CDTF">2021-04-19T05:29:16Z</dcterms:modified>
  <cp:revision>1</cp:revision>
  <dc:subject/>
  <dc:title>紙製マスクケース（単色）_縦_表面 - コピ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1-04-16T00:00:00Z</vt:filetime>
  </property>
  <property fmtid="{D5CDD505-2E9C-101B-9397-08002B2CF9AE}" pid="3" name="Creator">
    <vt:lpwstr>Adobe Illustrator 25.2 (Windows)</vt:lpwstr>
  </property>
  <property fmtid="{D5CDD505-2E9C-101B-9397-08002B2CF9AE}" pid="4" name="LastSaved">
    <vt:filetime>2021-04-16T00:00:00Z</vt:filetime>
  </property>
</Properties>
</file>