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726613" cy="7380288"/>
  <p:notesSz cx="9726613" cy="7380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6360" y="294120"/>
            <a:ext cx="87541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6360" y="1726920"/>
            <a:ext cx="875412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6360" y="3962880"/>
            <a:ext cx="875412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6360" y="294120"/>
            <a:ext cx="87541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6360" y="1726920"/>
            <a:ext cx="427176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71960" y="1726920"/>
            <a:ext cx="427176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6360" y="3962880"/>
            <a:ext cx="427176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71960" y="3962880"/>
            <a:ext cx="427176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6360" y="294120"/>
            <a:ext cx="87541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6360" y="1726920"/>
            <a:ext cx="281844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46280" y="1726920"/>
            <a:ext cx="281844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05840" y="1726920"/>
            <a:ext cx="281844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6360" y="3962880"/>
            <a:ext cx="281844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46280" y="3962880"/>
            <a:ext cx="281844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05840" y="3962880"/>
            <a:ext cx="281844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6360" y="294120"/>
            <a:ext cx="87541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86360" y="1726920"/>
            <a:ext cx="8754120" cy="42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6360" y="294120"/>
            <a:ext cx="87541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6360" y="1726920"/>
            <a:ext cx="8754120" cy="42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6360" y="294120"/>
            <a:ext cx="87541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6360" y="1726920"/>
            <a:ext cx="4271760" cy="42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71960" y="1726920"/>
            <a:ext cx="4271760" cy="42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6360" y="294120"/>
            <a:ext cx="87541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86360" y="294120"/>
            <a:ext cx="875412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6360" y="294120"/>
            <a:ext cx="87541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6360" y="1726920"/>
            <a:ext cx="427176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71960" y="1726920"/>
            <a:ext cx="4271760" cy="42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6360" y="3962880"/>
            <a:ext cx="427176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360" y="294120"/>
            <a:ext cx="87541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6360" y="1726920"/>
            <a:ext cx="8754120" cy="42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6360" y="294120"/>
            <a:ext cx="87541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6360" y="1726920"/>
            <a:ext cx="4271760" cy="42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71960" y="1726920"/>
            <a:ext cx="427176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71960" y="3962880"/>
            <a:ext cx="427176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86360" y="294120"/>
            <a:ext cx="87541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6360" y="1726920"/>
            <a:ext cx="427176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71960" y="1726920"/>
            <a:ext cx="427176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6360" y="3962880"/>
            <a:ext cx="875412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6360" y="294120"/>
            <a:ext cx="87541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6360" y="1726920"/>
            <a:ext cx="875412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6360" y="3962880"/>
            <a:ext cx="875412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6360" y="294120"/>
            <a:ext cx="87541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86360" y="1726920"/>
            <a:ext cx="427176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1960" y="1726920"/>
            <a:ext cx="427176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86360" y="3962880"/>
            <a:ext cx="427176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71960" y="3962880"/>
            <a:ext cx="427176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6360" y="294120"/>
            <a:ext cx="87541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86360" y="1726920"/>
            <a:ext cx="281844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446280" y="1726920"/>
            <a:ext cx="281844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05840" y="1726920"/>
            <a:ext cx="281844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6360" y="3962880"/>
            <a:ext cx="281844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446280" y="3962880"/>
            <a:ext cx="281844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05840" y="3962880"/>
            <a:ext cx="281844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6360" y="294120"/>
            <a:ext cx="87541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6360" y="1726920"/>
            <a:ext cx="8754120" cy="42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6360" y="294120"/>
            <a:ext cx="87541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6360" y="1726920"/>
            <a:ext cx="4271760" cy="42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960" y="1726920"/>
            <a:ext cx="4271760" cy="42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6360" y="294120"/>
            <a:ext cx="87541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6360" y="294120"/>
            <a:ext cx="875412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6360" y="294120"/>
            <a:ext cx="87541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6360" y="1726920"/>
            <a:ext cx="427176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1960" y="1726920"/>
            <a:ext cx="4271760" cy="42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6360" y="3962880"/>
            <a:ext cx="427176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6360" y="294120"/>
            <a:ext cx="87541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6360" y="1726920"/>
            <a:ext cx="4271760" cy="42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1960" y="1726920"/>
            <a:ext cx="427176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71960" y="3962880"/>
            <a:ext cx="427176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6360" y="294120"/>
            <a:ext cx="87541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6360" y="1726920"/>
            <a:ext cx="427176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71960" y="1726920"/>
            <a:ext cx="427176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6360" y="3962880"/>
            <a:ext cx="875412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ject 2"/>
          <p:cNvGrpSpPr/>
          <p:nvPr/>
        </p:nvGrpSpPr>
        <p:grpSpPr>
          <a:xfrm>
            <a:off x="563400" y="6024600"/>
            <a:ext cx="436680" cy="436680"/>
            <a:chOff x="563400" y="6024600"/>
            <a:chExt cx="436680" cy="436680"/>
          </a:xfrm>
        </p:grpSpPr>
        <p:sp>
          <p:nvSpPr>
            <p:cNvPr id="1" name="object 3"/>
            <p:cNvSpPr/>
            <p:nvPr/>
          </p:nvSpPr>
          <p:spPr>
            <a:xfrm>
              <a:off x="563400" y="60246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4" h="432435">
                  <a:moveTo>
                    <a:pt x="0" y="0"/>
                  </a:moveTo>
                  <a:lnTo>
                    <a:pt x="324002" y="0"/>
                  </a:lnTo>
                  <a:lnTo>
                    <a:pt x="324002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object 4"/>
            <p:cNvSpPr/>
            <p:nvPr/>
          </p:nvSpPr>
          <p:spPr>
            <a:xfrm>
              <a:off x="563400" y="613368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4" h="324485">
                  <a:moveTo>
                    <a:pt x="432003" y="324002"/>
                  </a:moveTo>
                  <a:lnTo>
                    <a:pt x="432003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object 5"/>
          <p:cNvGrpSpPr/>
          <p:nvPr/>
        </p:nvGrpSpPr>
        <p:grpSpPr>
          <a:xfrm>
            <a:off x="563400" y="912960"/>
            <a:ext cx="436680" cy="436320"/>
            <a:chOff x="563400" y="912960"/>
            <a:chExt cx="436680" cy="436320"/>
          </a:xfrm>
        </p:grpSpPr>
        <p:sp>
          <p:nvSpPr>
            <p:cNvPr id="4" name="object 6"/>
            <p:cNvSpPr/>
            <p:nvPr/>
          </p:nvSpPr>
          <p:spPr>
            <a:xfrm>
              <a:off x="563400" y="912960"/>
              <a:ext cx="327600" cy="43632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0" y="432003"/>
                  </a:moveTo>
                  <a:lnTo>
                    <a:pt x="324002" y="432003"/>
                  </a:ln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object 7"/>
            <p:cNvSpPr/>
            <p:nvPr/>
          </p:nvSpPr>
          <p:spPr>
            <a:xfrm>
              <a:off x="563400" y="91296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432003" y="0"/>
                  </a:moveTo>
                  <a:lnTo>
                    <a:pt x="432003" y="324002"/>
                  </a:ln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object 8"/>
          <p:cNvGrpSpPr/>
          <p:nvPr/>
        </p:nvGrpSpPr>
        <p:grpSpPr>
          <a:xfrm>
            <a:off x="8736120" y="912960"/>
            <a:ext cx="434880" cy="436320"/>
            <a:chOff x="8736120" y="912960"/>
            <a:chExt cx="434880" cy="436320"/>
          </a:xfrm>
        </p:grpSpPr>
        <p:sp>
          <p:nvSpPr>
            <p:cNvPr id="7" name="object 9"/>
            <p:cNvSpPr/>
            <p:nvPr/>
          </p:nvSpPr>
          <p:spPr>
            <a:xfrm>
              <a:off x="8844480" y="912960"/>
              <a:ext cx="326520" cy="43632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324015" y="432003"/>
                  </a:moveTo>
                  <a:lnTo>
                    <a:pt x="0" y="432003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object 10"/>
            <p:cNvSpPr/>
            <p:nvPr/>
          </p:nvSpPr>
          <p:spPr>
            <a:xfrm>
              <a:off x="8736120" y="912960"/>
              <a:ext cx="434880" cy="32760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0" y="0"/>
                  </a:moveTo>
                  <a:lnTo>
                    <a:pt x="0" y="324002"/>
                  </a:lnTo>
                  <a:lnTo>
                    <a:pt x="432015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" name="object 11"/>
          <p:cNvGrpSpPr/>
          <p:nvPr/>
        </p:nvGrpSpPr>
        <p:grpSpPr>
          <a:xfrm>
            <a:off x="8736120" y="6024600"/>
            <a:ext cx="434880" cy="436680"/>
            <a:chOff x="8736120" y="6024600"/>
            <a:chExt cx="434880" cy="436680"/>
          </a:xfrm>
        </p:grpSpPr>
        <p:sp>
          <p:nvSpPr>
            <p:cNvPr id="10" name="object 12"/>
            <p:cNvSpPr/>
            <p:nvPr/>
          </p:nvSpPr>
          <p:spPr>
            <a:xfrm>
              <a:off x="8844480" y="6024600"/>
              <a:ext cx="326520" cy="436680"/>
            </a:xfrm>
            <a:custGeom>
              <a:avLst/>
              <a:gdLst/>
              <a:ahLst/>
              <a:rect l="l" t="t" r="r" b="b"/>
              <a:pathLst>
                <a:path w="324484" h="432435">
                  <a:moveTo>
                    <a:pt x="324015" y="0"/>
                  </a:moveTo>
                  <a:lnTo>
                    <a:pt x="0" y="0"/>
                  </a:lnTo>
                  <a:lnTo>
                    <a:pt x="0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object 13"/>
            <p:cNvSpPr/>
            <p:nvPr/>
          </p:nvSpPr>
          <p:spPr>
            <a:xfrm>
              <a:off x="8736120" y="6133680"/>
              <a:ext cx="434880" cy="327600"/>
            </a:xfrm>
            <a:custGeom>
              <a:avLst/>
              <a:gdLst/>
              <a:ahLst/>
              <a:rect l="l" t="t" r="r" b="b"/>
              <a:pathLst>
                <a:path w="432434" h="324485">
                  <a:moveTo>
                    <a:pt x="0" y="324002"/>
                  </a:moveTo>
                  <a:lnTo>
                    <a:pt x="0" y="0"/>
                  </a:lnTo>
                  <a:lnTo>
                    <a:pt x="432015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" name="object 14"/>
          <p:cNvGrpSpPr/>
          <p:nvPr/>
        </p:nvGrpSpPr>
        <p:grpSpPr>
          <a:xfrm>
            <a:off x="539640" y="3228840"/>
            <a:ext cx="304920" cy="914400"/>
            <a:chOff x="539640" y="3228840"/>
            <a:chExt cx="304920" cy="914400"/>
          </a:xfrm>
        </p:grpSpPr>
        <p:sp>
          <p:nvSpPr>
            <p:cNvPr id="13" name="object 15"/>
            <p:cNvSpPr/>
            <p:nvPr/>
          </p:nvSpPr>
          <p:spPr>
            <a:xfrm>
              <a:off x="539640" y="3686040"/>
              <a:ext cx="30492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0" y="0"/>
                  </a:moveTo>
                  <a:lnTo>
                    <a:pt x="3048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object 16"/>
            <p:cNvSpPr/>
            <p:nvPr/>
          </p:nvSpPr>
          <p:spPr>
            <a:xfrm>
              <a:off x="768240" y="322884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0"/>
                  </a:moveTo>
                  <a:lnTo>
                    <a:pt x="0" y="9144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" name="object 17"/>
          <p:cNvGrpSpPr/>
          <p:nvPr/>
        </p:nvGrpSpPr>
        <p:grpSpPr>
          <a:xfrm>
            <a:off x="8889840" y="3228840"/>
            <a:ext cx="304920" cy="914400"/>
            <a:chOff x="8889840" y="3228840"/>
            <a:chExt cx="304920" cy="914400"/>
          </a:xfrm>
        </p:grpSpPr>
        <p:sp>
          <p:nvSpPr>
            <p:cNvPr id="16" name="object 18"/>
            <p:cNvSpPr/>
            <p:nvPr/>
          </p:nvSpPr>
          <p:spPr>
            <a:xfrm>
              <a:off x="8889840" y="3686040"/>
              <a:ext cx="30492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3048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object 19"/>
            <p:cNvSpPr/>
            <p:nvPr/>
          </p:nvSpPr>
          <p:spPr>
            <a:xfrm>
              <a:off x="8966160" y="322884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9144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" name="object 20"/>
          <p:cNvGrpSpPr/>
          <p:nvPr/>
        </p:nvGrpSpPr>
        <p:grpSpPr>
          <a:xfrm>
            <a:off x="4410000" y="888840"/>
            <a:ext cx="914400" cy="304920"/>
            <a:chOff x="4410000" y="888840"/>
            <a:chExt cx="914400" cy="304920"/>
          </a:xfrm>
        </p:grpSpPr>
        <p:sp>
          <p:nvSpPr>
            <p:cNvPr id="19" name="object 21"/>
            <p:cNvSpPr/>
            <p:nvPr/>
          </p:nvSpPr>
          <p:spPr>
            <a:xfrm>
              <a:off x="4410000" y="111744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0" y="0"/>
                  </a:moveTo>
                  <a:lnTo>
                    <a:pt x="9144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object 22"/>
            <p:cNvSpPr/>
            <p:nvPr/>
          </p:nvSpPr>
          <p:spPr>
            <a:xfrm>
              <a:off x="4867200" y="888840"/>
              <a:ext cx="360" cy="30492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0"/>
                  </a:moveTo>
                  <a:lnTo>
                    <a:pt x="0" y="3048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" name="object 23"/>
          <p:cNvGrpSpPr/>
          <p:nvPr/>
        </p:nvGrpSpPr>
        <p:grpSpPr>
          <a:xfrm>
            <a:off x="4410000" y="6178680"/>
            <a:ext cx="914400" cy="304560"/>
            <a:chOff x="4410000" y="6178680"/>
            <a:chExt cx="914400" cy="304560"/>
          </a:xfrm>
        </p:grpSpPr>
        <p:sp>
          <p:nvSpPr>
            <p:cNvPr id="22" name="object 24"/>
            <p:cNvSpPr/>
            <p:nvPr/>
          </p:nvSpPr>
          <p:spPr>
            <a:xfrm>
              <a:off x="4410000" y="625464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9144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object 25"/>
            <p:cNvSpPr/>
            <p:nvPr/>
          </p:nvSpPr>
          <p:spPr>
            <a:xfrm>
              <a:off x="4867200" y="6178680"/>
              <a:ext cx="360" cy="30456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3048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" name="図 31" descr=""/>
          <p:cNvPicPr/>
          <p:nvPr/>
        </p:nvPicPr>
        <p:blipFill>
          <a:blip r:embed="rId2"/>
          <a:stretch/>
        </p:blipFill>
        <p:spPr>
          <a:xfrm>
            <a:off x="1185840" y="193680"/>
            <a:ext cx="735336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object 2"/>
          <p:cNvGrpSpPr/>
          <p:nvPr/>
        </p:nvGrpSpPr>
        <p:grpSpPr>
          <a:xfrm>
            <a:off x="563400" y="6024600"/>
            <a:ext cx="436680" cy="436680"/>
            <a:chOff x="563400" y="6024600"/>
            <a:chExt cx="436680" cy="436680"/>
          </a:xfrm>
        </p:grpSpPr>
        <p:sp>
          <p:nvSpPr>
            <p:cNvPr id="62" name="object 3"/>
            <p:cNvSpPr/>
            <p:nvPr/>
          </p:nvSpPr>
          <p:spPr>
            <a:xfrm>
              <a:off x="563400" y="60246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4" h="432435">
                  <a:moveTo>
                    <a:pt x="0" y="0"/>
                  </a:moveTo>
                  <a:lnTo>
                    <a:pt x="324002" y="0"/>
                  </a:lnTo>
                  <a:lnTo>
                    <a:pt x="324002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object 4"/>
            <p:cNvSpPr/>
            <p:nvPr/>
          </p:nvSpPr>
          <p:spPr>
            <a:xfrm>
              <a:off x="563400" y="613368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4" h="324485">
                  <a:moveTo>
                    <a:pt x="432003" y="324002"/>
                  </a:moveTo>
                  <a:lnTo>
                    <a:pt x="432003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object 5"/>
          <p:cNvGrpSpPr/>
          <p:nvPr/>
        </p:nvGrpSpPr>
        <p:grpSpPr>
          <a:xfrm>
            <a:off x="563400" y="912960"/>
            <a:ext cx="436680" cy="436320"/>
            <a:chOff x="563400" y="912960"/>
            <a:chExt cx="436680" cy="436320"/>
          </a:xfrm>
        </p:grpSpPr>
        <p:sp>
          <p:nvSpPr>
            <p:cNvPr id="65" name="object 6"/>
            <p:cNvSpPr/>
            <p:nvPr/>
          </p:nvSpPr>
          <p:spPr>
            <a:xfrm>
              <a:off x="563400" y="912960"/>
              <a:ext cx="327600" cy="43632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0" y="432003"/>
                  </a:moveTo>
                  <a:lnTo>
                    <a:pt x="324002" y="432003"/>
                  </a:ln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object 7"/>
            <p:cNvSpPr/>
            <p:nvPr/>
          </p:nvSpPr>
          <p:spPr>
            <a:xfrm>
              <a:off x="563400" y="91296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432003" y="0"/>
                  </a:moveTo>
                  <a:lnTo>
                    <a:pt x="432003" y="324002"/>
                  </a:ln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object 8"/>
          <p:cNvGrpSpPr/>
          <p:nvPr/>
        </p:nvGrpSpPr>
        <p:grpSpPr>
          <a:xfrm>
            <a:off x="8736120" y="912960"/>
            <a:ext cx="434880" cy="436320"/>
            <a:chOff x="8736120" y="912960"/>
            <a:chExt cx="434880" cy="436320"/>
          </a:xfrm>
        </p:grpSpPr>
        <p:sp>
          <p:nvSpPr>
            <p:cNvPr id="68" name="object 9"/>
            <p:cNvSpPr/>
            <p:nvPr/>
          </p:nvSpPr>
          <p:spPr>
            <a:xfrm>
              <a:off x="8844480" y="912960"/>
              <a:ext cx="326520" cy="43632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324015" y="432003"/>
                  </a:moveTo>
                  <a:lnTo>
                    <a:pt x="0" y="432003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object 10"/>
            <p:cNvSpPr/>
            <p:nvPr/>
          </p:nvSpPr>
          <p:spPr>
            <a:xfrm>
              <a:off x="8736120" y="912960"/>
              <a:ext cx="434880" cy="32760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0" y="0"/>
                  </a:moveTo>
                  <a:lnTo>
                    <a:pt x="0" y="324002"/>
                  </a:lnTo>
                  <a:lnTo>
                    <a:pt x="432015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object 11"/>
          <p:cNvGrpSpPr/>
          <p:nvPr/>
        </p:nvGrpSpPr>
        <p:grpSpPr>
          <a:xfrm>
            <a:off x="8736120" y="6024600"/>
            <a:ext cx="434880" cy="436680"/>
            <a:chOff x="8736120" y="6024600"/>
            <a:chExt cx="434880" cy="436680"/>
          </a:xfrm>
        </p:grpSpPr>
        <p:sp>
          <p:nvSpPr>
            <p:cNvPr id="71" name="object 12"/>
            <p:cNvSpPr/>
            <p:nvPr/>
          </p:nvSpPr>
          <p:spPr>
            <a:xfrm>
              <a:off x="8844480" y="6024600"/>
              <a:ext cx="326520" cy="436680"/>
            </a:xfrm>
            <a:custGeom>
              <a:avLst/>
              <a:gdLst/>
              <a:ahLst/>
              <a:rect l="l" t="t" r="r" b="b"/>
              <a:pathLst>
                <a:path w="324484" h="432435">
                  <a:moveTo>
                    <a:pt x="324015" y="0"/>
                  </a:moveTo>
                  <a:lnTo>
                    <a:pt x="0" y="0"/>
                  </a:lnTo>
                  <a:lnTo>
                    <a:pt x="0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object 13"/>
            <p:cNvSpPr/>
            <p:nvPr/>
          </p:nvSpPr>
          <p:spPr>
            <a:xfrm>
              <a:off x="8736120" y="6133680"/>
              <a:ext cx="434880" cy="327600"/>
            </a:xfrm>
            <a:custGeom>
              <a:avLst/>
              <a:gdLst/>
              <a:ahLst/>
              <a:rect l="l" t="t" r="r" b="b"/>
              <a:pathLst>
                <a:path w="432434" h="324485">
                  <a:moveTo>
                    <a:pt x="0" y="324002"/>
                  </a:moveTo>
                  <a:lnTo>
                    <a:pt x="0" y="0"/>
                  </a:lnTo>
                  <a:lnTo>
                    <a:pt x="432015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object 14"/>
          <p:cNvGrpSpPr/>
          <p:nvPr/>
        </p:nvGrpSpPr>
        <p:grpSpPr>
          <a:xfrm>
            <a:off x="539640" y="3228840"/>
            <a:ext cx="304920" cy="914400"/>
            <a:chOff x="539640" y="3228840"/>
            <a:chExt cx="304920" cy="914400"/>
          </a:xfrm>
        </p:grpSpPr>
        <p:sp>
          <p:nvSpPr>
            <p:cNvPr id="74" name="object 15"/>
            <p:cNvSpPr/>
            <p:nvPr/>
          </p:nvSpPr>
          <p:spPr>
            <a:xfrm>
              <a:off x="539640" y="3686040"/>
              <a:ext cx="30492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0" y="0"/>
                  </a:moveTo>
                  <a:lnTo>
                    <a:pt x="3048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object 16"/>
            <p:cNvSpPr/>
            <p:nvPr/>
          </p:nvSpPr>
          <p:spPr>
            <a:xfrm>
              <a:off x="768240" y="322884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0"/>
                  </a:moveTo>
                  <a:lnTo>
                    <a:pt x="0" y="9144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object 17"/>
          <p:cNvGrpSpPr/>
          <p:nvPr/>
        </p:nvGrpSpPr>
        <p:grpSpPr>
          <a:xfrm>
            <a:off x="8889840" y="3228840"/>
            <a:ext cx="304920" cy="914400"/>
            <a:chOff x="8889840" y="3228840"/>
            <a:chExt cx="304920" cy="914400"/>
          </a:xfrm>
        </p:grpSpPr>
        <p:sp>
          <p:nvSpPr>
            <p:cNvPr id="77" name="object 18"/>
            <p:cNvSpPr/>
            <p:nvPr/>
          </p:nvSpPr>
          <p:spPr>
            <a:xfrm>
              <a:off x="8889840" y="3686040"/>
              <a:ext cx="30492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3048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object 19"/>
            <p:cNvSpPr/>
            <p:nvPr/>
          </p:nvSpPr>
          <p:spPr>
            <a:xfrm>
              <a:off x="8966160" y="322884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9144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object 20"/>
          <p:cNvGrpSpPr/>
          <p:nvPr/>
        </p:nvGrpSpPr>
        <p:grpSpPr>
          <a:xfrm>
            <a:off x="4410000" y="888840"/>
            <a:ext cx="914400" cy="304920"/>
            <a:chOff x="4410000" y="888840"/>
            <a:chExt cx="914400" cy="304920"/>
          </a:xfrm>
        </p:grpSpPr>
        <p:sp>
          <p:nvSpPr>
            <p:cNvPr id="80" name="object 21"/>
            <p:cNvSpPr/>
            <p:nvPr/>
          </p:nvSpPr>
          <p:spPr>
            <a:xfrm>
              <a:off x="4410000" y="111744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0" y="0"/>
                  </a:moveTo>
                  <a:lnTo>
                    <a:pt x="9144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bject 22"/>
            <p:cNvSpPr/>
            <p:nvPr/>
          </p:nvSpPr>
          <p:spPr>
            <a:xfrm>
              <a:off x="4867200" y="888840"/>
              <a:ext cx="360" cy="30492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0"/>
                  </a:moveTo>
                  <a:lnTo>
                    <a:pt x="0" y="3048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object 23"/>
          <p:cNvGrpSpPr/>
          <p:nvPr/>
        </p:nvGrpSpPr>
        <p:grpSpPr>
          <a:xfrm>
            <a:off x="4410000" y="6178680"/>
            <a:ext cx="914400" cy="304560"/>
            <a:chOff x="4410000" y="6178680"/>
            <a:chExt cx="914400" cy="304560"/>
          </a:xfrm>
        </p:grpSpPr>
        <p:sp>
          <p:nvSpPr>
            <p:cNvPr id="83" name="object 24"/>
            <p:cNvSpPr/>
            <p:nvPr/>
          </p:nvSpPr>
          <p:spPr>
            <a:xfrm>
              <a:off x="4410000" y="625464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9144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bject 25"/>
            <p:cNvSpPr/>
            <p:nvPr/>
          </p:nvSpPr>
          <p:spPr>
            <a:xfrm>
              <a:off x="4867200" y="6178680"/>
              <a:ext cx="360" cy="30456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3048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図 31" descr=""/>
          <p:cNvPicPr/>
          <p:nvPr/>
        </p:nvPicPr>
        <p:blipFill>
          <a:blip r:embed="rId2"/>
          <a:stretch/>
        </p:blipFill>
        <p:spPr>
          <a:xfrm>
            <a:off x="1185840" y="193680"/>
            <a:ext cx="7353360" cy="538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3"/>
          <p:cNvSpPr/>
          <p:nvPr/>
        </p:nvSpPr>
        <p:spPr>
          <a:xfrm>
            <a:off x="1919160" y="644688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印字できない範囲は、水色で表示している箇所です。こちらには、オブジェクトを配置しないで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黒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グループ化 32"/>
          <p:cNvGrpSpPr/>
          <p:nvPr/>
        </p:nvGrpSpPr>
        <p:grpSpPr>
          <a:xfrm>
            <a:off x="39600" y="1346040"/>
            <a:ext cx="8697960" cy="4687920"/>
            <a:chOff x="39600" y="1346040"/>
            <a:chExt cx="8697960" cy="4687920"/>
          </a:xfrm>
        </p:grpSpPr>
        <p:grpSp>
          <p:nvGrpSpPr>
            <p:cNvPr id="88" name="object 26"/>
            <p:cNvGrpSpPr/>
            <p:nvPr/>
          </p:nvGrpSpPr>
          <p:grpSpPr>
            <a:xfrm>
              <a:off x="994680" y="1346040"/>
              <a:ext cx="7742880" cy="4687920"/>
              <a:chOff x="994680" y="1346040"/>
              <a:chExt cx="7742880" cy="4687920"/>
            </a:xfrm>
          </p:grpSpPr>
          <p:sp>
            <p:nvSpPr>
              <p:cNvPr id="89" name="object 27"/>
              <p:cNvSpPr/>
              <p:nvPr/>
            </p:nvSpPr>
            <p:spPr>
              <a:xfrm>
                <a:off x="994680" y="1353600"/>
                <a:ext cx="7740360" cy="4680360"/>
              </a:xfrm>
              <a:custGeom>
                <a:avLst/>
                <a:gdLst/>
                <a:ahLst/>
                <a:rect l="l" t="t" r="r" b="b"/>
                <a:pathLst>
                  <a:path w="7740015" h="4679950">
                    <a:moveTo>
                      <a:pt x="7739989" y="0"/>
                    </a:moveTo>
                    <a:lnTo>
                      <a:pt x="0" y="0"/>
                    </a:lnTo>
                    <a:lnTo>
                      <a:pt x="0" y="782320"/>
                    </a:lnTo>
                    <a:lnTo>
                      <a:pt x="0" y="4310380"/>
                    </a:lnTo>
                    <a:lnTo>
                      <a:pt x="0" y="4679950"/>
                    </a:lnTo>
                    <a:lnTo>
                      <a:pt x="7739989" y="4679950"/>
                    </a:lnTo>
                    <a:lnTo>
                      <a:pt x="7739989" y="4310621"/>
                    </a:lnTo>
                    <a:lnTo>
                      <a:pt x="7739989" y="4310380"/>
                    </a:lnTo>
                    <a:lnTo>
                      <a:pt x="7739989" y="782624"/>
                    </a:lnTo>
                    <a:lnTo>
                      <a:pt x="7382586" y="782624"/>
                    </a:lnTo>
                    <a:lnTo>
                      <a:pt x="7382586" y="4310380"/>
                    </a:lnTo>
                    <a:lnTo>
                      <a:pt x="902589" y="4310380"/>
                    </a:lnTo>
                    <a:lnTo>
                      <a:pt x="902589" y="782320"/>
                    </a:lnTo>
                    <a:lnTo>
                      <a:pt x="7739989" y="782320"/>
                    </a:lnTo>
                    <a:lnTo>
                      <a:pt x="7739989" y="0"/>
                    </a:lnTo>
                    <a:close/>
                  </a:path>
                </a:pathLst>
              </a:custGeom>
              <a:solidFill>
                <a:srgbClr val="c7e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object 28"/>
              <p:cNvSpPr/>
              <p:nvPr/>
            </p:nvSpPr>
            <p:spPr>
              <a:xfrm>
                <a:off x="997200" y="1346040"/>
                <a:ext cx="7740360" cy="4681080"/>
              </a:xfrm>
              <a:custGeom>
                <a:avLst/>
                <a:gdLst/>
                <a:ahLst/>
                <a:rect l="l" t="t" r="r" b="b"/>
                <a:pathLst>
                  <a:path w="7740015" h="4680585">
                    <a:moveTo>
                      <a:pt x="12700" y="4463999"/>
                    </a:moveTo>
                    <a:lnTo>
                      <a:pt x="0" y="4463999"/>
                    </a:lnTo>
                    <a:lnTo>
                      <a:pt x="0" y="4535995"/>
                    </a:lnTo>
                    <a:lnTo>
                      <a:pt x="12700" y="4535995"/>
                    </a:lnTo>
                    <a:lnTo>
                      <a:pt x="12700" y="4463999"/>
                    </a:lnTo>
                    <a:close/>
                  </a:path>
                  <a:path w="7740015" h="4680585">
                    <a:moveTo>
                      <a:pt x="12700" y="4319994"/>
                    </a:moveTo>
                    <a:lnTo>
                      <a:pt x="0" y="4319994"/>
                    </a:lnTo>
                    <a:lnTo>
                      <a:pt x="0" y="4391990"/>
                    </a:lnTo>
                    <a:lnTo>
                      <a:pt x="12700" y="4391990"/>
                    </a:lnTo>
                    <a:lnTo>
                      <a:pt x="12700" y="4319994"/>
                    </a:lnTo>
                    <a:close/>
                  </a:path>
                  <a:path w="7740015" h="4680585">
                    <a:moveTo>
                      <a:pt x="12700" y="4175988"/>
                    </a:moveTo>
                    <a:lnTo>
                      <a:pt x="0" y="4175988"/>
                    </a:lnTo>
                    <a:lnTo>
                      <a:pt x="0" y="4247997"/>
                    </a:lnTo>
                    <a:lnTo>
                      <a:pt x="12700" y="4247997"/>
                    </a:lnTo>
                    <a:lnTo>
                      <a:pt x="12700" y="4175988"/>
                    </a:lnTo>
                    <a:close/>
                  </a:path>
                  <a:path w="7740015" h="4680585">
                    <a:moveTo>
                      <a:pt x="12700" y="4031996"/>
                    </a:moveTo>
                    <a:lnTo>
                      <a:pt x="0" y="4031996"/>
                    </a:lnTo>
                    <a:lnTo>
                      <a:pt x="0" y="4103992"/>
                    </a:lnTo>
                    <a:lnTo>
                      <a:pt x="12700" y="4103992"/>
                    </a:lnTo>
                    <a:lnTo>
                      <a:pt x="12700" y="4031996"/>
                    </a:lnTo>
                    <a:close/>
                  </a:path>
                  <a:path w="7740015" h="4680585">
                    <a:moveTo>
                      <a:pt x="12700" y="3888003"/>
                    </a:moveTo>
                    <a:lnTo>
                      <a:pt x="0" y="3888003"/>
                    </a:lnTo>
                    <a:lnTo>
                      <a:pt x="0" y="3959999"/>
                    </a:lnTo>
                    <a:lnTo>
                      <a:pt x="12700" y="3959999"/>
                    </a:lnTo>
                    <a:lnTo>
                      <a:pt x="12700" y="3888003"/>
                    </a:lnTo>
                    <a:close/>
                  </a:path>
                  <a:path w="7740015" h="4680585">
                    <a:moveTo>
                      <a:pt x="12700" y="3743998"/>
                    </a:moveTo>
                    <a:lnTo>
                      <a:pt x="0" y="3743998"/>
                    </a:lnTo>
                    <a:lnTo>
                      <a:pt x="0" y="3816007"/>
                    </a:lnTo>
                    <a:lnTo>
                      <a:pt x="12700" y="3816007"/>
                    </a:lnTo>
                    <a:lnTo>
                      <a:pt x="12700" y="3743998"/>
                    </a:lnTo>
                    <a:close/>
                  </a:path>
                  <a:path w="7740015" h="4680585">
                    <a:moveTo>
                      <a:pt x="12700" y="3600005"/>
                    </a:moveTo>
                    <a:lnTo>
                      <a:pt x="0" y="3600005"/>
                    </a:lnTo>
                    <a:lnTo>
                      <a:pt x="0" y="3672001"/>
                    </a:lnTo>
                    <a:lnTo>
                      <a:pt x="12700" y="3672001"/>
                    </a:lnTo>
                    <a:lnTo>
                      <a:pt x="12700" y="3600005"/>
                    </a:lnTo>
                    <a:close/>
                  </a:path>
                  <a:path w="7740015" h="4680585">
                    <a:moveTo>
                      <a:pt x="12700" y="3456000"/>
                    </a:moveTo>
                    <a:lnTo>
                      <a:pt x="0" y="3456000"/>
                    </a:lnTo>
                    <a:lnTo>
                      <a:pt x="0" y="3527996"/>
                    </a:lnTo>
                    <a:lnTo>
                      <a:pt x="12700" y="3527996"/>
                    </a:lnTo>
                    <a:lnTo>
                      <a:pt x="12700" y="3456000"/>
                    </a:lnTo>
                    <a:close/>
                  </a:path>
                  <a:path w="7740015" h="4680585">
                    <a:moveTo>
                      <a:pt x="12700" y="3311995"/>
                    </a:moveTo>
                    <a:lnTo>
                      <a:pt x="0" y="3311995"/>
                    </a:lnTo>
                    <a:lnTo>
                      <a:pt x="0" y="3383991"/>
                    </a:lnTo>
                    <a:lnTo>
                      <a:pt x="12700" y="3383991"/>
                    </a:lnTo>
                    <a:lnTo>
                      <a:pt x="12700" y="3311995"/>
                    </a:lnTo>
                    <a:close/>
                  </a:path>
                  <a:path w="7740015" h="4680585">
                    <a:moveTo>
                      <a:pt x="12700" y="3167989"/>
                    </a:moveTo>
                    <a:lnTo>
                      <a:pt x="0" y="3167989"/>
                    </a:lnTo>
                    <a:lnTo>
                      <a:pt x="0" y="3239998"/>
                    </a:lnTo>
                    <a:lnTo>
                      <a:pt x="12700" y="3239998"/>
                    </a:lnTo>
                    <a:lnTo>
                      <a:pt x="12700" y="3167989"/>
                    </a:lnTo>
                    <a:close/>
                  </a:path>
                  <a:path w="7740015" h="4680585">
                    <a:moveTo>
                      <a:pt x="12700" y="3023997"/>
                    </a:moveTo>
                    <a:lnTo>
                      <a:pt x="0" y="3023997"/>
                    </a:lnTo>
                    <a:lnTo>
                      <a:pt x="0" y="3095993"/>
                    </a:lnTo>
                    <a:lnTo>
                      <a:pt x="12700" y="3095993"/>
                    </a:lnTo>
                    <a:lnTo>
                      <a:pt x="12700" y="3023997"/>
                    </a:lnTo>
                    <a:close/>
                  </a:path>
                  <a:path w="7740015" h="4680585">
                    <a:moveTo>
                      <a:pt x="12700" y="2879991"/>
                    </a:moveTo>
                    <a:lnTo>
                      <a:pt x="0" y="2879991"/>
                    </a:lnTo>
                    <a:lnTo>
                      <a:pt x="0" y="2951988"/>
                    </a:lnTo>
                    <a:lnTo>
                      <a:pt x="12700" y="2951988"/>
                    </a:lnTo>
                    <a:lnTo>
                      <a:pt x="12700" y="2879991"/>
                    </a:lnTo>
                    <a:close/>
                  </a:path>
                  <a:path w="7740015" h="4680585">
                    <a:moveTo>
                      <a:pt x="12700" y="2735999"/>
                    </a:moveTo>
                    <a:lnTo>
                      <a:pt x="0" y="2735999"/>
                    </a:lnTo>
                    <a:lnTo>
                      <a:pt x="0" y="2808008"/>
                    </a:lnTo>
                    <a:lnTo>
                      <a:pt x="12700" y="2808008"/>
                    </a:lnTo>
                    <a:lnTo>
                      <a:pt x="12700" y="2735999"/>
                    </a:lnTo>
                    <a:close/>
                  </a:path>
                  <a:path w="7740015" h="4680585">
                    <a:moveTo>
                      <a:pt x="12700" y="2592006"/>
                    </a:moveTo>
                    <a:lnTo>
                      <a:pt x="0" y="2592006"/>
                    </a:lnTo>
                    <a:lnTo>
                      <a:pt x="0" y="2664002"/>
                    </a:lnTo>
                    <a:lnTo>
                      <a:pt x="12700" y="2664002"/>
                    </a:lnTo>
                    <a:lnTo>
                      <a:pt x="12700" y="2592006"/>
                    </a:lnTo>
                    <a:close/>
                  </a:path>
                  <a:path w="7740015" h="4680585">
                    <a:moveTo>
                      <a:pt x="12700" y="2448001"/>
                    </a:moveTo>
                    <a:lnTo>
                      <a:pt x="0" y="2448001"/>
                    </a:lnTo>
                    <a:lnTo>
                      <a:pt x="0" y="2519997"/>
                    </a:lnTo>
                    <a:lnTo>
                      <a:pt x="12700" y="2519997"/>
                    </a:lnTo>
                    <a:lnTo>
                      <a:pt x="12700" y="2448001"/>
                    </a:lnTo>
                    <a:close/>
                  </a:path>
                  <a:path w="7740015" h="4680585">
                    <a:moveTo>
                      <a:pt x="12700" y="2303996"/>
                    </a:moveTo>
                    <a:lnTo>
                      <a:pt x="0" y="2303996"/>
                    </a:lnTo>
                    <a:lnTo>
                      <a:pt x="0" y="2375992"/>
                    </a:lnTo>
                    <a:lnTo>
                      <a:pt x="12700" y="2375992"/>
                    </a:lnTo>
                    <a:lnTo>
                      <a:pt x="12700" y="2303996"/>
                    </a:lnTo>
                    <a:close/>
                  </a:path>
                  <a:path w="7740015" h="4680585">
                    <a:moveTo>
                      <a:pt x="12700" y="2160003"/>
                    </a:moveTo>
                    <a:lnTo>
                      <a:pt x="0" y="2160003"/>
                    </a:lnTo>
                    <a:lnTo>
                      <a:pt x="0" y="2231999"/>
                    </a:lnTo>
                    <a:lnTo>
                      <a:pt x="12700" y="2231999"/>
                    </a:lnTo>
                    <a:lnTo>
                      <a:pt x="12700" y="2160003"/>
                    </a:lnTo>
                    <a:close/>
                  </a:path>
                  <a:path w="7740015" h="4680585">
                    <a:moveTo>
                      <a:pt x="12700" y="2015998"/>
                    </a:moveTo>
                    <a:lnTo>
                      <a:pt x="0" y="2015998"/>
                    </a:lnTo>
                    <a:lnTo>
                      <a:pt x="0" y="2087994"/>
                    </a:lnTo>
                    <a:lnTo>
                      <a:pt x="12700" y="2087994"/>
                    </a:lnTo>
                    <a:lnTo>
                      <a:pt x="12700" y="2015998"/>
                    </a:lnTo>
                    <a:close/>
                  </a:path>
                  <a:path w="7740015" h="4680585">
                    <a:moveTo>
                      <a:pt x="12700" y="1871992"/>
                    </a:moveTo>
                    <a:lnTo>
                      <a:pt x="0" y="1871992"/>
                    </a:lnTo>
                    <a:lnTo>
                      <a:pt x="0" y="1943989"/>
                    </a:lnTo>
                    <a:lnTo>
                      <a:pt x="12700" y="1943989"/>
                    </a:lnTo>
                    <a:lnTo>
                      <a:pt x="12700" y="1871992"/>
                    </a:lnTo>
                    <a:close/>
                  </a:path>
                  <a:path w="7740015" h="4680585">
                    <a:moveTo>
                      <a:pt x="12700" y="1728000"/>
                    </a:moveTo>
                    <a:lnTo>
                      <a:pt x="0" y="1728000"/>
                    </a:lnTo>
                    <a:lnTo>
                      <a:pt x="0" y="1799996"/>
                    </a:lnTo>
                    <a:lnTo>
                      <a:pt x="12700" y="1799996"/>
                    </a:lnTo>
                    <a:lnTo>
                      <a:pt x="12700" y="1728000"/>
                    </a:lnTo>
                    <a:close/>
                  </a:path>
                  <a:path w="7740015" h="4680585">
                    <a:moveTo>
                      <a:pt x="12700" y="1583994"/>
                    </a:moveTo>
                    <a:lnTo>
                      <a:pt x="0" y="1583994"/>
                    </a:lnTo>
                    <a:lnTo>
                      <a:pt x="0" y="1655991"/>
                    </a:lnTo>
                    <a:lnTo>
                      <a:pt x="12700" y="1655991"/>
                    </a:lnTo>
                    <a:lnTo>
                      <a:pt x="12700" y="1583994"/>
                    </a:lnTo>
                    <a:close/>
                  </a:path>
                  <a:path w="7740015" h="4680585">
                    <a:moveTo>
                      <a:pt x="12700" y="1440002"/>
                    </a:moveTo>
                    <a:lnTo>
                      <a:pt x="0" y="1440002"/>
                    </a:lnTo>
                    <a:lnTo>
                      <a:pt x="0" y="1511998"/>
                    </a:lnTo>
                    <a:lnTo>
                      <a:pt x="12700" y="1511998"/>
                    </a:lnTo>
                    <a:lnTo>
                      <a:pt x="12700" y="1440002"/>
                    </a:lnTo>
                    <a:close/>
                  </a:path>
                  <a:path w="7740015" h="4680585">
                    <a:moveTo>
                      <a:pt x="12700" y="1295996"/>
                    </a:moveTo>
                    <a:lnTo>
                      <a:pt x="0" y="1295996"/>
                    </a:lnTo>
                    <a:lnTo>
                      <a:pt x="0" y="1367993"/>
                    </a:lnTo>
                    <a:lnTo>
                      <a:pt x="12700" y="1367993"/>
                    </a:lnTo>
                    <a:lnTo>
                      <a:pt x="12700" y="1295996"/>
                    </a:lnTo>
                    <a:close/>
                  </a:path>
                  <a:path w="7740015" h="4680585">
                    <a:moveTo>
                      <a:pt x="12700" y="1151991"/>
                    </a:moveTo>
                    <a:lnTo>
                      <a:pt x="0" y="1151991"/>
                    </a:lnTo>
                    <a:lnTo>
                      <a:pt x="0" y="1223987"/>
                    </a:lnTo>
                    <a:lnTo>
                      <a:pt x="12700" y="1223987"/>
                    </a:lnTo>
                    <a:lnTo>
                      <a:pt x="12700" y="1151991"/>
                    </a:lnTo>
                    <a:close/>
                  </a:path>
                  <a:path w="7740015" h="4680585">
                    <a:moveTo>
                      <a:pt x="12700" y="1007999"/>
                    </a:moveTo>
                    <a:lnTo>
                      <a:pt x="0" y="1007999"/>
                    </a:lnTo>
                    <a:lnTo>
                      <a:pt x="0" y="1079995"/>
                    </a:lnTo>
                    <a:lnTo>
                      <a:pt x="12700" y="1079995"/>
                    </a:lnTo>
                    <a:lnTo>
                      <a:pt x="12700" y="1007999"/>
                    </a:lnTo>
                    <a:close/>
                  </a:path>
                  <a:path w="7740015" h="4680585">
                    <a:moveTo>
                      <a:pt x="12700" y="863993"/>
                    </a:moveTo>
                    <a:lnTo>
                      <a:pt x="0" y="863993"/>
                    </a:lnTo>
                    <a:lnTo>
                      <a:pt x="0" y="935990"/>
                    </a:lnTo>
                    <a:lnTo>
                      <a:pt x="12700" y="935990"/>
                    </a:lnTo>
                    <a:lnTo>
                      <a:pt x="12700" y="863993"/>
                    </a:lnTo>
                    <a:close/>
                  </a:path>
                  <a:path w="7740015" h="4680585">
                    <a:moveTo>
                      <a:pt x="12700" y="720001"/>
                    </a:moveTo>
                    <a:lnTo>
                      <a:pt x="0" y="720001"/>
                    </a:lnTo>
                    <a:lnTo>
                      <a:pt x="0" y="791997"/>
                    </a:lnTo>
                    <a:lnTo>
                      <a:pt x="12700" y="791997"/>
                    </a:lnTo>
                    <a:lnTo>
                      <a:pt x="12700" y="720001"/>
                    </a:lnTo>
                    <a:close/>
                  </a:path>
                  <a:path w="7740015" h="4680585">
                    <a:moveTo>
                      <a:pt x="12700" y="575995"/>
                    </a:moveTo>
                    <a:lnTo>
                      <a:pt x="0" y="575995"/>
                    </a:lnTo>
                    <a:lnTo>
                      <a:pt x="0" y="647992"/>
                    </a:lnTo>
                    <a:lnTo>
                      <a:pt x="12700" y="647992"/>
                    </a:lnTo>
                    <a:lnTo>
                      <a:pt x="12700" y="575995"/>
                    </a:lnTo>
                    <a:close/>
                  </a:path>
                  <a:path w="7740015" h="4680585">
                    <a:moveTo>
                      <a:pt x="12700" y="432003"/>
                    </a:moveTo>
                    <a:lnTo>
                      <a:pt x="0" y="432003"/>
                    </a:lnTo>
                    <a:lnTo>
                      <a:pt x="0" y="503999"/>
                    </a:lnTo>
                    <a:lnTo>
                      <a:pt x="12700" y="503999"/>
                    </a:lnTo>
                    <a:lnTo>
                      <a:pt x="12700" y="432003"/>
                    </a:lnTo>
                    <a:close/>
                  </a:path>
                  <a:path w="7740015" h="4680585">
                    <a:moveTo>
                      <a:pt x="12700" y="287997"/>
                    </a:moveTo>
                    <a:lnTo>
                      <a:pt x="0" y="287997"/>
                    </a:lnTo>
                    <a:lnTo>
                      <a:pt x="0" y="359994"/>
                    </a:lnTo>
                    <a:lnTo>
                      <a:pt x="12700" y="359994"/>
                    </a:lnTo>
                    <a:lnTo>
                      <a:pt x="12700" y="287997"/>
                    </a:lnTo>
                    <a:close/>
                  </a:path>
                  <a:path w="7740015" h="4680585">
                    <a:moveTo>
                      <a:pt x="12700" y="143992"/>
                    </a:moveTo>
                    <a:lnTo>
                      <a:pt x="0" y="143992"/>
                    </a:lnTo>
                    <a:lnTo>
                      <a:pt x="0" y="215988"/>
                    </a:lnTo>
                    <a:lnTo>
                      <a:pt x="12700" y="215988"/>
                    </a:lnTo>
                    <a:lnTo>
                      <a:pt x="12700" y="143992"/>
                    </a:lnTo>
                    <a:close/>
                  </a:path>
                  <a:path w="7740015" h="4680585">
                    <a:moveTo>
                      <a:pt x="23914" y="14427"/>
                    </a:moveTo>
                    <a:lnTo>
                      <a:pt x="0" y="0"/>
                    </a:lnTo>
                    <a:lnTo>
                      <a:pt x="0" y="71996"/>
                    </a:lnTo>
                    <a:lnTo>
                      <a:pt x="12700" y="71996"/>
                    </a:lnTo>
                    <a:lnTo>
                      <a:pt x="12700" y="22491"/>
                    </a:lnTo>
                    <a:lnTo>
                      <a:pt x="17360" y="25298"/>
                    </a:lnTo>
                    <a:lnTo>
                      <a:pt x="19050" y="22491"/>
                    </a:lnTo>
                    <a:lnTo>
                      <a:pt x="23914" y="14427"/>
                    </a:lnTo>
                    <a:close/>
                  </a:path>
                  <a:path w="7740015" h="4680585">
                    <a:moveTo>
                      <a:pt x="45148" y="4667313"/>
                    </a:moveTo>
                    <a:lnTo>
                      <a:pt x="15494" y="4667313"/>
                    </a:lnTo>
                    <a:lnTo>
                      <a:pt x="17729" y="4656163"/>
                    </a:lnTo>
                    <a:lnTo>
                      <a:pt x="12700" y="4655159"/>
                    </a:lnTo>
                    <a:lnTo>
                      <a:pt x="12700" y="4608004"/>
                    </a:lnTo>
                    <a:lnTo>
                      <a:pt x="0" y="4608004"/>
                    </a:lnTo>
                    <a:lnTo>
                      <a:pt x="0" y="4680001"/>
                    </a:lnTo>
                    <a:lnTo>
                      <a:pt x="45148" y="4680013"/>
                    </a:lnTo>
                    <a:lnTo>
                      <a:pt x="45148" y="4667313"/>
                    </a:lnTo>
                    <a:close/>
                  </a:path>
                  <a:path w="7740015" h="4680585">
                    <a:moveTo>
                      <a:pt x="45974" y="4514964"/>
                    </a:moveTo>
                    <a:lnTo>
                      <a:pt x="33515" y="4512475"/>
                    </a:lnTo>
                    <a:lnTo>
                      <a:pt x="19392" y="4583074"/>
                    </a:lnTo>
                    <a:lnTo>
                      <a:pt x="31851" y="4585576"/>
                    </a:lnTo>
                    <a:lnTo>
                      <a:pt x="45974" y="4514964"/>
                    </a:lnTo>
                    <a:close/>
                  </a:path>
                  <a:path w="7740015" h="4680585">
                    <a:moveTo>
                      <a:pt x="74218" y="4373765"/>
                    </a:moveTo>
                    <a:lnTo>
                      <a:pt x="61760" y="4371276"/>
                    </a:lnTo>
                    <a:lnTo>
                      <a:pt x="47650" y="4441876"/>
                    </a:lnTo>
                    <a:lnTo>
                      <a:pt x="60096" y="4444352"/>
                    </a:lnTo>
                    <a:lnTo>
                      <a:pt x="74218" y="4373765"/>
                    </a:lnTo>
                    <a:close/>
                  </a:path>
                  <a:path w="7740015" h="4680585">
                    <a:moveTo>
                      <a:pt x="85509" y="4228401"/>
                    </a:moveTo>
                    <a:lnTo>
                      <a:pt x="72809" y="4228287"/>
                    </a:lnTo>
                    <a:lnTo>
                      <a:pt x="72186" y="4300296"/>
                    </a:lnTo>
                    <a:lnTo>
                      <a:pt x="84886" y="4300398"/>
                    </a:lnTo>
                    <a:lnTo>
                      <a:pt x="85509" y="4228401"/>
                    </a:lnTo>
                    <a:close/>
                  </a:path>
                  <a:path w="7740015" h="4680585">
                    <a:moveTo>
                      <a:pt x="86766" y="4084409"/>
                    </a:moveTo>
                    <a:lnTo>
                      <a:pt x="74066" y="4084294"/>
                    </a:lnTo>
                    <a:lnTo>
                      <a:pt x="73444" y="4156291"/>
                    </a:lnTo>
                    <a:lnTo>
                      <a:pt x="86144" y="4156405"/>
                    </a:lnTo>
                    <a:lnTo>
                      <a:pt x="86766" y="4084409"/>
                    </a:lnTo>
                    <a:close/>
                  </a:path>
                  <a:path w="7740015" h="4680585">
                    <a:moveTo>
                      <a:pt x="88023" y="3940416"/>
                    </a:moveTo>
                    <a:lnTo>
                      <a:pt x="75323" y="3940302"/>
                    </a:lnTo>
                    <a:lnTo>
                      <a:pt x="74688" y="4012298"/>
                    </a:lnTo>
                    <a:lnTo>
                      <a:pt x="87388" y="4012412"/>
                    </a:lnTo>
                    <a:lnTo>
                      <a:pt x="88023" y="3940416"/>
                    </a:lnTo>
                    <a:close/>
                  </a:path>
                  <a:path w="7740015" h="4680585">
                    <a:moveTo>
                      <a:pt x="89268" y="3796423"/>
                    </a:moveTo>
                    <a:lnTo>
                      <a:pt x="76568" y="3796309"/>
                    </a:lnTo>
                    <a:lnTo>
                      <a:pt x="75946" y="3868305"/>
                    </a:lnTo>
                    <a:lnTo>
                      <a:pt x="88646" y="3868420"/>
                    </a:lnTo>
                    <a:lnTo>
                      <a:pt x="89268" y="3796423"/>
                    </a:lnTo>
                    <a:close/>
                  </a:path>
                  <a:path w="7740015" h="4680585">
                    <a:moveTo>
                      <a:pt x="90525" y="3652418"/>
                    </a:moveTo>
                    <a:lnTo>
                      <a:pt x="77825" y="3652304"/>
                    </a:lnTo>
                    <a:lnTo>
                      <a:pt x="77203" y="3724313"/>
                    </a:lnTo>
                    <a:lnTo>
                      <a:pt x="89903" y="3724414"/>
                    </a:lnTo>
                    <a:lnTo>
                      <a:pt x="90525" y="3652418"/>
                    </a:lnTo>
                    <a:close/>
                  </a:path>
                  <a:path w="7740015" h="4680585">
                    <a:moveTo>
                      <a:pt x="91770" y="3508425"/>
                    </a:moveTo>
                    <a:lnTo>
                      <a:pt x="79070" y="3508311"/>
                    </a:lnTo>
                    <a:lnTo>
                      <a:pt x="78447" y="3580307"/>
                    </a:lnTo>
                    <a:lnTo>
                      <a:pt x="91147" y="3580422"/>
                    </a:lnTo>
                    <a:lnTo>
                      <a:pt x="91770" y="3508425"/>
                    </a:lnTo>
                    <a:close/>
                  </a:path>
                  <a:path w="7740015" h="4680585">
                    <a:moveTo>
                      <a:pt x="93027" y="3364433"/>
                    </a:moveTo>
                    <a:lnTo>
                      <a:pt x="80327" y="3364319"/>
                    </a:lnTo>
                    <a:lnTo>
                      <a:pt x="79692" y="3436315"/>
                    </a:lnTo>
                    <a:lnTo>
                      <a:pt x="92392" y="3436429"/>
                    </a:lnTo>
                    <a:lnTo>
                      <a:pt x="93027" y="3364433"/>
                    </a:lnTo>
                    <a:close/>
                  </a:path>
                  <a:path w="7740015" h="4680585">
                    <a:moveTo>
                      <a:pt x="94272" y="3220428"/>
                    </a:moveTo>
                    <a:lnTo>
                      <a:pt x="81572" y="3220339"/>
                    </a:lnTo>
                    <a:lnTo>
                      <a:pt x="80949" y="3292322"/>
                    </a:lnTo>
                    <a:lnTo>
                      <a:pt x="93649" y="3292437"/>
                    </a:lnTo>
                    <a:lnTo>
                      <a:pt x="94272" y="3220428"/>
                    </a:lnTo>
                    <a:close/>
                  </a:path>
                  <a:path w="7740015" h="4680585">
                    <a:moveTo>
                      <a:pt x="95529" y="3076435"/>
                    </a:moveTo>
                    <a:lnTo>
                      <a:pt x="82829" y="3076333"/>
                    </a:lnTo>
                    <a:lnTo>
                      <a:pt x="82207" y="3148330"/>
                    </a:lnTo>
                    <a:lnTo>
                      <a:pt x="94907" y="3148431"/>
                    </a:lnTo>
                    <a:lnTo>
                      <a:pt x="95529" y="3076435"/>
                    </a:lnTo>
                    <a:close/>
                  </a:path>
                  <a:path w="7740015" h="4680585">
                    <a:moveTo>
                      <a:pt x="96786" y="2932455"/>
                    </a:moveTo>
                    <a:lnTo>
                      <a:pt x="84086" y="2932341"/>
                    </a:lnTo>
                    <a:lnTo>
                      <a:pt x="83451" y="3004337"/>
                    </a:lnTo>
                    <a:lnTo>
                      <a:pt x="96151" y="3004439"/>
                    </a:lnTo>
                    <a:lnTo>
                      <a:pt x="96786" y="2932455"/>
                    </a:lnTo>
                    <a:close/>
                  </a:path>
                  <a:path w="7740015" h="4680585">
                    <a:moveTo>
                      <a:pt x="98031" y="2788462"/>
                    </a:moveTo>
                    <a:lnTo>
                      <a:pt x="85331" y="2788348"/>
                    </a:lnTo>
                    <a:lnTo>
                      <a:pt x="84709" y="2860344"/>
                    </a:lnTo>
                    <a:lnTo>
                      <a:pt x="97409" y="2860459"/>
                    </a:lnTo>
                    <a:lnTo>
                      <a:pt x="98031" y="2788462"/>
                    </a:lnTo>
                    <a:close/>
                  </a:path>
                  <a:path w="7740015" h="4680585">
                    <a:moveTo>
                      <a:pt x="99275" y="2644457"/>
                    </a:moveTo>
                    <a:lnTo>
                      <a:pt x="86588" y="2644356"/>
                    </a:lnTo>
                    <a:lnTo>
                      <a:pt x="85966" y="2716352"/>
                    </a:lnTo>
                    <a:lnTo>
                      <a:pt x="98666" y="2716466"/>
                    </a:lnTo>
                    <a:lnTo>
                      <a:pt x="99275" y="2644457"/>
                    </a:lnTo>
                    <a:close/>
                  </a:path>
                  <a:path w="7740015" h="4680585">
                    <a:moveTo>
                      <a:pt x="100533" y="2500465"/>
                    </a:moveTo>
                    <a:lnTo>
                      <a:pt x="87845" y="2500350"/>
                    </a:lnTo>
                    <a:lnTo>
                      <a:pt x="87210" y="2572347"/>
                    </a:lnTo>
                    <a:lnTo>
                      <a:pt x="99910" y="2572461"/>
                    </a:lnTo>
                    <a:lnTo>
                      <a:pt x="100533" y="2500465"/>
                    </a:lnTo>
                    <a:close/>
                  </a:path>
                  <a:path w="7740015" h="4680585">
                    <a:moveTo>
                      <a:pt x="101790" y="2356472"/>
                    </a:moveTo>
                    <a:lnTo>
                      <a:pt x="89090" y="2356358"/>
                    </a:lnTo>
                    <a:lnTo>
                      <a:pt x="88468" y="2428354"/>
                    </a:lnTo>
                    <a:lnTo>
                      <a:pt x="101155" y="2428468"/>
                    </a:lnTo>
                    <a:lnTo>
                      <a:pt x="101790" y="2356472"/>
                    </a:lnTo>
                    <a:close/>
                  </a:path>
                  <a:path w="7740015" h="4680585">
                    <a:moveTo>
                      <a:pt x="103035" y="2212479"/>
                    </a:moveTo>
                    <a:lnTo>
                      <a:pt x="90335" y="2212365"/>
                    </a:lnTo>
                    <a:lnTo>
                      <a:pt x="89712" y="2284361"/>
                    </a:lnTo>
                    <a:lnTo>
                      <a:pt x="102412" y="2284476"/>
                    </a:lnTo>
                    <a:lnTo>
                      <a:pt x="103035" y="2212479"/>
                    </a:lnTo>
                    <a:close/>
                  </a:path>
                  <a:path w="7740015" h="4680585">
                    <a:moveTo>
                      <a:pt x="104292" y="2068487"/>
                    </a:moveTo>
                    <a:lnTo>
                      <a:pt x="91592" y="2068372"/>
                    </a:lnTo>
                    <a:lnTo>
                      <a:pt x="90970" y="2140369"/>
                    </a:lnTo>
                    <a:lnTo>
                      <a:pt x="103670" y="2140483"/>
                    </a:lnTo>
                    <a:lnTo>
                      <a:pt x="104292" y="2068487"/>
                    </a:lnTo>
                    <a:close/>
                  </a:path>
                  <a:path w="7740015" h="4680585">
                    <a:moveTo>
                      <a:pt x="105549" y="1924481"/>
                    </a:moveTo>
                    <a:lnTo>
                      <a:pt x="92849" y="1924380"/>
                    </a:lnTo>
                    <a:lnTo>
                      <a:pt x="92214" y="1996376"/>
                    </a:lnTo>
                    <a:lnTo>
                      <a:pt x="104914" y="1996478"/>
                    </a:lnTo>
                    <a:lnTo>
                      <a:pt x="105549" y="1924481"/>
                    </a:lnTo>
                    <a:close/>
                  </a:path>
                  <a:path w="7740015" h="4680585">
                    <a:moveTo>
                      <a:pt x="106794" y="1780489"/>
                    </a:moveTo>
                    <a:lnTo>
                      <a:pt x="94094" y="1780387"/>
                    </a:lnTo>
                    <a:lnTo>
                      <a:pt x="93472" y="1852383"/>
                    </a:lnTo>
                    <a:lnTo>
                      <a:pt x="106172" y="1852485"/>
                    </a:lnTo>
                    <a:lnTo>
                      <a:pt x="106794" y="1780489"/>
                    </a:lnTo>
                    <a:close/>
                  </a:path>
                  <a:path w="7740015" h="4680585">
                    <a:moveTo>
                      <a:pt x="108051" y="1636496"/>
                    </a:moveTo>
                    <a:lnTo>
                      <a:pt x="95351" y="1636382"/>
                    </a:lnTo>
                    <a:lnTo>
                      <a:pt x="94729" y="1708391"/>
                    </a:lnTo>
                    <a:lnTo>
                      <a:pt x="107429" y="1708492"/>
                    </a:lnTo>
                    <a:lnTo>
                      <a:pt x="108051" y="1636496"/>
                    </a:lnTo>
                    <a:close/>
                  </a:path>
                  <a:path w="7740015" h="4680585">
                    <a:moveTo>
                      <a:pt x="109308" y="1492504"/>
                    </a:moveTo>
                    <a:lnTo>
                      <a:pt x="96608" y="1492389"/>
                    </a:lnTo>
                    <a:lnTo>
                      <a:pt x="95973" y="1564386"/>
                    </a:lnTo>
                    <a:lnTo>
                      <a:pt x="108673" y="1564500"/>
                    </a:lnTo>
                    <a:lnTo>
                      <a:pt x="109308" y="1492504"/>
                    </a:lnTo>
                    <a:close/>
                  </a:path>
                  <a:path w="7740015" h="4680585">
                    <a:moveTo>
                      <a:pt x="110553" y="1348511"/>
                    </a:moveTo>
                    <a:lnTo>
                      <a:pt x="97853" y="1348397"/>
                    </a:lnTo>
                    <a:lnTo>
                      <a:pt x="97231" y="1420393"/>
                    </a:lnTo>
                    <a:lnTo>
                      <a:pt x="109918" y="1420507"/>
                    </a:lnTo>
                    <a:lnTo>
                      <a:pt x="110553" y="1348511"/>
                    </a:lnTo>
                    <a:close/>
                  </a:path>
                  <a:path w="7740015" h="4680585">
                    <a:moveTo>
                      <a:pt x="111798" y="1204518"/>
                    </a:moveTo>
                    <a:lnTo>
                      <a:pt x="99098" y="1204404"/>
                    </a:lnTo>
                    <a:lnTo>
                      <a:pt x="98475" y="1276400"/>
                    </a:lnTo>
                    <a:lnTo>
                      <a:pt x="111175" y="1276515"/>
                    </a:lnTo>
                    <a:lnTo>
                      <a:pt x="111798" y="1204518"/>
                    </a:lnTo>
                    <a:close/>
                  </a:path>
                  <a:path w="7740015" h="4680585">
                    <a:moveTo>
                      <a:pt x="113055" y="1060526"/>
                    </a:moveTo>
                    <a:lnTo>
                      <a:pt x="100355" y="1060411"/>
                    </a:lnTo>
                    <a:lnTo>
                      <a:pt x="99733" y="1132408"/>
                    </a:lnTo>
                    <a:lnTo>
                      <a:pt x="112433" y="1132522"/>
                    </a:lnTo>
                    <a:lnTo>
                      <a:pt x="113055" y="1060526"/>
                    </a:lnTo>
                    <a:close/>
                  </a:path>
                  <a:path w="7740015" h="4680585">
                    <a:moveTo>
                      <a:pt x="114312" y="916520"/>
                    </a:moveTo>
                    <a:lnTo>
                      <a:pt x="101612" y="916419"/>
                    </a:lnTo>
                    <a:lnTo>
                      <a:pt x="100977" y="988415"/>
                    </a:lnTo>
                    <a:lnTo>
                      <a:pt x="113677" y="988529"/>
                    </a:lnTo>
                    <a:lnTo>
                      <a:pt x="114312" y="916520"/>
                    </a:lnTo>
                    <a:close/>
                  </a:path>
                  <a:path w="7740015" h="4680585">
                    <a:moveTo>
                      <a:pt x="115557" y="772528"/>
                    </a:moveTo>
                    <a:lnTo>
                      <a:pt x="102857" y="772426"/>
                    </a:lnTo>
                    <a:lnTo>
                      <a:pt x="102235" y="844410"/>
                    </a:lnTo>
                    <a:lnTo>
                      <a:pt x="114935" y="844524"/>
                    </a:lnTo>
                    <a:lnTo>
                      <a:pt x="115557" y="772528"/>
                    </a:lnTo>
                    <a:close/>
                  </a:path>
                  <a:path w="7740015" h="4680585">
                    <a:moveTo>
                      <a:pt x="116814" y="628535"/>
                    </a:moveTo>
                    <a:lnTo>
                      <a:pt x="104114" y="628421"/>
                    </a:lnTo>
                    <a:lnTo>
                      <a:pt x="103492" y="700430"/>
                    </a:lnTo>
                    <a:lnTo>
                      <a:pt x="116192" y="700532"/>
                    </a:lnTo>
                    <a:lnTo>
                      <a:pt x="116814" y="628535"/>
                    </a:lnTo>
                    <a:close/>
                  </a:path>
                  <a:path w="7740015" h="4680585">
                    <a:moveTo>
                      <a:pt x="118059" y="484543"/>
                    </a:moveTo>
                    <a:lnTo>
                      <a:pt x="105359" y="484428"/>
                    </a:lnTo>
                    <a:lnTo>
                      <a:pt x="104736" y="556425"/>
                    </a:lnTo>
                    <a:lnTo>
                      <a:pt x="117436" y="556539"/>
                    </a:lnTo>
                    <a:lnTo>
                      <a:pt x="118059" y="484543"/>
                    </a:lnTo>
                    <a:close/>
                  </a:path>
                  <a:path w="7740015" h="4680585">
                    <a:moveTo>
                      <a:pt x="134099" y="346938"/>
                    </a:moveTo>
                    <a:lnTo>
                      <a:pt x="108635" y="394271"/>
                    </a:lnTo>
                    <a:lnTo>
                      <a:pt x="106578" y="412445"/>
                    </a:lnTo>
                    <a:lnTo>
                      <a:pt x="119240" y="413423"/>
                    </a:lnTo>
                    <a:lnTo>
                      <a:pt x="121158" y="396392"/>
                    </a:lnTo>
                    <a:lnTo>
                      <a:pt x="124282" y="379603"/>
                    </a:lnTo>
                    <a:lnTo>
                      <a:pt x="128600" y="363093"/>
                    </a:lnTo>
                    <a:lnTo>
                      <a:pt x="134099" y="346938"/>
                    </a:lnTo>
                    <a:close/>
                  </a:path>
                  <a:path w="7740015" h="4680585">
                    <a:moveTo>
                      <a:pt x="137858" y="4638408"/>
                    </a:moveTo>
                    <a:lnTo>
                      <a:pt x="134200" y="4626254"/>
                    </a:lnTo>
                    <a:lnTo>
                      <a:pt x="65265" y="4647044"/>
                    </a:lnTo>
                    <a:lnTo>
                      <a:pt x="68935" y="4659211"/>
                    </a:lnTo>
                    <a:lnTo>
                      <a:pt x="137858" y="4638408"/>
                    </a:lnTo>
                    <a:close/>
                  </a:path>
                  <a:path w="7740015" h="4680585">
                    <a:moveTo>
                      <a:pt x="147218" y="88798"/>
                    </a:moveTo>
                    <a:lnTo>
                      <a:pt x="85572" y="51612"/>
                    </a:lnTo>
                    <a:lnTo>
                      <a:pt x="79006" y="62484"/>
                    </a:lnTo>
                    <a:lnTo>
                      <a:pt x="140665" y="99669"/>
                    </a:lnTo>
                    <a:lnTo>
                      <a:pt x="147218" y="88798"/>
                    </a:lnTo>
                    <a:close/>
                  </a:path>
                  <a:path w="7740015" h="4680585">
                    <a:moveTo>
                      <a:pt x="189153" y="4667313"/>
                    </a:moveTo>
                    <a:lnTo>
                      <a:pt x="117157" y="4667313"/>
                    </a:lnTo>
                    <a:lnTo>
                      <a:pt x="117157" y="4680013"/>
                    </a:lnTo>
                    <a:lnTo>
                      <a:pt x="189153" y="4680013"/>
                    </a:lnTo>
                    <a:lnTo>
                      <a:pt x="189153" y="4667313"/>
                    </a:lnTo>
                    <a:close/>
                  </a:path>
                  <a:path w="7740015" h="4680585">
                    <a:moveTo>
                      <a:pt x="215684" y="239496"/>
                    </a:moveTo>
                    <a:lnTo>
                      <a:pt x="208127" y="229285"/>
                    </a:lnTo>
                    <a:lnTo>
                      <a:pt x="204177" y="232257"/>
                    </a:lnTo>
                    <a:lnTo>
                      <a:pt x="202184" y="233794"/>
                    </a:lnTo>
                    <a:lnTo>
                      <a:pt x="168821" y="265328"/>
                    </a:lnTo>
                    <a:lnTo>
                      <a:pt x="157060" y="279692"/>
                    </a:lnTo>
                    <a:lnTo>
                      <a:pt x="167170" y="287375"/>
                    </a:lnTo>
                    <a:lnTo>
                      <a:pt x="178003" y="274129"/>
                    </a:lnTo>
                    <a:lnTo>
                      <a:pt x="189725" y="261708"/>
                    </a:lnTo>
                    <a:lnTo>
                      <a:pt x="202298" y="250139"/>
                    </a:lnTo>
                    <a:lnTo>
                      <a:pt x="215684" y="239496"/>
                    </a:lnTo>
                    <a:close/>
                  </a:path>
                  <a:path w="7740015" h="4680585">
                    <a:moveTo>
                      <a:pt x="270522" y="163182"/>
                    </a:moveTo>
                    <a:lnTo>
                      <a:pt x="208876" y="125984"/>
                    </a:lnTo>
                    <a:lnTo>
                      <a:pt x="202311" y="136867"/>
                    </a:lnTo>
                    <a:lnTo>
                      <a:pt x="263969" y="174053"/>
                    </a:lnTo>
                    <a:lnTo>
                      <a:pt x="270522" y="163182"/>
                    </a:lnTo>
                    <a:close/>
                  </a:path>
                  <a:path w="7740015" h="4680585">
                    <a:moveTo>
                      <a:pt x="275729" y="4596841"/>
                    </a:moveTo>
                    <a:lnTo>
                      <a:pt x="272059" y="4584674"/>
                    </a:lnTo>
                    <a:lnTo>
                      <a:pt x="203136" y="4605477"/>
                    </a:lnTo>
                    <a:lnTo>
                      <a:pt x="206806" y="4617631"/>
                    </a:lnTo>
                    <a:lnTo>
                      <a:pt x="275729" y="4596841"/>
                    </a:lnTo>
                    <a:close/>
                  </a:path>
                  <a:path w="7740015" h="4680585">
                    <a:moveTo>
                      <a:pt x="333146" y="4667313"/>
                    </a:moveTo>
                    <a:lnTo>
                      <a:pt x="261150" y="4667313"/>
                    </a:lnTo>
                    <a:lnTo>
                      <a:pt x="261150" y="4680013"/>
                    </a:lnTo>
                    <a:lnTo>
                      <a:pt x="333146" y="4680013"/>
                    </a:lnTo>
                    <a:lnTo>
                      <a:pt x="333146" y="4667313"/>
                    </a:lnTo>
                    <a:close/>
                  </a:path>
                  <a:path w="7740015" h="4680585">
                    <a:moveTo>
                      <a:pt x="342341" y="193217"/>
                    </a:moveTo>
                    <a:lnTo>
                      <a:pt x="341541" y="180543"/>
                    </a:lnTo>
                    <a:lnTo>
                      <a:pt x="339813" y="180644"/>
                    </a:lnTo>
                    <a:lnTo>
                      <a:pt x="328549" y="181698"/>
                    </a:lnTo>
                    <a:lnTo>
                      <a:pt x="290093" y="189230"/>
                    </a:lnTo>
                    <a:lnTo>
                      <a:pt x="271310" y="195262"/>
                    </a:lnTo>
                    <a:lnTo>
                      <a:pt x="275678" y="207200"/>
                    </a:lnTo>
                    <a:lnTo>
                      <a:pt x="291896" y="201917"/>
                    </a:lnTo>
                    <a:lnTo>
                      <a:pt x="308457" y="197815"/>
                    </a:lnTo>
                    <a:lnTo>
                      <a:pt x="325285" y="194906"/>
                    </a:lnTo>
                    <a:lnTo>
                      <a:pt x="342341" y="193217"/>
                    </a:lnTo>
                    <a:close/>
                  </a:path>
                  <a:path w="7740015" h="4680585">
                    <a:moveTo>
                      <a:pt x="393827" y="237553"/>
                    </a:moveTo>
                    <a:lnTo>
                      <a:pt x="332181" y="200367"/>
                    </a:lnTo>
                    <a:lnTo>
                      <a:pt x="325615" y="211239"/>
                    </a:lnTo>
                    <a:lnTo>
                      <a:pt x="387273" y="248424"/>
                    </a:lnTo>
                    <a:lnTo>
                      <a:pt x="393827" y="237553"/>
                    </a:lnTo>
                    <a:close/>
                  </a:path>
                  <a:path w="7740015" h="4680585">
                    <a:moveTo>
                      <a:pt x="413600" y="4555261"/>
                    </a:moveTo>
                    <a:lnTo>
                      <a:pt x="409930" y="4543107"/>
                    </a:lnTo>
                    <a:lnTo>
                      <a:pt x="341007" y="4563884"/>
                    </a:lnTo>
                    <a:lnTo>
                      <a:pt x="344665" y="4576038"/>
                    </a:lnTo>
                    <a:lnTo>
                      <a:pt x="365925" y="4569625"/>
                    </a:lnTo>
                    <a:lnTo>
                      <a:pt x="413600" y="4555261"/>
                    </a:lnTo>
                    <a:close/>
                  </a:path>
                  <a:path w="7740015" h="4680585">
                    <a:moveTo>
                      <a:pt x="477151" y="4667313"/>
                    </a:moveTo>
                    <a:lnTo>
                      <a:pt x="405155" y="4667313"/>
                    </a:lnTo>
                    <a:lnTo>
                      <a:pt x="405155" y="4680013"/>
                    </a:lnTo>
                    <a:lnTo>
                      <a:pt x="477151" y="4680013"/>
                    </a:lnTo>
                    <a:lnTo>
                      <a:pt x="477151" y="4667313"/>
                    </a:lnTo>
                    <a:close/>
                  </a:path>
                  <a:path w="7740015" h="4680585">
                    <a:moveTo>
                      <a:pt x="485533" y="180022"/>
                    </a:moveTo>
                    <a:lnTo>
                      <a:pt x="413537" y="180022"/>
                    </a:lnTo>
                    <a:lnTo>
                      <a:pt x="413537" y="192722"/>
                    </a:lnTo>
                    <a:lnTo>
                      <a:pt x="485533" y="192722"/>
                    </a:lnTo>
                    <a:lnTo>
                      <a:pt x="485533" y="180022"/>
                    </a:lnTo>
                    <a:close/>
                  </a:path>
                  <a:path w="7740015" h="4680585">
                    <a:moveTo>
                      <a:pt x="517144" y="311937"/>
                    </a:moveTo>
                    <a:lnTo>
                      <a:pt x="507568" y="306146"/>
                    </a:lnTo>
                    <a:lnTo>
                      <a:pt x="455485" y="274739"/>
                    </a:lnTo>
                    <a:lnTo>
                      <a:pt x="448932" y="285610"/>
                    </a:lnTo>
                    <a:lnTo>
                      <a:pt x="510578" y="322795"/>
                    </a:lnTo>
                    <a:lnTo>
                      <a:pt x="517144" y="311937"/>
                    </a:lnTo>
                    <a:close/>
                  </a:path>
                  <a:path w="7740015" h="4680585">
                    <a:moveTo>
                      <a:pt x="551459" y="4513669"/>
                    </a:moveTo>
                    <a:lnTo>
                      <a:pt x="547801" y="4501515"/>
                    </a:lnTo>
                    <a:lnTo>
                      <a:pt x="478866" y="4522317"/>
                    </a:lnTo>
                    <a:lnTo>
                      <a:pt x="482536" y="4534471"/>
                    </a:lnTo>
                    <a:lnTo>
                      <a:pt x="551459" y="4513669"/>
                    </a:lnTo>
                    <a:close/>
                  </a:path>
                  <a:path w="7740015" h="4680585">
                    <a:moveTo>
                      <a:pt x="621157" y="4667313"/>
                    </a:moveTo>
                    <a:lnTo>
                      <a:pt x="549160" y="4667313"/>
                    </a:lnTo>
                    <a:lnTo>
                      <a:pt x="549160" y="4680013"/>
                    </a:lnTo>
                    <a:lnTo>
                      <a:pt x="621157" y="4680013"/>
                    </a:lnTo>
                    <a:lnTo>
                      <a:pt x="621157" y="4667313"/>
                    </a:lnTo>
                    <a:close/>
                  </a:path>
                  <a:path w="7740015" h="4680585">
                    <a:moveTo>
                      <a:pt x="629526" y="180022"/>
                    </a:moveTo>
                    <a:lnTo>
                      <a:pt x="557530" y="180022"/>
                    </a:lnTo>
                    <a:lnTo>
                      <a:pt x="557530" y="192722"/>
                    </a:lnTo>
                    <a:lnTo>
                      <a:pt x="629526" y="192722"/>
                    </a:lnTo>
                    <a:lnTo>
                      <a:pt x="629526" y="180022"/>
                    </a:lnTo>
                    <a:close/>
                  </a:path>
                  <a:path w="7740015" h="4680585">
                    <a:moveTo>
                      <a:pt x="640448" y="386295"/>
                    </a:moveTo>
                    <a:lnTo>
                      <a:pt x="578789" y="349123"/>
                    </a:lnTo>
                    <a:lnTo>
                      <a:pt x="572236" y="359994"/>
                    </a:lnTo>
                    <a:lnTo>
                      <a:pt x="633882" y="397179"/>
                    </a:lnTo>
                    <a:lnTo>
                      <a:pt x="640448" y="386295"/>
                    </a:lnTo>
                    <a:close/>
                  </a:path>
                  <a:path w="7740015" h="4680585">
                    <a:moveTo>
                      <a:pt x="679513" y="4453039"/>
                    </a:moveTo>
                    <a:lnTo>
                      <a:pt x="670052" y="4444568"/>
                    </a:lnTo>
                    <a:lnTo>
                      <a:pt x="658355" y="4456087"/>
                    </a:lnTo>
                    <a:lnTo>
                      <a:pt x="645337" y="4466044"/>
                    </a:lnTo>
                    <a:lnTo>
                      <a:pt x="631190" y="4474311"/>
                    </a:lnTo>
                    <a:lnTo>
                      <a:pt x="616102" y="4480750"/>
                    </a:lnTo>
                    <a:lnTo>
                      <a:pt x="620356" y="4492739"/>
                    </a:lnTo>
                    <a:lnTo>
                      <a:pt x="637184" y="4485538"/>
                    </a:lnTo>
                    <a:lnTo>
                      <a:pt x="652729" y="4476407"/>
                    </a:lnTo>
                    <a:lnTo>
                      <a:pt x="666889" y="4465523"/>
                    </a:lnTo>
                    <a:lnTo>
                      <a:pt x="679513" y="4453039"/>
                    </a:lnTo>
                    <a:close/>
                  </a:path>
                  <a:path w="7740015" h="4680585">
                    <a:moveTo>
                      <a:pt x="715759" y="502132"/>
                    </a:moveTo>
                    <a:lnTo>
                      <a:pt x="706755" y="462026"/>
                    </a:lnTo>
                    <a:lnTo>
                      <a:pt x="692823" y="434670"/>
                    </a:lnTo>
                    <a:lnTo>
                      <a:pt x="682180" y="441591"/>
                    </a:lnTo>
                    <a:lnTo>
                      <a:pt x="690270" y="455891"/>
                    </a:lnTo>
                    <a:lnTo>
                      <a:pt x="696493" y="471055"/>
                    </a:lnTo>
                    <a:lnTo>
                      <a:pt x="700798" y="486867"/>
                    </a:lnTo>
                    <a:lnTo>
                      <a:pt x="703097" y="503110"/>
                    </a:lnTo>
                    <a:lnTo>
                      <a:pt x="715759" y="502132"/>
                    </a:lnTo>
                    <a:close/>
                  </a:path>
                  <a:path w="7740015" h="4680585">
                    <a:moveTo>
                      <a:pt x="716191" y="4318114"/>
                    </a:moveTo>
                    <a:lnTo>
                      <a:pt x="703491" y="4318114"/>
                    </a:lnTo>
                    <a:lnTo>
                      <a:pt x="703389" y="4360684"/>
                    </a:lnTo>
                    <a:lnTo>
                      <a:pt x="703275" y="4364571"/>
                    </a:lnTo>
                    <a:lnTo>
                      <a:pt x="702627" y="4372089"/>
                    </a:lnTo>
                    <a:lnTo>
                      <a:pt x="701548" y="4379557"/>
                    </a:lnTo>
                    <a:lnTo>
                      <a:pt x="700049" y="4386935"/>
                    </a:lnTo>
                    <a:lnTo>
                      <a:pt x="712419" y="4389818"/>
                    </a:lnTo>
                    <a:lnTo>
                      <a:pt x="716153" y="4360684"/>
                    </a:lnTo>
                    <a:lnTo>
                      <a:pt x="716191" y="4318114"/>
                    </a:lnTo>
                    <a:close/>
                  </a:path>
                  <a:path w="7740015" h="4680585">
                    <a:moveTo>
                      <a:pt x="716191" y="4174121"/>
                    </a:moveTo>
                    <a:lnTo>
                      <a:pt x="703491" y="4174121"/>
                    </a:lnTo>
                    <a:lnTo>
                      <a:pt x="703491" y="4246118"/>
                    </a:lnTo>
                    <a:lnTo>
                      <a:pt x="716191" y="4246118"/>
                    </a:lnTo>
                    <a:lnTo>
                      <a:pt x="716191" y="4174121"/>
                    </a:lnTo>
                    <a:close/>
                  </a:path>
                  <a:path w="7740015" h="4680585">
                    <a:moveTo>
                      <a:pt x="716191" y="4030116"/>
                    </a:moveTo>
                    <a:lnTo>
                      <a:pt x="703491" y="4030116"/>
                    </a:lnTo>
                    <a:lnTo>
                      <a:pt x="703491" y="4102112"/>
                    </a:lnTo>
                    <a:lnTo>
                      <a:pt x="716191" y="4102112"/>
                    </a:lnTo>
                    <a:lnTo>
                      <a:pt x="716191" y="4030116"/>
                    </a:lnTo>
                    <a:close/>
                  </a:path>
                  <a:path w="7740015" h="4680585">
                    <a:moveTo>
                      <a:pt x="716191" y="3886111"/>
                    </a:moveTo>
                    <a:lnTo>
                      <a:pt x="703491" y="3886111"/>
                    </a:lnTo>
                    <a:lnTo>
                      <a:pt x="703491" y="3958120"/>
                    </a:lnTo>
                    <a:lnTo>
                      <a:pt x="716191" y="3958120"/>
                    </a:lnTo>
                    <a:lnTo>
                      <a:pt x="716191" y="3886111"/>
                    </a:lnTo>
                    <a:close/>
                  </a:path>
                  <a:path w="7740015" h="4680585">
                    <a:moveTo>
                      <a:pt x="716191" y="3742118"/>
                    </a:moveTo>
                    <a:lnTo>
                      <a:pt x="703491" y="3742118"/>
                    </a:lnTo>
                    <a:lnTo>
                      <a:pt x="703491" y="3814114"/>
                    </a:lnTo>
                    <a:lnTo>
                      <a:pt x="716191" y="3814114"/>
                    </a:lnTo>
                    <a:lnTo>
                      <a:pt x="716191" y="3742118"/>
                    </a:lnTo>
                    <a:close/>
                  </a:path>
                  <a:path w="7740015" h="4680585">
                    <a:moveTo>
                      <a:pt x="716191" y="3598113"/>
                    </a:moveTo>
                    <a:lnTo>
                      <a:pt x="703491" y="3598113"/>
                    </a:lnTo>
                    <a:lnTo>
                      <a:pt x="703491" y="3670109"/>
                    </a:lnTo>
                    <a:lnTo>
                      <a:pt x="716191" y="3670109"/>
                    </a:lnTo>
                    <a:lnTo>
                      <a:pt x="716191" y="3598113"/>
                    </a:lnTo>
                    <a:close/>
                  </a:path>
                  <a:path w="7740015" h="4680585">
                    <a:moveTo>
                      <a:pt x="716191" y="3454120"/>
                    </a:moveTo>
                    <a:lnTo>
                      <a:pt x="703491" y="3454120"/>
                    </a:lnTo>
                    <a:lnTo>
                      <a:pt x="703491" y="3526117"/>
                    </a:lnTo>
                    <a:lnTo>
                      <a:pt x="716191" y="3526117"/>
                    </a:lnTo>
                    <a:lnTo>
                      <a:pt x="716191" y="3454120"/>
                    </a:lnTo>
                    <a:close/>
                  </a:path>
                  <a:path w="7740015" h="4680585">
                    <a:moveTo>
                      <a:pt x="716191" y="3310115"/>
                    </a:moveTo>
                    <a:lnTo>
                      <a:pt x="703491" y="3310115"/>
                    </a:lnTo>
                    <a:lnTo>
                      <a:pt x="703491" y="3382124"/>
                    </a:lnTo>
                    <a:lnTo>
                      <a:pt x="716191" y="3382124"/>
                    </a:lnTo>
                    <a:lnTo>
                      <a:pt x="716191" y="3310115"/>
                    </a:lnTo>
                    <a:close/>
                  </a:path>
                  <a:path w="7740015" h="4680585">
                    <a:moveTo>
                      <a:pt x="716191" y="3166122"/>
                    </a:moveTo>
                    <a:lnTo>
                      <a:pt x="703491" y="3166122"/>
                    </a:lnTo>
                    <a:lnTo>
                      <a:pt x="703491" y="3238119"/>
                    </a:lnTo>
                    <a:lnTo>
                      <a:pt x="716191" y="3238119"/>
                    </a:lnTo>
                    <a:lnTo>
                      <a:pt x="716191" y="3166122"/>
                    </a:lnTo>
                    <a:close/>
                  </a:path>
                  <a:path w="7740015" h="4680585">
                    <a:moveTo>
                      <a:pt x="716191" y="3022117"/>
                    </a:moveTo>
                    <a:lnTo>
                      <a:pt x="703491" y="3022117"/>
                    </a:lnTo>
                    <a:lnTo>
                      <a:pt x="703491" y="3094113"/>
                    </a:lnTo>
                    <a:lnTo>
                      <a:pt x="716191" y="3094113"/>
                    </a:lnTo>
                    <a:lnTo>
                      <a:pt x="716191" y="3022117"/>
                    </a:lnTo>
                    <a:close/>
                  </a:path>
                  <a:path w="7740015" h="4680585">
                    <a:moveTo>
                      <a:pt x="716191" y="2878112"/>
                    </a:moveTo>
                    <a:lnTo>
                      <a:pt x="703491" y="2878112"/>
                    </a:lnTo>
                    <a:lnTo>
                      <a:pt x="703491" y="2950121"/>
                    </a:lnTo>
                    <a:lnTo>
                      <a:pt x="716191" y="2950121"/>
                    </a:lnTo>
                    <a:lnTo>
                      <a:pt x="716191" y="2878112"/>
                    </a:lnTo>
                    <a:close/>
                  </a:path>
                  <a:path w="7740015" h="4680585">
                    <a:moveTo>
                      <a:pt x="716191" y="2734119"/>
                    </a:moveTo>
                    <a:lnTo>
                      <a:pt x="703491" y="2734119"/>
                    </a:lnTo>
                    <a:lnTo>
                      <a:pt x="703491" y="2806115"/>
                    </a:lnTo>
                    <a:lnTo>
                      <a:pt x="716191" y="2806115"/>
                    </a:lnTo>
                    <a:lnTo>
                      <a:pt x="716191" y="2734119"/>
                    </a:lnTo>
                    <a:close/>
                  </a:path>
                  <a:path w="7740015" h="4680585">
                    <a:moveTo>
                      <a:pt x="716191" y="2590114"/>
                    </a:moveTo>
                    <a:lnTo>
                      <a:pt x="703491" y="2590114"/>
                    </a:lnTo>
                    <a:lnTo>
                      <a:pt x="703491" y="2662110"/>
                    </a:lnTo>
                    <a:lnTo>
                      <a:pt x="716191" y="2662110"/>
                    </a:lnTo>
                    <a:lnTo>
                      <a:pt x="716191" y="2590114"/>
                    </a:lnTo>
                    <a:close/>
                  </a:path>
                  <a:path w="7740015" h="4680585">
                    <a:moveTo>
                      <a:pt x="716191" y="2446109"/>
                    </a:moveTo>
                    <a:lnTo>
                      <a:pt x="703491" y="2446109"/>
                    </a:lnTo>
                    <a:lnTo>
                      <a:pt x="703491" y="2518105"/>
                    </a:lnTo>
                    <a:lnTo>
                      <a:pt x="716191" y="2518105"/>
                    </a:lnTo>
                    <a:lnTo>
                      <a:pt x="716191" y="2446109"/>
                    </a:lnTo>
                    <a:close/>
                  </a:path>
                  <a:path w="7740015" h="4680585">
                    <a:moveTo>
                      <a:pt x="716191" y="2302116"/>
                    </a:moveTo>
                    <a:lnTo>
                      <a:pt x="703491" y="2302116"/>
                    </a:lnTo>
                    <a:lnTo>
                      <a:pt x="703491" y="2374112"/>
                    </a:lnTo>
                    <a:lnTo>
                      <a:pt x="716191" y="2374112"/>
                    </a:lnTo>
                    <a:lnTo>
                      <a:pt x="716191" y="2302116"/>
                    </a:lnTo>
                    <a:close/>
                  </a:path>
                  <a:path w="7740015" h="4680585">
                    <a:moveTo>
                      <a:pt x="716191" y="2158111"/>
                    </a:moveTo>
                    <a:lnTo>
                      <a:pt x="703491" y="2158111"/>
                    </a:lnTo>
                    <a:lnTo>
                      <a:pt x="703491" y="2230107"/>
                    </a:lnTo>
                    <a:lnTo>
                      <a:pt x="716191" y="2230107"/>
                    </a:lnTo>
                    <a:lnTo>
                      <a:pt x="716191" y="2158111"/>
                    </a:lnTo>
                    <a:close/>
                  </a:path>
                  <a:path w="7740015" h="4680585">
                    <a:moveTo>
                      <a:pt x="716191" y="2014118"/>
                    </a:moveTo>
                    <a:lnTo>
                      <a:pt x="703491" y="2014118"/>
                    </a:lnTo>
                    <a:lnTo>
                      <a:pt x="703491" y="2086114"/>
                    </a:lnTo>
                    <a:lnTo>
                      <a:pt x="716191" y="2086114"/>
                    </a:lnTo>
                    <a:lnTo>
                      <a:pt x="716191" y="2014118"/>
                    </a:lnTo>
                    <a:close/>
                  </a:path>
                  <a:path w="7740015" h="4680585">
                    <a:moveTo>
                      <a:pt x="716191" y="1870113"/>
                    </a:moveTo>
                    <a:lnTo>
                      <a:pt x="703491" y="1870113"/>
                    </a:lnTo>
                    <a:lnTo>
                      <a:pt x="703491" y="1942109"/>
                    </a:lnTo>
                    <a:lnTo>
                      <a:pt x="716191" y="1942109"/>
                    </a:lnTo>
                    <a:lnTo>
                      <a:pt x="716191" y="1870113"/>
                    </a:lnTo>
                    <a:close/>
                  </a:path>
                  <a:path w="7740015" h="4680585">
                    <a:moveTo>
                      <a:pt x="716191" y="1726120"/>
                    </a:moveTo>
                    <a:lnTo>
                      <a:pt x="703491" y="1726120"/>
                    </a:lnTo>
                    <a:lnTo>
                      <a:pt x="703491" y="1798116"/>
                    </a:lnTo>
                    <a:lnTo>
                      <a:pt x="716191" y="1798116"/>
                    </a:lnTo>
                    <a:lnTo>
                      <a:pt x="716191" y="1726120"/>
                    </a:lnTo>
                    <a:close/>
                  </a:path>
                  <a:path w="7740015" h="4680585">
                    <a:moveTo>
                      <a:pt x="716191" y="1582115"/>
                    </a:moveTo>
                    <a:lnTo>
                      <a:pt x="703491" y="1582115"/>
                    </a:lnTo>
                    <a:lnTo>
                      <a:pt x="703491" y="1654111"/>
                    </a:lnTo>
                    <a:lnTo>
                      <a:pt x="716191" y="1654111"/>
                    </a:lnTo>
                    <a:lnTo>
                      <a:pt x="716191" y="1582115"/>
                    </a:lnTo>
                    <a:close/>
                  </a:path>
                  <a:path w="7740015" h="4680585">
                    <a:moveTo>
                      <a:pt x="716191" y="1438109"/>
                    </a:moveTo>
                    <a:lnTo>
                      <a:pt x="703491" y="1438109"/>
                    </a:lnTo>
                    <a:lnTo>
                      <a:pt x="703491" y="1510106"/>
                    </a:lnTo>
                    <a:lnTo>
                      <a:pt x="716191" y="1510106"/>
                    </a:lnTo>
                    <a:lnTo>
                      <a:pt x="716191" y="1438109"/>
                    </a:lnTo>
                    <a:close/>
                  </a:path>
                  <a:path w="7740015" h="4680585">
                    <a:moveTo>
                      <a:pt x="716191" y="1294117"/>
                    </a:moveTo>
                    <a:lnTo>
                      <a:pt x="703491" y="1294117"/>
                    </a:lnTo>
                    <a:lnTo>
                      <a:pt x="703491" y="1366113"/>
                    </a:lnTo>
                    <a:lnTo>
                      <a:pt x="716191" y="1366113"/>
                    </a:lnTo>
                    <a:lnTo>
                      <a:pt x="716191" y="1294117"/>
                    </a:lnTo>
                    <a:close/>
                  </a:path>
                  <a:path w="7740015" h="4680585">
                    <a:moveTo>
                      <a:pt x="716191" y="1150124"/>
                    </a:moveTo>
                    <a:lnTo>
                      <a:pt x="703491" y="1150124"/>
                    </a:lnTo>
                    <a:lnTo>
                      <a:pt x="703491" y="1222121"/>
                    </a:lnTo>
                    <a:lnTo>
                      <a:pt x="716191" y="1222121"/>
                    </a:lnTo>
                    <a:lnTo>
                      <a:pt x="716191" y="1150124"/>
                    </a:lnTo>
                    <a:close/>
                  </a:path>
                  <a:path w="7740015" h="4680585">
                    <a:moveTo>
                      <a:pt x="716191" y="1006119"/>
                    </a:moveTo>
                    <a:lnTo>
                      <a:pt x="703491" y="1006119"/>
                    </a:lnTo>
                    <a:lnTo>
                      <a:pt x="703491" y="1078115"/>
                    </a:lnTo>
                    <a:lnTo>
                      <a:pt x="716191" y="1078115"/>
                    </a:lnTo>
                    <a:lnTo>
                      <a:pt x="716191" y="1006119"/>
                    </a:lnTo>
                    <a:close/>
                  </a:path>
                  <a:path w="7740015" h="4680585">
                    <a:moveTo>
                      <a:pt x="716191" y="862114"/>
                    </a:moveTo>
                    <a:lnTo>
                      <a:pt x="703491" y="862114"/>
                    </a:lnTo>
                    <a:lnTo>
                      <a:pt x="703491" y="934110"/>
                    </a:lnTo>
                    <a:lnTo>
                      <a:pt x="716191" y="934110"/>
                    </a:lnTo>
                    <a:lnTo>
                      <a:pt x="716191" y="862114"/>
                    </a:lnTo>
                    <a:close/>
                  </a:path>
                  <a:path w="7740015" h="4680585">
                    <a:moveTo>
                      <a:pt x="716191" y="718108"/>
                    </a:moveTo>
                    <a:lnTo>
                      <a:pt x="703491" y="718108"/>
                    </a:lnTo>
                    <a:lnTo>
                      <a:pt x="703491" y="790105"/>
                    </a:lnTo>
                    <a:lnTo>
                      <a:pt x="716191" y="790105"/>
                    </a:lnTo>
                    <a:lnTo>
                      <a:pt x="716191" y="718108"/>
                    </a:lnTo>
                    <a:close/>
                  </a:path>
                  <a:path w="7740015" h="4680585">
                    <a:moveTo>
                      <a:pt x="716191" y="574116"/>
                    </a:moveTo>
                    <a:lnTo>
                      <a:pt x="703491" y="574116"/>
                    </a:lnTo>
                    <a:lnTo>
                      <a:pt x="703491" y="646112"/>
                    </a:lnTo>
                    <a:lnTo>
                      <a:pt x="716191" y="646112"/>
                    </a:lnTo>
                    <a:lnTo>
                      <a:pt x="716191" y="574116"/>
                    </a:lnTo>
                    <a:close/>
                  </a:path>
                  <a:path w="7740015" h="4680585">
                    <a:moveTo>
                      <a:pt x="765149" y="4667313"/>
                    </a:moveTo>
                    <a:lnTo>
                      <a:pt x="693153" y="4667313"/>
                    </a:lnTo>
                    <a:lnTo>
                      <a:pt x="693153" y="4680013"/>
                    </a:lnTo>
                    <a:lnTo>
                      <a:pt x="765149" y="4680013"/>
                    </a:lnTo>
                    <a:lnTo>
                      <a:pt x="765149" y="4667313"/>
                    </a:lnTo>
                    <a:close/>
                  </a:path>
                  <a:path w="7740015" h="4680585">
                    <a:moveTo>
                      <a:pt x="773531" y="180022"/>
                    </a:moveTo>
                    <a:lnTo>
                      <a:pt x="701535" y="180022"/>
                    </a:lnTo>
                    <a:lnTo>
                      <a:pt x="701535" y="192722"/>
                    </a:lnTo>
                    <a:lnTo>
                      <a:pt x="773531" y="192722"/>
                    </a:lnTo>
                    <a:lnTo>
                      <a:pt x="773531" y="180022"/>
                    </a:lnTo>
                    <a:close/>
                  </a:path>
                  <a:path w="7740015" h="4680585">
                    <a:moveTo>
                      <a:pt x="909154" y="4667313"/>
                    </a:moveTo>
                    <a:lnTo>
                      <a:pt x="837158" y="4667313"/>
                    </a:lnTo>
                    <a:lnTo>
                      <a:pt x="837158" y="4680013"/>
                    </a:lnTo>
                    <a:lnTo>
                      <a:pt x="909154" y="4680013"/>
                    </a:lnTo>
                    <a:lnTo>
                      <a:pt x="909154" y="4667313"/>
                    </a:lnTo>
                    <a:close/>
                  </a:path>
                  <a:path w="7740015" h="4680585">
                    <a:moveTo>
                      <a:pt x="917536" y="180022"/>
                    </a:moveTo>
                    <a:lnTo>
                      <a:pt x="845540" y="180022"/>
                    </a:lnTo>
                    <a:lnTo>
                      <a:pt x="845540" y="192722"/>
                    </a:lnTo>
                    <a:lnTo>
                      <a:pt x="917536" y="192722"/>
                    </a:lnTo>
                    <a:lnTo>
                      <a:pt x="917536" y="180022"/>
                    </a:lnTo>
                    <a:close/>
                  </a:path>
                  <a:path w="7740015" h="4680585">
                    <a:moveTo>
                      <a:pt x="1053147" y="4667313"/>
                    </a:moveTo>
                    <a:lnTo>
                      <a:pt x="981151" y="4667313"/>
                    </a:lnTo>
                    <a:lnTo>
                      <a:pt x="981151" y="4680013"/>
                    </a:lnTo>
                    <a:lnTo>
                      <a:pt x="1053147" y="4680013"/>
                    </a:lnTo>
                    <a:lnTo>
                      <a:pt x="1053147" y="4667313"/>
                    </a:lnTo>
                    <a:close/>
                  </a:path>
                  <a:path w="7740015" h="4680585">
                    <a:moveTo>
                      <a:pt x="1061529" y="180022"/>
                    </a:moveTo>
                    <a:lnTo>
                      <a:pt x="989533" y="180022"/>
                    </a:lnTo>
                    <a:lnTo>
                      <a:pt x="989533" y="192722"/>
                    </a:lnTo>
                    <a:lnTo>
                      <a:pt x="1061529" y="192722"/>
                    </a:lnTo>
                    <a:lnTo>
                      <a:pt x="1061529" y="180022"/>
                    </a:lnTo>
                    <a:close/>
                  </a:path>
                  <a:path w="7740015" h="4680585">
                    <a:moveTo>
                      <a:pt x="1197152" y="4667313"/>
                    </a:moveTo>
                    <a:lnTo>
                      <a:pt x="1125156" y="4667313"/>
                    </a:lnTo>
                    <a:lnTo>
                      <a:pt x="1125156" y="4680013"/>
                    </a:lnTo>
                    <a:lnTo>
                      <a:pt x="1197152" y="4680013"/>
                    </a:lnTo>
                    <a:lnTo>
                      <a:pt x="1197152" y="4667313"/>
                    </a:lnTo>
                    <a:close/>
                  </a:path>
                  <a:path w="7740015" h="4680585">
                    <a:moveTo>
                      <a:pt x="1205534" y="180022"/>
                    </a:moveTo>
                    <a:lnTo>
                      <a:pt x="1133538" y="180022"/>
                    </a:lnTo>
                    <a:lnTo>
                      <a:pt x="1133538" y="192722"/>
                    </a:lnTo>
                    <a:lnTo>
                      <a:pt x="1205534" y="192722"/>
                    </a:lnTo>
                    <a:lnTo>
                      <a:pt x="1205534" y="180022"/>
                    </a:lnTo>
                    <a:close/>
                  </a:path>
                  <a:path w="7740015" h="4680585">
                    <a:moveTo>
                      <a:pt x="1341158" y="4667313"/>
                    </a:moveTo>
                    <a:lnTo>
                      <a:pt x="1269161" y="4667313"/>
                    </a:lnTo>
                    <a:lnTo>
                      <a:pt x="1269161" y="4680013"/>
                    </a:lnTo>
                    <a:lnTo>
                      <a:pt x="1341158" y="4680013"/>
                    </a:lnTo>
                    <a:lnTo>
                      <a:pt x="1341158" y="4667313"/>
                    </a:lnTo>
                    <a:close/>
                  </a:path>
                  <a:path w="7740015" h="4680585">
                    <a:moveTo>
                      <a:pt x="1349527" y="180022"/>
                    </a:moveTo>
                    <a:lnTo>
                      <a:pt x="1277531" y="180022"/>
                    </a:lnTo>
                    <a:lnTo>
                      <a:pt x="1277531" y="192722"/>
                    </a:lnTo>
                    <a:lnTo>
                      <a:pt x="1349527" y="192722"/>
                    </a:lnTo>
                    <a:lnTo>
                      <a:pt x="1349527" y="180022"/>
                    </a:lnTo>
                    <a:close/>
                  </a:path>
                  <a:path w="7740015" h="4680585">
                    <a:moveTo>
                      <a:pt x="1485150" y="4667313"/>
                    </a:moveTo>
                    <a:lnTo>
                      <a:pt x="1413154" y="4667313"/>
                    </a:lnTo>
                    <a:lnTo>
                      <a:pt x="1413154" y="4680013"/>
                    </a:lnTo>
                    <a:lnTo>
                      <a:pt x="1485150" y="4680013"/>
                    </a:lnTo>
                    <a:lnTo>
                      <a:pt x="1485150" y="4667313"/>
                    </a:lnTo>
                    <a:close/>
                  </a:path>
                  <a:path w="7740015" h="4680585">
                    <a:moveTo>
                      <a:pt x="1493532" y="180022"/>
                    </a:moveTo>
                    <a:lnTo>
                      <a:pt x="1421536" y="180022"/>
                    </a:lnTo>
                    <a:lnTo>
                      <a:pt x="1421536" y="192722"/>
                    </a:lnTo>
                    <a:lnTo>
                      <a:pt x="1493532" y="192722"/>
                    </a:lnTo>
                    <a:lnTo>
                      <a:pt x="1493532" y="180022"/>
                    </a:lnTo>
                    <a:close/>
                  </a:path>
                  <a:path w="7740015" h="4680585">
                    <a:moveTo>
                      <a:pt x="1629156" y="4667313"/>
                    </a:moveTo>
                    <a:lnTo>
                      <a:pt x="1557159" y="4667313"/>
                    </a:lnTo>
                    <a:lnTo>
                      <a:pt x="1557159" y="4680013"/>
                    </a:lnTo>
                    <a:lnTo>
                      <a:pt x="1629156" y="4680013"/>
                    </a:lnTo>
                    <a:lnTo>
                      <a:pt x="1629156" y="4667313"/>
                    </a:lnTo>
                    <a:close/>
                  </a:path>
                  <a:path w="7740015" h="4680585">
                    <a:moveTo>
                      <a:pt x="1637538" y="180022"/>
                    </a:moveTo>
                    <a:lnTo>
                      <a:pt x="1565541" y="180022"/>
                    </a:lnTo>
                    <a:lnTo>
                      <a:pt x="1565541" y="192722"/>
                    </a:lnTo>
                    <a:lnTo>
                      <a:pt x="1637538" y="192722"/>
                    </a:lnTo>
                    <a:lnTo>
                      <a:pt x="1637538" y="180022"/>
                    </a:lnTo>
                    <a:close/>
                  </a:path>
                  <a:path w="7740015" h="4680585">
                    <a:moveTo>
                      <a:pt x="1773148" y="4667313"/>
                    </a:moveTo>
                    <a:lnTo>
                      <a:pt x="1701152" y="4667313"/>
                    </a:lnTo>
                    <a:lnTo>
                      <a:pt x="1701152" y="4680013"/>
                    </a:lnTo>
                    <a:lnTo>
                      <a:pt x="1773148" y="4680013"/>
                    </a:lnTo>
                    <a:lnTo>
                      <a:pt x="1773148" y="4667313"/>
                    </a:lnTo>
                    <a:close/>
                  </a:path>
                  <a:path w="7740015" h="4680585">
                    <a:moveTo>
                      <a:pt x="1781530" y="180022"/>
                    </a:moveTo>
                    <a:lnTo>
                      <a:pt x="1709534" y="180022"/>
                    </a:lnTo>
                    <a:lnTo>
                      <a:pt x="1709534" y="192722"/>
                    </a:lnTo>
                    <a:lnTo>
                      <a:pt x="1781530" y="192722"/>
                    </a:lnTo>
                    <a:lnTo>
                      <a:pt x="1781530" y="180022"/>
                    </a:lnTo>
                    <a:close/>
                  </a:path>
                  <a:path w="7740015" h="4680585">
                    <a:moveTo>
                      <a:pt x="1917153" y="4667313"/>
                    </a:moveTo>
                    <a:lnTo>
                      <a:pt x="1845157" y="4667313"/>
                    </a:lnTo>
                    <a:lnTo>
                      <a:pt x="1845157" y="4680013"/>
                    </a:lnTo>
                    <a:lnTo>
                      <a:pt x="1917153" y="4680013"/>
                    </a:lnTo>
                    <a:lnTo>
                      <a:pt x="1917153" y="4667313"/>
                    </a:lnTo>
                    <a:close/>
                  </a:path>
                  <a:path w="7740015" h="4680585">
                    <a:moveTo>
                      <a:pt x="1925535" y="180022"/>
                    </a:moveTo>
                    <a:lnTo>
                      <a:pt x="1853539" y="180022"/>
                    </a:lnTo>
                    <a:lnTo>
                      <a:pt x="1853539" y="192722"/>
                    </a:lnTo>
                    <a:lnTo>
                      <a:pt x="1925535" y="192722"/>
                    </a:lnTo>
                    <a:lnTo>
                      <a:pt x="1925535" y="180022"/>
                    </a:lnTo>
                    <a:close/>
                  </a:path>
                  <a:path w="7740015" h="4680585">
                    <a:moveTo>
                      <a:pt x="2061159" y="4667313"/>
                    </a:moveTo>
                    <a:lnTo>
                      <a:pt x="1989162" y="4667313"/>
                    </a:lnTo>
                    <a:lnTo>
                      <a:pt x="1989162" y="4680013"/>
                    </a:lnTo>
                    <a:lnTo>
                      <a:pt x="2061159" y="4680013"/>
                    </a:lnTo>
                    <a:lnTo>
                      <a:pt x="2061159" y="4667313"/>
                    </a:lnTo>
                    <a:close/>
                  </a:path>
                  <a:path w="7740015" h="4680585">
                    <a:moveTo>
                      <a:pt x="2069528" y="180022"/>
                    </a:moveTo>
                    <a:lnTo>
                      <a:pt x="1997532" y="180022"/>
                    </a:lnTo>
                    <a:lnTo>
                      <a:pt x="1997532" y="192722"/>
                    </a:lnTo>
                    <a:lnTo>
                      <a:pt x="2069528" y="192722"/>
                    </a:lnTo>
                    <a:lnTo>
                      <a:pt x="2069528" y="180022"/>
                    </a:lnTo>
                    <a:close/>
                  </a:path>
                  <a:path w="7740015" h="4680585">
                    <a:moveTo>
                      <a:pt x="2205151" y="4667313"/>
                    </a:moveTo>
                    <a:lnTo>
                      <a:pt x="2133155" y="4667313"/>
                    </a:lnTo>
                    <a:lnTo>
                      <a:pt x="2133155" y="4680013"/>
                    </a:lnTo>
                    <a:lnTo>
                      <a:pt x="2205151" y="4680013"/>
                    </a:lnTo>
                    <a:lnTo>
                      <a:pt x="2205151" y="4667313"/>
                    </a:lnTo>
                    <a:close/>
                  </a:path>
                  <a:path w="7740015" h="4680585">
                    <a:moveTo>
                      <a:pt x="2213533" y="180022"/>
                    </a:moveTo>
                    <a:lnTo>
                      <a:pt x="2141537" y="180022"/>
                    </a:lnTo>
                    <a:lnTo>
                      <a:pt x="2141537" y="192722"/>
                    </a:lnTo>
                    <a:lnTo>
                      <a:pt x="2213533" y="192722"/>
                    </a:lnTo>
                    <a:lnTo>
                      <a:pt x="2213533" y="180022"/>
                    </a:lnTo>
                    <a:close/>
                  </a:path>
                  <a:path w="7740015" h="4680585">
                    <a:moveTo>
                      <a:pt x="2349157" y="4667313"/>
                    </a:moveTo>
                    <a:lnTo>
                      <a:pt x="2277160" y="4667313"/>
                    </a:lnTo>
                    <a:lnTo>
                      <a:pt x="2277160" y="4680013"/>
                    </a:lnTo>
                    <a:lnTo>
                      <a:pt x="2349157" y="4680013"/>
                    </a:lnTo>
                    <a:lnTo>
                      <a:pt x="2349157" y="4667313"/>
                    </a:lnTo>
                    <a:close/>
                  </a:path>
                  <a:path w="7740015" h="4680585">
                    <a:moveTo>
                      <a:pt x="2357526" y="180022"/>
                    </a:moveTo>
                    <a:lnTo>
                      <a:pt x="2285530" y="180022"/>
                    </a:lnTo>
                    <a:lnTo>
                      <a:pt x="2285530" y="192722"/>
                    </a:lnTo>
                    <a:lnTo>
                      <a:pt x="2357526" y="192722"/>
                    </a:lnTo>
                    <a:lnTo>
                      <a:pt x="2357526" y="180022"/>
                    </a:lnTo>
                    <a:close/>
                  </a:path>
                  <a:path w="7740015" h="4680585">
                    <a:moveTo>
                      <a:pt x="2493149" y="4667313"/>
                    </a:moveTo>
                    <a:lnTo>
                      <a:pt x="2421153" y="4667313"/>
                    </a:lnTo>
                    <a:lnTo>
                      <a:pt x="2421153" y="4680013"/>
                    </a:lnTo>
                    <a:lnTo>
                      <a:pt x="2493149" y="4680013"/>
                    </a:lnTo>
                    <a:lnTo>
                      <a:pt x="2493149" y="4667313"/>
                    </a:lnTo>
                    <a:close/>
                  </a:path>
                  <a:path w="7740015" h="4680585">
                    <a:moveTo>
                      <a:pt x="2501531" y="180022"/>
                    </a:moveTo>
                    <a:lnTo>
                      <a:pt x="2429535" y="180022"/>
                    </a:lnTo>
                    <a:lnTo>
                      <a:pt x="2429535" y="192722"/>
                    </a:lnTo>
                    <a:lnTo>
                      <a:pt x="2501531" y="192722"/>
                    </a:lnTo>
                    <a:lnTo>
                      <a:pt x="2501531" y="180022"/>
                    </a:lnTo>
                    <a:close/>
                  </a:path>
                  <a:path w="7740015" h="4680585">
                    <a:moveTo>
                      <a:pt x="2637155" y="4667313"/>
                    </a:moveTo>
                    <a:lnTo>
                      <a:pt x="2565158" y="4667313"/>
                    </a:lnTo>
                    <a:lnTo>
                      <a:pt x="2565158" y="4680013"/>
                    </a:lnTo>
                    <a:lnTo>
                      <a:pt x="2637155" y="4680013"/>
                    </a:lnTo>
                    <a:lnTo>
                      <a:pt x="2637155" y="4667313"/>
                    </a:lnTo>
                    <a:close/>
                  </a:path>
                  <a:path w="7740015" h="4680585">
                    <a:moveTo>
                      <a:pt x="2645537" y="180022"/>
                    </a:moveTo>
                    <a:lnTo>
                      <a:pt x="2573540" y="180022"/>
                    </a:lnTo>
                    <a:lnTo>
                      <a:pt x="2573540" y="192722"/>
                    </a:lnTo>
                    <a:lnTo>
                      <a:pt x="2645537" y="192722"/>
                    </a:lnTo>
                    <a:lnTo>
                      <a:pt x="2645537" y="180022"/>
                    </a:lnTo>
                    <a:close/>
                  </a:path>
                  <a:path w="7740015" h="4680585">
                    <a:moveTo>
                      <a:pt x="2781147" y="4667313"/>
                    </a:moveTo>
                    <a:lnTo>
                      <a:pt x="2709151" y="4667313"/>
                    </a:lnTo>
                    <a:lnTo>
                      <a:pt x="2709151" y="4680013"/>
                    </a:lnTo>
                    <a:lnTo>
                      <a:pt x="2781147" y="4680013"/>
                    </a:lnTo>
                    <a:lnTo>
                      <a:pt x="2781147" y="4667313"/>
                    </a:lnTo>
                    <a:close/>
                  </a:path>
                  <a:path w="7740015" h="4680585">
                    <a:moveTo>
                      <a:pt x="2789529" y="180022"/>
                    </a:moveTo>
                    <a:lnTo>
                      <a:pt x="2717533" y="180022"/>
                    </a:lnTo>
                    <a:lnTo>
                      <a:pt x="2717533" y="192722"/>
                    </a:lnTo>
                    <a:lnTo>
                      <a:pt x="2789529" y="192722"/>
                    </a:lnTo>
                    <a:lnTo>
                      <a:pt x="2789529" y="180022"/>
                    </a:lnTo>
                    <a:close/>
                  </a:path>
                  <a:path w="7740015" h="4680585">
                    <a:moveTo>
                      <a:pt x="2925153" y="4667313"/>
                    </a:moveTo>
                    <a:lnTo>
                      <a:pt x="2853156" y="4667313"/>
                    </a:lnTo>
                    <a:lnTo>
                      <a:pt x="2853156" y="4680013"/>
                    </a:lnTo>
                    <a:lnTo>
                      <a:pt x="2925153" y="4680013"/>
                    </a:lnTo>
                    <a:lnTo>
                      <a:pt x="2925153" y="4667313"/>
                    </a:lnTo>
                    <a:close/>
                  </a:path>
                  <a:path w="7740015" h="4680585">
                    <a:moveTo>
                      <a:pt x="2933535" y="180022"/>
                    </a:moveTo>
                    <a:lnTo>
                      <a:pt x="2861538" y="180022"/>
                    </a:lnTo>
                    <a:lnTo>
                      <a:pt x="2861538" y="192722"/>
                    </a:lnTo>
                    <a:lnTo>
                      <a:pt x="2933535" y="192722"/>
                    </a:lnTo>
                    <a:lnTo>
                      <a:pt x="2933535" y="180022"/>
                    </a:lnTo>
                    <a:close/>
                  </a:path>
                  <a:path w="7740015" h="4680585">
                    <a:moveTo>
                      <a:pt x="3069158" y="4667313"/>
                    </a:moveTo>
                    <a:lnTo>
                      <a:pt x="2997162" y="4667313"/>
                    </a:lnTo>
                    <a:lnTo>
                      <a:pt x="2997162" y="4680013"/>
                    </a:lnTo>
                    <a:lnTo>
                      <a:pt x="3069158" y="4680013"/>
                    </a:lnTo>
                    <a:lnTo>
                      <a:pt x="3069158" y="4667313"/>
                    </a:lnTo>
                    <a:close/>
                  </a:path>
                  <a:path w="7740015" h="4680585">
                    <a:moveTo>
                      <a:pt x="3077527" y="180022"/>
                    </a:moveTo>
                    <a:lnTo>
                      <a:pt x="3005531" y="180022"/>
                    </a:lnTo>
                    <a:lnTo>
                      <a:pt x="3005531" y="192722"/>
                    </a:lnTo>
                    <a:lnTo>
                      <a:pt x="3077527" y="192722"/>
                    </a:lnTo>
                    <a:lnTo>
                      <a:pt x="3077527" y="180022"/>
                    </a:lnTo>
                    <a:close/>
                  </a:path>
                  <a:path w="7740015" h="4680585">
                    <a:moveTo>
                      <a:pt x="3213150" y="4667313"/>
                    </a:moveTo>
                    <a:lnTo>
                      <a:pt x="3141154" y="4667313"/>
                    </a:lnTo>
                    <a:lnTo>
                      <a:pt x="3141154" y="4680013"/>
                    </a:lnTo>
                    <a:lnTo>
                      <a:pt x="3213150" y="4680013"/>
                    </a:lnTo>
                    <a:lnTo>
                      <a:pt x="3213150" y="4667313"/>
                    </a:lnTo>
                    <a:close/>
                  </a:path>
                  <a:path w="7740015" h="4680585">
                    <a:moveTo>
                      <a:pt x="3221532" y="180022"/>
                    </a:moveTo>
                    <a:lnTo>
                      <a:pt x="3149536" y="180022"/>
                    </a:lnTo>
                    <a:lnTo>
                      <a:pt x="3149536" y="192722"/>
                    </a:lnTo>
                    <a:lnTo>
                      <a:pt x="3221532" y="192722"/>
                    </a:lnTo>
                    <a:lnTo>
                      <a:pt x="3221532" y="180022"/>
                    </a:lnTo>
                    <a:close/>
                  </a:path>
                  <a:path w="7740015" h="4680585">
                    <a:moveTo>
                      <a:pt x="3357156" y="4667313"/>
                    </a:moveTo>
                    <a:lnTo>
                      <a:pt x="3285159" y="4667313"/>
                    </a:lnTo>
                    <a:lnTo>
                      <a:pt x="3285159" y="4680013"/>
                    </a:lnTo>
                    <a:lnTo>
                      <a:pt x="3357156" y="4680013"/>
                    </a:lnTo>
                    <a:lnTo>
                      <a:pt x="3357156" y="4667313"/>
                    </a:lnTo>
                    <a:close/>
                  </a:path>
                  <a:path w="7740015" h="4680585">
                    <a:moveTo>
                      <a:pt x="3365538" y="180022"/>
                    </a:moveTo>
                    <a:lnTo>
                      <a:pt x="3293541" y="180022"/>
                    </a:lnTo>
                    <a:lnTo>
                      <a:pt x="3293541" y="192722"/>
                    </a:lnTo>
                    <a:lnTo>
                      <a:pt x="3365538" y="192722"/>
                    </a:lnTo>
                    <a:lnTo>
                      <a:pt x="3365538" y="180022"/>
                    </a:lnTo>
                    <a:close/>
                  </a:path>
                  <a:path w="7740015" h="4680585">
                    <a:moveTo>
                      <a:pt x="3501148" y="4667313"/>
                    </a:moveTo>
                    <a:lnTo>
                      <a:pt x="3429152" y="4667313"/>
                    </a:lnTo>
                    <a:lnTo>
                      <a:pt x="3429152" y="4680013"/>
                    </a:lnTo>
                    <a:lnTo>
                      <a:pt x="3501148" y="4680013"/>
                    </a:lnTo>
                    <a:lnTo>
                      <a:pt x="3501148" y="4667313"/>
                    </a:lnTo>
                    <a:close/>
                  </a:path>
                  <a:path w="7740015" h="4680585">
                    <a:moveTo>
                      <a:pt x="3509530" y="180022"/>
                    </a:moveTo>
                    <a:lnTo>
                      <a:pt x="3437534" y="180022"/>
                    </a:lnTo>
                    <a:lnTo>
                      <a:pt x="3437534" y="192722"/>
                    </a:lnTo>
                    <a:lnTo>
                      <a:pt x="3509530" y="192722"/>
                    </a:lnTo>
                    <a:lnTo>
                      <a:pt x="3509530" y="180022"/>
                    </a:lnTo>
                    <a:close/>
                  </a:path>
                  <a:path w="7740015" h="4680585">
                    <a:moveTo>
                      <a:pt x="3645154" y="4667313"/>
                    </a:moveTo>
                    <a:lnTo>
                      <a:pt x="3573157" y="4667313"/>
                    </a:lnTo>
                    <a:lnTo>
                      <a:pt x="3573157" y="4680013"/>
                    </a:lnTo>
                    <a:lnTo>
                      <a:pt x="3645154" y="4680013"/>
                    </a:lnTo>
                    <a:lnTo>
                      <a:pt x="3645154" y="4667313"/>
                    </a:lnTo>
                    <a:close/>
                  </a:path>
                  <a:path w="7740015" h="4680585">
                    <a:moveTo>
                      <a:pt x="3653536" y="180022"/>
                    </a:moveTo>
                    <a:lnTo>
                      <a:pt x="3581539" y="180022"/>
                    </a:lnTo>
                    <a:lnTo>
                      <a:pt x="3581539" y="192722"/>
                    </a:lnTo>
                    <a:lnTo>
                      <a:pt x="3653536" y="192722"/>
                    </a:lnTo>
                    <a:lnTo>
                      <a:pt x="3653536" y="180022"/>
                    </a:lnTo>
                    <a:close/>
                  </a:path>
                  <a:path w="7740015" h="4680585">
                    <a:moveTo>
                      <a:pt x="3789146" y="4667313"/>
                    </a:moveTo>
                    <a:lnTo>
                      <a:pt x="3717150" y="4667313"/>
                    </a:lnTo>
                    <a:lnTo>
                      <a:pt x="3717150" y="4680013"/>
                    </a:lnTo>
                    <a:lnTo>
                      <a:pt x="3789146" y="4680013"/>
                    </a:lnTo>
                    <a:lnTo>
                      <a:pt x="3789146" y="4667313"/>
                    </a:lnTo>
                    <a:close/>
                  </a:path>
                  <a:path w="7740015" h="4680585">
                    <a:moveTo>
                      <a:pt x="3797528" y="180022"/>
                    </a:moveTo>
                    <a:lnTo>
                      <a:pt x="3725532" y="180022"/>
                    </a:lnTo>
                    <a:lnTo>
                      <a:pt x="3725532" y="192722"/>
                    </a:lnTo>
                    <a:lnTo>
                      <a:pt x="3797528" y="192722"/>
                    </a:lnTo>
                    <a:lnTo>
                      <a:pt x="3797528" y="180022"/>
                    </a:lnTo>
                    <a:close/>
                  </a:path>
                  <a:path w="7740015" h="4680585">
                    <a:moveTo>
                      <a:pt x="3933152" y="4667313"/>
                    </a:moveTo>
                    <a:lnTo>
                      <a:pt x="3861155" y="4667313"/>
                    </a:lnTo>
                    <a:lnTo>
                      <a:pt x="3861155" y="4680013"/>
                    </a:lnTo>
                    <a:lnTo>
                      <a:pt x="3933152" y="4680013"/>
                    </a:lnTo>
                    <a:lnTo>
                      <a:pt x="3933152" y="4667313"/>
                    </a:lnTo>
                    <a:close/>
                  </a:path>
                  <a:path w="7740015" h="4680585">
                    <a:moveTo>
                      <a:pt x="3941534" y="180022"/>
                    </a:moveTo>
                    <a:lnTo>
                      <a:pt x="3869537" y="180022"/>
                    </a:lnTo>
                    <a:lnTo>
                      <a:pt x="3869537" y="192722"/>
                    </a:lnTo>
                    <a:lnTo>
                      <a:pt x="3941534" y="192722"/>
                    </a:lnTo>
                    <a:lnTo>
                      <a:pt x="3941534" y="180022"/>
                    </a:lnTo>
                    <a:close/>
                  </a:path>
                  <a:path w="7740015" h="4680585">
                    <a:moveTo>
                      <a:pt x="4077157" y="4667313"/>
                    </a:moveTo>
                    <a:lnTo>
                      <a:pt x="4005161" y="4667313"/>
                    </a:lnTo>
                    <a:lnTo>
                      <a:pt x="4005161" y="4680013"/>
                    </a:lnTo>
                    <a:lnTo>
                      <a:pt x="4077157" y="4680013"/>
                    </a:lnTo>
                    <a:lnTo>
                      <a:pt x="4077157" y="4667313"/>
                    </a:lnTo>
                    <a:close/>
                  </a:path>
                  <a:path w="7740015" h="4680585">
                    <a:moveTo>
                      <a:pt x="4085526" y="180022"/>
                    </a:moveTo>
                    <a:lnTo>
                      <a:pt x="4013530" y="180022"/>
                    </a:lnTo>
                    <a:lnTo>
                      <a:pt x="4013530" y="192722"/>
                    </a:lnTo>
                    <a:lnTo>
                      <a:pt x="4085526" y="192722"/>
                    </a:lnTo>
                    <a:lnTo>
                      <a:pt x="4085526" y="180022"/>
                    </a:lnTo>
                    <a:close/>
                  </a:path>
                  <a:path w="7740015" h="4680585">
                    <a:moveTo>
                      <a:pt x="4221162" y="4667313"/>
                    </a:moveTo>
                    <a:lnTo>
                      <a:pt x="4149153" y="4667313"/>
                    </a:lnTo>
                    <a:lnTo>
                      <a:pt x="4149153" y="4680013"/>
                    </a:lnTo>
                    <a:lnTo>
                      <a:pt x="4221162" y="4680013"/>
                    </a:lnTo>
                    <a:lnTo>
                      <a:pt x="4221162" y="4667313"/>
                    </a:lnTo>
                    <a:close/>
                  </a:path>
                  <a:path w="7740015" h="4680585">
                    <a:moveTo>
                      <a:pt x="4229532" y="180022"/>
                    </a:moveTo>
                    <a:lnTo>
                      <a:pt x="4157535" y="180022"/>
                    </a:lnTo>
                    <a:lnTo>
                      <a:pt x="4157535" y="192722"/>
                    </a:lnTo>
                    <a:lnTo>
                      <a:pt x="4229532" y="192722"/>
                    </a:lnTo>
                    <a:lnTo>
                      <a:pt x="4229532" y="180022"/>
                    </a:lnTo>
                    <a:close/>
                  </a:path>
                  <a:path w="7740015" h="4680585">
                    <a:moveTo>
                      <a:pt x="4365142" y="4667313"/>
                    </a:moveTo>
                    <a:lnTo>
                      <a:pt x="4293146" y="4667313"/>
                    </a:lnTo>
                    <a:lnTo>
                      <a:pt x="4293146" y="4680013"/>
                    </a:lnTo>
                    <a:lnTo>
                      <a:pt x="4365142" y="4680013"/>
                    </a:lnTo>
                    <a:lnTo>
                      <a:pt x="4365142" y="4667313"/>
                    </a:lnTo>
                    <a:close/>
                  </a:path>
                  <a:path w="7740015" h="4680585">
                    <a:moveTo>
                      <a:pt x="4373537" y="180022"/>
                    </a:moveTo>
                    <a:lnTo>
                      <a:pt x="4301528" y="180022"/>
                    </a:lnTo>
                    <a:lnTo>
                      <a:pt x="4301528" y="192722"/>
                    </a:lnTo>
                    <a:lnTo>
                      <a:pt x="4373537" y="192722"/>
                    </a:lnTo>
                    <a:lnTo>
                      <a:pt x="4373537" y="180022"/>
                    </a:lnTo>
                    <a:close/>
                  </a:path>
                  <a:path w="7740015" h="4680585">
                    <a:moveTo>
                      <a:pt x="4509147" y="4667313"/>
                    </a:moveTo>
                    <a:lnTo>
                      <a:pt x="4437151" y="4667313"/>
                    </a:lnTo>
                    <a:lnTo>
                      <a:pt x="4437151" y="4680013"/>
                    </a:lnTo>
                    <a:lnTo>
                      <a:pt x="4509147" y="4680013"/>
                    </a:lnTo>
                    <a:lnTo>
                      <a:pt x="4509147" y="4667313"/>
                    </a:lnTo>
                    <a:close/>
                  </a:path>
                  <a:path w="7740015" h="4680585">
                    <a:moveTo>
                      <a:pt x="4517529" y="180022"/>
                    </a:moveTo>
                    <a:lnTo>
                      <a:pt x="4445533" y="180022"/>
                    </a:lnTo>
                    <a:lnTo>
                      <a:pt x="4445533" y="192722"/>
                    </a:lnTo>
                    <a:lnTo>
                      <a:pt x="4517529" y="192722"/>
                    </a:lnTo>
                    <a:lnTo>
                      <a:pt x="4517529" y="180022"/>
                    </a:lnTo>
                    <a:close/>
                  </a:path>
                  <a:path w="7740015" h="4680585">
                    <a:moveTo>
                      <a:pt x="4653153" y="4667313"/>
                    </a:moveTo>
                    <a:lnTo>
                      <a:pt x="4581144" y="4667313"/>
                    </a:lnTo>
                    <a:lnTo>
                      <a:pt x="4581144" y="4680013"/>
                    </a:lnTo>
                    <a:lnTo>
                      <a:pt x="4653153" y="4680013"/>
                    </a:lnTo>
                    <a:lnTo>
                      <a:pt x="4653153" y="4667313"/>
                    </a:lnTo>
                    <a:close/>
                  </a:path>
                  <a:path w="7740015" h="4680585">
                    <a:moveTo>
                      <a:pt x="4661522" y="180022"/>
                    </a:moveTo>
                    <a:lnTo>
                      <a:pt x="4589526" y="180022"/>
                    </a:lnTo>
                    <a:lnTo>
                      <a:pt x="4589526" y="192722"/>
                    </a:lnTo>
                    <a:lnTo>
                      <a:pt x="4661522" y="192722"/>
                    </a:lnTo>
                    <a:lnTo>
                      <a:pt x="4661522" y="180022"/>
                    </a:lnTo>
                    <a:close/>
                  </a:path>
                  <a:path w="7740015" h="4680585">
                    <a:moveTo>
                      <a:pt x="4797145" y="4667313"/>
                    </a:moveTo>
                    <a:lnTo>
                      <a:pt x="4725149" y="4667313"/>
                    </a:lnTo>
                    <a:lnTo>
                      <a:pt x="4725149" y="4680013"/>
                    </a:lnTo>
                    <a:lnTo>
                      <a:pt x="4797145" y="4680013"/>
                    </a:lnTo>
                    <a:lnTo>
                      <a:pt x="4797145" y="4667313"/>
                    </a:lnTo>
                    <a:close/>
                  </a:path>
                  <a:path w="7740015" h="4680585">
                    <a:moveTo>
                      <a:pt x="4805527" y="180022"/>
                    </a:moveTo>
                    <a:lnTo>
                      <a:pt x="4733531" y="180022"/>
                    </a:lnTo>
                    <a:lnTo>
                      <a:pt x="4733531" y="192722"/>
                    </a:lnTo>
                    <a:lnTo>
                      <a:pt x="4805527" y="192722"/>
                    </a:lnTo>
                    <a:lnTo>
                      <a:pt x="4805527" y="180022"/>
                    </a:lnTo>
                    <a:close/>
                  </a:path>
                  <a:path w="7740015" h="4680585">
                    <a:moveTo>
                      <a:pt x="4941151" y="4667313"/>
                    </a:moveTo>
                    <a:lnTo>
                      <a:pt x="4869154" y="4667313"/>
                    </a:lnTo>
                    <a:lnTo>
                      <a:pt x="4869154" y="4680013"/>
                    </a:lnTo>
                    <a:lnTo>
                      <a:pt x="4941151" y="4680013"/>
                    </a:lnTo>
                    <a:lnTo>
                      <a:pt x="4941151" y="4667313"/>
                    </a:lnTo>
                    <a:close/>
                  </a:path>
                  <a:path w="7740015" h="4680585">
                    <a:moveTo>
                      <a:pt x="4949533" y="180022"/>
                    </a:moveTo>
                    <a:lnTo>
                      <a:pt x="4877524" y="180022"/>
                    </a:lnTo>
                    <a:lnTo>
                      <a:pt x="4877524" y="192722"/>
                    </a:lnTo>
                    <a:lnTo>
                      <a:pt x="4949533" y="192722"/>
                    </a:lnTo>
                    <a:lnTo>
                      <a:pt x="4949533" y="180022"/>
                    </a:lnTo>
                    <a:close/>
                  </a:path>
                  <a:path w="7740015" h="4680585">
                    <a:moveTo>
                      <a:pt x="5085156" y="4667313"/>
                    </a:moveTo>
                    <a:lnTo>
                      <a:pt x="5013147" y="4667313"/>
                    </a:lnTo>
                    <a:lnTo>
                      <a:pt x="5013147" y="4680013"/>
                    </a:lnTo>
                    <a:lnTo>
                      <a:pt x="5085156" y="4680013"/>
                    </a:lnTo>
                    <a:lnTo>
                      <a:pt x="5085156" y="4667313"/>
                    </a:lnTo>
                    <a:close/>
                  </a:path>
                  <a:path w="7740015" h="4680585">
                    <a:moveTo>
                      <a:pt x="5093525" y="180022"/>
                    </a:moveTo>
                    <a:lnTo>
                      <a:pt x="5021529" y="180022"/>
                    </a:lnTo>
                    <a:lnTo>
                      <a:pt x="5021529" y="192722"/>
                    </a:lnTo>
                    <a:lnTo>
                      <a:pt x="5093525" y="192722"/>
                    </a:lnTo>
                    <a:lnTo>
                      <a:pt x="5093525" y="180022"/>
                    </a:lnTo>
                    <a:close/>
                  </a:path>
                  <a:path w="7740015" h="4680585">
                    <a:moveTo>
                      <a:pt x="5229161" y="4667313"/>
                    </a:moveTo>
                    <a:lnTo>
                      <a:pt x="5157152" y="4667313"/>
                    </a:lnTo>
                    <a:lnTo>
                      <a:pt x="5157152" y="4680013"/>
                    </a:lnTo>
                    <a:lnTo>
                      <a:pt x="5229161" y="4680013"/>
                    </a:lnTo>
                    <a:lnTo>
                      <a:pt x="5229161" y="4667313"/>
                    </a:lnTo>
                    <a:close/>
                  </a:path>
                  <a:path w="7740015" h="4680585">
                    <a:moveTo>
                      <a:pt x="5237531" y="180022"/>
                    </a:moveTo>
                    <a:lnTo>
                      <a:pt x="5165534" y="180022"/>
                    </a:lnTo>
                    <a:lnTo>
                      <a:pt x="5165534" y="192722"/>
                    </a:lnTo>
                    <a:lnTo>
                      <a:pt x="5237531" y="192722"/>
                    </a:lnTo>
                    <a:lnTo>
                      <a:pt x="5237531" y="180022"/>
                    </a:lnTo>
                    <a:close/>
                  </a:path>
                  <a:path w="7740015" h="4680585">
                    <a:moveTo>
                      <a:pt x="5373154" y="4667313"/>
                    </a:moveTo>
                    <a:lnTo>
                      <a:pt x="5301158" y="4667313"/>
                    </a:lnTo>
                    <a:lnTo>
                      <a:pt x="5301158" y="4680013"/>
                    </a:lnTo>
                    <a:lnTo>
                      <a:pt x="5373154" y="4680013"/>
                    </a:lnTo>
                    <a:lnTo>
                      <a:pt x="5373154" y="4667313"/>
                    </a:lnTo>
                    <a:close/>
                  </a:path>
                  <a:path w="7740015" h="4680585">
                    <a:moveTo>
                      <a:pt x="5380990" y="183578"/>
                    </a:moveTo>
                    <a:lnTo>
                      <a:pt x="5366334" y="180022"/>
                    </a:lnTo>
                    <a:lnTo>
                      <a:pt x="5309527" y="180022"/>
                    </a:lnTo>
                    <a:lnTo>
                      <a:pt x="5309527" y="192722"/>
                    </a:lnTo>
                    <a:lnTo>
                      <a:pt x="5368963" y="192722"/>
                    </a:lnTo>
                    <a:lnTo>
                      <a:pt x="5372328" y="193497"/>
                    </a:lnTo>
                    <a:lnTo>
                      <a:pt x="5375440" y="195008"/>
                    </a:lnTo>
                    <a:lnTo>
                      <a:pt x="5380990" y="183578"/>
                    </a:lnTo>
                    <a:close/>
                  </a:path>
                  <a:path w="7740015" h="4680585">
                    <a:moveTo>
                      <a:pt x="5421401" y="317500"/>
                    </a:moveTo>
                    <a:lnTo>
                      <a:pt x="5410149" y="275450"/>
                    </a:lnTo>
                    <a:lnTo>
                      <a:pt x="5405031" y="247472"/>
                    </a:lnTo>
                    <a:lnTo>
                      <a:pt x="5392483" y="249351"/>
                    </a:lnTo>
                    <a:lnTo>
                      <a:pt x="5395595" y="267589"/>
                    </a:lnTo>
                    <a:lnTo>
                      <a:pt x="5399443" y="285711"/>
                    </a:lnTo>
                    <a:lnTo>
                      <a:pt x="5404015" y="303669"/>
                    </a:lnTo>
                    <a:lnTo>
                      <a:pt x="5409311" y="321373"/>
                    </a:lnTo>
                    <a:lnTo>
                      <a:pt x="5421401" y="317500"/>
                    </a:lnTo>
                    <a:close/>
                  </a:path>
                  <a:path w="7740015" h="4680585">
                    <a:moveTo>
                      <a:pt x="5486463" y="445274"/>
                    </a:moveTo>
                    <a:lnTo>
                      <a:pt x="5480748" y="437261"/>
                    </a:lnTo>
                    <a:lnTo>
                      <a:pt x="5478869" y="434555"/>
                    </a:lnTo>
                    <a:lnTo>
                      <a:pt x="5452186" y="390512"/>
                    </a:lnTo>
                    <a:lnTo>
                      <a:pt x="5448808" y="384009"/>
                    </a:lnTo>
                    <a:lnTo>
                      <a:pt x="5437479" y="389775"/>
                    </a:lnTo>
                    <a:lnTo>
                      <a:pt x="5446192" y="406057"/>
                    </a:lnTo>
                    <a:lnTo>
                      <a:pt x="5455577" y="422021"/>
                    </a:lnTo>
                    <a:lnTo>
                      <a:pt x="5465597" y="437603"/>
                    </a:lnTo>
                    <a:lnTo>
                      <a:pt x="5476214" y="452767"/>
                    </a:lnTo>
                    <a:lnTo>
                      <a:pt x="5486463" y="445274"/>
                    </a:lnTo>
                    <a:close/>
                  </a:path>
                  <a:path w="7740015" h="4680585">
                    <a:moveTo>
                      <a:pt x="5517146" y="4667313"/>
                    </a:moveTo>
                    <a:lnTo>
                      <a:pt x="5445150" y="4667313"/>
                    </a:lnTo>
                    <a:lnTo>
                      <a:pt x="5445150" y="4680013"/>
                    </a:lnTo>
                    <a:lnTo>
                      <a:pt x="5517146" y="4680013"/>
                    </a:lnTo>
                    <a:lnTo>
                      <a:pt x="5517146" y="4667313"/>
                    </a:lnTo>
                    <a:close/>
                  </a:path>
                  <a:path w="7740015" h="4680585">
                    <a:moveTo>
                      <a:pt x="5588355" y="546176"/>
                    </a:moveTo>
                    <a:lnTo>
                      <a:pt x="5585168" y="543852"/>
                    </a:lnTo>
                    <a:lnTo>
                      <a:pt x="5579910" y="539965"/>
                    </a:lnTo>
                    <a:lnTo>
                      <a:pt x="5547372" y="513054"/>
                    </a:lnTo>
                    <a:lnTo>
                      <a:pt x="5536171" y="502500"/>
                    </a:lnTo>
                    <a:lnTo>
                      <a:pt x="5533390" y="499783"/>
                    </a:lnTo>
                    <a:lnTo>
                      <a:pt x="5551779" y="533781"/>
                    </a:lnTo>
                    <a:lnTo>
                      <a:pt x="5580964" y="556501"/>
                    </a:lnTo>
                    <a:lnTo>
                      <a:pt x="5588355" y="546176"/>
                    </a:lnTo>
                    <a:close/>
                  </a:path>
                  <a:path w="7740015" h="4680585">
                    <a:moveTo>
                      <a:pt x="5661152" y="4667313"/>
                    </a:moveTo>
                    <a:lnTo>
                      <a:pt x="5589143" y="4667313"/>
                    </a:lnTo>
                    <a:lnTo>
                      <a:pt x="5589143" y="4680013"/>
                    </a:lnTo>
                    <a:lnTo>
                      <a:pt x="5661152" y="4680013"/>
                    </a:lnTo>
                    <a:lnTo>
                      <a:pt x="5661152" y="4667313"/>
                    </a:lnTo>
                    <a:close/>
                  </a:path>
                  <a:path w="7740015" h="4680585">
                    <a:moveTo>
                      <a:pt x="5716765" y="609968"/>
                    </a:moveTo>
                    <a:lnTo>
                      <a:pt x="5674131" y="594347"/>
                    </a:lnTo>
                    <a:lnTo>
                      <a:pt x="5649988" y="583234"/>
                    </a:lnTo>
                    <a:lnTo>
                      <a:pt x="5644350" y="594614"/>
                    </a:lnTo>
                    <a:lnTo>
                      <a:pt x="5661076" y="602500"/>
                    </a:lnTo>
                    <a:lnTo>
                      <a:pt x="5678132" y="609739"/>
                    </a:lnTo>
                    <a:lnTo>
                      <a:pt x="5695467" y="616267"/>
                    </a:lnTo>
                    <a:lnTo>
                      <a:pt x="5713006" y="622096"/>
                    </a:lnTo>
                    <a:lnTo>
                      <a:pt x="5716765" y="609968"/>
                    </a:lnTo>
                    <a:close/>
                  </a:path>
                  <a:path w="7740015" h="4680585">
                    <a:moveTo>
                      <a:pt x="5805144" y="4667313"/>
                    </a:moveTo>
                    <a:lnTo>
                      <a:pt x="5733148" y="4667313"/>
                    </a:lnTo>
                    <a:lnTo>
                      <a:pt x="5733148" y="4680013"/>
                    </a:lnTo>
                    <a:lnTo>
                      <a:pt x="5805144" y="4680013"/>
                    </a:lnTo>
                    <a:lnTo>
                      <a:pt x="5805144" y="4667313"/>
                    </a:lnTo>
                    <a:close/>
                  </a:path>
                  <a:path w="7740015" h="4680585">
                    <a:moveTo>
                      <a:pt x="5859005" y="642632"/>
                    </a:moveTo>
                    <a:lnTo>
                      <a:pt x="5858776" y="630021"/>
                    </a:lnTo>
                    <a:lnTo>
                      <a:pt x="5853315" y="630021"/>
                    </a:lnTo>
                    <a:lnTo>
                      <a:pt x="5811291" y="628383"/>
                    </a:lnTo>
                    <a:lnTo>
                      <a:pt x="5786971" y="625640"/>
                    </a:lnTo>
                    <a:lnTo>
                      <a:pt x="5785205" y="638213"/>
                    </a:lnTo>
                    <a:lnTo>
                      <a:pt x="5801271" y="640168"/>
                    </a:lnTo>
                    <a:lnTo>
                      <a:pt x="5817463" y="641578"/>
                    </a:lnTo>
                    <a:lnTo>
                      <a:pt x="5833719" y="642429"/>
                    </a:lnTo>
                    <a:lnTo>
                      <a:pt x="5850001" y="642721"/>
                    </a:lnTo>
                    <a:lnTo>
                      <a:pt x="5853023" y="642721"/>
                    </a:lnTo>
                    <a:lnTo>
                      <a:pt x="5856021" y="642696"/>
                    </a:lnTo>
                    <a:lnTo>
                      <a:pt x="5859005" y="642632"/>
                    </a:lnTo>
                    <a:close/>
                  </a:path>
                  <a:path w="7740015" h="4680585">
                    <a:moveTo>
                      <a:pt x="5949150" y="4667313"/>
                    </a:moveTo>
                    <a:lnTo>
                      <a:pt x="5877153" y="4667313"/>
                    </a:lnTo>
                    <a:lnTo>
                      <a:pt x="5877153" y="4680013"/>
                    </a:lnTo>
                    <a:lnTo>
                      <a:pt x="5949150" y="4680013"/>
                    </a:lnTo>
                    <a:lnTo>
                      <a:pt x="5949150" y="4667313"/>
                    </a:lnTo>
                    <a:close/>
                  </a:path>
                  <a:path w="7740015" h="4680585">
                    <a:moveTo>
                      <a:pt x="6004103" y="616432"/>
                    </a:moveTo>
                    <a:lnTo>
                      <a:pt x="5999873" y="604456"/>
                    </a:lnTo>
                    <a:lnTo>
                      <a:pt x="5987440" y="608634"/>
                    </a:lnTo>
                    <a:lnTo>
                      <a:pt x="5974867" y="612470"/>
                    </a:lnTo>
                    <a:lnTo>
                      <a:pt x="5934341" y="622147"/>
                    </a:lnTo>
                    <a:lnTo>
                      <a:pt x="5930354" y="622871"/>
                    </a:lnTo>
                    <a:lnTo>
                      <a:pt x="5932589" y="635368"/>
                    </a:lnTo>
                    <a:lnTo>
                      <a:pt x="5950724" y="631710"/>
                    </a:lnTo>
                    <a:lnTo>
                      <a:pt x="5968733" y="627329"/>
                    </a:lnTo>
                    <a:lnTo>
                      <a:pt x="5986551" y="622236"/>
                    </a:lnTo>
                    <a:lnTo>
                      <a:pt x="6004103" y="616432"/>
                    </a:lnTo>
                    <a:close/>
                  </a:path>
                  <a:path w="7740015" h="4680585">
                    <a:moveTo>
                      <a:pt x="6093155" y="4667313"/>
                    </a:moveTo>
                    <a:lnTo>
                      <a:pt x="6021146" y="4667313"/>
                    </a:lnTo>
                    <a:lnTo>
                      <a:pt x="6021146" y="4680013"/>
                    </a:lnTo>
                    <a:lnTo>
                      <a:pt x="6093155" y="4680013"/>
                    </a:lnTo>
                    <a:lnTo>
                      <a:pt x="6093155" y="4667313"/>
                    </a:lnTo>
                    <a:close/>
                  </a:path>
                  <a:path w="7740015" h="4680585">
                    <a:moveTo>
                      <a:pt x="6133490" y="545744"/>
                    </a:moveTo>
                    <a:lnTo>
                      <a:pt x="6125692" y="535711"/>
                    </a:lnTo>
                    <a:lnTo>
                      <a:pt x="6115799" y="543179"/>
                    </a:lnTo>
                    <a:lnTo>
                      <a:pt x="6105690" y="550367"/>
                    </a:lnTo>
                    <a:lnTo>
                      <a:pt x="6095390" y="557301"/>
                    </a:lnTo>
                    <a:lnTo>
                      <a:pt x="6078347" y="567880"/>
                    </a:lnTo>
                    <a:lnTo>
                      <a:pt x="6073749" y="570572"/>
                    </a:lnTo>
                    <a:lnTo>
                      <a:pt x="6069660" y="572897"/>
                    </a:lnTo>
                    <a:lnTo>
                      <a:pt x="6065545" y="575144"/>
                    </a:lnTo>
                    <a:lnTo>
                      <a:pt x="6071641" y="586282"/>
                    </a:lnTo>
                    <a:lnTo>
                      <a:pt x="6087669" y="577100"/>
                    </a:lnTo>
                    <a:lnTo>
                      <a:pt x="6103353" y="567258"/>
                    </a:lnTo>
                    <a:lnTo>
                      <a:pt x="6118644" y="556793"/>
                    </a:lnTo>
                    <a:lnTo>
                      <a:pt x="6133490" y="545744"/>
                    </a:lnTo>
                    <a:close/>
                  </a:path>
                  <a:path w="7740015" h="4680585">
                    <a:moveTo>
                      <a:pt x="6234150" y="438035"/>
                    </a:moveTo>
                    <a:lnTo>
                      <a:pt x="6223609" y="430949"/>
                    </a:lnTo>
                    <a:lnTo>
                      <a:pt x="6216053" y="441820"/>
                    </a:lnTo>
                    <a:lnTo>
                      <a:pt x="6208192" y="452462"/>
                    </a:lnTo>
                    <a:lnTo>
                      <a:pt x="6200038" y="462851"/>
                    </a:lnTo>
                    <a:lnTo>
                      <a:pt x="6191224" y="473430"/>
                    </a:lnTo>
                    <a:lnTo>
                      <a:pt x="6188634" y="476389"/>
                    </a:lnTo>
                    <a:lnTo>
                      <a:pt x="6180163" y="485813"/>
                    </a:lnTo>
                    <a:lnTo>
                      <a:pt x="6178829" y="487235"/>
                    </a:lnTo>
                    <a:lnTo>
                      <a:pt x="6188113" y="495909"/>
                    </a:lnTo>
                    <a:lnTo>
                      <a:pt x="6200470" y="482142"/>
                    </a:lnTo>
                    <a:lnTo>
                      <a:pt x="6212281" y="467880"/>
                    </a:lnTo>
                    <a:lnTo>
                      <a:pt x="6223520" y="453161"/>
                    </a:lnTo>
                    <a:lnTo>
                      <a:pt x="6234150" y="438035"/>
                    </a:lnTo>
                    <a:close/>
                  </a:path>
                  <a:path w="7740015" h="4680585">
                    <a:moveTo>
                      <a:pt x="6237148" y="4667313"/>
                    </a:moveTo>
                    <a:lnTo>
                      <a:pt x="6165151" y="4667313"/>
                    </a:lnTo>
                    <a:lnTo>
                      <a:pt x="6165151" y="4680013"/>
                    </a:lnTo>
                    <a:lnTo>
                      <a:pt x="6237148" y="4680013"/>
                    </a:lnTo>
                    <a:lnTo>
                      <a:pt x="6237148" y="4667313"/>
                    </a:lnTo>
                    <a:close/>
                  </a:path>
                  <a:path w="7740015" h="4680585">
                    <a:moveTo>
                      <a:pt x="6295872" y="304126"/>
                    </a:moveTo>
                    <a:lnTo>
                      <a:pt x="6283642" y="300736"/>
                    </a:lnTo>
                    <a:lnTo>
                      <a:pt x="6278232" y="318693"/>
                    </a:lnTo>
                    <a:lnTo>
                      <a:pt x="6272415" y="335534"/>
                    </a:lnTo>
                    <a:lnTo>
                      <a:pt x="6265951" y="352056"/>
                    </a:lnTo>
                    <a:lnTo>
                      <a:pt x="6258877" y="368261"/>
                    </a:lnTo>
                    <a:lnTo>
                      <a:pt x="6270409" y="373583"/>
                    </a:lnTo>
                    <a:lnTo>
                      <a:pt x="6277800" y="356628"/>
                    </a:lnTo>
                    <a:lnTo>
                      <a:pt x="6284531" y="339356"/>
                    </a:lnTo>
                    <a:lnTo>
                      <a:pt x="6290564" y="321843"/>
                    </a:lnTo>
                    <a:lnTo>
                      <a:pt x="6295872" y="304126"/>
                    </a:lnTo>
                    <a:close/>
                  </a:path>
                  <a:path w="7740015" h="4680585">
                    <a:moveTo>
                      <a:pt x="6336004" y="180022"/>
                    </a:moveTo>
                    <a:lnTo>
                      <a:pt x="6334607" y="180022"/>
                    </a:lnTo>
                    <a:lnTo>
                      <a:pt x="6321209" y="182613"/>
                    </a:lnTo>
                    <a:lnTo>
                      <a:pt x="6310109" y="189738"/>
                    </a:lnTo>
                    <a:lnTo>
                      <a:pt x="6302299" y="200406"/>
                    </a:lnTo>
                    <a:lnTo>
                      <a:pt x="6298768" y="213626"/>
                    </a:lnTo>
                    <a:lnTo>
                      <a:pt x="6298463" y="217678"/>
                    </a:lnTo>
                    <a:lnTo>
                      <a:pt x="6298222" y="220243"/>
                    </a:lnTo>
                    <a:lnTo>
                      <a:pt x="6298146" y="221361"/>
                    </a:lnTo>
                    <a:lnTo>
                      <a:pt x="6297587" y="227203"/>
                    </a:lnTo>
                    <a:lnTo>
                      <a:pt x="6297257" y="230111"/>
                    </a:lnTo>
                    <a:lnTo>
                      <a:pt x="6309868" y="231508"/>
                    </a:lnTo>
                    <a:lnTo>
                      <a:pt x="6310503" y="225894"/>
                    </a:lnTo>
                    <a:lnTo>
                      <a:pt x="6311023" y="220243"/>
                    </a:lnTo>
                    <a:lnTo>
                      <a:pt x="6311430" y="214566"/>
                    </a:lnTo>
                    <a:lnTo>
                      <a:pt x="6313716" y="205905"/>
                    </a:lnTo>
                    <a:lnTo>
                      <a:pt x="6318758" y="198970"/>
                    </a:lnTo>
                    <a:lnTo>
                      <a:pt x="6325933" y="194386"/>
                    </a:lnTo>
                    <a:lnTo>
                      <a:pt x="6334607" y="192722"/>
                    </a:lnTo>
                    <a:lnTo>
                      <a:pt x="6336004" y="192722"/>
                    </a:lnTo>
                    <a:lnTo>
                      <a:pt x="6336004" y="180022"/>
                    </a:lnTo>
                    <a:close/>
                  </a:path>
                  <a:path w="7740015" h="4680585">
                    <a:moveTo>
                      <a:pt x="6381153" y="4667313"/>
                    </a:moveTo>
                    <a:lnTo>
                      <a:pt x="6309157" y="4667313"/>
                    </a:lnTo>
                    <a:lnTo>
                      <a:pt x="6309157" y="4680013"/>
                    </a:lnTo>
                    <a:lnTo>
                      <a:pt x="6381153" y="4680013"/>
                    </a:lnTo>
                    <a:lnTo>
                      <a:pt x="6381153" y="4667313"/>
                    </a:lnTo>
                    <a:close/>
                  </a:path>
                  <a:path w="7740015" h="4680585">
                    <a:moveTo>
                      <a:pt x="6480010" y="180022"/>
                    </a:moveTo>
                    <a:lnTo>
                      <a:pt x="6408001" y="180022"/>
                    </a:lnTo>
                    <a:lnTo>
                      <a:pt x="6408001" y="192722"/>
                    </a:lnTo>
                    <a:lnTo>
                      <a:pt x="6480010" y="192722"/>
                    </a:lnTo>
                    <a:lnTo>
                      <a:pt x="6480010" y="180022"/>
                    </a:lnTo>
                    <a:close/>
                  </a:path>
                  <a:path w="7740015" h="4680585">
                    <a:moveTo>
                      <a:pt x="6525158" y="4667313"/>
                    </a:moveTo>
                    <a:lnTo>
                      <a:pt x="6453162" y="4667313"/>
                    </a:lnTo>
                    <a:lnTo>
                      <a:pt x="6453162" y="4680013"/>
                    </a:lnTo>
                    <a:lnTo>
                      <a:pt x="6525158" y="4680013"/>
                    </a:lnTo>
                    <a:lnTo>
                      <a:pt x="6525158" y="4667313"/>
                    </a:lnTo>
                    <a:close/>
                  </a:path>
                  <a:path w="7740015" h="4680585">
                    <a:moveTo>
                      <a:pt x="6624002" y="180022"/>
                    </a:moveTo>
                    <a:lnTo>
                      <a:pt x="6552006" y="180022"/>
                    </a:lnTo>
                    <a:lnTo>
                      <a:pt x="6552006" y="192722"/>
                    </a:lnTo>
                    <a:lnTo>
                      <a:pt x="6624002" y="192722"/>
                    </a:lnTo>
                    <a:lnTo>
                      <a:pt x="6624002" y="180022"/>
                    </a:lnTo>
                    <a:close/>
                  </a:path>
                  <a:path w="7740015" h="4680585">
                    <a:moveTo>
                      <a:pt x="6669151" y="4667313"/>
                    </a:moveTo>
                    <a:lnTo>
                      <a:pt x="6597142" y="4667313"/>
                    </a:lnTo>
                    <a:lnTo>
                      <a:pt x="6597142" y="4680013"/>
                    </a:lnTo>
                    <a:lnTo>
                      <a:pt x="6669151" y="4680013"/>
                    </a:lnTo>
                    <a:lnTo>
                      <a:pt x="6669151" y="4667313"/>
                    </a:lnTo>
                    <a:close/>
                  </a:path>
                  <a:path w="7740015" h="4680585">
                    <a:moveTo>
                      <a:pt x="6768008" y="180022"/>
                    </a:moveTo>
                    <a:lnTo>
                      <a:pt x="6696011" y="180022"/>
                    </a:lnTo>
                    <a:lnTo>
                      <a:pt x="6696011" y="192722"/>
                    </a:lnTo>
                    <a:lnTo>
                      <a:pt x="6768008" y="192722"/>
                    </a:lnTo>
                    <a:lnTo>
                      <a:pt x="6768008" y="180022"/>
                    </a:lnTo>
                    <a:close/>
                  </a:path>
                  <a:path w="7740015" h="4680585">
                    <a:moveTo>
                      <a:pt x="6813143" y="4667313"/>
                    </a:moveTo>
                    <a:lnTo>
                      <a:pt x="6741147" y="4667313"/>
                    </a:lnTo>
                    <a:lnTo>
                      <a:pt x="6741147" y="4680013"/>
                    </a:lnTo>
                    <a:lnTo>
                      <a:pt x="6813143" y="4680013"/>
                    </a:lnTo>
                    <a:lnTo>
                      <a:pt x="6813143" y="4667313"/>
                    </a:lnTo>
                    <a:close/>
                  </a:path>
                  <a:path w="7740015" h="4680585">
                    <a:moveTo>
                      <a:pt x="6912013" y="180022"/>
                    </a:moveTo>
                    <a:lnTo>
                      <a:pt x="6840004" y="180022"/>
                    </a:lnTo>
                    <a:lnTo>
                      <a:pt x="6840004" y="192722"/>
                    </a:lnTo>
                    <a:lnTo>
                      <a:pt x="6912013" y="192722"/>
                    </a:lnTo>
                    <a:lnTo>
                      <a:pt x="6912013" y="180022"/>
                    </a:lnTo>
                    <a:close/>
                  </a:path>
                  <a:path w="7740015" h="4680585">
                    <a:moveTo>
                      <a:pt x="6957149" y="4667313"/>
                    </a:moveTo>
                    <a:lnTo>
                      <a:pt x="6885152" y="4667313"/>
                    </a:lnTo>
                    <a:lnTo>
                      <a:pt x="6885152" y="4680013"/>
                    </a:lnTo>
                    <a:lnTo>
                      <a:pt x="6957149" y="4680013"/>
                    </a:lnTo>
                    <a:lnTo>
                      <a:pt x="6957149" y="4667313"/>
                    </a:lnTo>
                    <a:close/>
                  </a:path>
                  <a:path w="7740015" h="4680585">
                    <a:moveTo>
                      <a:pt x="7055993" y="180022"/>
                    </a:moveTo>
                    <a:lnTo>
                      <a:pt x="6983997" y="180022"/>
                    </a:lnTo>
                    <a:lnTo>
                      <a:pt x="6983997" y="192722"/>
                    </a:lnTo>
                    <a:lnTo>
                      <a:pt x="7055993" y="192722"/>
                    </a:lnTo>
                    <a:lnTo>
                      <a:pt x="7055993" y="180022"/>
                    </a:lnTo>
                    <a:close/>
                  </a:path>
                  <a:path w="7740015" h="4680585">
                    <a:moveTo>
                      <a:pt x="7101154" y="4667313"/>
                    </a:moveTo>
                    <a:lnTo>
                      <a:pt x="7029145" y="4667313"/>
                    </a:lnTo>
                    <a:lnTo>
                      <a:pt x="7029145" y="4680013"/>
                    </a:lnTo>
                    <a:lnTo>
                      <a:pt x="7101154" y="4680013"/>
                    </a:lnTo>
                    <a:lnTo>
                      <a:pt x="7101154" y="4667313"/>
                    </a:lnTo>
                    <a:close/>
                  </a:path>
                  <a:path w="7740015" h="4680585">
                    <a:moveTo>
                      <a:pt x="7199998" y="180022"/>
                    </a:moveTo>
                    <a:lnTo>
                      <a:pt x="7128002" y="180022"/>
                    </a:lnTo>
                    <a:lnTo>
                      <a:pt x="7128002" y="192722"/>
                    </a:lnTo>
                    <a:lnTo>
                      <a:pt x="7199998" y="192722"/>
                    </a:lnTo>
                    <a:lnTo>
                      <a:pt x="7199998" y="180022"/>
                    </a:lnTo>
                    <a:close/>
                  </a:path>
                  <a:path w="7740015" h="4680585">
                    <a:moveTo>
                      <a:pt x="7245147" y="4667313"/>
                    </a:moveTo>
                    <a:lnTo>
                      <a:pt x="7173150" y="4667313"/>
                    </a:lnTo>
                    <a:lnTo>
                      <a:pt x="7173150" y="4680013"/>
                    </a:lnTo>
                    <a:lnTo>
                      <a:pt x="7245147" y="4680013"/>
                    </a:lnTo>
                    <a:lnTo>
                      <a:pt x="7245147" y="4667313"/>
                    </a:lnTo>
                    <a:close/>
                  </a:path>
                  <a:path w="7740015" h="4680585">
                    <a:moveTo>
                      <a:pt x="7344003" y="180022"/>
                    </a:moveTo>
                    <a:lnTo>
                      <a:pt x="7272007" y="180022"/>
                    </a:lnTo>
                    <a:lnTo>
                      <a:pt x="7272007" y="192722"/>
                    </a:lnTo>
                    <a:lnTo>
                      <a:pt x="7344003" y="192722"/>
                    </a:lnTo>
                    <a:lnTo>
                      <a:pt x="7344003" y="180022"/>
                    </a:lnTo>
                    <a:close/>
                  </a:path>
                  <a:path w="7740015" h="4680585">
                    <a:moveTo>
                      <a:pt x="7389152" y="4667313"/>
                    </a:moveTo>
                    <a:lnTo>
                      <a:pt x="7317156" y="4667313"/>
                    </a:lnTo>
                    <a:lnTo>
                      <a:pt x="7317156" y="4680013"/>
                    </a:lnTo>
                    <a:lnTo>
                      <a:pt x="7389152" y="4680013"/>
                    </a:lnTo>
                    <a:lnTo>
                      <a:pt x="7389152" y="4667313"/>
                    </a:lnTo>
                    <a:close/>
                  </a:path>
                  <a:path w="7740015" h="4680585">
                    <a:moveTo>
                      <a:pt x="7514704" y="181419"/>
                    </a:moveTo>
                    <a:lnTo>
                      <a:pt x="7490409" y="180022"/>
                    </a:lnTo>
                    <a:lnTo>
                      <a:pt x="7488009" y="180022"/>
                    </a:lnTo>
                    <a:lnTo>
                      <a:pt x="7416000" y="180022"/>
                    </a:lnTo>
                    <a:lnTo>
                      <a:pt x="7416000" y="192722"/>
                    </a:lnTo>
                    <a:lnTo>
                      <a:pt x="7488009" y="192722"/>
                    </a:lnTo>
                    <a:lnTo>
                      <a:pt x="7496467" y="192722"/>
                    </a:lnTo>
                    <a:lnTo>
                      <a:pt x="7505014" y="193167"/>
                    </a:lnTo>
                    <a:lnTo>
                      <a:pt x="7513371" y="194043"/>
                    </a:lnTo>
                    <a:lnTo>
                      <a:pt x="7514704" y="181419"/>
                    </a:lnTo>
                    <a:close/>
                  </a:path>
                  <a:path w="7740015" h="4680585">
                    <a:moveTo>
                      <a:pt x="7533157" y="4667313"/>
                    </a:moveTo>
                    <a:lnTo>
                      <a:pt x="7461161" y="4667313"/>
                    </a:lnTo>
                    <a:lnTo>
                      <a:pt x="7461161" y="4680013"/>
                    </a:lnTo>
                    <a:lnTo>
                      <a:pt x="7533157" y="4680013"/>
                    </a:lnTo>
                    <a:lnTo>
                      <a:pt x="7533157" y="4667313"/>
                    </a:lnTo>
                    <a:close/>
                  </a:path>
                  <a:path w="7740015" h="4680585">
                    <a:moveTo>
                      <a:pt x="7645971" y="235661"/>
                    </a:moveTo>
                    <a:lnTo>
                      <a:pt x="7631633" y="224917"/>
                    </a:lnTo>
                    <a:lnTo>
                      <a:pt x="7616533" y="215214"/>
                    </a:lnTo>
                    <a:lnTo>
                      <a:pt x="7600721" y="206565"/>
                    </a:lnTo>
                    <a:lnTo>
                      <a:pt x="7584249" y="199059"/>
                    </a:lnTo>
                    <a:lnTo>
                      <a:pt x="7579398" y="210781"/>
                    </a:lnTo>
                    <a:lnTo>
                      <a:pt x="7594930" y="217868"/>
                    </a:lnTo>
                    <a:lnTo>
                      <a:pt x="7609903" y="226047"/>
                    </a:lnTo>
                    <a:lnTo>
                      <a:pt x="7624280" y="235280"/>
                    </a:lnTo>
                    <a:lnTo>
                      <a:pt x="7638008" y="245554"/>
                    </a:lnTo>
                    <a:lnTo>
                      <a:pt x="7645971" y="235661"/>
                    </a:lnTo>
                    <a:close/>
                  </a:path>
                  <a:path w="7740015" h="4680585">
                    <a:moveTo>
                      <a:pt x="7677163" y="4667313"/>
                    </a:moveTo>
                    <a:lnTo>
                      <a:pt x="7605154" y="4667313"/>
                    </a:lnTo>
                    <a:lnTo>
                      <a:pt x="7605154" y="4680013"/>
                    </a:lnTo>
                    <a:lnTo>
                      <a:pt x="7677163" y="4680013"/>
                    </a:lnTo>
                    <a:lnTo>
                      <a:pt x="7677163" y="4667313"/>
                    </a:lnTo>
                    <a:close/>
                  </a:path>
                  <a:path w="7740015" h="4680585">
                    <a:moveTo>
                      <a:pt x="7727124" y="352259"/>
                    </a:moveTo>
                    <a:lnTo>
                      <a:pt x="7712126" y="316687"/>
                    </a:lnTo>
                    <a:lnTo>
                      <a:pt x="7694917" y="288137"/>
                    </a:lnTo>
                    <a:lnTo>
                      <a:pt x="7684503" y="295389"/>
                    </a:lnTo>
                    <a:lnTo>
                      <a:pt x="7693787" y="309778"/>
                    </a:lnTo>
                    <a:lnTo>
                      <a:pt x="7701991" y="324764"/>
                    </a:lnTo>
                    <a:lnTo>
                      <a:pt x="7709103" y="340271"/>
                    </a:lnTo>
                    <a:lnTo>
                      <a:pt x="7715085" y="356260"/>
                    </a:lnTo>
                    <a:lnTo>
                      <a:pt x="7727124" y="352259"/>
                    </a:lnTo>
                    <a:close/>
                  </a:path>
                  <a:path w="7740015" h="4680585">
                    <a:moveTo>
                      <a:pt x="7740015" y="4598860"/>
                    </a:moveTo>
                    <a:lnTo>
                      <a:pt x="7727315" y="4598860"/>
                    </a:lnTo>
                    <a:lnTo>
                      <a:pt x="7727315" y="4670869"/>
                    </a:lnTo>
                    <a:lnTo>
                      <a:pt x="7740015" y="4670869"/>
                    </a:lnTo>
                    <a:lnTo>
                      <a:pt x="7740015" y="4598860"/>
                    </a:lnTo>
                    <a:close/>
                  </a:path>
                  <a:path w="7740015" h="4680585">
                    <a:moveTo>
                      <a:pt x="7740015" y="4454880"/>
                    </a:moveTo>
                    <a:lnTo>
                      <a:pt x="7727315" y="4454880"/>
                    </a:lnTo>
                    <a:lnTo>
                      <a:pt x="7727315" y="4526877"/>
                    </a:lnTo>
                    <a:lnTo>
                      <a:pt x="7740015" y="4526877"/>
                    </a:lnTo>
                    <a:lnTo>
                      <a:pt x="7740015" y="4454880"/>
                    </a:lnTo>
                    <a:close/>
                  </a:path>
                  <a:path w="7740015" h="4680585">
                    <a:moveTo>
                      <a:pt x="7740015" y="4310875"/>
                    </a:moveTo>
                    <a:lnTo>
                      <a:pt x="7727315" y="4310875"/>
                    </a:lnTo>
                    <a:lnTo>
                      <a:pt x="7727315" y="4382871"/>
                    </a:lnTo>
                    <a:lnTo>
                      <a:pt x="7740015" y="4382871"/>
                    </a:lnTo>
                    <a:lnTo>
                      <a:pt x="7740015" y="4310875"/>
                    </a:lnTo>
                    <a:close/>
                  </a:path>
                  <a:path w="7740015" h="4680585">
                    <a:moveTo>
                      <a:pt x="7740015" y="4166870"/>
                    </a:moveTo>
                    <a:lnTo>
                      <a:pt x="7727315" y="4166870"/>
                    </a:lnTo>
                    <a:lnTo>
                      <a:pt x="7727315" y="4238879"/>
                    </a:lnTo>
                    <a:lnTo>
                      <a:pt x="7740015" y="4238879"/>
                    </a:lnTo>
                    <a:lnTo>
                      <a:pt x="7740015" y="4166870"/>
                    </a:lnTo>
                    <a:close/>
                  </a:path>
                  <a:path w="7740015" h="4680585">
                    <a:moveTo>
                      <a:pt x="7740015" y="4022864"/>
                    </a:moveTo>
                    <a:lnTo>
                      <a:pt x="7727315" y="4022864"/>
                    </a:lnTo>
                    <a:lnTo>
                      <a:pt x="7727315" y="4094873"/>
                    </a:lnTo>
                    <a:lnTo>
                      <a:pt x="7740015" y="4094873"/>
                    </a:lnTo>
                    <a:lnTo>
                      <a:pt x="7740015" y="4022864"/>
                    </a:lnTo>
                    <a:close/>
                  </a:path>
                  <a:path w="7740015" h="4680585">
                    <a:moveTo>
                      <a:pt x="7740015" y="3878872"/>
                    </a:moveTo>
                    <a:lnTo>
                      <a:pt x="7727315" y="3878872"/>
                    </a:lnTo>
                    <a:lnTo>
                      <a:pt x="7727315" y="3950868"/>
                    </a:lnTo>
                    <a:lnTo>
                      <a:pt x="7740015" y="3950868"/>
                    </a:lnTo>
                    <a:lnTo>
                      <a:pt x="7740015" y="3878872"/>
                    </a:lnTo>
                    <a:close/>
                  </a:path>
                  <a:path w="7740015" h="4680585">
                    <a:moveTo>
                      <a:pt x="7740015" y="3734866"/>
                    </a:moveTo>
                    <a:lnTo>
                      <a:pt x="7727315" y="3734866"/>
                    </a:lnTo>
                    <a:lnTo>
                      <a:pt x="7727315" y="3806863"/>
                    </a:lnTo>
                    <a:lnTo>
                      <a:pt x="7740015" y="3806863"/>
                    </a:lnTo>
                    <a:lnTo>
                      <a:pt x="7740015" y="3734866"/>
                    </a:lnTo>
                    <a:close/>
                  </a:path>
                  <a:path w="7740015" h="4680585">
                    <a:moveTo>
                      <a:pt x="7740015" y="3590861"/>
                    </a:moveTo>
                    <a:lnTo>
                      <a:pt x="7727315" y="3590861"/>
                    </a:lnTo>
                    <a:lnTo>
                      <a:pt x="7727315" y="3662870"/>
                    </a:lnTo>
                    <a:lnTo>
                      <a:pt x="7740015" y="3662870"/>
                    </a:lnTo>
                    <a:lnTo>
                      <a:pt x="7740015" y="3590861"/>
                    </a:lnTo>
                    <a:close/>
                  </a:path>
                  <a:path w="7740015" h="4680585">
                    <a:moveTo>
                      <a:pt x="7740015" y="3446869"/>
                    </a:moveTo>
                    <a:lnTo>
                      <a:pt x="7727315" y="3446869"/>
                    </a:lnTo>
                    <a:lnTo>
                      <a:pt x="7727315" y="3518865"/>
                    </a:lnTo>
                    <a:lnTo>
                      <a:pt x="7740015" y="3518865"/>
                    </a:lnTo>
                    <a:lnTo>
                      <a:pt x="7740015" y="3446869"/>
                    </a:lnTo>
                    <a:close/>
                  </a:path>
                  <a:path w="7740015" h="4680585">
                    <a:moveTo>
                      <a:pt x="7740015" y="3302876"/>
                    </a:moveTo>
                    <a:lnTo>
                      <a:pt x="7727315" y="3302876"/>
                    </a:lnTo>
                    <a:lnTo>
                      <a:pt x="7727315" y="3374872"/>
                    </a:lnTo>
                    <a:lnTo>
                      <a:pt x="7740015" y="3374872"/>
                    </a:lnTo>
                    <a:lnTo>
                      <a:pt x="7740015" y="3302876"/>
                    </a:lnTo>
                    <a:close/>
                  </a:path>
                  <a:path w="7740015" h="4680585">
                    <a:moveTo>
                      <a:pt x="7740015" y="3158871"/>
                    </a:moveTo>
                    <a:lnTo>
                      <a:pt x="7727315" y="3158871"/>
                    </a:lnTo>
                    <a:lnTo>
                      <a:pt x="7727315" y="3230880"/>
                    </a:lnTo>
                    <a:lnTo>
                      <a:pt x="7740015" y="3230880"/>
                    </a:lnTo>
                    <a:lnTo>
                      <a:pt x="7740015" y="3158871"/>
                    </a:lnTo>
                    <a:close/>
                  </a:path>
                  <a:path w="7740015" h="4680585">
                    <a:moveTo>
                      <a:pt x="7740015" y="3014878"/>
                    </a:moveTo>
                    <a:lnTo>
                      <a:pt x="7727315" y="3014878"/>
                    </a:lnTo>
                    <a:lnTo>
                      <a:pt x="7727315" y="3086874"/>
                    </a:lnTo>
                    <a:lnTo>
                      <a:pt x="7740015" y="3086874"/>
                    </a:lnTo>
                    <a:lnTo>
                      <a:pt x="7740015" y="3014878"/>
                    </a:lnTo>
                    <a:close/>
                  </a:path>
                  <a:path w="7740015" h="4680585">
                    <a:moveTo>
                      <a:pt x="7740015" y="2870873"/>
                    </a:moveTo>
                    <a:lnTo>
                      <a:pt x="7727315" y="2870873"/>
                    </a:lnTo>
                    <a:lnTo>
                      <a:pt x="7727315" y="2942869"/>
                    </a:lnTo>
                    <a:lnTo>
                      <a:pt x="7740015" y="2942869"/>
                    </a:lnTo>
                    <a:lnTo>
                      <a:pt x="7740015" y="2870873"/>
                    </a:lnTo>
                    <a:close/>
                  </a:path>
                  <a:path w="7740015" h="4680585">
                    <a:moveTo>
                      <a:pt x="7740015" y="2726867"/>
                    </a:moveTo>
                    <a:lnTo>
                      <a:pt x="7727315" y="2726867"/>
                    </a:lnTo>
                    <a:lnTo>
                      <a:pt x="7727315" y="2798876"/>
                    </a:lnTo>
                    <a:lnTo>
                      <a:pt x="7740015" y="2798876"/>
                    </a:lnTo>
                    <a:lnTo>
                      <a:pt x="7740015" y="2726867"/>
                    </a:lnTo>
                    <a:close/>
                  </a:path>
                  <a:path w="7740015" h="4680585">
                    <a:moveTo>
                      <a:pt x="7740015" y="2582862"/>
                    </a:moveTo>
                    <a:lnTo>
                      <a:pt x="7727315" y="2582862"/>
                    </a:lnTo>
                    <a:lnTo>
                      <a:pt x="7727315" y="2654871"/>
                    </a:lnTo>
                    <a:lnTo>
                      <a:pt x="7740015" y="2654871"/>
                    </a:lnTo>
                    <a:lnTo>
                      <a:pt x="7740015" y="2582862"/>
                    </a:lnTo>
                    <a:close/>
                  </a:path>
                  <a:path w="7740015" h="4680585">
                    <a:moveTo>
                      <a:pt x="7740015" y="2438870"/>
                    </a:moveTo>
                    <a:lnTo>
                      <a:pt x="7727315" y="2438870"/>
                    </a:lnTo>
                    <a:lnTo>
                      <a:pt x="7727315" y="2510866"/>
                    </a:lnTo>
                    <a:lnTo>
                      <a:pt x="7740015" y="2510866"/>
                    </a:lnTo>
                    <a:lnTo>
                      <a:pt x="7740015" y="2438870"/>
                    </a:lnTo>
                    <a:close/>
                  </a:path>
                  <a:path w="7740015" h="4680585">
                    <a:moveTo>
                      <a:pt x="7740015" y="2294864"/>
                    </a:moveTo>
                    <a:lnTo>
                      <a:pt x="7727315" y="2294864"/>
                    </a:lnTo>
                    <a:lnTo>
                      <a:pt x="7727315" y="2366861"/>
                    </a:lnTo>
                    <a:lnTo>
                      <a:pt x="7740015" y="2366861"/>
                    </a:lnTo>
                    <a:lnTo>
                      <a:pt x="7740015" y="2294864"/>
                    </a:lnTo>
                    <a:close/>
                  </a:path>
                  <a:path w="7740015" h="4680585">
                    <a:moveTo>
                      <a:pt x="7740015" y="2150872"/>
                    </a:moveTo>
                    <a:lnTo>
                      <a:pt x="7727315" y="2150872"/>
                    </a:lnTo>
                    <a:lnTo>
                      <a:pt x="7727315" y="2222868"/>
                    </a:lnTo>
                    <a:lnTo>
                      <a:pt x="7740015" y="2222868"/>
                    </a:lnTo>
                    <a:lnTo>
                      <a:pt x="7740015" y="2150872"/>
                    </a:lnTo>
                    <a:close/>
                  </a:path>
                  <a:path w="7740015" h="4680585">
                    <a:moveTo>
                      <a:pt x="7740015" y="2006866"/>
                    </a:moveTo>
                    <a:lnTo>
                      <a:pt x="7727315" y="2006866"/>
                    </a:lnTo>
                    <a:lnTo>
                      <a:pt x="7727315" y="2078863"/>
                    </a:lnTo>
                    <a:lnTo>
                      <a:pt x="7740015" y="2078863"/>
                    </a:lnTo>
                    <a:lnTo>
                      <a:pt x="7740015" y="2006866"/>
                    </a:lnTo>
                    <a:close/>
                  </a:path>
                  <a:path w="7740015" h="4680585">
                    <a:moveTo>
                      <a:pt x="7740015" y="1862874"/>
                    </a:moveTo>
                    <a:lnTo>
                      <a:pt x="7727315" y="1862874"/>
                    </a:lnTo>
                    <a:lnTo>
                      <a:pt x="7727315" y="1934870"/>
                    </a:lnTo>
                    <a:lnTo>
                      <a:pt x="7740015" y="1934870"/>
                    </a:lnTo>
                    <a:lnTo>
                      <a:pt x="7740015" y="1862874"/>
                    </a:lnTo>
                    <a:close/>
                  </a:path>
                  <a:path w="7740015" h="4680585">
                    <a:moveTo>
                      <a:pt x="7740015" y="1718868"/>
                    </a:moveTo>
                    <a:lnTo>
                      <a:pt x="7727315" y="1718868"/>
                    </a:lnTo>
                    <a:lnTo>
                      <a:pt x="7727315" y="1790865"/>
                    </a:lnTo>
                    <a:lnTo>
                      <a:pt x="7740015" y="1790865"/>
                    </a:lnTo>
                    <a:lnTo>
                      <a:pt x="7740015" y="1718868"/>
                    </a:lnTo>
                    <a:close/>
                  </a:path>
                  <a:path w="7740015" h="4680585">
                    <a:moveTo>
                      <a:pt x="7740015" y="1574876"/>
                    </a:moveTo>
                    <a:lnTo>
                      <a:pt x="7727315" y="1574876"/>
                    </a:lnTo>
                    <a:lnTo>
                      <a:pt x="7727315" y="1646872"/>
                    </a:lnTo>
                    <a:lnTo>
                      <a:pt x="7740015" y="1646872"/>
                    </a:lnTo>
                    <a:lnTo>
                      <a:pt x="7740015" y="1574876"/>
                    </a:lnTo>
                    <a:close/>
                  </a:path>
                  <a:path w="7740015" h="4680585">
                    <a:moveTo>
                      <a:pt x="7740015" y="1430870"/>
                    </a:moveTo>
                    <a:lnTo>
                      <a:pt x="7727315" y="1430870"/>
                    </a:lnTo>
                    <a:lnTo>
                      <a:pt x="7727315" y="1502867"/>
                    </a:lnTo>
                    <a:lnTo>
                      <a:pt x="7740015" y="1502867"/>
                    </a:lnTo>
                    <a:lnTo>
                      <a:pt x="7740015" y="1430870"/>
                    </a:lnTo>
                    <a:close/>
                  </a:path>
                  <a:path w="7740015" h="4680585">
                    <a:moveTo>
                      <a:pt x="7740015" y="1286865"/>
                    </a:moveTo>
                    <a:lnTo>
                      <a:pt x="7727315" y="1286865"/>
                    </a:lnTo>
                    <a:lnTo>
                      <a:pt x="7727315" y="1358861"/>
                    </a:lnTo>
                    <a:lnTo>
                      <a:pt x="7740015" y="1358861"/>
                    </a:lnTo>
                    <a:lnTo>
                      <a:pt x="7740015" y="1286865"/>
                    </a:lnTo>
                    <a:close/>
                  </a:path>
                  <a:path w="7740015" h="4680585">
                    <a:moveTo>
                      <a:pt x="7740015" y="1142873"/>
                    </a:moveTo>
                    <a:lnTo>
                      <a:pt x="7727315" y="1142873"/>
                    </a:lnTo>
                    <a:lnTo>
                      <a:pt x="7727315" y="1214869"/>
                    </a:lnTo>
                    <a:lnTo>
                      <a:pt x="7740015" y="1214869"/>
                    </a:lnTo>
                    <a:lnTo>
                      <a:pt x="7740015" y="1142873"/>
                    </a:lnTo>
                    <a:close/>
                  </a:path>
                  <a:path w="7740015" h="4680585">
                    <a:moveTo>
                      <a:pt x="7740015" y="998867"/>
                    </a:moveTo>
                    <a:lnTo>
                      <a:pt x="7727315" y="998867"/>
                    </a:lnTo>
                    <a:lnTo>
                      <a:pt x="7727315" y="1070864"/>
                    </a:lnTo>
                    <a:lnTo>
                      <a:pt x="7740015" y="1070864"/>
                    </a:lnTo>
                    <a:lnTo>
                      <a:pt x="7740015" y="998867"/>
                    </a:lnTo>
                    <a:close/>
                  </a:path>
                  <a:path w="7740015" h="4680585">
                    <a:moveTo>
                      <a:pt x="7740015" y="854875"/>
                    </a:moveTo>
                    <a:lnTo>
                      <a:pt x="7727315" y="854875"/>
                    </a:lnTo>
                    <a:lnTo>
                      <a:pt x="7727315" y="926871"/>
                    </a:lnTo>
                    <a:lnTo>
                      <a:pt x="7740015" y="926871"/>
                    </a:lnTo>
                    <a:lnTo>
                      <a:pt x="7740015" y="854875"/>
                    </a:lnTo>
                    <a:close/>
                  </a:path>
                  <a:path w="7740015" h="4680585">
                    <a:moveTo>
                      <a:pt x="7740015" y="710869"/>
                    </a:moveTo>
                    <a:lnTo>
                      <a:pt x="7727315" y="710869"/>
                    </a:lnTo>
                    <a:lnTo>
                      <a:pt x="7727315" y="782866"/>
                    </a:lnTo>
                    <a:lnTo>
                      <a:pt x="7740015" y="782866"/>
                    </a:lnTo>
                    <a:lnTo>
                      <a:pt x="7740015" y="710869"/>
                    </a:lnTo>
                    <a:close/>
                  </a:path>
                  <a:path w="7740015" h="4680585">
                    <a:moveTo>
                      <a:pt x="7740015" y="566864"/>
                    </a:moveTo>
                    <a:lnTo>
                      <a:pt x="7727315" y="566864"/>
                    </a:lnTo>
                    <a:lnTo>
                      <a:pt x="7727315" y="638860"/>
                    </a:lnTo>
                    <a:lnTo>
                      <a:pt x="7740015" y="638860"/>
                    </a:lnTo>
                    <a:lnTo>
                      <a:pt x="7740015" y="566864"/>
                    </a:lnTo>
                    <a:close/>
                  </a:path>
                  <a:path w="7740015" h="4680585">
                    <a:moveTo>
                      <a:pt x="7740015" y="494868"/>
                    </a:moveTo>
                    <a:lnTo>
                      <a:pt x="7739939" y="426199"/>
                    </a:lnTo>
                    <a:lnTo>
                      <a:pt x="7739850" y="422871"/>
                    </a:lnTo>
                    <a:lnTo>
                      <a:pt x="7727150" y="423316"/>
                    </a:lnTo>
                    <a:lnTo>
                      <a:pt x="7727264" y="426199"/>
                    </a:lnTo>
                    <a:lnTo>
                      <a:pt x="7727315" y="494868"/>
                    </a:lnTo>
                    <a:lnTo>
                      <a:pt x="7740015" y="494868"/>
                    </a:lnTo>
                    <a:close/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object 29"/>
              <p:cNvSpPr/>
              <p:nvPr/>
            </p:nvSpPr>
            <p:spPr>
              <a:xfrm>
                <a:off x="997200" y="1346040"/>
                <a:ext cx="7740360" cy="4681080"/>
              </a:xfrm>
              <a:custGeom>
                <a:avLst/>
                <a:gdLst/>
                <a:ahLst/>
                <a:rect l="l" t="t" r="r" b="b"/>
                <a:pathLst>
                  <a:path w="7740015" h="4680585">
                    <a:moveTo>
                      <a:pt x="7740002" y="143992"/>
                    </a:moveTo>
                    <a:lnTo>
                      <a:pt x="7727302" y="143992"/>
                    </a:lnTo>
                    <a:lnTo>
                      <a:pt x="7727302" y="215988"/>
                    </a:lnTo>
                    <a:lnTo>
                      <a:pt x="7740002" y="215988"/>
                    </a:lnTo>
                    <a:lnTo>
                      <a:pt x="7740002" y="143992"/>
                    </a:lnTo>
                    <a:close/>
                  </a:path>
                  <a:path w="7740015" h="4680585">
                    <a:moveTo>
                      <a:pt x="7740002" y="287997"/>
                    </a:moveTo>
                    <a:lnTo>
                      <a:pt x="7727302" y="287997"/>
                    </a:lnTo>
                    <a:lnTo>
                      <a:pt x="7727302" y="359994"/>
                    </a:lnTo>
                    <a:lnTo>
                      <a:pt x="7740002" y="359994"/>
                    </a:lnTo>
                    <a:lnTo>
                      <a:pt x="7740002" y="287997"/>
                    </a:lnTo>
                    <a:close/>
                  </a:path>
                  <a:path w="7740015" h="4680585">
                    <a:moveTo>
                      <a:pt x="7740002" y="432003"/>
                    </a:moveTo>
                    <a:lnTo>
                      <a:pt x="7727302" y="432003"/>
                    </a:lnTo>
                    <a:lnTo>
                      <a:pt x="7727302" y="503999"/>
                    </a:lnTo>
                    <a:lnTo>
                      <a:pt x="7740002" y="503999"/>
                    </a:lnTo>
                    <a:lnTo>
                      <a:pt x="7740002" y="432003"/>
                    </a:lnTo>
                    <a:close/>
                  </a:path>
                  <a:path w="7740015" h="4680585">
                    <a:moveTo>
                      <a:pt x="7740002" y="575995"/>
                    </a:moveTo>
                    <a:lnTo>
                      <a:pt x="7727302" y="575995"/>
                    </a:lnTo>
                    <a:lnTo>
                      <a:pt x="7727302" y="647992"/>
                    </a:lnTo>
                    <a:lnTo>
                      <a:pt x="7740002" y="647992"/>
                    </a:lnTo>
                    <a:lnTo>
                      <a:pt x="7740002" y="575995"/>
                    </a:lnTo>
                    <a:close/>
                  </a:path>
                  <a:path w="7740015" h="4680585">
                    <a:moveTo>
                      <a:pt x="7740002" y="720001"/>
                    </a:moveTo>
                    <a:lnTo>
                      <a:pt x="7727302" y="720001"/>
                    </a:lnTo>
                    <a:lnTo>
                      <a:pt x="7727302" y="791997"/>
                    </a:lnTo>
                    <a:lnTo>
                      <a:pt x="7740002" y="791997"/>
                    </a:lnTo>
                    <a:lnTo>
                      <a:pt x="7740002" y="720001"/>
                    </a:lnTo>
                    <a:close/>
                  </a:path>
                  <a:path w="7740015" h="4680585">
                    <a:moveTo>
                      <a:pt x="7740002" y="863993"/>
                    </a:moveTo>
                    <a:lnTo>
                      <a:pt x="7727302" y="863993"/>
                    </a:lnTo>
                    <a:lnTo>
                      <a:pt x="7727302" y="935989"/>
                    </a:lnTo>
                    <a:lnTo>
                      <a:pt x="7740002" y="935989"/>
                    </a:lnTo>
                    <a:lnTo>
                      <a:pt x="7740002" y="863993"/>
                    </a:lnTo>
                    <a:close/>
                  </a:path>
                  <a:path w="7740015" h="4680585">
                    <a:moveTo>
                      <a:pt x="7740002" y="1007999"/>
                    </a:moveTo>
                    <a:lnTo>
                      <a:pt x="7727302" y="1007999"/>
                    </a:lnTo>
                    <a:lnTo>
                      <a:pt x="7727302" y="1079995"/>
                    </a:lnTo>
                    <a:lnTo>
                      <a:pt x="7740002" y="1079995"/>
                    </a:lnTo>
                    <a:lnTo>
                      <a:pt x="7740002" y="1007999"/>
                    </a:lnTo>
                    <a:close/>
                  </a:path>
                  <a:path w="7740015" h="4680585">
                    <a:moveTo>
                      <a:pt x="7740002" y="1151991"/>
                    </a:moveTo>
                    <a:lnTo>
                      <a:pt x="7727302" y="1151991"/>
                    </a:lnTo>
                    <a:lnTo>
                      <a:pt x="7727302" y="1223987"/>
                    </a:lnTo>
                    <a:lnTo>
                      <a:pt x="7740002" y="1223987"/>
                    </a:lnTo>
                    <a:lnTo>
                      <a:pt x="7740002" y="1151991"/>
                    </a:lnTo>
                    <a:close/>
                  </a:path>
                  <a:path w="7740015" h="4680585">
                    <a:moveTo>
                      <a:pt x="7740002" y="1295996"/>
                    </a:moveTo>
                    <a:lnTo>
                      <a:pt x="7727302" y="1295996"/>
                    </a:lnTo>
                    <a:lnTo>
                      <a:pt x="7727302" y="1367993"/>
                    </a:lnTo>
                    <a:lnTo>
                      <a:pt x="7740002" y="1367993"/>
                    </a:lnTo>
                    <a:lnTo>
                      <a:pt x="7740002" y="1295996"/>
                    </a:lnTo>
                    <a:close/>
                  </a:path>
                  <a:path w="7740015" h="4680585">
                    <a:moveTo>
                      <a:pt x="7740002" y="1440002"/>
                    </a:moveTo>
                    <a:lnTo>
                      <a:pt x="7727302" y="1440002"/>
                    </a:lnTo>
                    <a:lnTo>
                      <a:pt x="7727302" y="1511998"/>
                    </a:lnTo>
                    <a:lnTo>
                      <a:pt x="7740002" y="1511998"/>
                    </a:lnTo>
                    <a:lnTo>
                      <a:pt x="7740002" y="1440002"/>
                    </a:lnTo>
                    <a:close/>
                  </a:path>
                  <a:path w="7740015" h="4680585">
                    <a:moveTo>
                      <a:pt x="7740002" y="1583994"/>
                    </a:moveTo>
                    <a:lnTo>
                      <a:pt x="7727302" y="1583994"/>
                    </a:lnTo>
                    <a:lnTo>
                      <a:pt x="7727302" y="1655991"/>
                    </a:lnTo>
                    <a:lnTo>
                      <a:pt x="7740002" y="1655991"/>
                    </a:lnTo>
                    <a:lnTo>
                      <a:pt x="7740002" y="1583994"/>
                    </a:lnTo>
                    <a:close/>
                  </a:path>
                  <a:path w="7740015" h="4680585">
                    <a:moveTo>
                      <a:pt x="7740002" y="1728000"/>
                    </a:moveTo>
                    <a:lnTo>
                      <a:pt x="7727302" y="1728000"/>
                    </a:lnTo>
                    <a:lnTo>
                      <a:pt x="7727302" y="1799996"/>
                    </a:lnTo>
                    <a:lnTo>
                      <a:pt x="7740002" y="1799996"/>
                    </a:lnTo>
                    <a:lnTo>
                      <a:pt x="7740002" y="1728000"/>
                    </a:lnTo>
                    <a:close/>
                  </a:path>
                  <a:path w="7740015" h="4680585">
                    <a:moveTo>
                      <a:pt x="7740002" y="1871992"/>
                    </a:moveTo>
                    <a:lnTo>
                      <a:pt x="7727302" y="1871992"/>
                    </a:lnTo>
                    <a:lnTo>
                      <a:pt x="7727302" y="1943989"/>
                    </a:lnTo>
                    <a:lnTo>
                      <a:pt x="7740002" y="1943989"/>
                    </a:lnTo>
                    <a:lnTo>
                      <a:pt x="7740002" y="1871992"/>
                    </a:lnTo>
                    <a:close/>
                  </a:path>
                  <a:path w="7740015" h="4680585">
                    <a:moveTo>
                      <a:pt x="7740002" y="2015998"/>
                    </a:moveTo>
                    <a:lnTo>
                      <a:pt x="7727302" y="2015998"/>
                    </a:lnTo>
                    <a:lnTo>
                      <a:pt x="7727302" y="2087994"/>
                    </a:lnTo>
                    <a:lnTo>
                      <a:pt x="7740002" y="2087994"/>
                    </a:lnTo>
                    <a:lnTo>
                      <a:pt x="7740002" y="2015998"/>
                    </a:lnTo>
                    <a:close/>
                  </a:path>
                  <a:path w="7740015" h="4680585">
                    <a:moveTo>
                      <a:pt x="7740002" y="2160003"/>
                    </a:moveTo>
                    <a:lnTo>
                      <a:pt x="7727302" y="2160003"/>
                    </a:lnTo>
                    <a:lnTo>
                      <a:pt x="7727302" y="2231999"/>
                    </a:lnTo>
                    <a:lnTo>
                      <a:pt x="7740002" y="2231999"/>
                    </a:lnTo>
                    <a:lnTo>
                      <a:pt x="7740002" y="2160003"/>
                    </a:lnTo>
                    <a:close/>
                  </a:path>
                  <a:path w="7740015" h="4680585">
                    <a:moveTo>
                      <a:pt x="7740002" y="2303995"/>
                    </a:moveTo>
                    <a:lnTo>
                      <a:pt x="7727302" y="2303995"/>
                    </a:lnTo>
                    <a:lnTo>
                      <a:pt x="7727302" y="2375992"/>
                    </a:lnTo>
                    <a:lnTo>
                      <a:pt x="7740002" y="2375992"/>
                    </a:lnTo>
                    <a:lnTo>
                      <a:pt x="7740002" y="2303995"/>
                    </a:lnTo>
                    <a:close/>
                  </a:path>
                  <a:path w="7740015" h="4680585">
                    <a:moveTo>
                      <a:pt x="7740002" y="2448001"/>
                    </a:moveTo>
                    <a:lnTo>
                      <a:pt x="7727302" y="2448001"/>
                    </a:lnTo>
                    <a:lnTo>
                      <a:pt x="7727302" y="2519997"/>
                    </a:lnTo>
                    <a:lnTo>
                      <a:pt x="7740002" y="2519997"/>
                    </a:lnTo>
                    <a:lnTo>
                      <a:pt x="7740002" y="2448001"/>
                    </a:lnTo>
                    <a:close/>
                  </a:path>
                  <a:path w="7740015" h="4680585">
                    <a:moveTo>
                      <a:pt x="7740002" y="2591993"/>
                    </a:moveTo>
                    <a:lnTo>
                      <a:pt x="7727302" y="2591993"/>
                    </a:lnTo>
                    <a:lnTo>
                      <a:pt x="7727302" y="2664002"/>
                    </a:lnTo>
                    <a:lnTo>
                      <a:pt x="7740002" y="2664002"/>
                    </a:lnTo>
                    <a:lnTo>
                      <a:pt x="7740002" y="2591993"/>
                    </a:lnTo>
                    <a:close/>
                  </a:path>
                  <a:path w="7740015" h="4680585">
                    <a:moveTo>
                      <a:pt x="7740002" y="2735999"/>
                    </a:moveTo>
                    <a:lnTo>
                      <a:pt x="7727302" y="2735999"/>
                    </a:lnTo>
                    <a:lnTo>
                      <a:pt x="7727302" y="2807995"/>
                    </a:lnTo>
                    <a:lnTo>
                      <a:pt x="7740002" y="2807995"/>
                    </a:lnTo>
                    <a:lnTo>
                      <a:pt x="7740002" y="2735999"/>
                    </a:lnTo>
                    <a:close/>
                  </a:path>
                  <a:path w="7740015" h="4680585">
                    <a:moveTo>
                      <a:pt x="7740002" y="2880004"/>
                    </a:moveTo>
                    <a:lnTo>
                      <a:pt x="7727302" y="2880004"/>
                    </a:lnTo>
                    <a:lnTo>
                      <a:pt x="7727302" y="2952000"/>
                    </a:lnTo>
                    <a:lnTo>
                      <a:pt x="7740002" y="2952000"/>
                    </a:lnTo>
                    <a:lnTo>
                      <a:pt x="7740002" y="2880004"/>
                    </a:lnTo>
                    <a:close/>
                  </a:path>
                  <a:path w="7740015" h="4680585">
                    <a:moveTo>
                      <a:pt x="7740002" y="3023997"/>
                    </a:moveTo>
                    <a:lnTo>
                      <a:pt x="7727302" y="3023997"/>
                    </a:lnTo>
                    <a:lnTo>
                      <a:pt x="7727302" y="3096006"/>
                    </a:lnTo>
                    <a:lnTo>
                      <a:pt x="7740002" y="3096006"/>
                    </a:lnTo>
                    <a:lnTo>
                      <a:pt x="7740002" y="3023997"/>
                    </a:lnTo>
                    <a:close/>
                  </a:path>
                  <a:path w="7740015" h="4680585">
                    <a:moveTo>
                      <a:pt x="7740002" y="3168002"/>
                    </a:moveTo>
                    <a:lnTo>
                      <a:pt x="7727302" y="3168002"/>
                    </a:lnTo>
                    <a:lnTo>
                      <a:pt x="7727302" y="3239998"/>
                    </a:lnTo>
                    <a:lnTo>
                      <a:pt x="7740002" y="3239998"/>
                    </a:lnTo>
                    <a:lnTo>
                      <a:pt x="7740002" y="3168002"/>
                    </a:lnTo>
                    <a:close/>
                  </a:path>
                  <a:path w="7740015" h="4680585">
                    <a:moveTo>
                      <a:pt x="7740002" y="3312007"/>
                    </a:moveTo>
                    <a:lnTo>
                      <a:pt x="7727302" y="3312007"/>
                    </a:lnTo>
                    <a:lnTo>
                      <a:pt x="7727302" y="3384003"/>
                    </a:lnTo>
                    <a:lnTo>
                      <a:pt x="7740002" y="3384003"/>
                    </a:lnTo>
                    <a:lnTo>
                      <a:pt x="7740002" y="3312007"/>
                    </a:lnTo>
                    <a:close/>
                  </a:path>
                  <a:path w="7740015" h="4680585">
                    <a:moveTo>
                      <a:pt x="7740002" y="3455987"/>
                    </a:moveTo>
                    <a:lnTo>
                      <a:pt x="7727302" y="3455987"/>
                    </a:lnTo>
                    <a:lnTo>
                      <a:pt x="7727302" y="3527996"/>
                    </a:lnTo>
                    <a:lnTo>
                      <a:pt x="7740002" y="3527996"/>
                    </a:lnTo>
                    <a:lnTo>
                      <a:pt x="7740002" y="3455987"/>
                    </a:lnTo>
                    <a:close/>
                  </a:path>
                  <a:path w="7740015" h="4680585">
                    <a:moveTo>
                      <a:pt x="7740002" y="3599992"/>
                    </a:moveTo>
                    <a:lnTo>
                      <a:pt x="7727302" y="3599992"/>
                    </a:lnTo>
                    <a:lnTo>
                      <a:pt x="7727302" y="3672001"/>
                    </a:lnTo>
                    <a:lnTo>
                      <a:pt x="7740002" y="3672001"/>
                    </a:lnTo>
                    <a:lnTo>
                      <a:pt x="7740002" y="3599992"/>
                    </a:lnTo>
                    <a:close/>
                  </a:path>
                  <a:path w="7740015" h="4680585">
                    <a:moveTo>
                      <a:pt x="7740002" y="3743998"/>
                    </a:moveTo>
                    <a:lnTo>
                      <a:pt x="7727302" y="3743998"/>
                    </a:lnTo>
                    <a:lnTo>
                      <a:pt x="7727302" y="3815994"/>
                    </a:lnTo>
                    <a:lnTo>
                      <a:pt x="7740002" y="3815994"/>
                    </a:lnTo>
                    <a:lnTo>
                      <a:pt x="7740002" y="3743998"/>
                    </a:lnTo>
                    <a:close/>
                  </a:path>
                  <a:path w="7740015" h="4680585">
                    <a:moveTo>
                      <a:pt x="7740002" y="3888003"/>
                    </a:moveTo>
                    <a:lnTo>
                      <a:pt x="7727302" y="3888003"/>
                    </a:lnTo>
                    <a:lnTo>
                      <a:pt x="7727302" y="3959999"/>
                    </a:lnTo>
                    <a:lnTo>
                      <a:pt x="7740002" y="3959999"/>
                    </a:lnTo>
                    <a:lnTo>
                      <a:pt x="7740002" y="3888003"/>
                    </a:lnTo>
                    <a:close/>
                  </a:path>
                  <a:path w="7740015" h="4680585">
                    <a:moveTo>
                      <a:pt x="7740002" y="4031996"/>
                    </a:moveTo>
                    <a:lnTo>
                      <a:pt x="7727302" y="4031996"/>
                    </a:lnTo>
                    <a:lnTo>
                      <a:pt x="7727302" y="4104004"/>
                    </a:lnTo>
                    <a:lnTo>
                      <a:pt x="7740002" y="4104004"/>
                    </a:lnTo>
                    <a:lnTo>
                      <a:pt x="7740002" y="4031996"/>
                    </a:lnTo>
                    <a:close/>
                  </a:path>
                  <a:path w="7740015" h="4680585">
                    <a:moveTo>
                      <a:pt x="7740002" y="4176001"/>
                    </a:moveTo>
                    <a:lnTo>
                      <a:pt x="7727302" y="4176001"/>
                    </a:lnTo>
                    <a:lnTo>
                      <a:pt x="7727302" y="4247997"/>
                    </a:lnTo>
                    <a:lnTo>
                      <a:pt x="7740002" y="4247997"/>
                    </a:lnTo>
                    <a:lnTo>
                      <a:pt x="7740002" y="4176001"/>
                    </a:lnTo>
                    <a:close/>
                  </a:path>
                  <a:path w="7740015" h="4680585">
                    <a:moveTo>
                      <a:pt x="7740002" y="4320006"/>
                    </a:moveTo>
                    <a:lnTo>
                      <a:pt x="7727302" y="4320006"/>
                    </a:lnTo>
                    <a:lnTo>
                      <a:pt x="7727302" y="4392002"/>
                    </a:lnTo>
                    <a:lnTo>
                      <a:pt x="7740002" y="4392002"/>
                    </a:lnTo>
                    <a:lnTo>
                      <a:pt x="7740002" y="4320006"/>
                    </a:lnTo>
                    <a:close/>
                  </a:path>
                  <a:path w="7740015" h="4680585">
                    <a:moveTo>
                      <a:pt x="7740002" y="4463999"/>
                    </a:moveTo>
                    <a:lnTo>
                      <a:pt x="7727302" y="4463999"/>
                    </a:lnTo>
                    <a:lnTo>
                      <a:pt x="7727302" y="4536008"/>
                    </a:lnTo>
                    <a:lnTo>
                      <a:pt x="7740002" y="4536008"/>
                    </a:lnTo>
                    <a:lnTo>
                      <a:pt x="7740002" y="4463999"/>
                    </a:lnTo>
                    <a:close/>
                  </a:path>
                  <a:path w="7740015" h="4680585">
                    <a:moveTo>
                      <a:pt x="7740002" y="4607991"/>
                    </a:moveTo>
                    <a:lnTo>
                      <a:pt x="7727302" y="4607991"/>
                    </a:lnTo>
                    <a:lnTo>
                      <a:pt x="7727302" y="4679988"/>
                    </a:lnTo>
                    <a:lnTo>
                      <a:pt x="7740002" y="4679988"/>
                    </a:lnTo>
                    <a:lnTo>
                      <a:pt x="7740002" y="4607991"/>
                    </a:lnTo>
                    <a:close/>
                  </a:path>
                  <a:path w="7740015" h="4680585">
                    <a:moveTo>
                      <a:pt x="7668006" y="4667288"/>
                    </a:moveTo>
                    <a:lnTo>
                      <a:pt x="7595997" y="4667288"/>
                    </a:lnTo>
                    <a:lnTo>
                      <a:pt x="7595997" y="4679988"/>
                    </a:lnTo>
                    <a:lnTo>
                      <a:pt x="7668006" y="4679988"/>
                    </a:lnTo>
                    <a:lnTo>
                      <a:pt x="7668006" y="4667288"/>
                    </a:lnTo>
                    <a:close/>
                  </a:path>
                  <a:path w="7740015" h="4680585">
                    <a:moveTo>
                      <a:pt x="7524000" y="4667288"/>
                    </a:moveTo>
                    <a:lnTo>
                      <a:pt x="7452004" y="4667288"/>
                    </a:lnTo>
                    <a:lnTo>
                      <a:pt x="7452004" y="4679988"/>
                    </a:lnTo>
                    <a:lnTo>
                      <a:pt x="7524000" y="4679988"/>
                    </a:lnTo>
                    <a:lnTo>
                      <a:pt x="7524000" y="4667288"/>
                    </a:lnTo>
                    <a:close/>
                  </a:path>
                  <a:path w="7740015" h="4680585">
                    <a:moveTo>
                      <a:pt x="7379995" y="4667288"/>
                    </a:moveTo>
                    <a:lnTo>
                      <a:pt x="7307999" y="4667288"/>
                    </a:lnTo>
                    <a:lnTo>
                      <a:pt x="7307999" y="4679988"/>
                    </a:lnTo>
                    <a:lnTo>
                      <a:pt x="7379995" y="4679988"/>
                    </a:lnTo>
                    <a:lnTo>
                      <a:pt x="7379995" y="4667288"/>
                    </a:lnTo>
                    <a:close/>
                  </a:path>
                  <a:path w="7740015" h="4680585">
                    <a:moveTo>
                      <a:pt x="7235990" y="4667288"/>
                    </a:moveTo>
                    <a:lnTo>
                      <a:pt x="7163993" y="4667288"/>
                    </a:lnTo>
                    <a:lnTo>
                      <a:pt x="7163993" y="4679988"/>
                    </a:lnTo>
                    <a:lnTo>
                      <a:pt x="7235990" y="4679988"/>
                    </a:lnTo>
                    <a:lnTo>
                      <a:pt x="7235990" y="4667288"/>
                    </a:lnTo>
                    <a:close/>
                  </a:path>
                  <a:path w="7740015" h="4680585">
                    <a:moveTo>
                      <a:pt x="7092010" y="4667288"/>
                    </a:moveTo>
                    <a:lnTo>
                      <a:pt x="7020001" y="4667288"/>
                    </a:lnTo>
                    <a:lnTo>
                      <a:pt x="7020001" y="4679988"/>
                    </a:lnTo>
                    <a:lnTo>
                      <a:pt x="7092010" y="4679988"/>
                    </a:lnTo>
                    <a:lnTo>
                      <a:pt x="7092010" y="4667288"/>
                    </a:lnTo>
                    <a:close/>
                  </a:path>
                  <a:path w="7740015" h="4680585">
                    <a:moveTo>
                      <a:pt x="6948004" y="4667288"/>
                    </a:moveTo>
                    <a:lnTo>
                      <a:pt x="6876008" y="4667288"/>
                    </a:lnTo>
                    <a:lnTo>
                      <a:pt x="6876008" y="4679988"/>
                    </a:lnTo>
                    <a:lnTo>
                      <a:pt x="6948004" y="4679988"/>
                    </a:lnTo>
                    <a:lnTo>
                      <a:pt x="6948004" y="4667288"/>
                    </a:lnTo>
                    <a:close/>
                  </a:path>
                  <a:path w="7740015" h="4680585">
                    <a:moveTo>
                      <a:pt x="6803999" y="4667288"/>
                    </a:moveTo>
                    <a:lnTo>
                      <a:pt x="6732003" y="4667288"/>
                    </a:lnTo>
                    <a:lnTo>
                      <a:pt x="6732003" y="4679988"/>
                    </a:lnTo>
                    <a:lnTo>
                      <a:pt x="6803999" y="4679988"/>
                    </a:lnTo>
                    <a:lnTo>
                      <a:pt x="6803999" y="4667288"/>
                    </a:lnTo>
                    <a:close/>
                  </a:path>
                  <a:path w="7740015" h="4680585">
                    <a:moveTo>
                      <a:pt x="6660007" y="4667288"/>
                    </a:moveTo>
                    <a:lnTo>
                      <a:pt x="6587998" y="4667288"/>
                    </a:lnTo>
                    <a:lnTo>
                      <a:pt x="6587998" y="4679988"/>
                    </a:lnTo>
                    <a:lnTo>
                      <a:pt x="6660007" y="4679988"/>
                    </a:lnTo>
                    <a:lnTo>
                      <a:pt x="6660007" y="4667288"/>
                    </a:lnTo>
                    <a:close/>
                  </a:path>
                  <a:path w="7740015" h="4680585">
                    <a:moveTo>
                      <a:pt x="6516001" y="4667288"/>
                    </a:moveTo>
                    <a:lnTo>
                      <a:pt x="6444005" y="4667288"/>
                    </a:lnTo>
                    <a:lnTo>
                      <a:pt x="6444005" y="4679988"/>
                    </a:lnTo>
                    <a:lnTo>
                      <a:pt x="6516001" y="4679988"/>
                    </a:lnTo>
                    <a:lnTo>
                      <a:pt x="6516001" y="4667288"/>
                    </a:lnTo>
                    <a:close/>
                  </a:path>
                  <a:path w="7740015" h="4680585">
                    <a:moveTo>
                      <a:pt x="6371996" y="4667288"/>
                    </a:moveTo>
                    <a:lnTo>
                      <a:pt x="6300000" y="4667288"/>
                    </a:lnTo>
                    <a:lnTo>
                      <a:pt x="6300000" y="4679988"/>
                    </a:lnTo>
                    <a:lnTo>
                      <a:pt x="6371996" y="4679988"/>
                    </a:lnTo>
                    <a:lnTo>
                      <a:pt x="6371996" y="4667288"/>
                    </a:lnTo>
                    <a:close/>
                  </a:path>
                  <a:path w="7740015" h="4680585">
                    <a:moveTo>
                      <a:pt x="6227991" y="4667288"/>
                    </a:moveTo>
                    <a:lnTo>
                      <a:pt x="6155994" y="4667288"/>
                    </a:lnTo>
                    <a:lnTo>
                      <a:pt x="6155994" y="4679988"/>
                    </a:lnTo>
                    <a:lnTo>
                      <a:pt x="6227991" y="4679988"/>
                    </a:lnTo>
                    <a:lnTo>
                      <a:pt x="6227991" y="4667288"/>
                    </a:lnTo>
                    <a:close/>
                  </a:path>
                  <a:path w="7740015" h="4680585">
                    <a:moveTo>
                      <a:pt x="6083998" y="4667288"/>
                    </a:moveTo>
                    <a:lnTo>
                      <a:pt x="6011989" y="4667288"/>
                    </a:lnTo>
                    <a:lnTo>
                      <a:pt x="6011989" y="4679988"/>
                    </a:lnTo>
                    <a:lnTo>
                      <a:pt x="6083998" y="4679988"/>
                    </a:lnTo>
                    <a:lnTo>
                      <a:pt x="6083998" y="4667288"/>
                    </a:lnTo>
                    <a:close/>
                  </a:path>
                  <a:path w="7740015" h="4680585">
                    <a:moveTo>
                      <a:pt x="5940005" y="4667288"/>
                    </a:moveTo>
                    <a:lnTo>
                      <a:pt x="5868009" y="4667288"/>
                    </a:lnTo>
                    <a:lnTo>
                      <a:pt x="5868009" y="4679988"/>
                    </a:lnTo>
                    <a:lnTo>
                      <a:pt x="5940005" y="4679988"/>
                    </a:lnTo>
                    <a:lnTo>
                      <a:pt x="5940005" y="4667288"/>
                    </a:lnTo>
                    <a:close/>
                  </a:path>
                  <a:path w="7740015" h="4680585">
                    <a:moveTo>
                      <a:pt x="5796000" y="4667288"/>
                    </a:moveTo>
                    <a:lnTo>
                      <a:pt x="5724004" y="4667288"/>
                    </a:lnTo>
                    <a:lnTo>
                      <a:pt x="5724004" y="4679988"/>
                    </a:lnTo>
                    <a:lnTo>
                      <a:pt x="5796000" y="4679988"/>
                    </a:lnTo>
                    <a:lnTo>
                      <a:pt x="5796000" y="4667288"/>
                    </a:lnTo>
                    <a:close/>
                  </a:path>
                  <a:path w="7740015" h="4680585">
                    <a:moveTo>
                      <a:pt x="5652008" y="4667288"/>
                    </a:moveTo>
                    <a:lnTo>
                      <a:pt x="5579999" y="4667288"/>
                    </a:lnTo>
                    <a:lnTo>
                      <a:pt x="5579999" y="4679988"/>
                    </a:lnTo>
                    <a:lnTo>
                      <a:pt x="5652008" y="4679988"/>
                    </a:lnTo>
                    <a:lnTo>
                      <a:pt x="5652008" y="4667288"/>
                    </a:lnTo>
                    <a:close/>
                  </a:path>
                  <a:path w="7740015" h="4680585">
                    <a:moveTo>
                      <a:pt x="5508002" y="4667288"/>
                    </a:moveTo>
                    <a:lnTo>
                      <a:pt x="5436006" y="4667288"/>
                    </a:lnTo>
                    <a:lnTo>
                      <a:pt x="5436006" y="4679988"/>
                    </a:lnTo>
                    <a:lnTo>
                      <a:pt x="5508002" y="4679988"/>
                    </a:lnTo>
                    <a:lnTo>
                      <a:pt x="5508002" y="4667288"/>
                    </a:lnTo>
                    <a:close/>
                  </a:path>
                  <a:path w="7740015" h="4680585">
                    <a:moveTo>
                      <a:pt x="5363997" y="4667288"/>
                    </a:moveTo>
                    <a:lnTo>
                      <a:pt x="5292001" y="4667288"/>
                    </a:lnTo>
                    <a:lnTo>
                      <a:pt x="5292001" y="4679988"/>
                    </a:lnTo>
                    <a:lnTo>
                      <a:pt x="5363997" y="4679988"/>
                    </a:lnTo>
                    <a:lnTo>
                      <a:pt x="5363997" y="4667288"/>
                    </a:lnTo>
                    <a:close/>
                  </a:path>
                  <a:path w="7740015" h="4680585">
                    <a:moveTo>
                      <a:pt x="5220004" y="4667288"/>
                    </a:moveTo>
                    <a:lnTo>
                      <a:pt x="5147995" y="4667288"/>
                    </a:lnTo>
                    <a:lnTo>
                      <a:pt x="5147995" y="4679988"/>
                    </a:lnTo>
                    <a:lnTo>
                      <a:pt x="5220004" y="4679988"/>
                    </a:lnTo>
                    <a:lnTo>
                      <a:pt x="5220004" y="4667288"/>
                    </a:lnTo>
                    <a:close/>
                  </a:path>
                  <a:path w="7740015" h="4680585">
                    <a:moveTo>
                      <a:pt x="5075999" y="4667288"/>
                    </a:moveTo>
                    <a:lnTo>
                      <a:pt x="5003990" y="4667288"/>
                    </a:lnTo>
                    <a:lnTo>
                      <a:pt x="5003990" y="4679988"/>
                    </a:lnTo>
                    <a:lnTo>
                      <a:pt x="5075999" y="4679988"/>
                    </a:lnTo>
                    <a:lnTo>
                      <a:pt x="5075999" y="4667288"/>
                    </a:lnTo>
                    <a:close/>
                  </a:path>
                  <a:path w="7740015" h="4680585">
                    <a:moveTo>
                      <a:pt x="4932006" y="4667288"/>
                    </a:moveTo>
                    <a:lnTo>
                      <a:pt x="4860010" y="4667288"/>
                    </a:lnTo>
                    <a:lnTo>
                      <a:pt x="4860010" y="4679988"/>
                    </a:lnTo>
                    <a:lnTo>
                      <a:pt x="4932006" y="4679988"/>
                    </a:lnTo>
                    <a:lnTo>
                      <a:pt x="4932006" y="4667288"/>
                    </a:lnTo>
                    <a:close/>
                  </a:path>
                  <a:path w="7740015" h="4680585">
                    <a:moveTo>
                      <a:pt x="4788001" y="4667288"/>
                    </a:moveTo>
                    <a:lnTo>
                      <a:pt x="4716005" y="4667288"/>
                    </a:lnTo>
                    <a:lnTo>
                      <a:pt x="4716005" y="4679988"/>
                    </a:lnTo>
                    <a:lnTo>
                      <a:pt x="4788001" y="4679988"/>
                    </a:lnTo>
                    <a:lnTo>
                      <a:pt x="4788001" y="4667288"/>
                    </a:lnTo>
                    <a:close/>
                  </a:path>
                  <a:path w="7740015" h="4680585">
                    <a:moveTo>
                      <a:pt x="4644009" y="4667288"/>
                    </a:moveTo>
                    <a:lnTo>
                      <a:pt x="4572000" y="4667288"/>
                    </a:lnTo>
                    <a:lnTo>
                      <a:pt x="4572000" y="4679988"/>
                    </a:lnTo>
                    <a:lnTo>
                      <a:pt x="4644009" y="4679988"/>
                    </a:lnTo>
                    <a:lnTo>
                      <a:pt x="4644009" y="4667288"/>
                    </a:lnTo>
                    <a:close/>
                  </a:path>
                  <a:path w="7740015" h="4680585">
                    <a:moveTo>
                      <a:pt x="4500003" y="4667288"/>
                    </a:moveTo>
                    <a:lnTo>
                      <a:pt x="4428007" y="4667288"/>
                    </a:lnTo>
                    <a:lnTo>
                      <a:pt x="4428007" y="4679988"/>
                    </a:lnTo>
                    <a:lnTo>
                      <a:pt x="4500003" y="4679988"/>
                    </a:lnTo>
                    <a:lnTo>
                      <a:pt x="4500003" y="4667288"/>
                    </a:lnTo>
                    <a:close/>
                  </a:path>
                  <a:path w="7740015" h="4680585">
                    <a:moveTo>
                      <a:pt x="4355998" y="4667288"/>
                    </a:moveTo>
                    <a:lnTo>
                      <a:pt x="4284002" y="4667288"/>
                    </a:lnTo>
                    <a:lnTo>
                      <a:pt x="4284002" y="4679988"/>
                    </a:lnTo>
                    <a:lnTo>
                      <a:pt x="4355998" y="4679988"/>
                    </a:lnTo>
                    <a:lnTo>
                      <a:pt x="4355998" y="4667288"/>
                    </a:lnTo>
                    <a:close/>
                  </a:path>
                  <a:path w="7740015" h="4680585">
                    <a:moveTo>
                      <a:pt x="4212005" y="4667288"/>
                    </a:moveTo>
                    <a:lnTo>
                      <a:pt x="4139996" y="4667288"/>
                    </a:lnTo>
                    <a:lnTo>
                      <a:pt x="4139996" y="4679988"/>
                    </a:lnTo>
                    <a:lnTo>
                      <a:pt x="4212005" y="4679988"/>
                    </a:lnTo>
                    <a:lnTo>
                      <a:pt x="4212005" y="4667288"/>
                    </a:lnTo>
                    <a:close/>
                  </a:path>
                  <a:path w="7740015" h="4680585">
                    <a:moveTo>
                      <a:pt x="4068000" y="4667288"/>
                    </a:moveTo>
                    <a:lnTo>
                      <a:pt x="3996004" y="4667288"/>
                    </a:lnTo>
                    <a:lnTo>
                      <a:pt x="3996004" y="4679988"/>
                    </a:lnTo>
                    <a:lnTo>
                      <a:pt x="4068000" y="4679988"/>
                    </a:lnTo>
                    <a:lnTo>
                      <a:pt x="4068000" y="4667288"/>
                    </a:lnTo>
                    <a:close/>
                  </a:path>
                  <a:path w="7740015" h="4680585">
                    <a:moveTo>
                      <a:pt x="3923995" y="4667288"/>
                    </a:moveTo>
                    <a:lnTo>
                      <a:pt x="3851998" y="4667288"/>
                    </a:lnTo>
                    <a:lnTo>
                      <a:pt x="3851998" y="4679988"/>
                    </a:lnTo>
                    <a:lnTo>
                      <a:pt x="3923995" y="4679988"/>
                    </a:lnTo>
                    <a:lnTo>
                      <a:pt x="3923995" y="4667288"/>
                    </a:lnTo>
                    <a:close/>
                  </a:path>
                  <a:path w="7740015" h="4680585">
                    <a:moveTo>
                      <a:pt x="3780002" y="4667288"/>
                    </a:moveTo>
                    <a:lnTo>
                      <a:pt x="3708006" y="4667288"/>
                    </a:lnTo>
                    <a:lnTo>
                      <a:pt x="3708006" y="4679988"/>
                    </a:lnTo>
                    <a:lnTo>
                      <a:pt x="3780002" y="4679988"/>
                    </a:lnTo>
                    <a:lnTo>
                      <a:pt x="3780002" y="4667288"/>
                    </a:lnTo>
                    <a:close/>
                  </a:path>
                  <a:path w="7740015" h="4680585">
                    <a:moveTo>
                      <a:pt x="3636010" y="4667288"/>
                    </a:moveTo>
                    <a:lnTo>
                      <a:pt x="3564013" y="4667288"/>
                    </a:lnTo>
                    <a:lnTo>
                      <a:pt x="3564013" y="4679988"/>
                    </a:lnTo>
                    <a:lnTo>
                      <a:pt x="3636010" y="4679988"/>
                    </a:lnTo>
                    <a:lnTo>
                      <a:pt x="3636010" y="4667288"/>
                    </a:lnTo>
                    <a:close/>
                  </a:path>
                  <a:path w="7740015" h="4680585">
                    <a:moveTo>
                      <a:pt x="3492004" y="4667288"/>
                    </a:moveTo>
                    <a:lnTo>
                      <a:pt x="3420008" y="4667288"/>
                    </a:lnTo>
                    <a:lnTo>
                      <a:pt x="3420008" y="4679988"/>
                    </a:lnTo>
                    <a:lnTo>
                      <a:pt x="3492004" y="4679988"/>
                    </a:lnTo>
                    <a:lnTo>
                      <a:pt x="3492004" y="4667288"/>
                    </a:lnTo>
                    <a:close/>
                  </a:path>
                  <a:path w="7740015" h="4680585">
                    <a:moveTo>
                      <a:pt x="3347999" y="4667288"/>
                    </a:moveTo>
                    <a:lnTo>
                      <a:pt x="3276003" y="4667288"/>
                    </a:lnTo>
                    <a:lnTo>
                      <a:pt x="3276003" y="4679988"/>
                    </a:lnTo>
                    <a:lnTo>
                      <a:pt x="3347999" y="4679988"/>
                    </a:lnTo>
                    <a:lnTo>
                      <a:pt x="3347999" y="4667288"/>
                    </a:lnTo>
                    <a:close/>
                  </a:path>
                  <a:path w="7740015" h="4680585">
                    <a:moveTo>
                      <a:pt x="3204006" y="4667288"/>
                    </a:moveTo>
                    <a:lnTo>
                      <a:pt x="3132010" y="4667288"/>
                    </a:lnTo>
                    <a:lnTo>
                      <a:pt x="3132010" y="4679988"/>
                    </a:lnTo>
                    <a:lnTo>
                      <a:pt x="3204006" y="4679988"/>
                    </a:lnTo>
                    <a:lnTo>
                      <a:pt x="3204006" y="4667288"/>
                    </a:lnTo>
                    <a:close/>
                  </a:path>
                  <a:path w="7740015" h="4680585">
                    <a:moveTo>
                      <a:pt x="3060001" y="4667288"/>
                    </a:moveTo>
                    <a:lnTo>
                      <a:pt x="2988005" y="4667288"/>
                    </a:lnTo>
                    <a:lnTo>
                      <a:pt x="2988005" y="4679988"/>
                    </a:lnTo>
                    <a:lnTo>
                      <a:pt x="3060001" y="4679988"/>
                    </a:lnTo>
                    <a:lnTo>
                      <a:pt x="3060001" y="4667288"/>
                    </a:lnTo>
                    <a:close/>
                  </a:path>
                  <a:path w="7740015" h="4680585">
                    <a:moveTo>
                      <a:pt x="2915996" y="4667288"/>
                    </a:moveTo>
                    <a:lnTo>
                      <a:pt x="2843999" y="4667288"/>
                    </a:lnTo>
                    <a:lnTo>
                      <a:pt x="2843999" y="4679988"/>
                    </a:lnTo>
                    <a:lnTo>
                      <a:pt x="2915996" y="4679988"/>
                    </a:lnTo>
                    <a:lnTo>
                      <a:pt x="2915996" y="4667288"/>
                    </a:lnTo>
                    <a:close/>
                  </a:path>
                  <a:path w="7740015" h="4680585">
                    <a:moveTo>
                      <a:pt x="2772003" y="4667288"/>
                    </a:moveTo>
                    <a:lnTo>
                      <a:pt x="2700007" y="4667288"/>
                    </a:lnTo>
                    <a:lnTo>
                      <a:pt x="2700007" y="4679988"/>
                    </a:lnTo>
                    <a:lnTo>
                      <a:pt x="2772003" y="4679988"/>
                    </a:lnTo>
                    <a:lnTo>
                      <a:pt x="2772003" y="4667288"/>
                    </a:lnTo>
                    <a:close/>
                  </a:path>
                  <a:path w="7740015" h="4680585">
                    <a:moveTo>
                      <a:pt x="2628011" y="4667288"/>
                    </a:moveTo>
                    <a:lnTo>
                      <a:pt x="2556014" y="4667288"/>
                    </a:lnTo>
                    <a:lnTo>
                      <a:pt x="2556014" y="4679988"/>
                    </a:lnTo>
                    <a:lnTo>
                      <a:pt x="2628011" y="4679988"/>
                    </a:lnTo>
                    <a:lnTo>
                      <a:pt x="2628011" y="4667288"/>
                    </a:lnTo>
                    <a:close/>
                  </a:path>
                  <a:path w="7740015" h="4680585">
                    <a:moveTo>
                      <a:pt x="2484005" y="4667288"/>
                    </a:moveTo>
                    <a:lnTo>
                      <a:pt x="2412009" y="4667288"/>
                    </a:lnTo>
                    <a:lnTo>
                      <a:pt x="2412009" y="4679988"/>
                    </a:lnTo>
                    <a:lnTo>
                      <a:pt x="2484005" y="4679988"/>
                    </a:lnTo>
                    <a:lnTo>
                      <a:pt x="2484005" y="4667288"/>
                    </a:lnTo>
                    <a:close/>
                  </a:path>
                  <a:path w="7740015" h="4680585">
                    <a:moveTo>
                      <a:pt x="2340000" y="4667288"/>
                    </a:moveTo>
                    <a:lnTo>
                      <a:pt x="2268004" y="4667288"/>
                    </a:lnTo>
                    <a:lnTo>
                      <a:pt x="2268004" y="4679988"/>
                    </a:lnTo>
                    <a:lnTo>
                      <a:pt x="2340000" y="4679988"/>
                    </a:lnTo>
                    <a:lnTo>
                      <a:pt x="2340000" y="4667288"/>
                    </a:lnTo>
                    <a:close/>
                  </a:path>
                  <a:path w="7740015" h="4680585">
                    <a:moveTo>
                      <a:pt x="2195995" y="4667288"/>
                    </a:moveTo>
                    <a:lnTo>
                      <a:pt x="2123998" y="4667288"/>
                    </a:lnTo>
                    <a:lnTo>
                      <a:pt x="2123998" y="4679988"/>
                    </a:lnTo>
                    <a:lnTo>
                      <a:pt x="2195995" y="4679988"/>
                    </a:lnTo>
                    <a:lnTo>
                      <a:pt x="2195995" y="4667288"/>
                    </a:lnTo>
                    <a:close/>
                  </a:path>
                  <a:path w="7740015" h="4680585">
                    <a:moveTo>
                      <a:pt x="2052002" y="4667288"/>
                    </a:moveTo>
                    <a:lnTo>
                      <a:pt x="1980006" y="4667288"/>
                    </a:lnTo>
                    <a:lnTo>
                      <a:pt x="1980006" y="4679988"/>
                    </a:lnTo>
                    <a:lnTo>
                      <a:pt x="2052002" y="4679988"/>
                    </a:lnTo>
                    <a:lnTo>
                      <a:pt x="2052002" y="4667288"/>
                    </a:lnTo>
                    <a:close/>
                  </a:path>
                  <a:path w="7740015" h="4680585">
                    <a:moveTo>
                      <a:pt x="1908009" y="4667288"/>
                    </a:moveTo>
                    <a:lnTo>
                      <a:pt x="1836013" y="4667288"/>
                    </a:lnTo>
                    <a:lnTo>
                      <a:pt x="1836013" y="4679988"/>
                    </a:lnTo>
                    <a:lnTo>
                      <a:pt x="1908009" y="4679988"/>
                    </a:lnTo>
                    <a:lnTo>
                      <a:pt x="1908009" y="4667288"/>
                    </a:lnTo>
                    <a:close/>
                  </a:path>
                  <a:path w="7740015" h="4680585">
                    <a:moveTo>
                      <a:pt x="1764004" y="4667288"/>
                    </a:moveTo>
                    <a:lnTo>
                      <a:pt x="1692008" y="4667288"/>
                    </a:lnTo>
                    <a:lnTo>
                      <a:pt x="1692008" y="4679988"/>
                    </a:lnTo>
                    <a:lnTo>
                      <a:pt x="1764004" y="4679988"/>
                    </a:lnTo>
                    <a:lnTo>
                      <a:pt x="1764004" y="4667288"/>
                    </a:lnTo>
                    <a:close/>
                  </a:path>
                  <a:path w="7740015" h="4680585">
                    <a:moveTo>
                      <a:pt x="1619999" y="4667288"/>
                    </a:moveTo>
                    <a:lnTo>
                      <a:pt x="1548002" y="4667288"/>
                    </a:lnTo>
                    <a:lnTo>
                      <a:pt x="1548002" y="4679988"/>
                    </a:lnTo>
                    <a:lnTo>
                      <a:pt x="1619999" y="4679988"/>
                    </a:lnTo>
                    <a:lnTo>
                      <a:pt x="1619999" y="4667288"/>
                    </a:lnTo>
                    <a:close/>
                  </a:path>
                  <a:path w="7740015" h="4680585">
                    <a:moveTo>
                      <a:pt x="1476006" y="4667288"/>
                    </a:moveTo>
                    <a:lnTo>
                      <a:pt x="1404010" y="4667288"/>
                    </a:lnTo>
                    <a:lnTo>
                      <a:pt x="1404010" y="4679988"/>
                    </a:lnTo>
                    <a:lnTo>
                      <a:pt x="1476006" y="4679988"/>
                    </a:lnTo>
                    <a:lnTo>
                      <a:pt x="1476006" y="4667288"/>
                    </a:lnTo>
                    <a:close/>
                  </a:path>
                  <a:path w="7740015" h="4680585">
                    <a:moveTo>
                      <a:pt x="1332001" y="4667288"/>
                    </a:moveTo>
                    <a:lnTo>
                      <a:pt x="1260005" y="4667288"/>
                    </a:lnTo>
                    <a:lnTo>
                      <a:pt x="1260005" y="4679988"/>
                    </a:lnTo>
                    <a:lnTo>
                      <a:pt x="1332001" y="4679988"/>
                    </a:lnTo>
                    <a:lnTo>
                      <a:pt x="1332001" y="4667288"/>
                    </a:lnTo>
                    <a:close/>
                  </a:path>
                  <a:path w="7740015" h="4680585">
                    <a:moveTo>
                      <a:pt x="1187996" y="4667288"/>
                    </a:moveTo>
                    <a:lnTo>
                      <a:pt x="1115999" y="4667288"/>
                    </a:lnTo>
                    <a:lnTo>
                      <a:pt x="1115999" y="4679988"/>
                    </a:lnTo>
                    <a:lnTo>
                      <a:pt x="1187996" y="4679988"/>
                    </a:lnTo>
                    <a:lnTo>
                      <a:pt x="1187996" y="4667288"/>
                    </a:lnTo>
                    <a:close/>
                  </a:path>
                  <a:path w="7740015" h="4680585">
                    <a:moveTo>
                      <a:pt x="1044003" y="4667288"/>
                    </a:moveTo>
                    <a:lnTo>
                      <a:pt x="972007" y="4667288"/>
                    </a:lnTo>
                    <a:lnTo>
                      <a:pt x="972007" y="4679988"/>
                    </a:lnTo>
                    <a:lnTo>
                      <a:pt x="1044003" y="4679988"/>
                    </a:lnTo>
                    <a:lnTo>
                      <a:pt x="1044003" y="4667288"/>
                    </a:lnTo>
                    <a:close/>
                  </a:path>
                  <a:path w="7740015" h="4680585">
                    <a:moveTo>
                      <a:pt x="900010" y="4667288"/>
                    </a:moveTo>
                    <a:lnTo>
                      <a:pt x="828014" y="4667288"/>
                    </a:lnTo>
                    <a:lnTo>
                      <a:pt x="828014" y="4679988"/>
                    </a:lnTo>
                    <a:lnTo>
                      <a:pt x="900010" y="4679988"/>
                    </a:lnTo>
                    <a:lnTo>
                      <a:pt x="900010" y="4667288"/>
                    </a:lnTo>
                    <a:close/>
                  </a:path>
                  <a:path w="7740015" h="4680585">
                    <a:moveTo>
                      <a:pt x="756005" y="4667288"/>
                    </a:moveTo>
                    <a:lnTo>
                      <a:pt x="684009" y="4667288"/>
                    </a:lnTo>
                    <a:lnTo>
                      <a:pt x="684009" y="4679988"/>
                    </a:lnTo>
                    <a:lnTo>
                      <a:pt x="756005" y="4679988"/>
                    </a:lnTo>
                    <a:lnTo>
                      <a:pt x="756005" y="4667288"/>
                    </a:lnTo>
                    <a:close/>
                  </a:path>
                  <a:path w="7740015" h="4680585">
                    <a:moveTo>
                      <a:pt x="612000" y="4667288"/>
                    </a:moveTo>
                    <a:lnTo>
                      <a:pt x="540004" y="4667288"/>
                    </a:lnTo>
                    <a:lnTo>
                      <a:pt x="540004" y="4679988"/>
                    </a:lnTo>
                    <a:lnTo>
                      <a:pt x="612000" y="4679988"/>
                    </a:lnTo>
                    <a:lnTo>
                      <a:pt x="612000" y="4667288"/>
                    </a:lnTo>
                    <a:close/>
                  </a:path>
                  <a:path w="7740015" h="4680585">
                    <a:moveTo>
                      <a:pt x="467994" y="4667288"/>
                    </a:moveTo>
                    <a:lnTo>
                      <a:pt x="395998" y="4667288"/>
                    </a:lnTo>
                    <a:lnTo>
                      <a:pt x="395998" y="4679988"/>
                    </a:lnTo>
                    <a:lnTo>
                      <a:pt x="467994" y="4679988"/>
                    </a:lnTo>
                    <a:lnTo>
                      <a:pt x="467994" y="4667288"/>
                    </a:lnTo>
                    <a:close/>
                  </a:path>
                  <a:path w="7740015" h="4680585">
                    <a:moveTo>
                      <a:pt x="324002" y="4667288"/>
                    </a:moveTo>
                    <a:lnTo>
                      <a:pt x="252006" y="4667288"/>
                    </a:lnTo>
                    <a:lnTo>
                      <a:pt x="252006" y="4679988"/>
                    </a:lnTo>
                    <a:lnTo>
                      <a:pt x="324002" y="4679988"/>
                    </a:lnTo>
                    <a:lnTo>
                      <a:pt x="324002" y="4667288"/>
                    </a:lnTo>
                    <a:close/>
                  </a:path>
                  <a:path w="7740015" h="4680585">
                    <a:moveTo>
                      <a:pt x="179997" y="4667288"/>
                    </a:moveTo>
                    <a:lnTo>
                      <a:pt x="108000" y="4667288"/>
                    </a:lnTo>
                    <a:lnTo>
                      <a:pt x="108000" y="4679988"/>
                    </a:lnTo>
                    <a:lnTo>
                      <a:pt x="179997" y="4679988"/>
                    </a:lnTo>
                    <a:lnTo>
                      <a:pt x="179997" y="4667288"/>
                    </a:lnTo>
                    <a:close/>
                  </a:path>
                  <a:path w="7740015" h="4680585">
                    <a:moveTo>
                      <a:pt x="12700" y="4643983"/>
                    </a:moveTo>
                    <a:lnTo>
                      <a:pt x="0" y="4643983"/>
                    </a:lnTo>
                    <a:lnTo>
                      <a:pt x="0" y="4679988"/>
                    </a:lnTo>
                    <a:lnTo>
                      <a:pt x="36004" y="4679988"/>
                    </a:lnTo>
                    <a:lnTo>
                      <a:pt x="36004" y="4667288"/>
                    </a:lnTo>
                    <a:lnTo>
                      <a:pt x="12700" y="4667288"/>
                    </a:lnTo>
                    <a:lnTo>
                      <a:pt x="12700" y="4643983"/>
                    </a:lnTo>
                    <a:close/>
                  </a:path>
                  <a:path w="7740015" h="4680585">
                    <a:moveTo>
                      <a:pt x="12700" y="4499991"/>
                    </a:moveTo>
                    <a:lnTo>
                      <a:pt x="0" y="4499991"/>
                    </a:lnTo>
                    <a:lnTo>
                      <a:pt x="0" y="4572000"/>
                    </a:lnTo>
                    <a:lnTo>
                      <a:pt x="12700" y="4572000"/>
                    </a:lnTo>
                    <a:lnTo>
                      <a:pt x="12700" y="4499991"/>
                    </a:lnTo>
                    <a:close/>
                  </a:path>
                  <a:path w="7740015" h="4680585">
                    <a:moveTo>
                      <a:pt x="12700" y="4355998"/>
                    </a:moveTo>
                    <a:lnTo>
                      <a:pt x="0" y="4355998"/>
                    </a:lnTo>
                    <a:lnTo>
                      <a:pt x="0" y="4427994"/>
                    </a:lnTo>
                    <a:lnTo>
                      <a:pt x="12700" y="4427994"/>
                    </a:lnTo>
                    <a:lnTo>
                      <a:pt x="12700" y="4355998"/>
                    </a:lnTo>
                    <a:close/>
                  </a:path>
                  <a:path w="7740015" h="4680585">
                    <a:moveTo>
                      <a:pt x="12700" y="4211993"/>
                    </a:moveTo>
                    <a:lnTo>
                      <a:pt x="0" y="4211993"/>
                    </a:lnTo>
                    <a:lnTo>
                      <a:pt x="0" y="4283989"/>
                    </a:lnTo>
                    <a:lnTo>
                      <a:pt x="12700" y="4283989"/>
                    </a:lnTo>
                    <a:lnTo>
                      <a:pt x="12700" y="4211993"/>
                    </a:lnTo>
                    <a:close/>
                  </a:path>
                  <a:path w="7740015" h="4680585">
                    <a:moveTo>
                      <a:pt x="12700" y="4067987"/>
                    </a:moveTo>
                    <a:lnTo>
                      <a:pt x="0" y="4067987"/>
                    </a:lnTo>
                    <a:lnTo>
                      <a:pt x="0" y="4139984"/>
                    </a:lnTo>
                    <a:lnTo>
                      <a:pt x="12700" y="4139984"/>
                    </a:lnTo>
                    <a:lnTo>
                      <a:pt x="12700" y="4067987"/>
                    </a:lnTo>
                    <a:close/>
                  </a:path>
                  <a:path w="7740015" h="4680585">
                    <a:moveTo>
                      <a:pt x="12700" y="3923982"/>
                    </a:moveTo>
                    <a:lnTo>
                      <a:pt x="0" y="3923982"/>
                    </a:lnTo>
                    <a:lnTo>
                      <a:pt x="0" y="3995991"/>
                    </a:lnTo>
                    <a:lnTo>
                      <a:pt x="12700" y="3995991"/>
                    </a:lnTo>
                    <a:lnTo>
                      <a:pt x="12700" y="3923982"/>
                    </a:lnTo>
                    <a:close/>
                  </a:path>
                  <a:path w="7740015" h="4680585">
                    <a:moveTo>
                      <a:pt x="12700" y="3779989"/>
                    </a:moveTo>
                    <a:lnTo>
                      <a:pt x="0" y="3779989"/>
                    </a:lnTo>
                    <a:lnTo>
                      <a:pt x="0" y="3851986"/>
                    </a:lnTo>
                    <a:lnTo>
                      <a:pt x="12700" y="3851986"/>
                    </a:lnTo>
                    <a:lnTo>
                      <a:pt x="12700" y="3779989"/>
                    </a:lnTo>
                    <a:close/>
                  </a:path>
                  <a:path w="7740015" h="4680585">
                    <a:moveTo>
                      <a:pt x="12700" y="3635984"/>
                    </a:moveTo>
                    <a:lnTo>
                      <a:pt x="0" y="3635984"/>
                    </a:lnTo>
                    <a:lnTo>
                      <a:pt x="0" y="3707980"/>
                    </a:lnTo>
                    <a:lnTo>
                      <a:pt x="12700" y="3707980"/>
                    </a:lnTo>
                    <a:lnTo>
                      <a:pt x="12700" y="3635984"/>
                    </a:lnTo>
                    <a:close/>
                  </a:path>
                  <a:path w="7740015" h="4680585">
                    <a:moveTo>
                      <a:pt x="12700" y="3491979"/>
                    </a:moveTo>
                    <a:lnTo>
                      <a:pt x="0" y="3491979"/>
                    </a:lnTo>
                    <a:lnTo>
                      <a:pt x="0" y="3563988"/>
                    </a:lnTo>
                    <a:lnTo>
                      <a:pt x="12700" y="3563988"/>
                    </a:lnTo>
                    <a:lnTo>
                      <a:pt x="12700" y="3491979"/>
                    </a:lnTo>
                    <a:close/>
                  </a:path>
                  <a:path w="7740015" h="4680585">
                    <a:moveTo>
                      <a:pt x="12700" y="3347999"/>
                    </a:moveTo>
                    <a:lnTo>
                      <a:pt x="0" y="3347999"/>
                    </a:lnTo>
                    <a:lnTo>
                      <a:pt x="0" y="3419995"/>
                    </a:lnTo>
                    <a:lnTo>
                      <a:pt x="12700" y="3419995"/>
                    </a:lnTo>
                    <a:lnTo>
                      <a:pt x="12700" y="3347999"/>
                    </a:lnTo>
                    <a:close/>
                  </a:path>
                  <a:path w="7740015" h="4680585">
                    <a:moveTo>
                      <a:pt x="12700" y="3203994"/>
                    </a:moveTo>
                    <a:lnTo>
                      <a:pt x="0" y="3203994"/>
                    </a:lnTo>
                    <a:lnTo>
                      <a:pt x="0" y="3275990"/>
                    </a:lnTo>
                    <a:lnTo>
                      <a:pt x="12700" y="3275990"/>
                    </a:lnTo>
                    <a:lnTo>
                      <a:pt x="12700" y="3203994"/>
                    </a:lnTo>
                    <a:close/>
                  </a:path>
                  <a:path w="7740015" h="4680585">
                    <a:moveTo>
                      <a:pt x="12700" y="3059988"/>
                    </a:moveTo>
                    <a:lnTo>
                      <a:pt x="0" y="3059988"/>
                    </a:lnTo>
                    <a:lnTo>
                      <a:pt x="0" y="3131985"/>
                    </a:lnTo>
                    <a:lnTo>
                      <a:pt x="12700" y="3131985"/>
                    </a:lnTo>
                    <a:lnTo>
                      <a:pt x="12700" y="3059988"/>
                    </a:lnTo>
                    <a:close/>
                  </a:path>
                  <a:path w="7740015" h="4680585">
                    <a:moveTo>
                      <a:pt x="12700" y="2915983"/>
                    </a:moveTo>
                    <a:lnTo>
                      <a:pt x="0" y="2915983"/>
                    </a:lnTo>
                    <a:lnTo>
                      <a:pt x="0" y="2987992"/>
                    </a:lnTo>
                    <a:lnTo>
                      <a:pt x="12700" y="2987992"/>
                    </a:lnTo>
                    <a:lnTo>
                      <a:pt x="12700" y="2915983"/>
                    </a:lnTo>
                    <a:close/>
                  </a:path>
                  <a:path w="7740015" h="4680585">
                    <a:moveTo>
                      <a:pt x="12700" y="2771990"/>
                    </a:moveTo>
                    <a:lnTo>
                      <a:pt x="0" y="2771990"/>
                    </a:lnTo>
                    <a:lnTo>
                      <a:pt x="0" y="2843987"/>
                    </a:lnTo>
                    <a:lnTo>
                      <a:pt x="12700" y="2843987"/>
                    </a:lnTo>
                    <a:lnTo>
                      <a:pt x="12700" y="2771990"/>
                    </a:lnTo>
                    <a:close/>
                  </a:path>
                  <a:path w="7740015" h="4680585">
                    <a:moveTo>
                      <a:pt x="12700" y="2627985"/>
                    </a:moveTo>
                    <a:lnTo>
                      <a:pt x="0" y="2627985"/>
                    </a:lnTo>
                    <a:lnTo>
                      <a:pt x="0" y="2699981"/>
                    </a:lnTo>
                    <a:lnTo>
                      <a:pt x="12700" y="2699981"/>
                    </a:lnTo>
                    <a:lnTo>
                      <a:pt x="12700" y="2627985"/>
                    </a:lnTo>
                    <a:close/>
                  </a:path>
                  <a:path w="7740015" h="4680585">
                    <a:moveTo>
                      <a:pt x="12700" y="2483980"/>
                    </a:moveTo>
                    <a:lnTo>
                      <a:pt x="0" y="2483980"/>
                    </a:lnTo>
                    <a:lnTo>
                      <a:pt x="0" y="2555989"/>
                    </a:lnTo>
                    <a:lnTo>
                      <a:pt x="12700" y="2555989"/>
                    </a:lnTo>
                    <a:lnTo>
                      <a:pt x="12700" y="2483980"/>
                    </a:lnTo>
                    <a:close/>
                  </a:path>
                  <a:path w="7740015" h="4680585">
                    <a:moveTo>
                      <a:pt x="12700" y="2339987"/>
                    </a:moveTo>
                    <a:lnTo>
                      <a:pt x="0" y="2339987"/>
                    </a:lnTo>
                    <a:lnTo>
                      <a:pt x="0" y="2411984"/>
                    </a:lnTo>
                    <a:lnTo>
                      <a:pt x="12700" y="2411984"/>
                    </a:lnTo>
                    <a:lnTo>
                      <a:pt x="12700" y="2339987"/>
                    </a:lnTo>
                    <a:close/>
                  </a:path>
                  <a:path w="7740015" h="4680585">
                    <a:moveTo>
                      <a:pt x="12700" y="2195995"/>
                    </a:moveTo>
                    <a:lnTo>
                      <a:pt x="0" y="2195995"/>
                    </a:lnTo>
                    <a:lnTo>
                      <a:pt x="0" y="2267991"/>
                    </a:lnTo>
                    <a:lnTo>
                      <a:pt x="12700" y="2267991"/>
                    </a:lnTo>
                    <a:lnTo>
                      <a:pt x="12700" y="2195995"/>
                    </a:lnTo>
                    <a:close/>
                  </a:path>
                  <a:path w="7740015" h="4680585">
                    <a:moveTo>
                      <a:pt x="12700" y="2051989"/>
                    </a:moveTo>
                    <a:lnTo>
                      <a:pt x="0" y="2051989"/>
                    </a:lnTo>
                    <a:lnTo>
                      <a:pt x="0" y="2123986"/>
                    </a:lnTo>
                    <a:lnTo>
                      <a:pt x="12700" y="2123986"/>
                    </a:lnTo>
                    <a:lnTo>
                      <a:pt x="12700" y="2051989"/>
                    </a:lnTo>
                    <a:close/>
                  </a:path>
                  <a:path w="7740015" h="4680585">
                    <a:moveTo>
                      <a:pt x="12700" y="1907984"/>
                    </a:moveTo>
                    <a:lnTo>
                      <a:pt x="0" y="1907984"/>
                    </a:lnTo>
                    <a:lnTo>
                      <a:pt x="0" y="1979980"/>
                    </a:lnTo>
                    <a:lnTo>
                      <a:pt x="12700" y="1979980"/>
                    </a:lnTo>
                    <a:lnTo>
                      <a:pt x="12700" y="1907984"/>
                    </a:lnTo>
                    <a:close/>
                  </a:path>
                  <a:path w="7740015" h="4680585">
                    <a:moveTo>
                      <a:pt x="12700" y="1763979"/>
                    </a:moveTo>
                    <a:lnTo>
                      <a:pt x="0" y="1763979"/>
                    </a:lnTo>
                    <a:lnTo>
                      <a:pt x="0" y="1835975"/>
                    </a:lnTo>
                    <a:lnTo>
                      <a:pt x="12700" y="1835975"/>
                    </a:lnTo>
                    <a:lnTo>
                      <a:pt x="12700" y="1763979"/>
                    </a:lnTo>
                    <a:close/>
                  </a:path>
                  <a:path w="7740015" h="4680585">
                    <a:moveTo>
                      <a:pt x="12700" y="1619986"/>
                    </a:moveTo>
                    <a:lnTo>
                      <a:pt x="0" y="1619986"/>
                    </a:lnTo>
                    <a:lnTo>
                      <a:pt x="0" y="1691982"/>
                    </a:lnTo>
                    <a:lnTo>
                      <a:pt x="12700" y="1691982"/>
                    </a:lnTo>
                    <a:lnTo>
                      <a:pt x="12700" y="1619986"/>
                    </a:lnTo>
                    <a:close/>
                  </a:path>
                  <a:path w="7740015" h="4680585">
                    <a:moveTo>
                      <a:pt x="12700" y="1475994"/>
                    </a:moveTo>
                    <a:lnTo>
                      <a:pt x="0" y="1475994"/>
                    </a:lnTo>
                    <a:lnTo>
                      <a:pt x="0" y="1547990"/>
                    </a:lnTo>
                    <a:lnTo>
                      <a:pt x="12700" y="1547990"/>
                    </a:lnTo>
                    <a:lnTo>
                      <a:pt x="12700" y="1475994"/>
                    </a:lnTo>
                    <a:close/>
                  </a:path>
                  <a:path w="7740015" h="4680585">
                    <a:moveTo>
                      <a:pt x="12700" y="1331988"/>
                    </a:moveTo>
                    <a:lnTo>
                      <a:pt x="0" y="1331988"/>
                    </a:lnTo>
                    <a:lnTo>
                      <a:pt x="0" y="1403985"/>
                    </a:lnTo>
                    <a:lnTo>
                      <a:pt x="12700" y="1403985"/>
                    </a:lnTo>
                    <a:lnTo>
                      <a:pt x="12700" y="1331988"/>
                    </a:lnTo>
                    <a:close/>
                  </a:path>
                  <a:path w="7740015" h="4680585">
                    <a:moveTo>
                      <a:pt x="12700" y="1187983"/>
                    </a:moveTo>
                    <a:lnTo>
                      <a:pt x="0" y="1187983"/>
                    </a:lnTo>
                    <a:lnTo>
                      <a:pt x="0" y="1259979"/>
                    </a:lnTo>
                    <a:lnTo>
                      <a:pt x="12700" y="1259979"/>
                    </a:lnTo>
                    <a:lnTo>
                      <a:pt x="12700" y="1187983"/>
                    </a:lnTo>
                    <a:close/>
                  </a:path>
                  <a:path w="7740015" h="4680585">
                    <a:moveTo>
                      <a:pt x="12700" y="1043990"/>
                    </a:moveTo>
                    <a:lnTo>
                      <a:pt x="0" y="1043990"/>
                    </a:lnTo>
                    <a:lnTo>
                      <a:pt x="0" y="1115987"/>
                    </a:lnTo>
                    <a:lnTo>
                      <a:pt x="12700" y="1115987"/>
                    </a:lnTo>
                    <a:lnTo>
                      <a:pt x="12700" y="1043990"/>
                    </a:lnTo>
                    <a:close/>
                  </a:path>
                  <a:path w="7740015" h="4680585">
                    <a:moveTo>
                      <a:pt x="12700" y="899985"/>
                    </a:moveTo>
                    <a:lnTo>
                      <a:pt x="0" y="899985"/>
                    </a:lnTo>
                    <a:lnTo>
                      <a:pt x="0" y="971981"/>
                    </a:lnTo>
                    <a:lnTo>
                      <a:pt x="12700" y="971981"/>
                    </a:lnTo>
                    <a:lnTo>
                      <a:pt x="12700" y="899985"/>
                    </a:lnTo>
                    <a:close/>
                  </a:path>
                  <a:path w="7740015" h="4680585">
                    <a:moveTo>
                      <a:pt x="12700" y="755992"/>
                    </a:moveTo>
                    <a:lnTo>
                      <a:pt x="0" y="755992"/>
                    </a:lnTo>
                    <a:lnTo>
                      <a:pt x="0" y="827989"/>
                    </a:lnTo>
                    <a:lnTo>
                      <a:pt x="12700" y="827989"/>
                    </a:lnTo>
                    <a:lnTo>
                      <a:pt x="12700" y="755992"/>
                    </a:lnTo>
                    <a:close/>
                  </a:path>
                  <a:path w="7740015" h="4680585">
                    <a:moveTo>
                      <a:pt x="12700" y="611987"/>
                    </a:moveTo>
                    <a:lnTo>
                      <a:pt x="0" y="611987"/>
                    </a:lnTo>
                    <a:lnTo>
                      <a:pt x="0" y="683983"/>
                    </a:lnTo>
                    <a:lnTo>
                      <a:pt x="12700" y="683983"/>
                    </a:lnTo>
                    <a:lnTo>
                      <a:pt x="12700" y="611987"/>
                    </a:lnTo>
                    <a:close/>
                  </a:path>
                  <a:path w="7740015" h="4680585">
                    <a:moveTo>
                      <a:pt x="12700" y="467995"/>
                    </a:moveTo>
                    <a:lnTo>
                      <a:pt x="0" y="467995"/>
                    </a:lnTo>
                    <a:lnTo>
                      <a:pt x="0" y="539991"/>
                    </a:lnTo>
                    <a:lnTo>
                      <a:pt x="12700" y="539991"/>
                    </a:lnTo>
                    <a:lnTo>
                      <a:pt x="12700" y="467995"/>
                    </a:lnTo>
                    <a:close/>
                  </a:path>
                  <a:path w="7740015" h="4680585">
                    <a:moveTo>
                      <a:pt x="12700" y="323989"/>
                    </a:moveTo>
                    <a:lnTo>
                      <a:pt x="0" y="323989"/>
                    </a:lnTo>
                    <a:lnTo>
                      <a:pt x="0" y="395986"/>
                    </a:lnTo>
                    <a:lnTo>
                      <a:pt x="12700" y="395986"/>
                    </a:lnTo>
                    <a:lnTo>
                      <a:pt x="12700" y="323989"/>
                    </a:lnTo>
                    <a:close/>
                  </a:path>
                  <a:path w="7740015" h="4680585">
                    <a:moveTo>
                      <a:pt x="12700" y="179984"/>
                    </a:moveTo>
                    <a:lnTo>
                      <a:pt x="0" y="179984"/>
                    </a:lnTo>
                    <a:lnTo>
                      <a:pt x="0" y="251980"/>
                    </a:lnTo>
                    <a:lnTo>
                      <a:pt x="12700" y="251980"/>
                    </a:lnTo>
                    <a:lnTo>
                      <a:pt x="12700" y="179984"/>
                    </a:lnTo>
                    <a:close/>
                  </a:path>
                  <a:path w="7740015" h="4680585">
                    <a:moveTo>
                      <a:pt x="12700" y="35979"/>
                    </a:moveTo>
                    <a:lnTo>
                      <a:pt x="0" y="35979"/>
                    </a:lnTo>
                    <a:lnTo>
                      <a:pt x="0" y="107975"/>
                    </a:lnTo>
                    <a:lnTo>
                      <a:pt x="12700" y="107975"/>
                    </a:lnTo>
                    <a:lnTo>
                      <a:pt x="12700" y="35979"/>
                    </a:lnTo>
                    <a:close/>
                  </a:path>
                  <a:path w="7740015" h="4680585">
                    <a:moveTo>
                      <a:pt x="108013" y="0"/>
                    </a:moveTo>
                    <a:lnTo>
                      <a:pt x="36017" y="0"/>
                    </a:lnTo>
                    <a:lnTo>
                      <a:pt x="36017" y="12700"/>
                    </a:lnTo>
                    <a:lnTo>
                      <a:pt x="108013" y="12700"/>
                    </a:lnTo>
                    <a:lnTo>
                      <a:pt x="108013" y="0"/>
                    </a:lnTo>
                    <a:close/>
                  </a:path>
                  <a:path w="7740015" h="4680585">
                    <a:moveTo>
                      <a:pt x="252006" y="0"/>
                    </a:moveTo>
                    <a:lnTo>
                      <a:pt x="180009" y="0"/>
                    </a:lnTo>
                    <a:lnTo>
                      <a:pt x="180009" y="12700"/>
                    </a:lnTo>
                    <a:lnTo>
                      <a:pt x="252006" y="12700"/>
                    </a:lnTo>
                    <a:lnTo>
                      <a:pt x="252006" y="0"/>
                    </a:lnTo>
                    <a:close/>
                  </a:path>
                  <a:path w="7740015" h="4680585">
                    <a:moveTo>
                      <a:pt x="396011" y="0"/>
                    </a:moveTo>
                    <a:lnTo>
                      <a:pt x="324015" y="0"/>
                    </a:lnTo>
                    <a:lnTo>
                      <a:pt x="324015" y="12700"/>
                    </a:lnTo>
                    <a:lnTo>
                      <a:pt x="396011" y="12700"/>
                    </a:lnTo>
                    <a:lnTo>
                      <a:pt x="396011" y="0"/>
                    </a:lnTo>
                    <a:close/>
                  </a:path>
                  <a:path w="7740015" h="4680585">
                    <a:moveTo>
                      <a:pt x="540004" y="0"/>
                    </a:moveTo>
                    <a:lnTo>
                      <a:pt x="468007" y="0"/>
                    </a:lnTo>
                    <a:lnTo>
                      <a:pt x="468007" y="12700"/>
                    </a:lnTo>
                    <a:lnTo>
                      <a:pt x="540004" y="12700"/>
                    </a:lnTo>
                    <a:lnTo>
                      <a:pt x="540004" y="0"/>
                    </a:lnTo>
                    <a:close/>
                  </a:path>
                  <a:path w="7740015" h="4680585">
                    <a:moveTo>
                      <a:pt x="684009" y="0"/>
                    </a:moveTo>
                    <a:lnTo>
                      <a:pt x="612012" y="0"/>
                    </a:lnTo>
                    <a:lnTo>
                      <a:pt x="612012" y="12700"/>
                    </a:lnTo>
                    <a:lnTo>
                      <a:pt x="684009" y="12700"/>
                    </a:lnTo>
                    <a:lnTo>
                      <a:pt x="684009" y="0"/>
                    </a:lnTo>
                    <a:close/>
                  </a:path>
                  <a:path w="7740015" h="4680585">
                    <a:moveTo>
                      <a:pt x="828014" y="0"/>
                    </a:moveTo>
                    <a:lnTo>
                      <a:pt x="756018" y="0"/>
                    </a:lnTo>
                    <a:lnTo>
                      <a:pt x="756018" y="12700"/>
                    </a:lnTo>
                    <a:lnTo>
                      <a:pt x="828014" y="12700"/>
                    </a:lnTo>
                    <a:lnTo>
                      <a:pt x="828014" y="0"/>
                    </a:lnTo>
                    <a:close/>
                  </a:path>
                  <a:path w="7740015" h="4680585">
                    <a:moveTo>
                      <a:pt x="972007" y="0"/>
                    </a:moveTo>
                    <a:lnTo>
                      <a:pt x="900010" y="0"/>
                    </a:lnTo>
                    <a:lnTo>
                      <a:pt x="900010" y="12700"/>
                    </a:lnTo>
                    <a:lnTo>
                      <a:pt x="972007" y="12700"/>
                    </a:lnTo>
                    <a:lnTo>
                      <a:pt x="972007" y="0"/>
                    </a:lnTo>
                    <a:close/>
                  </a:path>
                  <a:path w="7740015" h="4680585">
                    <a:moveTo>
                      <a:pt x="1116012" y="0"/>
                    </a:moveTo>
                    <a:lnTo>
                      <a:pt x="1044016" y="0"/>
                    </a:lnTo>
                    <a:lnTo>
                      <a:pt x="1044016" y="12700"/>
                    </a:lnTo>
                    <a:lnTo>
                      <a:pt x="1116012" y="12700"/>
                    </a:lnTo>
                    <a:lnTo>
                      <a:pt x="1116012" y="0"/>
                    </a:lnTo>
                    <a:close/>
                  </a:path>
                  <a:path w="7740015" h="4680585">
                    <a:moveTo>
                      <a:pt x="1260005" y="0"/>
                    </a:moveTo>
                    <a:lnTo>
                      <a:pt x="1188008" y="0"/>
                    </a:lnTo>
                    <a:lnTo>
                      <a:pt x="1188008" y="12700"/>
                    </a:lnTo>
                    <a:lnTo>
                      <a:pt x="1260005" y="12700"/>
                    </a:lnTo>
                    <a:lnTo>
                      <a:pt x="1260005" y="0"/>
                    </a:lnTo>
                    <a:close/>
                  </a:path>
                  <a:path w="7740015" h="4680585">
                    <a:moveTo>
                      <a:pt x="1404010" y="0"/>
                    </a:moveTo>
                    <a:lnTo>
                      <a:pt x="1332014" y="0"/>
                    </a:lnTo>
                    <a:lnTo>
                      <a:pt x="1332014" y="12700"/>
                    </a:lnTo>
                    <a:lnTo>
                      <a:pt x="1404010" y="12700"/>
                    </a:lnTo>
                    <a:lnTo>
                      <a:pt x="1404010" y="0"/>
                    </a:lnTo>
                    <a:close/>
                  </a:path>
                  <a:path w="7740015" h="4680585">
                    <a:moveTo>
                      <a:pt x="1548002" y="0"/>
                    </a:moveTo>
                    <a:lnTo>
                      <a:pt x="1476006" y="0"/>
                    </a:lnTo>
                    <a:lnTo>
                      <a:pt x="1476006" y="12700"/>
                    </a:lnTo>
                    <a:lnTo>
                      <a:pt x="1548002" y="12700"/>
                    </a:lnTo>
                    <a:lnTo>
                      <a:pt x="1548002" y="0"/>
                    </a:lnTo>
                    <a:close/>
                  </a:path>
                  <a:path w="7740015" h="4680585">
                    <a:moveTo>
                      <a:pt x="1692008" y="0"/>
                    </a:moveTo>
                    <a:lnTo>
                      <a:pt x="1620011" y="0"/>
                    </a:lnTo>
                    <a:lnTo>
                      <a:pt x="1620011" y="12700"/>
                    </a:lnTo>
                    <a:lnTo>
                      <a:pt x="1692008" y="12700"/>
                    </a:lnTo>
                    <a:lnTo>
                      <a:pt x="1692008" y="0"/>
                    </a:lnTo>
                    <a:close/>
                  </a:path>
                  <a:path w="7740015" h="4680585">
                    <a:moveTo>
                      <a:pt x="1836013" y="0"/>
                    </a:moveTo>
                    <a:lnTo>
                      <a:pt x="1764017" y="0"/>
                    </a:lnTo>
                    <a:lnTo>
                      <a:pt x="1764017" y="12700"/>
                    </a:lnTo>
                    <a:lnTo>
                      <a:pt x="1836013" y="12700"/>
                    </a:lnTo>
                    <a:lnTo>
                      <a:pt x="1836013" y="0"/>
                    </a:lnTo>
                    <a:close/>
                  </a:path>
                  <a:path w="7740015" h="4680585">
                    <a:moveTo>
                      <a:pt x="1980006" y="0"/>
                    </a:moveTo>
                    <a:lnTo>
                      <a:pt x="1908009" y="0"/>
                    </a:lnTo>
                    <a:lnTo>
                      <a:pt x="1908009" y="12700"/>
                    </a:lnTo>
                    <a:lnTo>
                      <a:pt x="1980006" y="12700"/>
                    </a:lnTo>
                    <a:lnTo>
                      <a:pt x="1980006" y="0"/>
                    </a:lnTo>
                    <a:close/>
                  </a:path>
                  <a:path w="7740015" h="4680585">
                    <a:moveTo>
                      <a:pt x="2124011" y="0"/>
                    </a:moveTo>
                    <a:lnTo>
                      <a:pt x="2052015" y="0"/>
                    </a:lnTo>
                    <a:lnTo>
                      <a:pt x="2052015" y="12700"/>
                    </a:lnTo>
                    <a:lnTo>
                      <a:pt x="2124011" y="12700"/>
                    </a:lnTo>
                    <a:lnTo>
                      <a:pt x="2124011" y="0"/>
                    </a:lnTo>
                    <a:close/>
                  </a:path>
                  <a:path w="7740015" h="4680585">
                    <a:moveTo>
                      <a:pt x="2268004" y="0"/>
                    </a:moveTo>
                    <a:lnTo>
                      <a:pt x="2196007" y="0"/>
                    </a:lnTo>
                    <a:lnTo>
                      <a:pt x="2196007" y="12700"/>
                    </a:lnTo>
                    <a:lnTo>
                      <a:pt x="2268004" y="12700"/>
                    </a:lnTo>
                    <a:lnTo>
                      <a:pt x="2268004" y="0"/>
                    </a:lnTo>
                    <a:close/>
                  </a:path>
                  <a:path w="7740015" h="4680585">
                    <a:moveTo>
                      <a:pt x="2412009" y="0"/>
                    </a:moveTo>
                    <a:lnTo>
                      <a:pt x="2340013" y="0"/>
                    </a:lnTo>
                    <a:lnTo>
                      <a:pt x="2340013" y="12700"/>
                    </a:lnTo>
                    <a:lnTo>
                      <a:pt x="2412009" y="12700"/>
                    </a:lnTo>
                    <a:lnTo>
                      <a:pt x="2412009" y="0"/>
                    </a:lnTo>
                    <a:close/>
                  </a:path>
                  <a:path w="7740015" h="4680585">
                    <a:moveTo>
                      <a:pt x="2556014" y="0"/>
                    </a:moveTo>
                    <a:lnTo>
                      <a:pt x="2484018" y="0"/>
                    </a:lnTo>
                    <a:lnTo>
                      <a:pt x="2484018" y="12700"/>
                    </a:lnTo>
                    <a:lnTo>
                      <a:pt x="2556014" y="12700"/>
                    </a:lnTo>
                    <a:lnTo>
                      <a:pt x="2556014" y="0"/>
                    </a:lnTo>
                    <a:close/>
                  </a:path>
                  <a:path w="7740015" h="4680585">
                    <a:moveTo>
                      <a:pt x="2700007" y="0"/>
                    </a:moveTo>
                    <a:lnTo>
                      <a:pt x="2628011" y="0"/>
                    </a:lnTo>
                    <a:lnTo>
                      <a:pt x="2628011" y="12700"/>
                    </a:lnTo>
                    <a:lnTo>
                      <a:pt x="2700007" y="12700"/>
                    </a:lnTo>
                    <a:lnTo>
                      <a:pt x="2700007" y="0"/>
                    </a:lnTo>
                    <a:close/>
                  </a:path>
                  <a:path w="7740015" h="4680585">
                    <a:moveTo>
                      <a:pt x="2844012" y="0"/>
                    </a:moveTo>
                    <a:lnTo>
                      <a:pt x="2772016" y="0"/>
                    </a:lnTo>
                    <a:lnTo>
                      <a:pt x="2772016" y="12700"/>
                    </a:lnTo>
                    <a:lnTo>
                      <a:pt x="2844012" y="12700"/>
                    </a:lnTo>
                    <a:lnTo>
                      <a:pt x="2844012" y="0"/>
                    </a:lnTo>
                    <a:close/>
                  </a:path>
                  <a:path w="7740015" h="4680585">
                    <a:moveTo>
                      <a:pt x="2988005" y="0"/>
                    </a:moveTo>
                    <a:lnTo>
                      <a:pt x="2916008" y="0"/>
                    </a:lnTo>
                    <a:lnTo>
                      <a:pt x="2916008" y="12700"/>
                    </a:lnTo>
                    <a:lnTo>
                      <a:pt x="2988005" y="12700"/>
                    </a:lnTo>
                    <a:lnTo>
                      <a:pt x="2988005" y="0"/>
                    </a:lnTo>
                    <a:close/>
                  </a:path>
                  <a:path w="7740015" h="4680585">
                    <a:moveTo>
                      <a:pt x="3132010" y="0"/>
                    </a:moveTo>
                    <a:lnTo>
                      <a:pt x="3060014" y="0"/>
                    </a:lnTo>
                    <a:lnTo>
                      <a:pt x="3060014" y="12700"/>
                    </a:lnTo>
                    <a:lnTo>
                      <a:pt x="3132010" y="12700"/>
                    </a:lnTo>
                    <a:lnTo>
                      <a:pt x="3132010" y="0"/>
                    </a:lnTo>
                    <a:close/>
                  </a:path>
                  <a:path w="7740015" h="4680585">
                    <a:moveTo>
                      <a:pt x="3276003" y="0"/>
                    </a:moveTo>
                    <a:lnTo>
                      <a:pt x="3204006" y="0"/>
                    </a:lnTo>
                    <a:lnTo>
                      <a:pt x="3204006" y="12700"/>
                    </a:lnTo>
                    <a:lnTo>
                      <a:pt x="3276003" y="12700"/>
                    </a:lnTo>
                    <a:lnTo>
                      <a:pt x="3276003" y="0"/>
                    </a:lnTo>
                    <a:close/>
                  </a:path>
                  <a:path w="7740015" h="4680585">
                    <a:moveTo>
                      <a:pt x="3420008" y="0"/>
                    </a:moveTo>
                    <a:lnTo>
                      <a:pt x="3348012" y="0"/>
                    </a:lnTo>
                    <a:lnTo>
                      <a:pt x="3348012" y="12700"/>
                    </a:lnTo>
                    <a:lnTo>
                      <a:pt x="3420008" y="12700"/>
                    </a:lnTo>
                    <a:lnTo>
                      <a:pt x="3420008" y="0"/>
                    </a:lnTo>
                    <a:close/>
                  </a:path>
                  <a:path w="7740015" h="4680585">
                    <a:moveTo>
                      <a:pt x="3564013" y="0"/>
                    </a:moveTo>
                    <a:lnTo>
                      <a:pt x="3492017" y="0"/>
                    </a:lnTo>
                    <a:lnTo>
                      <a:pt x="3492017" y="12700"/>
                    </a:lnTo>
                    <a:lnTo>
                      <a:pt x="3564013" y="12700"/>
                    </a:lnTo>
                    <a:lnTo>
                      <a:pt x="3564013" y="0"/>
                    </a:lnTo>
                    <a:close/>
                  </a:path>
                  <a:path w="7740015" h="4680585">
                    <a:moveTo>
                      <a:pt x="3708006" y="0"/>
                    </a:moveTo>
                    <a:lnTo>
                      <a:pt x="3636010" y="0"/>
                    </a:lnTo>
                    <a:lnTo>
                      <a:pt x="3636010" y="12700"/>
                    </a:lnTo>
                    <a:lnTo>
                      <a:pt x="3708006" y="12700"/>
                    </a:lnTo>
                    <a:lnTo>
                      <a:pt x="3708006" y="0"/>
                    </a:lnTo>
                    <a:close/>
                  </a:path>
                  <a:path w="7740015" h="4680585">
                    <a:moveTo>
                      <a:pt x="3852011" y="0"/>
                    </a:moveTo>
                    <a:lnTo>
                      <a:pt x="3780015" y="0"/>
                    </a:lnTo>
                    <a:lnTo>
                      <a:pt x="3780015" y="12700"/>
                    </a:lnTo>
                    <a:lnTo>
                      <a:pt x="3852011" y="12700"/>
                    </a:lnTo>
                    <a:lnTo>
                      <a:pt x="3852011" y="0"/>
                    </a:lnTo>
                    <a:close/>
                  </a:path>
                  <a:path w="7740015" h="4680585">
                    <a:moveTo>
                      <a:pt x="3996004" y="0"/>
                    </a:moveTo>
                    <a:lnTo>
                      <a:pt x="3924007" y="0"/>
                    </a:lnTo>
                    <a:lnTo>
                      <a:pt x="3924007" y="12700"/>
                    </a:lnTo>
                    <a:lnTo>
                      <a:pt x="3996004" y="12700"/>
                    </a:lnTo>
                    <a:lnTo>
                      <a:pt x="3996004" y="0"/>
                    </a:lnTo>
                    <a:close/>
                  </a:path>
                  <a:path w="7740015" h="4680585">
                    <a:moveTo>
                      <a:pt x="4140009" y="0"/>
                    </a:moveTo>
                    <a:lnTo>
                      <a:pt x="4068000" y="0"/>
                    </a:lnTo>
                    <a:lnTo>
                      <a:pt x="4068000" y="12700"/>
                    </a:lnTo>
                    <a:lnTo>
                      <a:pt x="4140009" y="12700"/>
                    </a:lnTo>
                    <a:lnTo>
                      <a:pt x="4140009" y="0"/>
                    </a:lnTo>
                    <a:close/>
                  </a:path>
                  <a:path w="7740015" h="4680585">
                    <a:moveTo>
                      <a:pt x="4284002" y="0"/>
                    </a:moveTo>
                    <a:lnTo>
                      <a:pt x="4212005" y="0"/>
                    </a:lnTo>
                    <a:lnTo>
                      <a:pt x="4212005" y="12700"/>
                    </a:lnTo>
                    <a:lnTo>
                      <a:pt x="4284002" y="12700"/>
                    </a:lnTo>
                    <a:lnTo>
                      <a:pt x="4284002" y="0"/>
                    </a:lnTo>
                    <a:close/>
                  </a:path>
                  <a:path w="7740015" h="4680585">
                    <a:moveTo>
                      <a:pt x="4428007" y="0"/>
                    </a:moveTo>
                    <a:lnTo>
                      <a:pt x="4356011" y="0"/>
                    </a:lnTo>
                    <a:lnTo>
                      <a:pt x="4356011" y="12700"/>
                    </a:lnTo>
                    <a:lnTo>
                      <a:pt x="4428007" y="12700"/>
                    </a:lnTo>
                    <a:lnTo>
                      <a:pt x="4428007" y="0"/>
                    </a:lnTo>
                    <a:close/>
                  </a:path>
                  <a:path w="7740015" h="4680585">
                    <a:moveTo>
                      <a:pt x="4572012" y="0"/>
                    </a:moveTo>
                    <a:lnTo>
                      <a:pt x="4500016" y="0"/>
                    </a:lnTo>
                    <a:lnTo>
                      <a:pt x="4500016" y="12700"/>
                    </a:lnTo>
                    <a:lnTo>
                      <a:pt x="4572012" y="12700"/>
                    </a:lnTo>
                    <a:lnTo>
                      <a:pt x="4572012" y="0"/>
                    </a:lnTo>
                    <a:close/>
                  </a:path>
                  <a:path w="7740015" h="4680585">
                    <a:moveTo>
                      <a:pt x="4716018" y="0"/>
                    </a:moveTo>
                    <a:lnTo>
                      <a:pt x="4644008" y="0"/>
                    </a:lnTo>
                    <a:lnTo>
                      <a:pt x="4644008" y="12700"/>
                    </a:lnTo>
                    <a:lnTo>
                      <a:pt x="4716018" y="12700"/>
                    </a:lnTo>
                    <a:lnTo>
                      <a:pt x="4716018" y="0"/>
                    </a:lnTo>
                    <a:close/>
                  </a:path>
                  <a:path w="7740015" h="4680585">
                    <a:moveTo>
                      <a:pt x="4860010" y="0"/>
                    </a:moveTo>
                    <a:lnTo>
                      <a:pt x="4788014" y="0"/>
                    </a:lnTo>
                    <a:lnTo>
                      <a:pt x="4788014" y="12700"/>
                    </a:lnTo>
                    <a:lnTo>
                      <a:pt x="4860010" y="12700"/>
                    </a:lnTo>
                    <a:lnTo>
                      <a:pt x="4860010" y="0"/>
                    </a:lnTo>
                    <a:close/>
                  </a:path>
                  <a:path w="7740015" h="4680585">
                    <a:moveTo>
                      <a:pt x="5004003" y="0"/>
                    </a:moveTo>
                    <a:lnTo>
                      <a:pt x="4932006" y="0"/>
                    </a:lnTo>
                    <a:lnTo>
                      <a:pt x="4932006" y="12700"/>
                    </a:lnTo>
                    <a:lnTo>
                      <a:pt x="5004003" y="12700"/>
                    </a:lnTo>
                    <a:lnTo>
                      <a:pt x="5004003" y="0"/>
                    </a:lnTo>
                    <a:close/>
                  </a:path>
                  <a:path w="7740015" h="4680585">
                    <a:moveTo>
                      <a:pt x="5148008" y="0"/>
                    </a:moveTo>
                    <a:lnTo>
                      <a:pt x="5075999" y="0"/>
                    </a:lnTo>
                    <a:lnTo>
                      <a:pt x="5075999" y="12700"/>
                    </a:lnTo>
                    <a:lnTo>
                      <a:pt x="5148008" y="12700"/>
                    </a:lnTo>
                    <a:lnTo>
                      <a:pt x="5148008" y="0"/>
                    </a:lnTo>
                    <a:close/>
                  </a:path>
                  <a:path w="7740015" h="4680585">
                    <a:moveTo>
                      <a:pt x="5292001" y="0"/>
                    </a:moveTo>
                    <a:lnTo>
                      <a:pt x="5220004" y="0"/>
                    </a:lnTo>
                    <a:lnTo>
                      <a:pt x="5220004" y="12700"/>
                    </a:lnTo>
                    <a:lnTo>
                      <a:pt x="5292001" y="12700"/>
                    </a:lnTo>
                    <a:lnTo>
                      <a:pt x="5292001" y="0"/>
                    </a:lnTo>
                    <a:close/>
                  </a:path>
                  <a:path w="7740015" h="4680585">
                    <a:moveTo>
                      <a:pt x="5436006" y="0"/>
                    </a:moveTo>
                    <a:lnTo>
                      <a:pt x="5364010" y="0"/>
                    </a:lnTo>
                    <a:lnTo>
                      <a:pt x="5364010" y="12700"/>
                    </a:lnTo>
                    <a:lnTo>
                      <a:pt x="5436006" y="12700"/>
                    </a:lnTo>
                    <a:lnTo>
                      <a:pt x="5436006" y="0"/>
                    </a:lnTo>
                    <a:close/>
                  </a:path>
                  <a:path w="7740015" h="4680585">
                    <a:moveTo>
                      <a:pt x="5580011" y="0"/>
                    </a:moveTo>
                    <a:lnTo>
                      <a:pt x="5508015" y="0"/>
                    </a:lnTo>
                    <a:lnTo>
                      <a:pt x="5508015" y="12700"/>
                    </a:lnTo>
                    <a:lnTo>
                      <a:pt x="5580011" y="12700"/>
                    </a:lnTo>
                    <a:lnTo>
                      <a:pt x="5580011" y="0"/>
                    </a:lnTo>
                    <a:close/>
                  </a:path>
                  <a:path w="7740015" h="4680585">
                    <a:moveTo>
                      <a:pt x="5724017" y="0"/>
                    </a:moveTo>
                    <a:lnTo>
                      <a:pt x="5652008" y="0"/>
                    </a:lnTo>
                    <a:lnTo>
                      <a:pt x="5652008" y="12700"/>
                    </a:lnTo>
                    <a:lnTo>
                      <a:pt x="5724017" y="12700"/>
                    </a:lnTo>
                    <a:lnTo>
                      <a:pt x="5724017" y="0"/>
                    </a:lnTo>
                    <a:close/>
                  </a:path>
                  <a:path w="7740015" h="4680585">
                    <a:moveTo>
                      <a:pt x="5868009" y="0"/>
                    </a:moveTo>
                    <a:lnTo>
                      <a:pt x="5796013" y="0"/>
                    </a:lnTo>
                    <a:lnTo>
                      <a:pt x="5796013" y="12700"/>
                    </a:lnTo>
                    <a:lnTo>
                      <a:pt x="5868009" y="12700"/>
                    </a:lnTo>
                    <a:lnTo>
                      <a:pt x="5868009" y="0"/>
                    </a:lnTo>
                    <a:close/>
                  </a:path>
                  <a:path w="7740015" h="4680585">
                    <a:moveTo>
                      <a:pt x="6012014" y="0"/>
                    </a:moveTo>
                    <a:lnTo>
                      <a:pt x="5940018" y="0"/>
                    </a:lnTo>
                    <a:lnTo>
                      <a:pt x="5940018" y="12700"/>
                    </a:lnTo>
                    <a:lnTo>
                      <a:pt x="6012014" y="12700"/>
                    </a:lnTo>
                    <a:lnTo>
                      <a:pt x="6012014" y="0"/>
                    </a:lnTo>
                    <a:close/>
                  </a:path>
                  <a:path w="7740015" h="4680585">
                    <a:moveTo>
                      <a:pt x="6156007" y="0"/>
                    </a:moveTo>
                    <a:lnTo>
                      <a:pt x="6083998" y="0"/>
                    </a:lnTo>
                    <a:lnTo>
                      <a:pt x="6083998" y="12700"/>
                    </a:lnTo>
                    <a:lnTo>
                      <a:pt x="6156007" y="12700"/>
                    </a:lnTo>
                    <a:lnTo>
                      <a:pt x="6156007" y="0"/>
                    </a:lnTo>
                    <a:close/>
                  </a:path>
                  <a:path w="7740015" h="4680585">
                    <a:moveTo>
                      <a:pt x="6300000" y="0"/>
                    </a:moveTo>
                    <a:lnTo>
                      <a:pt x="6228003" y="0"/>
                    </a:lnTo>
                    <a:lnTo>
                      <a:pt x="6228003" y="12700"/>
                    </a:lnTo>
                    <a:lnTo>
                      <a:pt x="6300000" y="12700"/>
                    </a:lnTo>
                    <a:lnTo>
                      <a:pt x="6300000" y="0"/>
                    </a:lnTo>
                    <a:close/>
                  </a:path>
                  <a:path w="7740015" h="4680585">
                    <a:moveTo>
                      <a:pt x="6444005" y="0"/>
                    </a:moveTo>
                    <a:lnTo>
                      <a:pt x="6372009" y="0"/>
                    </a:lnTo>
                    <a:lnTo>
                      <a:pt x="6372009" y="12700"/>
                    </a:lnTo>
                    <a:lnTo>
                      <a:pt x="6444005" y="12700"/>
                    </a:lnTo>
                    <a:lnTo>
                      <a:pt x="6444005" y="0"/>
                    </a:lnTo>
                    <a:close/>
                  </a:path>
                  <a:path w="7740015" h="4680585">
                    <a:moveTo>
                      <a:pt x="6588010" y="0"/>
                    </a:moveTo>
                    <a:lnTo>
                      <a:pt x="6516001" y="0"/>
                    </a:lnTo>
                    <a:lnTo>
                      <a:pt x="6516001" y="12700"/>
                    </a:lnTo>
                    <a:lnTo>
                      <a:pt x="6588010" y="12700"/>
                    </a:lnTo>
                    <a:lnTo>
                      <a:pt x="6588010" y="0"/>
                    </a:lnTo>
                    <a:close/>
                  </a:path>
                  <a:path w="7740015" h="4680585">
                    <a:moveTo>
                      <a:pt x="6732003" y="0"/>
                    </a:moveTo>
                    <a:lnTo>
                      <a:pt x="6660007" y="0"/>
                    </a:lnTo>
                    <a:lnTo>
                      <a:pt x="6660007" y="12700"/>
                    </a:lnTo>
                    <a:lnTo>
                      <a:pt x="6732003" y="12700"/>
                    </a:lnTo>
                    <a:lnTo>
                      <a:pt x="6732003" y="0"/>
                    </a:lnTo>
                    <a:close/>
                  </a:path>
                  <a:path w="7740015" h="4680585">
                    <a:moveTo>
                      <a:pt x="6876008" y="0"/>
                    </a:moveTo>
                    <a:lnTo>
                      <a:pt x="6804012" y="0"/>
                    </a:lnTo>
                    <a:lnTo>
                      <a:pt x="6804012" y="12700"/>
                    </a:lnTo>
                    <a:lnTo>
                      <a:pt x="6876008" y="12700"/>
                    </a:lnTo>
                    <a:lnTo>
                      <a:pt x="6876008" y="0"/>
                    </a:lnTo>
                    <a:close/>
                  </a:path>
                  <a:path w="7740015" h="4680585">
                    <a:moveTo>
                      <a:pt x="7020013" y="0"/>
                    </a:moveTo>
                    <a:lnTo>
                      <a:pt x="6948017" y="0"/>
                    </a:lnTo>
                    <a:lnTo>
                      <a:pt x="6948017" y="12700"/>
                    </a:lnTo>
                    <a:lnTo>
                      <a:pt x="7020013" y="12700"/>
                    </a:lnTo>
                    <a:lnTo>
                      <a:pt x="7020013" y="0"/>
                    </a:lnTo>
                    <a:close/>
                  </a:path>
                  <a:path w="7740015" h="4680585">
                    <a:moveTo>
                      <a:pt x="7164019" y="0"/>
                    </a:moveTo>
                    <a:lnTo>
                      <a:pt x="7092010" y="0"/>
                    </a:lnTo>
                    <a:lnTo>
                      <a:pt x="7092010" y="12700"/>
                    </a:lnTo>
                    <a:lnTo>
                      <a:pt x="7164019" y="12700"/>
                    </a:lnTo>
                    <a:lnTo>
                      <a:pt x="7164019" y="0"/>
                    </a:lnTo>
                    <a:close/>
                  </a:path>
                  <a:path w="7740015" h="4680585">
                    <a:moveTo>
                      <a:pt x="7307999" y="0"/>
                    </a:moveTo>
                    <a:lnTo>
                      <a:pt x="7236002" y="0"/>
                    </a:lnTo>
                    <a:lnTo>
                      <a:pt x="7236002" y="12700"/>
                    </a:lnTo>
                    <a:lnTo>
                      <a:pt x="7307999" y="12700"/>
                    </a:lnTo>
                    <a:lnTo>
                      <a:pt x="7307999" y="0"/>
                    </a:lnTo>
                    <a:close/>
                  </a:path>
                  <a:path w="7740015" h="4680585">
                    <a:moveTo>
                      <a:pt x="7452004" y="0"/>
                    </a:moveTo>
                    <a:lnTo>
                      <a:pt x="7380008" y="0"/>
                    </a:lnTo>
                    <a:lnTo>
                      <a:pt x="7380008" y="12700"/>
                    </a:lnTo>
                    <a:lnTo>
                      <a:pt x="7452004" y="12700"/>
                    </a:lnTo>
                    <a:lnTo>
                      <a:pt x="7452004" y="0"/>
                    </a:lnTo>
                    <a:close/>
                  </a:path>
                  <a:path w="7740015" h="4680585">
                    <a:moveTo>
                      <a:pt x="7596009" y="0"/>
                    </a:moveTo>
                    <a:lnTo>
                      <a:pt x="7524000" y="0"/>
                    </a:lnTo>
                    <a:lnTo>
                      <a:pt x="7524000" y="12700"/>
                    </a:lnTo>
                    <a:lnTo>
                      <a:pt x="7596009" y="12700"/>
                    </a:lnTo>
                    <a:lnTo>
                      <a:pt x="7596009" y="0"/>
                    </a:lnTo>
                    <a:close/>
                  </a:path>
                  <a:path w="7740015" h="4680585">
                    <a:moveTo>
                      <a:pt x="7740002" y="0"/>
                    </a:moveTo>
                    <a:lnTo>
                      <a:pt x="7668006" y="0"/>
                    </a:lnTo>
                    <a:lnTo>
                      <a:pt x="7668006" y="12700"/>
                    </a:lnTo>
                    <a:lnTo>
                      <a:pt x="7727302" y="12700"/>
                    </a:lnTo>
                    <a:lnTo>
                      <a:pt x="7727302" y="71996"/>
                    </a:lnTo>
                    <a:lnTo>
                      <a:pt x="7740002" y="71996"/>
                    </a:lnTo>
                    <a:lnTo>
                      <a:pt x="7740002" y="0"/>
                    </a:lnTo>
                    <a:close/>
                  </a:path>
                </a:pathLst>
              </a:custGeom>
              <a:solidFill>
                <a:srgbClr val="2e3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object 30"/>
              <p:cNvSpPr/>
              <p:nvPr/>
            </p:nvSpPr>
            <p:spPr>
              <a:xfrm>
                <a:off x="1897200" y="2136240"/>
                <a:ext cx="6480720" cy="3528360"/>
              </a:xfrm>
              <a:custGeom>
                <a:avLst/>
                <a:gdLst/>
                <a:ahLst/>
                <a:rect l="l" t="t" r="r" b="b"/>
                <a:pathLst>
                  <a:path w="6480175" h="3528060">
                    <a:moveTo>
                      <a:pt x="6479997" y="0"/>
                    </a:moveTo>
                    <a:lnTo>
                      <a:pt x="0" y="0"/>
                    </a:lnTo>
                    <a:lnTo>
                      <a:pt x="0" y="3527996"/>
                    </a:lnTo>
                    <a:lnTo>
                      <a:pt x="6479997" y="3527996"/>
                    </a:lnTo>
                    <a:lnTo>
                      <a:pt x="64799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object 31"/>
              <p:cNvSpPr/>
              <p:nvPr/>
            </p:nvSpPr>
            <p:spPr>
              <a:xfrm>
                <a:off x="8341920" y="5628600"/>
                <a:ext cx="36000" cy="36000"/>
              </a:xfrm>
              <a:custGeom>
                <a:avLst/>
                <a:gdLst/>
                <a:ahLst/>
                <a:rect l="l" t="t" r="r" b="b"/>
                <a:pathLst>
                  <a:path w="36195" h="36195">
                    <a:moveTo>
                      <a:pt x="-29545" y="0"/>
                    </a:moveTo>
                    <a:lnTo>
                      <a:pt x="-29545" y="-29545"/>
                    </a:lnTo>
                    <a:lnTo>
                      <a:pt x="0" y="-29545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object 32"/>
              <p:cNvSpPr/>
              <p:nvPr/>
            </p:nvSpPr>
            <p:spPr>
              <a:xfrm>
                <a:off x="1969200" y="5664600"/>
                <a:ext cx="6300720" cy="360"/>
              </a:xfrm>
              <a:custGeom>
                <a:avLst/>
                <a:gdLst/>
                <a:ahLst/>
                <a:rect l="l" t="t" r="r" b="b"/>
                <a:pathLst>
                  <a:path w="6300470" h="0">
                    <a:moveTo>
                      <a:pt x="6300000" y="0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object 33"/>
              <p:cNvSpPr/>
              <p:nvPr/>
            </p:nvSpPr>
            <p:spPr>
              <a:xfrm>
                <a:off x="1897200" y="5628600"/>
                <a:ext cx="36000" cy="36000"/>
              </a:xfrm>
              <a:custGeom>
                <a:avLst/>
                <a:gdLst/>
                <a:ahLst/>
                <a:rect l="l" t="t" r="r" b="b"/>
                <a:pathLst>
                  <a:path w="36194" h="36195">
                    <a:moveTo>
                      <a:pt x="-29545" y="-29545"/>
                    </a:moveTo>
                    <a:lnTo>
                      <a:pt x="0" y="-2954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object 34"/>
              <p:cNvSpPr/>
              <p:nvPr/>
            </p:nvSpPr>
            <p:spPr>
              <a:xfrm>
                <a:off x="1897200" y="2207520"/>
                <a:ext cx="360" cy="3350520"/>
              </a:xfrm>
              <a:custGeom>
                <a:avLst/>
                <a:gdLst/>
                <a:ahLst/>
                <a:rect l="l" t="t" r="r" b="b"/>
                <a:pathLst>
                  <a:path w="0" h="3350260">
                    <a:moveTo>
                      <a:pt x="0" y="3350209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object 35"/>
              <p:cNvSpPr/>
              <p:nvPr/>
            </p:nvSpPr>
            <p:spPr>
              <a:xfrm>
                <a:off x="1897200" y="2136240"/>
                <a:ext cx="36000" cy="36000"/>
              </a:xfrm>
              <a:custGeom>
                <a:avLst/>
                <a:gdLst/>
                <a:ahLst/>
                <a:rect l="l" t="t" r="r" b="b"/>
                <a:pathLst>
                  <a:path w="36194" h="36194">
                    <a:moveTo>
                      <a:pt x="0" y="-29545"/>
                    </a:moveTo>
                    <a:lnTo>
                      <a:pt x="0" y="0"/>
                    </a:lnTo>
                    <a:lnTo>
                      <a:pt x="-29545" y="0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object 36"/>
              <p:cNvSpPr/>
              <p:nvPr/>
            </p:nvSpPr>
            <p:spPr>
              <a:xfrm>
                <a:off x="2005200" y="2136240"/>
                <a:ext cx="6300720" cy="360"/>
              </a:xfrm>
              <a:custGeom>
                <a:avLst/>
                <a:gdLst/>
                <a:ahLst/>
                <a:rect l="l" t="t" r="r" b="b"/>
                <a:pathLst>
                  <a:path w="6300470" h="0">
                    <a:moveTo>
                      <a:pt x="0" y="0"/>
                    </a:moveTo>
                    <a:lnTo>
                      <a:pt x="6300000" y="0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object 37"/>
              <p:cNvSpPr/>
              <p:nvPr/>
            </p:nvSpPr>
            <p:spPr>
              <a:xfrm>
                <a:off x="8341920" y="2136240"/>
                <a:ext cx="36000" cy="36000"/>
              </a:xfrm>
              <a:custGeom>
                <a:avLst/>
                <a:gdLst/>
                <a:ahLst/>
                <a:rect l="l" t="t" r="r" b="b"/>
                <a:pathLst>
                  <a:path w="36195" h="36194">
                    <a:moveTo>
                      <a:pt x="0" y="0"/>
                    </a:moveTo>
                    <a:lnTo>
                      <a:pt x="-29545" y="0"/>
                    </a:lnTo>
                    <a:lnTo>
                      <a:pt x="-29545" y="-29545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object 38"/>
              <p:cNvSpPr/>
              <p:nvPr/>
            </p:nvSpPr>
            <p:spPr>
              <a:xfrm>
                <a:off x="8377920" y="2242800"/>
                <a:ext cx="360" cy="3350520"/>
              </a:xfrm>
              <a:custGeom>
                <a:avLst/>
                <a:gdLst/>
                <a:ahLst/>
                <a:rect l="l" t="t" r="r" b="b"/>
                <a:pathLst>
                  <a:path w="0" h="3350260">
                    <a:moveTo>
                      <a:pt x="0" y="0"/>
                    </a:moveTo>
                    <a:lnTo>
                      <a:pt x="0" y="3350196"/>
                    </a:lnTo>
                  </a:path>
                </a:pathLst>
              </a:custGeom>
              <a:noFill/>
              <a:ln w="12600">
                <a:solidFill>
                  <a:srgbClr val="ec008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" name="AutoShape 121"/>
            <p:cNvSpPr/>
            <p:nvPr/>
          </p:nvSpPr>
          <p:spPr>
            <a:xfrm>
              <a:off x="98280" y="4029120"/>
              <a:ext cx="1108080" cy="879480"/>
            </a:xfrm>
            <a:prstGeom prst="wedgeRoundRectCallout">
              <a:avLst>
                <a:gd name="adj1" fmla="val 104824"/>
                <a:gd name="adj2" fmla="val -5185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122"/>
            <p:cNvSpPr/>
            <p:nvPr/>
          </p:nvSpPr>
          <p:spPr>
            <a:xfrm>
              <a:off x="39600" y="2085840"/>
              <a:ext cx="823680" cy="84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6360" y="294120"/>
            <a:ext cx="87541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86360" y="1726920"/>
            <a:ext cx="8754120" cy="42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bject 30"/>
          <p:cNvSpPr/>
          <p:nvPr/>
        </p:nvSpPr>
        <p:spPr>
          <a:xfrm>
            <a:off x="1897200" y="2136600"/>
            <a:ext cx="6480000" cy="3527640"/>
          </a:xfrm>
          <a:custGeom>
            <a:avLst/>
            <a:gdLst/>
            <a:ahLst/>
            <a:rect l="l" t="t" r="r" b="b"/>
            <a:pathLst>
              <a:path w="6480175" h="3528060">
                <a:moveTo>
                  <a:pt x="6479997" y="0"/>
                </a:moveTo>
                <a:lnTo>
                  <a:pt x="0" y="0"/>
                </a:lnTo>
                <a:lnTo>
                  <a:pt x="0" y="3527996"/>
                </a:lnTo>
                <a:lnTo>
                  <a:pt x="6479997" y="3527996"/>
                </a:lnTo>
                <a:lnTo>
                  <a:pt x="6479997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6T03:13:51Z</dcterms:created>
  <dc:creator>A18-008</dc:creator>
  <dc:description/>
  <dc:language>en-US</dc:language>
  <cp:lastModifiedBy>HP Inc.</cp:lastModifiedBy>
  <dcterms:modified xsi:type="dcterms:W3CDTF">2021-04-19T05:47:35Z</dcterms:modified>
  <cp:revision>5</cp:revision>
  <dc:subject/>
  <dc:title>紙製マスクケース（単色）_横_表面 - コピ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1-04-16T00:00:00Z</vt:filetime>
  </property>
  <property fmtid="{D5CDD505-2E9C-101B-9397-08002B2CF9AE}" pid="3" name="Creator">
    <vt:lpwstr>Adobe Illustrator 25.2 (Windows)</vt:lpwstr>
  </property>
  <property fmtid="{D5CDD505-2E9C-101B-9397-08002B2CF9AE}" pid="4" name="LastSaved">
    <vt:filetime>2021-04-16T00:00:00Z</vt:filetime>
  </property>
</Properties>
</file>