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260013" cy="61198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13000" y="244080"/>
            <a:ext cx="9233640" cy="102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13000" y="1432080"/>
            <a:ext cx="923364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3000" y="3286080"/>
            <a:ext cx="923364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13000" y="244080"/>
            <a:ext cx="9233640" cy="102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13000" y="1432080"/>
            <a:ext cx="450576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44480" y="1432080"/>
            <a:ext cx="450576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13000" y="3286080"/>
            <a:ext cx="450576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44480" y="3286080"/>
            <a:ext cx="450576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13000" y="244080"/>
            <a:ext cx="9233640" cy="102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13000" y="1432080"/>
            <a:ext cx="297288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34920" y="1432080"/>
            <a:ext cx="297288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756840" y="1432080"/>
            <a:ext cx="297288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3000" y="3286080"/>
            <a:ext cx="297288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34920" y="3286080"/>
            <a:ext cx="297288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756840" y="3286080"/>
            <a:ext cx="297288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3000" y="244080"/>
            <a:ext cx="9233640" cy="102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13000" y="1432080"/>
            <a:ext cx="9233640" cy="354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13000" y="244080"/>
            <a:ext cx="9233640" cy="102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13000" y="1432080"/>
            <a:ext cx="9233640" cy="354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13000" y="244080"/>
            <a:ext cx="9233640" cy="102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13000" y="1432080"/>
            <a:ext cx="4505760" cy="354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44480" y="1432080"/>
            <a:ext cx="4505760" cy="354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13000" y="244080"/>
            <a:ext cx="9233640" cy="102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13000" y="244080"/>
            <a:ext cx="9233640" cy="47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3000" y="244080"/>
            <a:ext cx="9233640" cy="102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3000" y="1432080"/>
            <a:ext cx="450576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44480" y="1432080"/>
            <a:ext cx="4505760" cy="354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000" y="3286080"/>
            <a:ext cx="450576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3000" y="244080"/>
            <a:ext cx="9233640" cy="102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3000" y="1432080"/>
            <a:ext cx="4505760" cy="354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44480" y="1432080"/>
            <a:ext cx="450576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44480" y="3286080"/>
            <a:ext cx="450576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3000" y="244080"/>
            <a:ext cx="9233640" cy="102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3000" y="1432080"/>
            <a:ext cx="450576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44480" y="1432080"/>
            <a:ext cx="450576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13000" y="3286080"/>
            <a:ext cx="923364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Group 190" descr=""/>
          <p:cNvPicPr/>
          <p:nvPr/>
        </p:nvPicPr>
        <p:blipFill>
          <a:blip r:embed="rId2"/>
          <a:stretch/>
        </p:blipFill>
        <p:spPr>
          <a:xfrm>
            <a:off x="781200" y="1079640"/>
            <a:ext cx="8405640" cy="3968640"/>
          </a:xfrm>
          <a:prstGeom prst="rect">
            <a:avLst/>
          </a:prstGeom>
          <a:ln w="0">
            <a:noFill/>
          </a:ln>
        </p:spPr>
      </p:pic>
      <p:sp>
        <p:nvSpPr>
          <p:cNvPr id="1" name="Text Box 201"/>
          <p:cNvSpPr/>
          <p:nvPr/>
        </p:nvSpPr>
        <p:spPr>
          <a:xfrm>
            <a:off x="2178000" y="5076720"/>
            <a:ext cx="59022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全てのオブジェクトをピンクの破線内におさめてください。封筒の周囲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10mm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とベロ（フタ）部分には印刷することができません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製袋された封筒に印刷するため、貼り合わせ部分の段差（下図の灰色の破線）にかかるベタなどのデザインはかすれる可能性があり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データは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1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色で作成してください。色の掛け合わせはできません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204" descr=""/>
          <p:cNvPicPr/>
          <p:nvPr/>
        </p:nvPicPr>
        <p:blipFill>
          <a:blip r:embed="rId3"/>
          <a:stretch/>
        </p:blipFill>
        <p:spPr>
          <a:xfrm>
            <a:off x="3114720" y="468360"/>
            <a:ext cx="3922560" cy="39204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5" descr=""/>
          <p:cNvPicPr/>
          <p:nvPr/>
        </p:nvPicPr>
        <p:blipFill>
          <a:blip r:embed="rId4"/>
          <a:stretch/>
        </p:blipFill>
        <p:spPr>
          <a:xfrm>
            <a:off x="1434960" y="1461960"/>
            <a:ext cx="7391520" cy="3292560"/>
          </a:xfrm>
          <a:prstGeom prst="rect">
            <a:avLst/>
          </a:prstGeom>
          <a:ln w="0">
            <a:noFill/>
          </a:ln>
        </p:spPr>
      </p:pic>
      <p:grpSp>
        <p:nvGrpSpPr>
          <p:cNvPr id="4" name="グループ化 1"/>
          <p:cNvGrpSpPr/>
          <p:nvPr/>
        </p:nvGrpSpPr>
        <p:grpSpPr>
          <a:xfrm>
            <a:off x="87480" y="1440000"/>
            <a:ext cx="8731080" cy="3240000"/>
            <a:chOff x="87480" y="1440000"/>
            <a:chExt cx="8731080" cy="3240000"/>
          </a:xfrm>
        </p:grpSpPr>
        <p:sp>
          <p:nvSpPr>
            <p:cNvPr id="5" name="Rectangle 187"/>
            <p:cNvSpPr/>
            <p:nvPr/>
          </p:nvSpPr>
          <p:spPr>
            <a:xfrm rot="16200000">
              <a:off x="3509280" y="-628920"/>
              <a:ext cx="3240000" cy="7378560"/>
            </a:xfrm>
            <a:prstGeom prst="rect">
              <a:avLst/>
            </a:pr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188"/>
            <p:cNvSpPr/>
            <p:nvPr/>
          </p:nvSpPr>
          <p:spPr>
            <a:xfrm rot="16200000">
              <a:off x="3996720" y="322920"/>
              <a:ext cx="2519280" cy="5578560"/>
            </a:xfrm>
            <a:prstGeom prst="rect">
              <a:avLst/>
            </a:prstGeom>
            <a:noFill/>
            <a:ln w="64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AutoShape 199"/>
            <p:cNvSpPr/>
            <p:nvPr/>
          </p:nvSpPr>
          <p:spPr>
            <a:xfrm>
              <a:off x="90360" y="3565800"/>
              <a:ext cx="1028520" cy="934920"/>
            </a:xfrm>
            <a:prstGeom prst="wedgeRoundRectCallout">
              <a:avLst>
                <a:gd name="adj1" fmla="val 179013"/>
                <a:gd name="adj2" fmla="val -51111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全てのオブジェクトをピンクの破線内におさめてください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AutoShape 200"/>
            <p:cNvSpPr/>
            <p:nvPr/>
          </p:nvSpPr>
          <p:spPr>
            <a:xfrm>
              <a:off x="87480" y="2079720"/>
              <a:ext cx="1028520" cy="571320"/>
            </a:xfrm>
            <a:prstGeom prst="wedgeRoundRectCallout">
              <a:avLst>
                <a:gd name="adj1" fmla="val 80430"/>
                <a:gd name="adj2" fmla="val -43000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青い破線が仕上がり位置となります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/>
  <dc:description/>
  <dc:language>en-US</dc:language>
  <cp:lastModifiedBy>yamamoto</cp:lastModifiedBy>
  <dcterms:modified xsi:type="dcterms:W3CDTF">2017-07-28T07:14:02Z</dcterms:modified>
  <cp:revision>30</cp:revision>
  <dc:subject/>
  <dc:title>PowerPoint プレゼンテーション</dc:title>
</cp:coreProperties>
</file>