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solidFill>
            <a:srgbClr val="ffffff"/>
          </a:solidFill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92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194" descr=""/>
          <p:cNvPicPr/>
          <p:nvPr/>
        </p:nvPicPr>
        <p:blipFill>
          <a:blip r:embed="rId2"/>
          <a:stretch/>
        </p:blipFill>
        <p:spPr>
          <a:xfrm>
            <a:off x="3654360" y="431640"/>
            <a:ext cx="4019760" cy="392400"/>
          </a:xfrm>
          <a:prstGeom prst="rect">
            <a:avLst/>
          </a:prstGeom>
          <a:ln w="0">
            <a:noFill/>
          </a:ln>
        </p:spPr>
      </p:pic>
      <p:sp>
        <p:nvSpPr>
          <p:cNvPr id="15" name="Rectangle 31"/>
          <p:cNvSpPr/>
          <p:nvPr/>
        </p:nvSpPr>
        <p:spPr>
          <a:xfrm>
            <a:off x="5405400" y="86292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透けない封筒（ケント、ホワイト、ブルー、グレー、グリーン、アク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33" descr=""/>
          <p:cNvPicPr/>
          <p:nvPr/>
        </p:nvPicPr>
        <p:blipFill>
          <a:blip r:embed="rId3"/>
          <a:stretch/>
        </p:blipFill>
        <p:spPr>
          <a:xfrm>
            <a:off x="1422360" y="1440000"/>
            <a:ext cx="8467920" cy="433548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35"/>
          <p:cNvGrpSpPr/>
          <p:nvPr/>
        </p:nvGrpSpPr>
        <p:grpSpPr>
          <a:xfrm>
            <a:off x="87480" y="1440000"/>
            <a:ext cx="9811800" cy="4319280"/>
            <a:chOff x="87480" y="1440000"/>
            <a:chExt cx="9811800" cy="4319280"/>
          </a:xfrm>
        </p:grpSpPr>
        <p:grpSp>
          <p:nvGrpSpPr>
            <p:cNvPr id="18" name="Group 34"/>
            <p:cNvGrpSpPr/>
            <p:nvPr/>
          </p:nvGrpSpPr>
          <p:grpSpPr>
            <a:xfrm>
              <a:off x="5742000" y="1871640"/>
              <a:ext cx="3241800" cy="1623960"/>
              <a:chOff x="5742000" y="1871640"/>
              <a:chExt cx="3241800" cy="1623960"/>
            </a:xfrm>
          </p:grpSpPr>
          <p:sp>
            <p:nvSpPr>
              <p:cNvPr id="19" name="Freeform 160"/>
              <p:cNvSpPr/>
              <p:nvPr/>
            </p:nvSpPr>
            <p:spPr>
              <a:xfrm>
                <a:off x="574200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0" y="488"/>
                    </a:moveTo>
                    <a:cubicBezTo>
                      <a:pt x="0" y="501"/>
                      <a:pt x="10" y="511"/>
                      <a:pt x="22" y="511"/>
                    </a:cubicBezTo>
                    <a:cubicBezTo>
                      <a:pt x="997" y="511"/>
                      <a:pt x="997" y="511"/>
                      <a:pt x="997" y="511"/>
                    </a:cubicBezTo>
                    <a:cubicBezTo>
                      <a:pt x="1010" y="511"/>
                      <a:pt x="1020" y="501"/>
                      <a:pt x="1020" y="488"/>
                    </a:cubicBezTo>
                    <a:cubicBezTo>
                      <a:pt x="1020" y="23"/>
                      <a:pt x="1020" y="23"/>
                      <a:pt x="1020" y="23"/>
                    </a:cubicBezTo>
                    <a:cubicBezTo>
                      <a:pt x="1020" y="11"/>
                      <a:pt x="1010" y="0"/>
                      <a:pt x="99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0" y="0"/>
                      <a:pt x="0" y="11"/>
                      <a:pt x="0" y="23"/>
                    </a:cubicBez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164"/>
              <p:cNvSpPr/>
              <p:nvPr/>
            </p:nvSpPr>
            <p:spPr>
              <a:xfrm>
                <a:off x="726120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5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0" y="9"/>
                      <a:pt x="12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3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5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8" y="26"/>
                    </a:moveTo>
                    <a:cubicBezTo>
                      <a:pt x="7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4" y="27"/>
                      <a:pt x="5" y="25"/>
                    </a:cubicBezTo>
                    <a:lnTo>
                      <a:pt x="8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4" y="33"/>
                      <a:pt x="24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8" y="37"/>
                      <a:pt x="26" y="37"/>
                      <a:pt x="2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3" y="23"/>
                      <a:pt x="9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6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8" y="19"/>
                      <a:pt x="25" y="19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19" y="22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9" y="23"/>
                      <a:pt x="22" y="25"/>
                      <a:pt x="24" y="26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4" y="37"/>
                      <a:pt x="34" y="37"/>
                      <a:pt x="34" y="37"/>
                    </a:cubicBezTo>
                    <a:cubicBezTo>
                      <a:pt x="33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165"/>
              <p:cNvSpPr/>
              <p:nvPr/>
            </p:nvSpPr>
            <p:spPr>
              <a:xfrm>
                <a:off x="738828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21"/>
                      <a:pt x="20" y="21"/>
                      <a:pt x="20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7"/>
                      <a:pt x="23" y="37"/>
                      <a:pt x="23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8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5" y="10"/>
                      <a:pt x="35" y="9"/>
                      <a:pt x="37" y="4"/>
                    </a:cubicBezTo>
                    <a:cubicBezTo>
                      <a:pt x="37" y="1"/>
                      <a:pt x="37" y="1"/>
                      <a:pt x="37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8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8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166"/>
              <p:cNvSpPr/>
              <p:nvPr/>
            </p:nvSpPr>
            <p:spPr>
              <a:xfrm>
                <a:off x="7512120" y="2638440"/>
                <a:ext cx="12708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9"/>
                      <a:pt x="8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3" y="15"/>
                      <a:pt x="33" y="16"/>
                      <a:pt x="33" y="17"/>
                    </a:cubicBezTo>
                    <a:cubicBezTo>
                      <a:pt x="33" y="24"/>
                      <a:pt x="32" y="33"/>
                      <a:pt x="30" y="35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29"/>
                      <a:pt x="28" y="26"/>
                      <a:pt x="2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8" y="29"/>
                      <a:pt x="12" y="34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0"/>
                      <a:pt x="14" y="26"/>
                      <a:pt x="15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5"/>
                      <a:pt x="27" y="8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4" y="11"/>
                      <a:pt x="40" y="14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" name="Rectangle 170"/>
            <p:cNvSpPr/>
            <p:nvPr/>
          </p:nvSpPr>
          <p:spPr>
            <a:xfrm>
              <a:off x="2770200" y="3868560"/>
              <a:ext cx="6226200" cy="152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71"/>
            <p:cNvSpPr/>
            <p:nvPr/>
          </p:nvSpPr>
          <p:spPr>
            <a:xfrm>
              <a:off x="2770200" y="1798560"/>
              <a:ext cx="2627280" cy="152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90"/>
            <p:cNvSpPr/>
            <p:nvPr/>
          </p:nvSpPr>
          <p:spPr>
            <a:xfrm>
              <a:off x="87480" y="4108320"/>
              <a:ext cx="1028520" cy="1005120"/>
            </a:xfrm>
            <a:prstGeom prst="wedgeRoundRectCallout">
              <a:avLst>
                <a:gd name="adj1" fmla="val 209569"/>
                <a:gd name="adj2" fmla="val -57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AutoShape 191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6:44:26Z</dcterms:modified>
  <cp:revision>27</cp:revision>
  <dc:subject/>
  <dc:title>PowerPoint プレゼンテーション</dc:title>
</cp:coreProperties>
</file>