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7" descr=""/>
          <p:cNvPicPr/>
          <p:nvPr/>
        </p:nvPicPr>
        <p:blipFill>
          <a:blip r:embed="rId2"/>
          <a:stretch/>
        </p:blipFill>
        <p:spPr>
          <a:xfrm>
            <a:off x="3960720" y="431640"/>
            <a:ext cx="3624480" cy="3924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20" descr=""/>
          <p:cNvPicPr/>
          <p:nvPr/>
        </p:nvPicPr>
        <p:blipFill>
          <a:blip r:embed="rId3"/>
          <a:stretch/>
        </p:blipFill>
        <p:spPr>
          <a:xfrm>
            <a:off x="1454040" y="1440000"/>
            <a:ext cx="8648640" cy="1195380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19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18" name="Rectangle 72"/>
            <p:cNvSpPr/>
            <p:nvPr/>
          </p:nvSpPr>
          <p:spPr>
            <a:xfrm>
              <a:off x="1798560" y="1798560"/>
              <a:ext cx="7917120" cy="11228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04800"/>
                  <a:tab algn="l" pos="3009960"/>
                  <a:tab algn="l" pos="4514760"/>
                  <a:tab algn="l" pos="6019920"/>
                  <a:tab algn="l" pos="7524720"/>
                  <a:tab algn="l" pos="9029880"/>
                  <a:tab algn="l" pos="1053468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12"/>
          <p:cNvSpPr/>
          <p:nvPr/>
        </p:nvSpPr>
        <p:spPr>
          <a:xfrm>
            <a:off x="98280" y="3571920"/>
            <a:ext cx="1028880" cy="95724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13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42:35Z</dcterms:modified>
  <cp:revision>21</cp:revision>
  <dc:subject/>
  <dc:title>スライド 1</dc:title>
</cp:coreProperties>
</file>