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0" descr=""/>
          <p:cNvPicPr/>
          <p:nvPr/>
        </p:nvPicPr>
        <p:blipFill>
          <a:blip r:embed="rId3"/>
          <a:stretch/>
        </p:blipFill>
        <p:spPr>
          <a:xfrm>
            <a:off x="3152880" y="303120"/>
            <a:ext cx="3922560" cy="392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3"/>
          <p:cNvGrpSpPr/>
          <p:nvPr/>
        </p:nvGrpSpPr>
        <p:grpSpPr>
          <a:xfrm>
            <a:off x="90360" y="1440000"/>
            <a:ext cx="8748720" cy="3257280"/>
            <a:chOff x="90360" y="1440000"/>
            <a:chExt cx="8748720" cy="3257280"/>
          </a:xfrm>
        </p:grpSpPr>
        <p:grpSp>
          <p:nvGrpSpPr>
            <p:cNvPr id="6" name="グループ化 4"/>
            <p:cNvGrpSpPr/>
            <p:nvPr/>
          </p:nvGrpSpPr>
          <p:grpSpPr>
            <a:xfrm>
              <a:off x="1438200" y="1440000"/>
              <a:ext cx="7400880" cy="3257280"/>
              <a:chOff x="1438200" y="1440000"/>
              <a:chExt cx="7400880" cy="3257280"/>
            </a:xfrm>
          </p:grpSpPr>
          <p:pic>
            <p:nvPicPr>
              <p:cNvPr id="7" name="Picture 10" descr="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3510000" y="-631800"/>
                <a:ext cx="3257280" cy="740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Rectangle 102"/>
              <p:cNvSpPr/>
              <p:nvPr/>
            </p:nvSpPr>
            <p:spPr>
              <a:xfrm rot="5400000">
                <a:off x="3881880" y="-268920"/>
                <a:ext cx="2519280" cy="66610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グループ化 1"/>
            <p:cNvGrpSpPr/>
            <p:nvPr/>
          </p:nvGrpSpPr>
          <p:grpSpPr>
            <a:xfrm>
              <a:off x="90360" y="1440000"/>
              <a:ext cx="8726400" cy="3240000"/>
              <a:chOff x="90360" y="1440000"/>
              <a:chExt cx="8726400" cy="3240000"/>
            </a:xfrm>
          </p:grpSpPr>
          <p:sp>
            <p:nvSpPr>
              <p:cNvPr id="10" name="Rectangle 146"/>
              <p:cNvSpPr/>
              <p:nvPr/>
            </p:nvSpPr>
            <p:spPr>
              <a:xfrm rot="5400000">
                <a:off x="3507120" y="-629280"/>
                <a:ext cx="3240000" cy="7378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72"/>
              <p:cNvSpPr/>
              <p:nvPr/>
            </p:nvSpPr>
            <p:spPr>
              <a:xfrm>
                <a:off x="90360" y="3581640"/>
                <a:ext cx="1028520" cy="799920"/>
              </a:xfrm>
              <a:prstGeom prst="wedgeRoundRectCallout">
                <a:avLst>
                  <a:gd name="adj1" fmla="val 116481"/>
                  <a:gd name="adj2" fmla="val -65888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全てのオブジェクトをピンクの破線内におさめてください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AutoShape 173"/>
              <p:cNvSpPr/>
              <p:nvPr/>
            </p:nvSpPr>
            <p:spPr>
              <a:xfrm>
                <a:off x="90360" y="2095560"/>
                <a:ext cx="1028520" cy="571320"/>
              </a:xfrm>
              <a:prstGeom prst="wedgeRoundRectCallout">
                <a:avLst>
                  <a:gd name="adj1" fmla="val 80430"/>
                  <a:gd name="adj2" fmla="val -43000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青い破線が仕上がり位置となります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34920"/>
                    <a:tab algn="l" pos="1870200"/>
                    <a:tab algn="l" pos="2805120"/>
                    <a:tab algn="l" pos="3740040"/>
                    <a:tab algn="l" pos="4675320"/>
                    <a:tab algn="l" pos="5610240"/>
                    <a:tab algn="l" pos="6545160"/>
                    <a:tab algn="l" pos="7480440"/>
                    <a:tab algn="l" pos="8415360"/>
                    <a:tab algn="l" pos="9350280"/>
                    <a:tab algn="l" pos="1028556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山本 真紀</cp:lastModifiedBy>
  <cp:lastPrinted>2013-09-17T03:09:22Z</cp:lastPrinted>
  <dcterms:modified xsi:type="dcterms:W3CDTF">2025-02-05T08:21:05Z</dcterms:modified>
  <cp:revision>36</cp:revision>
  <dc:subject/>
  <dc:title>PowerPoint プレゼンテーション</dc:title>
</cp:coreProperties>
</file>