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60" descr=""/>
          <p:cNvPicPr/>
          <p:nvPr/>
        </p:nvPicPr>
        <p:blipFill>
          <a:blip r:embed="rId2"/>
          <a:stretch/>
        </p:blipFill>
        <p:spPr>
          <a:xfrm>
            <a:off x="3654360" y="431640"/>
            <a:ext cx="4019760" cy="392400"/>
          </a:xfrm>
          <a:prstGeom prst="rect">
            <a:avLst/>
          </a:prstGeom>
          <a:ln w="0">
            <a:noFill/>
          </a:ln>
        </p:spPr>
      </p:pic>
      <p:sp>
        <p:nvSpPr>
          <p:cNvPr id="17" name="Rectangle 33"/>
          <p:cNvSpPr/>
          <p:nvPr/>
        </p:nvSpPr>
        <p:spPr>
          <a:xfrm>
            <a:off x="171360" y="1106640"/>
            <a:ext cx="113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4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35" descr=""/>
          <p:cNvPicPr/>
          <p:nvPr/>
        </p:nvPicPr>
        <p:blipFill>
          <a:blip r:embed="rId3"/>
          <a:stretch/>
        </p:blipFill>
        <p:spPr>
          <a:xfrm>
            <a:off x="1454040" y="1440000"/>
            <a:ext cx="8467920" cy="4333680"/>
          </a:xfrm>
          <a:prstGeom prst="rect">
            <a:avLst/>
          </a:prstGeom>
          <a:ln w="0">
            <a:noFill/>
          </a:ln>
        </p:spPr>
      </p:pic>
      <p:grpSp>
        <p:nvGrpSpPr>
          <p:cNvPr id="20" name="グループ化 4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21" name="Rectangle 102"/>
            <p:cNvSpPr/>
            <p:nvPr/>
          </p:nvSpPr>
          <p:spPr>
            <a:xfrm rot="5400000">
              <a:off x="3510000" y="-630360"/>
              <a:ext cx="4319280" cy="84600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" name="グループ化 3"/>
            <p:cNvGrpSpPr/>
            <p:nvPr/>
          </p:nvGrpSpPr>
          <p:grpSpPr>
            <a:xfrm>
              <a:off x="2285640" y="1871640"/>
              <a:ext cx="3241800" cy="1623960"/>
              <a:chOff x="2285640" y="1871640"/>
              <a:chExt cx="3241800" cy="1623960"/>
            </a:xfrm>
          </p:grpSpPr>
          <p:sp>
            <p:nvSpPr>
              <p:cNvPr id="23" name="Freeform 122"/>
              <p:cNvSpPr/>
              <p:nvPr/>
            </p:nvSpPr>
            <p:spPr>
              <a:xfrm>
                <a:off x="228564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1020" y="488"/>
                    </a:moveTo>
                    <a:cubicBezTo>
                      <a:pt x="1020" y="501"/>
                      <a:pt x="1010" y="511"/>
                      <a:pt x="997" y="511"/>
                    </a:cubicBezTo>
                    <a:cubicBezTo>
                      <a:pt x="22" y="511"/>
                      <a:pt x="22" y="511"/>
                      <a:pt x="22" y="511"/>
                    </a:cubicBezTo>
                    <a:cubicBezTo>
                      <a:pt x="10" y="511"/>
                      <a:pt x="0" y="501"/>
                      <a:pt x="0" y="488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1"/>
                      <a:pt x="10" y="0"/>
                      <a:pt x="22" y="0"/>
                    </a:cubicBezTo>
                    <a:cubicBezTo>
                      <a:pt x="997" y="0"/>
                      <a:pt x="997" y="0"/>
                      <a:pt x="997" y="0"/>
                    </a:cubicBezTo>
                    <a:cubicBezTo>
                      <a:pt x="1010" y="0"/>
                      <a:pt x="1020" y="11"/>
                      <a:pt x="1020" y="23"/>
                    </a:cubicBezTo>
                    <a:lnTo>
                      <a:pt x="1020" y="488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26"/>
              <p:cNvSpPr/>
              <p:nvPr/>
            </p:nvSpPr>
            <p:spPr>
              <a:xfrm>
                <a:off x="364932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6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1" y="9"/>
                      <a:pt x="13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6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9" y="26"/>
                    </a:moveTo>
                    <a:cubicBezTo>
                      <a:pt x="8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5" y="27"/>
                      <a:pt x="5" y="25"/>
                    </a:cubicBezTo>
                    <a:lnTo>
                      <a:pt x="9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5" y="33"/>
                      <a:pt x="25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7"/>
                      <a:pt x="26" y="37"/>
                      <a:pt x="2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4" y="23"/>
                      <a:pt x="9" y="23"/>
                      <a:pt x="3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9" y="19"/>
                      <a:pt x="25" y="19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20" y="22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2" y="25"/>
                      <a:pt x="24" y="26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4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27"/>
              <p:cNvSpPr/>
              <p:nvPr/>
            </p:nvSpPr>
            <p:spPr>
              <a:xfrm>
                <a:off x="377640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7"/>
                      <a:pt x="24" y="37"/>
                      <a:pt x="24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9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6" y="10"/>
                      <a:pt x="36" y="9"/>
                      <a:pt x="38" y="4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9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128"/>
              <p:cNvSpPr/>
              <p:nvPr/>
            </p:nvSpPr>
            <p:spPr>
              <a:xfrm>
                <a:off x="3903480" y="2639880"/>
                <a:ext cx="123840" cy="1206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9"/>
                      <a:pt x="7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2" y="15"/>
                      <a:pt x="32" y="16"/>
                      <a:pt x="32" y="17"/>
                    </a:cubicBezTo>
                    <a:cubicBezTo>
                      <a:pt x="32" y="24"/>
                      <a:pt x="31" y="33"/>
                      <a:pt x="30" y="35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3"/>
                      <a:pt x="26" y="33"/>
                      <a:pt x="26" y="32"/>
                    </a:cubicBezTo>
                    <a:cubicBezTo>
                      <a:pt x="27" y="29"/>
                      <a:pt x="27" y="26"/>
                      <a:pt x="28" y="18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29"/>
                      <a:pt x="12" y="34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0"/>
                      <a:pt x="13" y="26"/>
                      <a:pt x="14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5"/>
                      <a:pt x="26" y="8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30" y="5"/>
                      <a:pt x="34" y="11"/>
                      <a:pt x="39" y="14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" name="AutoShape 156"/>
            <p:cNvSpPr/>
            <p:nvPr/>
          </p:nvSpPr>
          <p:spPr>
            <a:xfrm>
              <a:off x="90360" y="4108320"/>
              <a:ext cx="102852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AutoShape 157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4</dc:creator>
  <dc:description/>
  <dc:language>en-US</dc:language>
  <cp:lastModifiedBy>irodori04</cp:lastModifiedBy>
  <dcterms:modified xsi:type="dcterms:W3CDTF">2013-11-05T06:48:41Z</dcterms:modified>
  <cp:revision>28</cp:revision>
  <dc:subject/>
  <dc:title>PowerPoint プレゼンテーション</dc:title>
</cp:coreProperties>
</file>