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AutoShape 164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65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69" descr=""/>
          <p:cNvPicPr/>
          <p:nvPr/>
        </p:nvPicPr>
        <p:blipFill>
          <a:blip r:embed="rId2"/>
          <a:stretch/>
        </p:blipFill>
        <p:spPr>
          <a:xfrm>
            <a:off x="1584360" y="453960"/>
            <a:ext cx="3925800" cy="392040"/>
          </a:xfrm>
          <a:prstGeom prst="rect">
            <a:avLst/>
          </a:prstGeom>
          <a:ln w="0">
            <a:noFill/>
          </a:ln>
        </p:spPr>
      </p:pic>
      <p:grpSp>
        <p:nvGrpSpPr>
          <p:cNvPr id="17" name="object 2"/>
          <p:cNvGrpSpPr/>
          <p:nvPr/>
        </p:nvGrpSpPr>
        <p:grpSpPr>
          <a:xfrm>
            <a:off x="1433520" y="1433520"/>
            <a:ext cx="4334040" cy="8472600"/>
            <a:chOff x="1433520" y="1433520"/>
            <a:chExt cx="4334040" cy="8472600"/>
          </a:xfrm>
        </p:grpSpPr>
        <p:sp>
          <p:nvSpPr>
            <p:cNvPr id="18" name="object 3"/>
            <p:cNvSpPr/>
            <p:nvPr/>
          </p:nvSpPr>
          <p:spPr>
            <a:xfrm>
              <a:off x="1433520" y="1433520"/>
              <a:ext cx="4334040" cy="8472600"/>
            </a:xfrm>
            <a:custGeom>
              <a:avLst/>
              <a:gdLst/>
              <a:ahLst/>
              <a:rect l="l" t="t" r="r" b="b"/>
              <a:pathLst>
                <a:path w="4320540" h="8460105">
                  <a:moveTo>
                    <a:pt x="4320006" y="0"/>
                  </a:moveTo>
                  <a:lnTo>
                    <a:pt x="0" y="0"/>
                  </a:lnTo>
                  <a:lnTo>
                    <a:pt x="0" y="8460003"/>
                  </a:lnTo>
                  <a:lnTo>
                    <a:pt x="4320006" y="8460003"/>
                  </a:lnTo>
                  <a:lnTo>
                    <a:pt x="4320006" y="0"/>
                  </a:lnTo>
                  <a:close/>
                </a:path>
              </a:pathLst>
            </a:custGeom>
            <a:solidFill>
              <a:srgbClr val="e1f4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bject 4"/>
            <p:cNvSpPr/>
            <p:nvPr/>
          </p:nvSpPr>
          <p:spPr>
            <a:xfrm>
              <a:off x="1433520" y="1433520"/>
              <a:ext cx="4180680" cy="8386920"/>
            </a:xfrm>
            <a:custGeom>
              <a:avLst/>
              <a:gdLst/>
              <a:ahLst/>
              <a:rect l="l" t="t" r="r" b="b"/>
              <a:pathLst>
                <a:path w="4167504" h="8374380">
                  <a:moveTo>
                    <a:pt x="0" y="0"/>
                  </a:moveTo>
                  <a:lnTo>
                    <a:pt x="2160879" y="213639"/>
                  </a:lnTo>
                  <a:lnTo>
                    <a:pt x="3837279" y="65366"/>
                  </a:lnTo>
                  <a:lnTo>
                    <a:pt x="4167416" y="124637"/>
                  </a:lnTo>
                  <a:lnTo>
                    <a:pt x="4167416" y="8279993"/>
                  </a:lnTo>
                  <a:lnTo>
                    <a:pt x="0" y="8374291"/>
                  </a:lnTo>
                </a:path>
              </a:pathLst>
            </a:custGeom>
            <a:noFill/>
            <a:ln w="12600">
              <a:solidFill>
                <a:srgbClr val="bcbe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bject 5"/>
            <p:cNvSpPr/>
            <p:nvPr/>
          </p:nvSpPr>
          <p:spPr>
            <a:xfrm>
              <a:off x="1433520" y="9365400"/>
              <a:ext cx="4334040" cy="434160"/>
            </a:xfrm>
            <a:custGeom>
              <a:avLst/>
              <a:gdLst/>
              <a:ahLst/>
              <a:rect l="l" t="t" r="r" b="b"/>
              <a:pathLst>
                <a:path w="4320540" h="433704">
                  <a:moveTo>
                    <a:pt x="4320006" y="433552"/>
                  </a:moveTo>
                  <a:lnTo>
                    <a:pt x="4061117" y="0"/>
                  </a:lnTo>
                  <a:lnTo>
                    <a:pt x="247624" y="0"/>
                  </a:lnTo>
                  <a:lnTo>
                    <a:pt x="0" y="433552"/>
                  </a:lnTo>
                </a:path>
              </a:pathLst>
            </a:custGeom>
            <a:noFill/>
            <a:ln w="12600">
              <a:solidFill>
                <a:srgbClr val="bcbe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bject 6"/>
            <p:cNvSpPr/>
            <p:nvPr/>
          </p:nvSpPr>
          <p:spPr>
            <a:xfrm>
              <a:off x="1433520" y="1433520"/>
              <a:ext cx="4334040" cy="8472600"/>
            </a:xfrm>
            <a:custGeom>
              <a:avLst/>
              <a:gdLst/>
              <a:ahLst/>
              <a:rect l="l" t="t" r="r" b="b"/>
              <a:pathLst>
                <a:path w="4320540" h="8460105">
                  <a:moveTo>
                    <a:pt x="0" y="8460003"/>
                  </a:moveTo>
                  <a:lnTo>
                    <a:pt x="4320006" y="8460003"/>
                  </a:lnTo>
                  <a:lnTo>
                    <a:pt x="4320006" y="0"/>
                  </a:lnTo>
                  <a:lnTo>
                    <a:pt x="0" y="0"/>
                  </a:lnTo>
                  <a:lnTo>
                    <a:pt x="0" y="8460003"/>
                  </a:lnTo>
                  <a:close/>
                </a:path>
              </a:pathLst>
            </a:cu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bject 7"/>
            <p:cNvSpPr/>
            <p:nvPr/>
          </p:nvSpPr>
          <p:spPr>
            <a:xfrm>
              <a:off x="1794600" y="2798640"/>
              <a:ext cx="3611880" cy="6201720"/>
            </a:xfrm>
            <a:custGeom>
              <a:avLst/>
              <a:gdLst/>
              <a:ahLst/>
              <a:rect l="l" t="t" r="r" b="b"/>
              <a:pathLst>
                <a:path w="3600450" h="6192520">
                  <a:moveTo>
                    <a:pt x="3599992" y="0"/>
                  </a:moveTo>
                  <a:lnTo>
                    <a:pt x="0" y="0"/>
                  </a:lnTo>
                  <a:lnTo>
                    <a:pt x="0" y="5867400"/>
                  </a:lnTo>
                  <a:lnTo>
                    <a:pt x="0" y="6192520"/>
                  </a:lnTo>
                  <a:lnTo>
                    <a:pt x="2694609" y="6192520"/>
                  </a:lnTo>
                  <a:lnTo>
                    <a:pt x="2694609" y="5867400"/>
                  </a:lnTo>
                  <a:lnTo>
                    <a:pt x="3599992" y="5867400"/>
                  </a:lnTo>
                  <a:lnTo>
                    <a:pt x="35999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bject 8"/>
            <p:cNvSpPr/>
            <p:nvPr/>
          </p:nvSpPr>
          <p:spPr>
            <a:xfrm>
              <a:off x="1794600" y="2798640"/>
              <a:ext cx="3611880" cy="6201720"/>
            </a:xfrm>
            <a:custGeom>
              <a:avLst/>
              <a:gdLst/>
              <a:ahLst/>
              <a:rect l="l" t="t" r="r" b="b"/>
              <a:pathLst>
                <a:path w="3600450" h="6192520">
                  <a:moveTo>
                    <a:pt x="0" y="0"/>
                  </a:moveTo>
                  <a:lnTo>
                    <a:pt x="3599992" y="0"/>
                  </a:lnTo>
                  <a:lnTo>
                    <a:pt x="3599992" y="5867996"/>
                  </a:lnTo>
                  <a:lnTo>
                    <a:pt x="2694609" y="5867996"/>
                  </a:lnTo>
                  <a:lnTo>
                    <a:pt x="2694609" y="6191999"/>
                  </a:lnTo>
                  <a:lnTo>
                    <a:pt x="0" y="619199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bject 9"/>
            <p:cNvSpPr/>
            <p:nvPr/>
          </p:nvSpPr>
          <p:spPr>
            <a:xfrm>
              <a:off x="5253120" y="1433520"/>
              <a:ext cx="514440" cy="8412480"/>
            </a:xfrm>
            <a:custGeom>
              <a:avLst/>
              <a:gdLst/>
              <a:ahLst/>
              <a:rect l="l" t="t" r="r" b="b"/>
              <a:pathLst>
                <a:path w="513079" h="8399780">
                  <a:moveTo>
                    <a:pt x="512584" y="0"/>
                  </a:moveTo>
                  <a:lnTo>
                    <a:pt x="0" y="90766"/>
                  </a:lnTo>
                  <a:lnTo>
                    <a:pt x="0" y="8279993"/>
                  </a:lnTo>
                  <a:lnTo>
                    <a:pt x="512584" y="8399195"/>
                  </a:lnTo>
                </a:path>
              </a:pathLst>
            </a:custGeom>
            <a:noFill/>
            <a:ln w="12600">
              <a:solidFill>
                <a:srgbClr val="bcbe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bject 10"/>
            <p:cNvSpPr/>
            <p:nvPr/>
          </p:nvSpPr>
          <p:spPr>
            <a:xfrm>
              <a:off x="4604040" y="8793000"/>
              <a:ext cx="957240" cy="433080"/>
            </a:xfrm>
            <a:custGeom>
              <a:avLst/>
              <a:gdLst/>
              <a:ahLst/>
              <a:rect l="l" t="t" r="r" b="b"/>
              <a:pathLst>
                <a:path w="954404" h="432434">
                  <a:moveTo>
                    <a:pt x="905230" y="0"/>
                  </a:moveTo>
                  <a:lnTo>
                    <a:pt x="48806" y="0"/>
                  </a:lnTo>
                  <a:lnTo>
                    <a:pt x="29810" y="4242"/>
                  </a:lnTo>
                  <a:lnTo>
                    <a:pt x="14297" y="15811"/>
                  </a:lnTo>
                  <a:lnTo>
                    <a:pt x="3836" y="32971"/>
                  </a:lnTo>
                  <a:lnTo>
                    <a:pt x="0" y="53987"/>
                  </a:lnTo>
                  <a:lnTo>
                    <a:pt x="0" y="378015"/>
                  </a:lnTo>
                  <a:lnTo>
                    <a:pt x="3836" y="399025"/>
                  </a:lnTo>
                  <a:lnTo>
                    <a:pt x="14297" y="416186"/>
                  </a:lnTo>
                  <a:lnTo>
                    <a:pt x="29810" y="427759"/>
                  </a:lnTo>
                  <a:lnTo>
                    <a:pt x="48806" y="432003"/>
                  </a:lnTo>
                  <a:lnTo>
                    <a:pt x="905230" y="432003"/>
                  </a:lnTo>
                  <a:lnTo>
                    <a:pt x="924219" y="427759"/>
                  </a:lnTo>
                  <a:lnTo>
                    <a:pt x="939720" y="416186"/>
                  </a:lnTo>
                  <a:lnTo>
                    <a:pt x="950168" y="399025"/>
                  </a:lnTo>
                  <a:lnTo>
                    <a:pt x="953998" y="378015"/>
                  </a:lnTo>
                  <a:lnTo>
                    <a:pt x="953998" y="53987"/>
                  </a:lnTo>
                  <a:lnTo>
                    <a:pt x="950168" y="32971"/>
                  </a:lnTo>
                  <a:lnTo>
                    <a:pt x="939720" y="15811"/>
                  </a:lnTo>
                  <a:lnTo>
                    <a:pt x="924219" y="4242"/>
                  </a:lnTo>
                  <a:lnTo>
                    <a:pt x="905230" y="0"/>
                  </a:lnTo>
                  <a:close/>
                </a:path>
              </a:pathLst>
            </a:custGeom>
            <a:solidFill>
              <a:srgbClr val="e1f4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11"/>
            <p:cNvSpPr/>
            <p:nvPr/>
          </p:nvSpPr>
          <p:spPr>
            <a:xfrm>
              <a:off x="4604040" y="8793000"/>
              <a:ext cx="957240" cy="433080"/>
            </a:xfrm>
            <a:custGeom>
              <a:avLst/>
              <a:gdLst/>
              <a:ahLst/>
              <a:rect l="l" t="t" r="r" b="b"/>
              <a:pathLst>
                <a:path w="954404" h="432434">
                  <a:moveTo>
                    <a:pt x="48806" y="0"/>
                  </a:moveTo>
                  <a:lnTo>
                    <a:pt x="905230" y="0"/>
                  </a:lnTo>
                  <a:lnTo>
                    <a:pt x="924219" y="4242"/>
                  </a:lnTo>
                  <a:lnTo>
                    <a:pt x="939720" y="15811"/>
                  </a:lnTo>
                  <a:lnTo>
                    <a:pt x="950168" y="32971"/>
                  </a:lnTo>
                  <a:lnTo>
                    <a:pt x="953998" y="53987"/>
                  </a:lnTo>
                  <a:lnTo>
                    <a:pt x="953998" y="378015"/>
                  </a:lnTo>
                  <a:lnTo>
                    <a:pt x="950168" y="399025"/>
                  </a:lnTo>
                  <a:lnTo>
                    <a:pt x="939720" y="416186"/>
                  </a:lnTo>
                  <a:lnTo>
                    <a:pt x="924219" y="427759"/>
                  </a:lnTo>
                  <a:lnTo>
                    <a:pt x="905230" y="432003"/>
                  </a:lnTo>
                  <a:lnTo>
                    <a:pt x="48806" y="432003"/>
                  </a:lnTo>
                  <a:lnTo>
                    <a:pt x="29810" y="427759"/>
                  </a:lnTo>
                  <a:lnTo>
                    <a:pt x="14297" y="416186"/>
                  </a:lnTo>
                  <a:lnTo>
                    <a:pt x="3836" y="399025"/>
                  </a:lnTo>
                  <a:lnTo>
                    <a:pt x="0" y="378015"/>
                  </a:lnTo>
                  <a:lnTo>
                    <a:pt x="0" y="53987"/>
                  </a:lnTo>
                  <a:lnTo>
                    <a:pt x="3836" y="32971"/>
                  </a:lnTo>
                  <a:lnTo>
                    <a:pt x="14297" y="15811"/>
                  </a:lnTo>
                  <a:lnTo>
                    <a:pt x="29810" y="4242"/>
                  </a:lnTo>
                  <a:lnTo>
                    <a:pt x="48806" y="0"/>
                  </a:lnTo>
                  <a:close/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12"/>
            <p:cNvSpPr/>
            <p:nvPr/>
          </p:nvSpPr>
          <p:spPr>
            <a:xfrm>
              <a:off x="4656240" y="8952840"/>
              <a:ext cx="618480" cy="113760"/>
            </a:xfrm>
            <a:custGeom>
              <a:avLst/>
              <a:gdLst/>
              <a:ahLst/>
              <a:rect l="l" t="t" r="r" b="b"/>
              <a:pathLst>
                <a:path w="616585" h="113665">
                  <a:moveTo>
                    <a:pt x="61976" y="3162"/>
                  </a:moveTo>
                  <a:lnTo>
                    <a:pt x="0" y="3162"/>
                  </a:lnTo>
                  <a:lnTo>
                    <a:pt x="0" y="103047"/>
                  </a:lnTo>
                  <a:lnTo>
                    <a:pt x="14998" y="103047"/>
                  </a:lnTo>
                  <a:lnTo>
                    <a:pt x="14998" y="59105"/>
                  </a:lnTo>
                  <a:lnTo>
                    <a:pt x="57937" y="59105"/>
                  </a:lnTo>
                  <a:lnTo>
                    <a:pt x="57937" y="45618"/>
                  </a:lnTo>
                  <a:lnTo>
                    <a:pt x="14998" y="45618"/>
                  </a:lnTo>
                  <a:lnTo>
                    <a:pt x="14998" y="16776"/>
                  </a:lnTo>
                  <a:lnTo>
                    <a:pt x="61976" y="16776"/>
                  </a:lnTo>
                  <a:lnTo>
                    <a:pt x="61976" y="3162"/>
                  </a:lnTo>
                  <a:close/>
                </a:path>
                <a:path w="616585" h="113665">
                  <a:moveTo>
                    <a:pt x="137833" y="74714"/>
                  </a:moveTo>
                  <a:lnTo>
                    <a:pt x="109105" y="44983"/>
                  </a:lnTo>
                  <a:lnTo>
                    <a:pt x="98666" y="41338"/>
                  </a:lnTo>
                  <a:lnTo>
                    <a:pt x="92367" y="38315"/>
                  </a:lnTo>
                  <a:lnTo>
                    <a:pt x="92367" y="21183"/>
                  </a:lnTo>
                  <a:lnTo>
                    <a:pt x="99034" y="14757"/>
                  </a:lnTo>
                  <a:lnTo>
                    <a:pt x="116801" y="14757"/>
                  </a:lnTo>
                  <a:lnTo>
                    <a:pt x="122974" y="17157"/>
                  </a:lnTo>
                  <a:lnTo>
                    <a:pt x="128892" y="21310"/>
                  </a:lnTo>
                  <a:lnTo>
                    <a:pt x="132422" y="7454"/>
                  </a:lnTo>
                  <a:lnTo>
                    <a:pt x="121081" y="1155"/>
                  </a:lnTo>
                  <a:lnTo>
                    <a:pt x="109105" y="1155"/>
                  </a:lnTo>
                  <a:lnTo>
                    <a:pt x="96393" y="3302"/>
                  </a:lnTo>
                  <a:lnTo>
                    <a:pt x="86347" y="9321"/>
                  </a:lnTo>
                  <a:lnTo>
                    <a:pt x="79743" y="18529"/>
                  </a:lnTo>
                  <a:lnTo>
                    <a:pt x="77368" y="30251"/>
                  </a:lnTo>
                  <a:lnTo>
                    <a:pt x="79095" y="40271"/>
                  </a:lnTo>
                  <a:lnTo>
                    <a:pt x="84124" y="47853"/>
                  </a:lnTo>
                  <a:lnTo>
                    <a:pt x="92303" y="53594"/>
                  </a:lnTo>
                  <a:lnTo>
                    <a:pt x="103454" y="58089"/>
                  </a:lnTo>
                  <a:lnTo>
                    <a:pt x="111429" y="61087"/>
                  </a:lnTo>
                  <a:lnTo>
                    <a:pt x="117551" y="64744"/>
                  </a:lnTo>
                  <a:lnTo>
                    <a:pt x="121462" y="69507"/>
                  </a:lnTo>
                  <a:lnTo>
                    <a:pt x="122847" y="75844"/>
                  </a:lnTo>
                  <a:lnTo>
                    <a:pt x="121081" y="82638"/>
                  </a:lnTo>
                  <a:lnTo>
                    <a:pt x="116370" y="87528"/>
                  </a:lnTo>
                  <a:lnTo>
                    <a:pt x="109613" y="90474"/>
                  </a:lnTo>
                  <a:lnTo>
                    <a:pt x="101676" y="91465"/>
                  </a:lnTo>
                  <a:lnTo>
                    <a:pt x="92989" y="91465"/>
                  </a:lnTo>
                  <a:lnTo>
                    <a:pt x="85051" y="88315"/>
                  </a:lnTo>
                  <a:lnTo>
                    <a:pt x="77762" y="83159"/>
                  </a:lnTo>
                  <a:lnTo>
                    <a:pt x="73469" y="96634"/>
                  </a:lnTo>
                  <a:lnTo>
                    <a:pt x="80289" y="100406"/>
                  </a:lnTo>
                  <a:lnTo>
                    <a:pt x="87376" y="103035"/>
                  </a:lnTo>
                  <a:lnTo>
                    <a:pt x="94818" y="104571"/>
                  </a:lnTo>
                  <a:lnTo>
                    <a:pt x="102692" y="105079"/>
                  </a:lnTo>
                  <a:lnTo>
                    <a:pt x="117170" y="102793"/>
                  </a:lnTo>
                  <a:lnTo>
                    <a:pt x="128244" y="96456"/>
                  </a:lnTo>
                  <a:lnTo>
                    <a:pt x="135343" y="86842"/>
                  </a:lnTo>
                  <a:lnTo>
                    <a:pt x="137833" y="74714"/>
                  </a:lnTo>
                  <a:close/>
                </a:path>
                <a:path w="616585" h="113665">
                  <a:moveTo>
                    <a:pt x="236118" y="10337"/>
                  </a:moveTo>
                  <a:lnTo>
                    <a:pt x="228828" y="6261"/>
                  </a:lnTo>
                  <a:lnTo>
                    <a:pt x="221259" y="3390"/>
                  </a:lnTo>
                  <a:lnTo>
                    <a:pt x="213347" y="1714"/>
                  </a:lnTo>
                  <a:lnTo>
                    <a:pt x="205003" y="1155"/>
                  </a:lnTo>
                  <a:lnTo>
                    <a:pt x="184302" y="4787"/>
                  </a:lnTo>
                  <a:lnTo>
                    <a:pt x="167411" y="15189"/>
                  </a:lnTo>
                  <a:lnTo>
                    <a:pt x="156019" y="31597"/>
                  </a:lnTo>
                  <a:lnTo>
                    <a:pt x="151841" y="53289"/>
                  </a:lnTo>
                  <a:lnTo>
                    <a:pt x="155257" y="73177"/>
                  </a:lnTo>
                  <a:lnTo>
                    <a:pt x="165417" y="89674"/>
                  </a:lnTo>
                  <a:lnTo>
                    <a:pt x="182130" y="100914"/>
                  </a:lnTo>
                  <a:lnTo>
                    <a:pt x="205244" y="105067"/>
                  </a:lnTo>
                  <a:lnTo>
                    <a:pt x="213258" y="104635"/>
                  </a:lnTo>
                  <a:lnTo>
                    <a:pt x="221145" y="103301"/>
                  </a:lnTo>
                  <a:lnTo>
                    <a:pt x="228815" y="101028"/>
                  </a:lnTo>
                  <a:lnTo>
                    <a:pt x="236118" y="97764"/>
                  </a:lnTo>
                  <a:lnTo>
                    <a:pt x="236118" y="81521"/>
                  </a:lnTo>
                  <a:lnTo>
                    <a:pt x="229768" y="85623"/>
                  </a:lnTo>
                  <a:lnTo>
                    <a:pt x="222732" y="88760"/>
                  </a:lnTo>
                  <a:lnTo>
                    <a:pt x="214884" y="90766"/>
                  </a:lnTo>
                  <a:lnTo>
                    <a:pt x="206133" y="91465"/>
                  </a:lnTo>
                  <a:lnTo>
                    <a:pt x="188353" y="88163"/>
                  </a:lnTo>
                  <a:lnTo>
                    <a:pt x="176136" y="79451"/>
                  </a:lnTo>
                  <a:lnTo>
                    <a:pt x="169100" y="67183"/>
                  </a:lnTo>
                  <a:lnTo>
                    <a:pt x="166839" y="53162"/>
                  </a:lnTo>
                  <a:lnTo>
                    <a:pt x="169341" y="38455"/>
                  </a:lnTo>
                  <a:lnTo>
                    <a:pt x="176682" y="26225"/>
                  </a:lnTo>
                  <a:lnTo>
                    <a:pt x="188607" y="17856"/>
                  </a:lnTo>
                  <a:lnTo>
                    <a:pt x="204863" y="14757"/>
                  </a:lnTo>
                  <a:lnTo>
                    <a:pt x="213296" y="15532"/>
                  </a:lnTo>
                  <a:lnTo>
                    <a:pt x="220484" y="17576"/>
                  </a:lnTo>
                  <a:lnTo>
                    <a:pt x="226441" y="20548"/>
                  </a:lnTo>
                  <a:lnTo>
                    <a:pt x="231203" y="24066"/>
                  </a:lnTo>
                  <a:lnTo>
                    <a:pt x="236118" y="10337"/>
                  </a:lnTo>
                  <a:close/>
                </a:path>
                <a:path w="616585" h="113665">
                  <a:moveTo>
                    <a:pt x="291058" y="54927"/>
                  </a:moveTo>
                  <a:lnTo>
                    <a:pt x="251764" y="54927"/>
                  </a:lnTo>
                  <a:lnTo>
                    <a:pt x="251764" y="66141"/>
                  </a:lnTo>
                  <a:lnTo>
                    <a:pt x="291058" y="66141"/>
                  </a:lnTo>
                  <a:lnTo>
                    <a:pt x="291058" y="54927"/>
                  </a:lnTo>
                  <a:close/>
                </a:path>
                <a:path w="616585" h="113665">
                  <a:moveTo>
                    <a:pt x="291058" y="36042"/>
                  </a:moveTo>
                  <a:lnTo>
                    <a:pt x="251764" y="36042"/>
                  </a:lnTo>
                  <a:lnTo>
                    <a:pt x="251764" y="47256"/>
                  </a:lnTo>
                  <a:lnTo>
                    <a:pt x="291058" y="47256"/>
                  </a:lnTo>
                  <a:lnTo>
                    <a:pt x="291058" y="36042"/>
                  </a:lnTo>
                  <a:close/>
                </a:path>
                <a:path w="616585" h="113665">
                  <a:moveTo>
                    <a:pt x="291058" y="279"/>
                  </a:moveTo>
                  <a:lnTo>
                    <a:pt x="251764" y="279"/>
                  </a:lnTo>
                  <a:lnTo>
                    <a:pt x="251764" y="11493"/>
                  </a:lnTo>
                  <a:lnTo>
                    <a:pt x="291058" y="11493"/>
                  </a:lnTo>
                  <a:lnTo>
                    <a:pt x="291058" y="279"/>
                  </a:lnTo>
                  <a:close/>
                </a:path>
                <a:path w="616585" h="113665">
                  <a:moveTo>
                    <a:pt x="295351" y="17907"/>
                  </a:moveTo>
                  <a:lnTo>
                    <a:pt x="247853" y="17907"/>
                  </a:lnTo>
                  <a:lnTo>
                    <a:pt x="247853" y="29375"/>
                  </a:lnTo>
                  <a:lnTo>
                    <a:pt x="295351" y="29375"/>
                  </a:lnTo>
                  <a:lnTo>
                    <a:pt x="295351" y="17907"/>
                  </a:lnTo>
                  <a:close/>
                </a:path>
                <a:path w="616585" h="113665">
                  <a:moveTo>
                    <a:pt x="309714" y="71691"/>
                  </a:moveTo>
                  <a:lnTo>
                    <a:pt x="298119" y="70802"/>
                  </a:lnTo>
                  <a:lnTo>
                    <a:pt x="296926" y="80200"/>
                  </a:lnTo>
                  <a:lnTo>
                    <a:pt x="295300" y="87680"/>
                  </a:lnTo>
                  <a:lnTo>
                    <a:pt x="293319" y="93649"/>
                  </a:lnTo>
                  <a:lnTo>
                    <a:pt x="291058" y="98513"/>
                  </a:lnTo>
                  <a:lnTo>
                    <a:pt x="291058" y="84416"/>
                  </a:lnTo>
                  <a:lnTo>
                    <a:pt x="291058" y="73583"/>
                  </a:lnTo>
                  <a:lnTo>
                    <a:pt x="279971" y="73583"/>
                  </a:lnTo>
                  <a:lnTo>
                    <a:pt x="279971" y="84416"/>
                  </a:lnTo>
                  <a:lnTo>
                    <a:pt x="279971" y="101168"/>
                  </a:lnTo>
                  <a:lnTo>
                    <a:pt x="262978" y="101168"/>
                  </a:lnTo>
                  <a:lnTo>
                    <a:pt x="262978" y="84416"/>
                  </a:lnTo>
                  <a:lnTo>
                    <a:pt x="279971" y="84416"/>
                  </a:lnTo>
                  <a:lnTo>
                    <a:pt x="279971" y="73583"/>
                  </a:lnTo>
                  <a:lnTo>
                    <a:pt x="251764" y="73583"/>
                  </a:lnTo>
                  <a:lnTo>
                    <a:pt x="251764" y="112001"/>
                  </a:lnTo>
                  <a:lnTo>
                    <a:pt x="291058" y="112001"/>
                  </a:lnTo>
                  <a:lnTo>
                    <a:pt x="291058" y="102298"/>
                  </a:lnTo>
                  <a:lnTo>
                    <a:pt x="299999" y="108089"/>
                  </a:lnTo>
                  <a:lnTo>
                    <a:pt x="302450" y="102298"/>
                  </a:lnTo>
                  <a:lnTo>
                    <a:pt x="302933" y="101168"/>
                  </a:lnTo>
                  <a:lnTo>
                    <a:pt x="304050" y="98513"/>
                  </a:lnTo>
                  <a:lnTo>
                    <a:pt x="304228" y="98094"/>
                  </a:lnTo>
                  <a:lnTo>
                    <a:pt x="307073" y="88049"/>
                  </a:lnTo>
                  <a:lnTo>
                    <a:pt x="308813" y="78917"/>
                  </a:lnTo>
                  <a:lnTo>
                    <a:pt x="309714" y="71691"/>
                  </a:lnTo>
                  <a:close/>
                </a:path>
                <a:path w="616585" h="113665">
                  <a:moveTo>
                    <a:pt x="342696" y="66408"/>
                  </a:moveTo>
                  <a:lnTo>
                    <a:pt x="337591" y="61709"/>
                  </a:lnTo>
                  <a:lnTo>
                    <a:pt x="332422" y="57581"/>
                  </a:lnTo>
                  <a:lnTo>
                    <a:pt x="327139" y="53924"/>
                  </a:lnTo>
                  <a:lnTo>
                    <a:pt x="321665" y="50660"/>
                  </a:lnTo>
                  <a:lnTo>
                    <a:pt x="314363" y="59601"/>
                  </a:lnTo>
                  <a:lnTo>
                    <a:pt x="321868" y="64223"/>
                  </a:lnTo>
                  <a:lnTo>
                    <a:pt x="328041" y="68668"/>
                  </a:lnTo>
                  <a:lnTo>
                    <a:pt x="332701" y="72478"/>
                  </a:lnTo>
                  <a:lnTo>
                    <a:pt x="336029" y="75476"/>
                  </a:lnTo>
                  <a:lnTo>
                    <a:pt x="342696" y="66408"/>
                  </a:lnTo>
                  <a:close/>
                </a:path>
                <a:path w="616585" h="113665">
                  <a:moveTo>
                    <a:pt x="349758" y="92595"/>
                  </a:moveTo>
                  <a:lnTo>
                    <a:pt x="338416" y="89077"/>
                  </a:lnTo>
                  <a:lnTo>
                    <a:pt x="337540" y="98780"/>
                  </a:lnTo>
                  <a:lnTo>
                    <a:pt x="337172" y="101930"/>
                  </a:lnTo>
                  <a:lnTo>
                    <a:pt x="326199" y="101930"/>
                  </a:lnTo>
                  <a:lnTo>
                    <a:pt x="325183" y="101168"/>
                  </a:lnTo>
                  <a:lnTo>
                    <a:pt x="325183" y="71691"/>
                  </a:lnTo>
                  <a:lnTo>
                    <a:pt x="313359" y="71691"/>
                  </a:lnTo>
                  <a:lnTo>
                    <a:pt x="313359" y="108597"/>
                  </a:lnTo>
                  <a:lnTo>
                    <a:pt x="316255" y="113258"/>
                  </a:lnTo>
                  <a:lnTo>
                    <a:pt x="346227" y="113258"/>
                  </a:lnTo>
                  <a:lnTo>
                    <a:pt x="348373" y="106578"/>
                  </a:lnTo>
                  <a:lnTo>
                    <a:pt x="348830" y="101930"/>
                  </a:lnTo>
                  <a:lnTo>
                    <a:pt x="349758" y="92595"/>
                  </a:lnTo>
                  <a:close/>
                </a:path>
                <a:path w="616585" h="113665">
                  <a:moveTo>
                    <a:pt x="361975" y="279"/>
                  </a:moveTo>
                  <a:lnTo>
                    <a:pt x="299364" y="279"/>
                  </a:lnTo>
                  <a:lnTo>
                    <a:pt x="299364" y="11099"/>
                  </a:lnTo>
                  <a:lnTo>
                    <a:pt x="319151" y="11099"/>
                  </a:lnTo>
                  <a:lnTo>
                    <a:pt x="318770" y="14008"/>
                  </a:lnTo>
                  <a:lnTo>
                    <a:pt x="318516" y="15760"/>
                  </a:lnTo>
                  <a:lnTo>
                    <a:pt x="317512" y="19672"/>
                  </a:lnTo>
                  <a:lnTo>
                    <a:pt x="310083" y="17399"/>
                  </a:lnTo>
                  <a:lnTo>
                    <a:pt x="307936" y="16903"/>
                  </a:lnTo>
                  <a:lnTo>
                    <a:pt x="303657" y="16014"/>
                  </a:lnTo>
                  <a:lnTo>
                    <a:pt x="299364" y="25717"/>
                  </a:lnTo>
                  <a:lnTo>
                    <a:pt x="306679" y="27863"/>
                  </a:lnTo>
                  <a:lnTo>
                    <a:pt x="308940" y="28613"/>
                  </a:lnTo>
                  <a:lnTo>
                    <a:pt x="292442" y="47256"/>
                  </a:lnTo>
                  <a:lnTo>
                    <a:pt x="300380" y="57708"/>
                  </a:lnTo>
                  <a:lnTo>
                    <a:pt x="309575" y="51320"/>
                  </a:lnTo>
                  <a:lnTo>
                    <a:pt x="316077" y="45275"/>
                  </a:lnTo>
                  <a:lnTo>
                    <a:pt x="320624" y="39636"/>
                  </a:lnTo>
                  <a:lnTo>
                    <a:pt x="323938" y="34531"/>
                  </a:lnTo>
                  <a:lnTo>
                    <a:pt x="330390" y="37566"/>
                  </a:lnTo>
                  <a:lnTo>
                    <a:pt x="332625" y="38950"/>
                  </a:lnTo>
                  <a:lnTo>
                    <a:pt x="336397" y="41338"/>
                  </a:lnTo>
                  <a:lnTo>
                    <a:pt x="339928" y="34531"/>
                  </a:lnTo>
                  <a:lnTo>
                    <a:pt x="341820" y="30886"/>
                  </a:lnTo>
                  <a:lnTo>
                    <a:pt x="338543" y="28613"/>
                  </a:lnTo>
                  <a:lnTo>
                    <a:pt x="336651" y="27470"/>
                  </a:lnTo>
                  <a:lnTo>
                    <a:pt x="328726" y="23952"/>
                  </a:lnTo>
                  <a:lnTo>
                    <a:pt x="330136" y="19672"/>
                  </a:lnTo>
                  <a:lnTo>
                    <a:pt x="330225" y="19418"/>
                  </a:lnTo>
                  <a:lnTo>
                    <a:pt x="330987" y="16522"/>
                  </a:lnTo>
                  <a:lnTo>
                    <a:pt x="331863" y="11099"/>
                  </a:lnTo>
                  <a:lnTo>
                    <a:pt x="350888" y="11099"/>
                  </a:lnTo>
                  <a:lnTo>
                    <a:pt x="344093" y="42976"/>
                  </a:lnTo>
                  <a:lnTo>
                    <a:pt x="332511" y="42976"/>
                  </a:lnTo>
                  <a:lnTo>
                    <a:pt x="334391" y="55321"/>
                  </a:lnTo>
                  <a:lnTo>
                    <a:pt x="352031" y="55321"/>
                  </a:lnTo>
                  <a:lnTo>
                    <a:pt x="355549" y="53809"/>
                  </a:lnTo>
                  <a:lnTo>
                    <a:pt x="361861" y="11493"/>
                  </a:lnTo>
                  <a:lnTo>
                    <a:pt x="361975" y="279"/>
                  </a:lnTo>
                  <a:close/>
                </a:path>
                <a:path w="616585" h="113665">
                  <a:moveTo>
                    <a:pt x="367512" y="104317"/>
                  </a:moveTo>
                  <a:lnTo>
                    <a:pt x="365760" y="94564"/>
                  </a:lnTo>
                  <a:lnTo>
                    <a:pt x="363385" y="85267"/>
                  </a:lnTo>
                  <a:lnTo>
                    <a:pt x="360502" y="76581"/>
                  </a:lnTo>
                  <a:lnTo>
                    <a:pt x="357187" y="68668"/>
                  </a:lnTo>
                  <a:lnTo>
                    <a:pt x="346100" y="71691"/>
                  </a:lnTo>
                  <a:lnTo>
                    <a:pt x="348983" y="79578"/>
                  </a:lnTo>
                  <a:lnTo>
                    <a:pt x="351548" y="88049"/>
                  </a:lnTo>
                  <a:lnTo>
                    <a:pt x="353745" y="97370"/>
                  </a:lnTo>
                  <a:lnTo>
                    <a:pt x="355549" y="108089"/>
                  </a:lnTo>
                  <a:lnTo>
                    <a:pt x="367512" y="104317"/>
                  </a:lnTo>
                  <a:close/>
                </a:path>
                <a:path w="616585" h="113665">
                  <a:moveTo>
                    <a:pt x="421970" y="72948"/>
                  </a:moveTo>
                  <a:lnTo>
                    <a:pt x="409244" y="72948"/>
                  </a:lnTo>
                  <a:lnTo>
                    <a:pt x="409244" y="84035"/>
                  </a:lnTo>
                  <a:lnTo>
                    <a:pt x="409244" y="100914"/>
                  </a:lnTo>
                  <a:lnTo>
                    <a:pt x="392874" y="100914"/>
                  </a:lnTo>
                  <a:lnTo>
                    <a:pt x="392874" y="84035"/>
                  </a:lnTo>
                  <a:lnTo>
                    <a:pt x="409244" y="84035"/>
                  </a:lnTo>
                  <a:lnTo>
                    <a:pt x="409244" y="72948"/>
                  </a:lnTo>
                  <a:lnTo>
                    <a:pt x="380403" y="72948"/>
                  </a:lnTo>
                  <a:lnTo>
                    <a:pt x="380403" y="111747"/>
                  </a:lnTo>
                  <a:lnTo>
                    <a:pt x="421970" y="111747"/>
                  </a:lnTo>
                  <a:lnTo>
                    <a:pt x="421970" y="100914"/>
                  </a:lnTo>
                  <a:lnTo>
                    <a:pt x="421970" y="84035"/>
                  </a:lnTo>
                  <a:lnTo>
                    <a:pt x="421970" y="72948"/>
                  </a:lnTo>
                  <a:close/>
                </a:path>
                <a:path w="616585" h="113665">
                  <a:moveTo>
                    <a:pt x="421970" y="54546"/>
                  </a:moveTo>
                  <a:lnTo>
                    <a:pt x="380403" y="54546"/>
                  </a:lnTo>
                  <a:lnTo>
                    <a:pt x="380403" y="65887"/>
                  </a:lnTo>
                  <a:lnTo>
                    <a:pt x="421970" y="65887"/>
                  </a:lnTo>
                  <a:lnTo>
                    <a:pt x="421970" y="54546"/>
                  </a:lnTo>
                  <a:close/>
                </a:path>
                <a:path w="616585" h="113665">
                  <a:moveTo>
                    <a:pt x="421970" y="35915"/>
                  </a:moveTo>
                  <a:lnTo>
                    <a:pt x="380403" y="35915"/>
                  </a:lnTo>
                  <a:lnTo>
                    <a:pt x="380403" y="47129"/>
                  </a:lnTo>
                  <a:lnTo>
                    <a:pt x="421970" y="47129"/>
                  </a:lnTo>
                  <a:lnTo>
                    <a:pt x="421970" y="35915"/>
                  </a:lnTo>
                  <a:close/>
                </a:path>
                <a:path w="616585" h="113665">
                  <a:moveTo>
                    <a:pt x="421970" y="0"/>
                  </a:moveTo>
                  <a:lnTo>
                    <a:pt x="380403" y="0"/>
                  </a:lnTo>
                  <a:lnTo>
                    <a:pt x="380403" y="11341"/>
                  </a:lnTo>
                  <a:lnTo>
                    <a:pt x="421970" y="11341"/>
                  </a:lnTo>
                  <a:lnTo>
                    <a:pt x="421970" y="0"/>
                  </a:lnTo>
                  <a:close/>
                </a:path>
                <a:path w="616585" h="113665">
                  <a:moveTo>
                    <a:pt x="426008" y="17894"/>
                  </a:moveTo>
                  <a:lnTo>
                    <a:pt x="376516" y="17894"/>
                  </a:lnTo>
                  <a:lnTo>
                    <a:pt x="376516" y="29362"/>
                  </a:lnTo>
                  <a:lnTo>
                    <a:pt x="426008" y="29362"/>
                  </a:lnTo>
                  <a:lnTo>
                    <a:pt x="426008" y="17894"/>
                  </a:lnTo>
                  <a:close/>
                </a:path>
                <a:path w="616585" h="113665">
                  <a:moveTo>
                    <a:pt x="496036" y="97891"/>
                  </a:moveTo>
                  <a:lnTo>
                    <a:pt x="472732" y="97891"/>
                  </a:lnTo>
                  <a:lnTo>
                    <a:pt x="472732" y="57581"/>
                  </a:lnTo>
                  <a:lnTo>
                    <a:pt x="491871" y="57581"/>
                  </a:lnTo>
                  <a:lnTo>
                    <a:pt x="491871" y="45224"/>
                  </a:lnTo>
                  <a:lnTo>
                    <a:pt x="472732" y="45224"/>
                  </a:lnTo>
                  <a:lnTo>
                    <a:pt x="472732" y="12357"/>
                  </a:lnTo>
                  <a:lnTo>
                    <a:pt x="494157" y="12357"/>
                  </a:lnTo>
                  <a:lnTo>
                    <a:pt x="494157" y="12"/>
                  </a:lnTo>
                  <a:lnTo>
                    <a:pt x="428269" y="12"/>
                  </a:lnTo>
                  <a:lnTo>
                    <a:pt x="428269" y="12357"/>
                  </a:lnTo>
                  <a:lnTo>
                    <a:pt x="459765" y="12357"/>
                  </a:lnTo>
                  <a:lnTo>
                    <a:pt x="459765" y="97891"/>
                  </a:lnTo>
                  <a:lnTo>
                    <a:pt x="445909" y="97891"/>
                  </a:lnTo>
                  <a:lnTo>
                    <a:pt x="445909" y="29997"/>
                  </a:lnTo>
                  <a:lnTo>
                    <a:pt x="433057" y="29997"/>
                  </a:lnTo>
                  <a:lnTo>
                    <a:pt x="433057" y="97891"/>
                  </a:lnTo>
                  <a:lnTo>
                    <a:pt x="426008" y="97891"/>
                  </a:lnTo>
                  <a:lnTo>
                    <a:pt x="426008" y="110109"/>
                  </a:lnTo>
                  <a:lnTo>
                    <a:pt x="496036" y="110109"/>
                  </a:lnTo>
                  <a:lnTo>
                    <a:pt x="496036" y="97891"/>
                  </a:lnTo>
                  <a:close/>
                </a:path>
                <a:path w="616585" h="113665">
                  <a:moveTo>
                    <a:pt x="616127" y="85534"/>
                  </a:moveTo>
                  <a:lnTo>
                    <a:pt x="570903" y="85534"/>
                  </a:lnTo>
                  <a:lnTo>
                    <a:pt x="570903" y="24574"/>
                  </a:lnTo>
                  <a:lnTo>
                    <a:pt x="609574" y="24574"/>
                  </a:lnTo>
                  <a:lnTo>
                    <a:pt x="609574" y="10604"/>
                  </a:lnTo>
                  <a:lnTo>
                    <a:pt x="517994" y="10604"/>
                  </a:lnTo>
                  <a:lnTo>
                    <a:pt x="517994" y="24574"/>
                  </a:lnTo>
                  <a:lnTo>
                    <a:pt x="556171" y="24574"/>
                  </a:lnTo>
                  <a:lnTo>
                    <a:pt x="556171" y="85534"/>
                  </a:lnTo>
                  <a:lnTo>
                    <a:pt x="511441" y="85534"/>
                  </a:lnTo>
                  <a:lnTo>
                    <a:pt x="511441" y="99504"/>
                  </a:lnTo>
                  <a:lnTo>
                    <a:pt x="616127" y="99504"/>
                  </a:lnTo>
                  <a:lnTo>
                    <a:pt x="616127" y="85534"/>
                  </a:lnTo>
                  <a:close/>
                </a:path>
              </a:pathLst>
            </a:custGeom>
            <a:solidFill>
              <a:srgbClr val="00b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" name="object 13" descr=""/>
            <p:cNvPicPr/>
            <p:nvPr/>
          </p:nvPicPr>
          <p:blipFill>
            <a:blip r:embed="rId3"/>
            <a:stretch/>
          </p:blipFill>
          <p:spPr>
            <a:xfrm>
              <a:off x="5300640" y="8955720"/>
              <a:ext cx="77040" cy="1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object 14" descr=""/>
            <p:cNvPicPr/>
            <p:nvPr/>
          </p:nvPicPr>
          <p:blipFill>
            <a:blip r:embed="rId4"/>
            <a:stretch/>
          </p:blipFill>
          <p:spPr>
            <a:xfrm>
              <a:off x="5403240" y="8958960"/>
              <a:ext cx="105120" cy="10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" name="AutoShape 163"/>
          <p:cNvSpPr/>
          <p:nvPr/>
        </p:nvSpPr>
        <p:spPr>
          <a:xfrm>
            <a:off x="98280" y="3571920"/>
            <a:ext cx="1028880" cy="73008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prima-rire</dc:creator>
  <dc:description/>
  <dc:language>en-US</dc:language>
  <cp:lastModifiedBy>A19-205</cp:lastModifiedBy>
  <dcterms:modified xsi:type="dcterms:W3CDTF">2021-08-26T18:56:18Z</dcterms:modified>
  <cp:revision>25</cp:revision>
  <dc:subject/>
  <dc:title>スライド 1</dc:title>
</cp:coreProperties>
</file>