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9" descr=""/>
          <p:cNvPicPr/>
          <p:nvPr/>
        </p:nvPicPr>
        <p:blipFill>
          <a:blip r:embed="rId2"/>
          <a:stretch/>
        </p:blipFill>
        <p:spPr>
          <a:xfrm>
            <a:off x="3654360" y="360360"/>
            <a:ext cx="3925800" cy="39204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3"/>
          <p:cNvGrpSpPr/>
          <p:nvPr/>
        </p:nvGrpSpPr>
        <p:grpSpPr>
          <a:xfrm>
            <a:off x="90360" y="1440000"/>
            <a:ext cx="9820440" cy="4332240"/>
            <a:chOff x="90360" y="1440000"/>
            <a:chExt cx="9820440" cy="4332240"/>
          </a:xfrm>
        </p:grpSpPr>
        <p:grpSp>
          <p:nvGrpSpPr>
            <p:cNvPr id="17" name="object 2"/>
            <p:cNvGrpSpPr/>
            <p:nvPr/>
          </p:nvGrpSpPr>
          <p:grpSpPr>
            <a:xfrm>
              <a:off x="1438200" y="1440000"/>
              <a:ext cx="8472600" cy="4332240"/>
              <a:chOff x="1438200" y="1440000"/>
              <a:chExt cx="8472600" cy="4332240"/>
            </a:xfrm>
          </p:grpSpPr>
          <p:sp>
            <p:nvSpPr>
              <p:cNvPr id="18" name="object 3"/>
              <p:cNvSpPr/>
              <p:nvPr/>
            </p:nvSpPr>
            <p:spPr>
              <a:xfrm>
                <a:off x="1438200" y="1440000"/>
                <a:ext cx="8472600" cy="4332240"/>
              </a:xfrm>
              <a:custGeom>
                <a:avLst/>
                <a:gdLst/>
                <a:ahLst/>
                <a:rect l="l" t="t" r="r" b="b"/>
                <a:pathLst>
                  <a:path w="8460105" h="4320540">
                    <a:moveTo>
                      <a:pt x="8460016" y="0"/>
                    </a:moveTo>
                    <a:lnTo>
                      <a:pt x="0" y="0"/>
                    </a:lnTo>
                    <a:lnTo>
                      <a:pt x="0" y="4320006"/>
                    </a:lnTo>
                    <a:lnTo>
                      <a:pt x="8460016" y="4320006"/>
                    </a:lnTo>
                    <a:lnTo>
                      <a:pt x="8460016" y="0"/>
                    </a:lnTo>
                    <a:close/>
                  </a:path>
                </a:pathLst>
              </a:custGeom>
              <a:solidFill>
                <a:srgbClr val="e1f4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4"/>
              <p:cNvSpPr/>
              <p:nvPr/>
            </p:nvSpPr>
            <p:spPr>
              <a:xfrm>
                <a:off x="1438200" y="1593000"/>
                <a:ext cx="8386920" cy="4178880"/>
              </a:xfrm>
              <a:custGeom>
                <a:avLst/>
                <a:gdLst/>
                <a:ahLst/>
                <a:rect l="l" t="t" r="r" b="b"/>
                <a:pathLst>
                  <a:path w="8374380" h="4167504">
                    <a:moveTo>
                      <a:pt x="0" y="4167416"/>
                    </a:moveTo>
                    <a:lnTo>
                      <a:pt x="213639" y="2006536"/>
                    </a:lnTo>
                    <a:lnTo>
                      <a:pt x="65366" y="330136"/>
                    </a:lnTo>
                    <a:lnTo>
                      <a:pt x="124637" y="0"/>
                    </a:lnTo>
                    <a:lnTo>
                      <a:pt x="8280006" y="0"/>
                    </a:lnTo>
                    <a:lnTo>
                      <a:pt x="8374291" y="4167416"/>
                    </a:lnTo>
                  </a:path>
                </a:pathLst>
              </a:custGeom>
              <a:noFill/>
              <a:ln w="12600">
                <a:solidFill>
                  <a:srgbClr val="bcbe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5"/>
              <p:cNvSpPr/>
              <p:nvPr/>
            </p:nvSpPr>
            <p:spPr>
              <a:xfrm>
                <a:off x="9370080" y="1440000"/>
                <a:ext cx="434160" cy="4332240"/>
              </a:xfrm>
              <a:custGeom>
                <a:avLst/>
                <a:gdLst/>
                <a:ahLst/>
                <a:rect l="l" t="t" r="r" b="b"/>
                <a:pathLst>
                  <a:path w="433704" h="4320540">
                    <a:moveTo>
                      <a:pt x="433565" y="0"/>
                    </a:moveTo>
                    <a:lnTo>
                      <a:pt x="0" y="258889"/>
                    </a:lnTo>
                    <a:lnTo>
                      <a:pt x="0" y="4072382"/>
                    </a:lnTo>
                    <a:lnTo>
                      <a:pt x="433565" y="4320006"/>
                    </a:lnTo>
                  </a:path>
                </a:pathLst>
              </a:custGeom>
              <a:noFill/>
              <a:ln w="12600">
                <a:solidFill>
                  <a:srgbClr val="bcbe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6"/>
              <p:cNvSpPr/>
              <p:nvPr/>
            </p:nvSpPr>
            <p:spPr>
              <a:xfrm>
                <a:off x="1438200" y="1440000"/>
                <a:ext cx="8472600" cy="4332240"/>
              </a:xfrm>
              <a:custGeom>
                <a:avLst/>
                <a:gdLst/>
                <a:ahLst/>
                <a:rect l="l" t="t" r="r" b="b"/>
                <a:pathLst>
                  <a:path w="8460105" h="4320540">
                    <a:moveTo>
                      <a:pt x="8460016" y="0"/>
                    </a:moveTo>
                    <a:lnTo>
                      <a:pt x="0" y="0"/>
                    </a:lnTo>
                    <a:lnTo>
                      <a:pt x="0" y="4320006"/>
                    </a:lnTo>
                    <a:lnTo>
                      <a:pt x="8460016" y="4320006"/>
                    </a:lnTo>
                    <a:lnTo>
                      <a:pt x="8460016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7"/>
              <p:cNvSpPr/>
              <p:nvPr/>
            </p:nvSpPr>
            <p:spPr>
              <a:xfrm>
                <a:off x="2795400" y="1792800"/>
                <a:ext cx="6201720" cy="3610440"/>
              </a:xfrm>
              <a:custGeom>
                <a:avLst/>
                <a:gdLst/>
                <a:ahLst/>
                <a:rect l="l" t="t" r="r" b="b"/>
                <a:pathLst>
                  <a:path w="6192520" h="3600450">
                    <a:moveTo>
                      <a:pt x="6191999" y="905510"/>
                    </a:moveTo>
                    <a:lnTo>
                      <a:pt x="5867997" y="905510"/>
                    </a:lnTo>
                    <a:lnTo>
                      <a:pt x="5867997" y="0"/>
                    </a:lnTo>
                    <a:lnTo>
                      <a:pt x="0" y="0"/>
                    </a:lnTo>
                    <a:lnTo>
                      <a:pt x="0" y="905510"/>
                    </a:lnTo>
                    <a:lnTo>
                      <a:pt x="0" y="3600450"/>
                    </a:lnTo>
                    <a:lnTo>
                      <a:pt x="6191999" y="3600450"/>
                    </a:lnTo>
                    <a:lnTo>
                      <a:pt x="6191999" y="9055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8"/>
              <p:cNvSpPr/>
              <p:nvPr/>
            </p:nvSpPr>
            <p:spPr>
              <a:xfrm>
                <a:off x="2795400" y="1793160"/>
                <a:ext cx="6201720" cy="3610440"/>
              </a:xfrm>
              <a:custGeom>
                <a:avLst/>
                <a:gdLst/>
                <a:ahLst/>
                <a:rect l="l" t="t" r="r" b="b"/>
                <a:pathLst>
                  <a:path w="6192520" h="3600450">
                    <a:moveTo>
                      <a:pt x="0" y="3599992"/>
                    </a:moveTo>
                    <a:lnTo>
                      <a:pt x="0" y="0"/>
                    </a:lnTo>
                    <a:lnTo>
                      <a:pt x="5867996" y="0"/>
                    </a:lnTo>
                    <a:lnTo>
                      <a:pt x="5867996" y="905382"/>
                    </a:lnTo>
                    <a:lnTo>
                      <a:pt x="6191999" y="905382"/>
                    </a:lnTo>
                    <a:lnTo>
                      <a:pt x="6191999" y="3599992"/>
                    </a:lnTo>
                    <a:lnTo>
                      <a:pt x="0" y="3599992"/>
                    </a:ln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9"/>
              <p:cNvSpPr/>
              <p:nvPr/>
            </p:nvSpPr>
            <p:spPr>
              <a:xfrm>
                <a:off x="1438200" y="1440000"/>
                <a:ext cx="8412480" cy="514440"/>
              </a:xfrm>
              <a:custGeom>
                <a:avLst/>
                <a:gdLst/>
                <a:ahLst/>
                <a:rect l="l" t="t" r="r" b="b"/>
                <a:pathLst>
                  <a:path w="8399780" h="513080">
                    <a:moveTo>
                      <a:pt x="0" y="0"/>
                    </a:moveTo>
                    <a:lnTo>
                      <a:pt x="90766" y="512584"/>
                    </a:lnTo>
                    <a:lnTo>
                      <a:pt x="8280006" y="512584"/>
                    </a:lnTo>
                    <a:lnTo>
                      <a:pt x="8399195" y="0"/>
                    </a:lnTo>
                  </a:path>
                </a:pathLst>
              </a:custGeom>
              <a:noFill/>
              <a:ln w="12600">
                <a:solidFill>
                  <a:srgbClr val="bcbe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0"/>
              <p:cNvSpPr/>
              <p:nvPr/>
            </p:nvSpPr>
            <p:spPr>
              <a:xfrm>
                <a:off x="8791200" y="1638360"/>
                <a:ext cx="433080" cy="956880"/>
              </a:xfrm>
              <a:custGeom>
                <a:avLst/>
                <a:gdLst/>
                <a:ahLst/>
                <a:rect l="l" t="t" r="r" b="b"/>
                <a:pathLst>
                  <a:path w="432434" h="954405">
                    <a:moveTo>
                      <a:pt x="378015" y="0"/>
                    </a:moveTo>
                    <a:lnTo>
                      <a:pt x="53987" y="0"/>
                    </a:lnTo>
                    <a:lnTo>
                      <a:pt x="32971" y="3830"/>
                    </a:lnTo>
                    <a:lnTo>
                      <a:pt x="15811" y="14279"/>
                    </a:lnTo>
                    <a:lnTo>
                      <a:pt x="4242" y="29784"/>
                    </a:lnTo>
                    <a:lnTo>
                      <a:pt x="0" y="48780"/>
                    </a:lnTo>
                    <a:lnTo>
                      <a:pt x="0" y="905192"/>
                    </a:lnTo>
                    <a:lnTo>
                      <a:pt x="4242" y="924187"/>
                    </a:lnTo>
                    <a:lnTo>
                      <a:pt x="15811" y="939701"/>
                    </a:lnTo>
                    <a:lnTo>
                      <a:pt x="32971" y="950162"/>
                    </a:lnTo>
                    <a:lnTo>
                      <a:pt x="53987" y="953998"/>
                    </a:lnTo>
                    <a:lnTo>
                      <a:pt x="378015" y="953998"/>
                    </a:lnTo>
                    <a:lnTo>
                      <a:pt x="399031" y="950162"/>
                    </a:lnTo>
                    <a:lnTo>
                      <a:pt x="416191" y="939701"/>
                    </a:lnTo>
                    <a:lnTo>
                      <a:pt x="427761" y="924187"/>
                    </a:lnTo>
                    <a:lnTo>
                      <a:pt x="432003" y="905192"/>
                    </a:lnTo>
                    <a:lnTo>
                      <a:pt x="432003" y="48780"/>
                    </a:lnTo>
                    <a:lnTo>
                      <a:pt x="427761" y="29784"/>
                    </a:lnTo>
                    <a:lnTo>
                      <a:pt x="416191" y="14279"/>
                    </a:lnTo>
                    <a:lnTo>
                      <a:pt x="399031" y="3830"/>
                    </a:lnTo>
                    <a:lnTo>
                      <a:pt x="378015" y="0"/>
                    </a:lnTo>
                    <a:close/>
                  </a:path>
                </a:pathLst>
              </a:custGeom>
              <a:solidFill>
                <a:srgbClr val="e1f4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1"/>
              <p:cNvSpPr/>
              <p:nvPr/>
            </p:nvSpPr>
            <p:spPr>
              <a:xfrm>
                <a:off x="8791200" y="1638360"/>
                <a:ext cx="433080" cy="956880"/>
              </a:xfrm>
              <a:custGeom>
                <a:avLst/>
                <a:gdLst/>
                <a:ahLst/>
                <a:rect l="l" t="t" r="r" b="b"/>
                <a:pathLst>
                  <a:path w="432434" h="954405">
                    <a:moveTo>
                      <a:pt x="0" y="905192"/>
                    </a:moveTo>
                    <a:lnTo>
                      <a:pt x="0" y="48780"/>
                    </a:lnTo>
                    <a:lnTo>
                      <a:pt x="4242" y="29784"/>
                    </a:lnTo>
                    <a:lnTo>
                      <a:pt x="15811" y="14279"/>
                    </a:lnTo>
                    <a:lnTo>
                      <a:pt x="32971" y="3830"/>
                    </a:lnTo>
                    <a:lnTo>
                      <a:pt x="53987" y="0"/>
                    </a:lnTo>
                    <a:lnTo>
                      <a:pt x="378015" y="0"/>
                    </a:lnTo>
                    <a:lnTo>
                      <a:pt x="399031" y="3830"/>
                    </a:lnTo>
                    <a:lnTo>
                      <a:pt x="416191" y="14279"/>
                    </a:lnTo>
                    <a:lnTo>
                      <a:pt x="427761" y="29784"/>
                    </a:lnTo>
                    <a:lnTo>
                      <a:pt x="432003" y="48780"/>
                    </a:lnTo>
                    <a:lnTo>
                      <a:pt x="432003" y="905192"/>
                    </a:lnTo>
                    <a:lnTo>
                      <a:pt x="427761" y="924187"/>
                    </a:lnTo>
                    <a:lnTo>
                      <a:pt x="416191" y="939701"/>
                    </a:lnTo>
                    <a:lnTo>
                      <a:pt x="399031" y="950162"/>
                    </a:lnTo>
                    <a:lnTo>
                      <a:pt x="378015" y="953998"/>
                    </a:lnTo>
                    <a:lnTo>
                      <a:pt x="53987" y="953998"/>
                    </a:lnTo>
                    <a:lnTo>
                      <a:pt x="32971" y="950162"/>
                    </a:lnTo>
                    <a:lnTo>
                      <a:pt x="15811" y="939701"/>
                    </a:lnTo>
                    <a:lnTo>
                      <a:pt x="4242" y="924187"/>
                    </a:lnTo>
                    <a:lnTo>
                      <a:pt x="0" y="905192"/>
                    </a:ln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12"/>
              <p:cNvSpPr/>
              <p:nvPr/>
            </p:nvSpPr>
            <p:spPr>
              <a:xfrm>
                <a:off x="8950680" y="1924920"/>
                <a:ext cx="113760" cy="618840"/>
              </a:xfrm>
              <a:custGeom>
                <a:avLst/>
                <a:gdLst/>
                <a:ahLst/>
                <a:rect l="l" t="t" r="r" b="b"/>
                <a:pathLst>
                  <a:path w="113665" h="617219">
                    <a:moveTo>
                      <a:pt x="11341" y="194157"/>
                    </a:moveTo>
                    <a:lnTo>
                      <a:pt x="0" y="194157"/>
                    </a:lnTo>
                    <a:lnTo>
                      <a:pt x="0" y="235724"/>
                    </a:lnTo>
                    <a:lnTo>
                      <a:pt x="11341" y="235724"/>
                    </a:lnTo>
                    <a:lnTo>
                      <a:pt x="11341" y="194157"/>
                    </a:lnTo>
                    <a:close/>
                  </a:path>
                  <a:path w="113665" h="617219">
                    <a:moveTo>
                      <a:pt x="11480" y="325069"/>
                    </a:moveTo>
                    <a:lnTo>
                      <a:pt x="266" y="325069"/>
                    </a:lnTo>
                    <a:lnTo>
                      <a:pt x="266" y="364363"/>
                    </a:lnTo>
                    <a:lnTo>
                      <a:pt x="11480" y="364363"/>
                    </a:lnTo>
                    <a:lnTo>
                      <a:pt x="11480" y="325069"/>
                    </a:lnTo>
                    <a:close/>
                  </a:path>
                  <a:path w="113665" h="617219">
                    <a:moveTo>
                      <a:pt x="29349" y="320776"/>
                    </a:moveTo>
                    <a:lnTo>
                      <a:pt x="17881" y="320776"/>
                    </a:lnTo>
                    <a:lnTo>
                      <a:pt x="17881" y="368274"/>
                    </a:lnTo>
                    <a:lnTo>
                      <a:pt x="29349" y="368274"/>
                    </a:lnTo>
                    <a:lnTo>
                      <a:pt x="29349" y="320776"/>
                    </a:lnTo>
                    <a:close/>
                  </a:path>
                  <a:path w="113665" h="617219">
                    <a:moveTo>
                      <a:pt x="29349" y="190119"/>
                    </a:moveTo>
                    <a:lnTo>
                      <a:pt x="17881" y="190119"/>
                    </a:lnTo>
                    <a:lnTo>
                      <a:pt x="17881" y="239610"/>
                    </a:lnTo>
                    <a:lnTo>
                      <a:pt x="29349" y="239610"/>
                    </a:lnTo>
                    <a:lnTo>
                      <a:pt x="29349" y="190119"/>
                    </a:lnTo>
                    <a:close/>
                  </a:path>
                  <a:path w="113665" h="617219">
                    <a:moveTo>
                      <a:pt x="47117" y="194157"/>
                    </a:moveTo>
                    <a:lnTo>
                      <a:pt x="35902" y="194157"/>
                    </a:lnTo>
                    <a:lnTo>
                      <a:pt x="35902" y="235724"/>
                    </a:lnTo>
                    <a:lnTo>
                      <a:pt x="47117" y="235724"/>
                    </a:lnTo>
                    <a:lnTo>
                      <a:pt x="47117" y="194157"/>
                    </a:lnTo>
                    <a:close/>
                  </a:path>
                  <a:path w="113665" h="617219">
                    <a:moveTo>
                      <a:pt x="47244" y="325069"/>
                    </a:moveTo>
                    <a:lnTo>
                      <a:pt x="36029" y="325069"/>
                    </a:lnTo>
                    <a:lnTo>
                      <a:pt x="36029" y="364363"/>
                    </a:lnTo>
                    <a:lnTo>
                      <a:pt x="47244" y="364363"/>
                    </a:lnTo>
                    <a:lnTo>
                      <a:pt x="47244" y="325069"/>
                    </a:lnTo>
                    <a:close/>
                  </a:path>
                  <a:path w="113665" h="617219">
                    <a:moveTo>
                      <a:pt x="57696" y="315747"/>
                    </a:moveTo>
                    <a:lnTo>
                      <a:pt x="34518" y="292188"/>
                    </a:lnTo>
                    <a:lnTo>
                      <a:pt x="36766" y="287401"/>
                    </a:lnTo>
                    <a:lnTo>
                      <a:pt x="37541" y="285762"/>
                    </a:lnTo>
                    <a:lnTo>
                      <a:pt x="38976" y="283438"/>
                    </a:lnTo>
                    <a:lnTo>
                      <a:pt x="41325" y="279730"/>
                    </a:lnTo>
                    <a:lnTo>
                      <a:pt x="30873" y="274307"/>
                    </a:lnTo>
                    <a:lnTo>
                      <a:pt x="28524" y="277710"/>
                    </a:lnTo>
                    <a:lnTo>
                      <a:pt x="27457" y="279476"/>
                    </a:lnTo>
                    <a:lnTo>
                      <a:pt x="23939" y="287401"/>
                    </a:lnTo>
                    <a:lnTo>
                      <a:pt x="19405" y="285902"/>
                    </a:lnTo>
                    <a:lnTo>
                      <a:pt x="16510" y="285140"/>
                    </a:lnTo>
                    <a:lnTo>
                      <a:pt x="11087" y="284264"/>
                    </a:lnTo>
                    <a:lnTo>
                      <a:pt x="11087" y="265239"/>
                    </a:lnTo>
                    <a:lnTo>
                      <a:pt x="27914" y="265772"/>
                    </a:lnTo>
                    <a:lnTo>
                      <a:pt x="37553" y="266941"/>
                    </a:lnTo>
                    <a:lnTo>
                      <a:pt x="41935" y="268960"/>
                    </a:lnTo>
                    <a:lnTo>
                      <a:pt x="42964" y="272034"/>
                    </a:lnTo>
                    <a:lnTo>
                      <a:pt x="42964" y="283616"/>
                    </a:lnTo>
                    <a:lnTo>
                      <a:pt x="55308" y="281736"/>
                    </a:lnTo>
                    <a:lnTo>
                      <a:pt x="55308" y="265239"/>
                    </a:lnTo>
                    <a:lnTo>
                      <a:pt x="55308" y="264096"/>
                    </a:lnTo>
                    <a:lnTo>
                      <a:pt x="53797" y="260578"/>
                    </a:lnTo>
                    <a:lnTo>
                      <a:pt x="266" y="254152"/>
                    </a:lnTo>
                    <a:lnTo>
                      <a:pt x="266" y="316763"/>
                    </a:lnTo>
                    <a:lnTo>
                      <a:pt x="11087" y="316763"/>
                    </a:lnTo>
                    <a:lnTo>
                      <a:pt x="11087" y="296976"/>
                    </a:lnTo>
                    <a:lnTo>
                      <a:pt x="13995" y="297357"/>
                    </a:lnTo>
                    <a:lnTo>
                      <a:pt x="15748" y="297611"/>
                    </a:lnTo>
                    <a:lnTo>
                      <a:pt x="19659" y="298615"/>
                    </a:lnTo>
                    <a:lnTo>
                      <a:pt x="17386" y="306044"/>
                    </a:lnTo>
                    <a:lnTo>
                      <a:pt x="16624" y="309448"/>
                    </a:lnTo>
                    <a:lnTo>
                      <a:pt x="16002" y="312470"/>
                    </a:lnTo>
                    <a:lnTo>
                      <a:pt x="25704" y="316763"/>
                    </a:lnTo>
                    <a:lnTo>
                      <a:pt x="27851" y="309448"/>
                    </a:lnTo>
                    <a:lnTo>
                      <a:pt x="28867" y="306412"/>
                    </a:lnTo>
                    <a:lnTo>
                      <a:pt x="47244" y="323684"/>
                    </a:lnTo>
                    <a:lnTo>
                      <a:pt x="57696" y="315747"/>
                    </a:lnTo>
                    <a:close/>
                  </a:path>
                  <a:path w="113665" h="617219">
                    <a:moveTo>
                      <a:pt x="65887" y="194157"/>
                    </a:moveTo>
                    <a:lnTo>
                      <a:pt x="54546" y="194157"/>
                    </a:lnTo>
                    <a:lnTo>
                      <a:pt x="54546" y="235724"/>
                    </a:lnTo>
                    <a:lnTo>
                      <a:pt x="65887" y="235724"/>
                    </a:lnTo>
                    <a:lnTo>
                      <a:pt x="65887" y="194157"/>
                    </a:lnTo>
                    <a:close/>
                  </a:path>
                  <a:path w="113665" h="617219">
                    <a:moveTo>
                      <a:pt x="66128" y="325069"/>
                    </a:moveTo>
                    <a:lnTo>
                      <a:pt x="54914" y="325069"/>
                    </a:lnTo>
                    <a:lnTo>
                      <a:pt x="54914" y="364363"/>
                    </a:lnTo>
                    <a:lnTo>
                      <a:pt x="66128" y="364363"/>
                    </a:lnTo>
                    <a:lnTo>
                      <a:pt x="66128" y="325069"/>
                    </a:lnTo>
                    <a:close/>
                  </a:path>
                  <a:path w="113665" h="617219">
                    <a:moveTo>
                      <a:pt x="75463" y="280098"/>
                    </a:moveTo>
                    <a:lnTo>
                      <a:pt x="66395" y="273431"/>
                    </a:lnTo>
                    <a:lnTo>
                      <a:pt x="61658" y="278587"/>
                    </a:lnTo>
                    <a:lnTo>
                      <a:pt x="57569" y="283705"/>
                    </a:lnTo>
                    <a:lnTo>
                      <a:pt x="53911" y="289001"/>
                    </a:lnTo>
                    <a:lnTo>
                      <a:pt x="50647" y="294462"/>
                    </a:lnTo>
                    <a:lnTo>
                      <a:pt x="59588" y="301764"/>
                    </a:lnTo>
                    <a:lnTo>
                      <a:pt x="64211" y="294259"/>
                    </a:lnTo>
                    <a:lnTo>
                      <a:pt x="68605" y="288150"/>
                    </a:lnTo>
                    <a:lnTo>
                      <a:pt x="72466" y="283438"/>
                    </a:lnTo>
                    <a:lnTo>
                      <a:pt x="75463" y="280098"/>
                    </a:lnTo>
                    <a:close/>
                  </a:path>
                  <a:path w="113665" h="617219">
                    <a:moveTo>
                      <a:pt x="99390" y="0"/>
                    </a:moveTo>
                    <a:lnTo>
                      <a:pt x="85521" y="0"/>
                    </a:lnTo>
                    <a:lnTo>
                      <a:pt x="85521" y="45224"/>
                    </a:lnTo>
                    <a:lnTo>
                      <a:pt x="24942" y="45224"/>
                    </a:lnTo>
                    <a:lnTo>
                      <a:pt x="24942" y="6553"/>
                    </a:lnTo>
                    <a:lnTo>
                      <a:pt x="11201" y="6553"/>
                    </a:lnTo>
                    <a:lnTo>
                      <a:pt x="11201" y="98132"/>
                    </a:lnTo>
                    <a:lnTo>
                      <a:pt x="24942" y="98132"/>
                    </a:lnTo>
                    <a:lnTo>
                      <a:pt x="24942" y="59956"/>
                    </a:lnTo>
                    <a:lnTo>
                      <a:pt x="85521" y="59956"/>
                    </a:lnTo>
                    <a:lnTo>
                      <a:pt x="85521" y="104686"/>
                    </a:lnTo>
                    <a:lnTo>
                      <a:pt x="99390" y="104686"/>
                    </a:lnTo>
                    <a:lnTo>
                      <a:pt x="99390" y="0"/>
                    </a:lnTo>
                    <a:close/>
                  </a:path>
                  <a:path w="113665" h="617219">
                    <a:moveTo>
                      <a:pt x="103035" y="601370"/>
                    </a:moveTo>
                    <a:lnTo>
                      <a:pt x="59093" y="601370"/>
                    </a:lnTo>
                    <a:lnTo>
                      <a:pt x="59093" y="558190"/>
                    </a:lnTo>
                    <a:lnTo>
                      <a:pt x="45605" y="558190"/>
                    </a:lnTo>
                    <a:lnTo>
                      <a:pt x="45605" y="601370"/>
                    </a:lnTo>
                    <a:lnTo>
                      <a:pt x="16764" y="601370"/>
                    </a:lnTo>
                    <a:lnTo>
                      <a:pt x="16764" y="558190"/>
                    </a:lnTo>
                    <a:lnTo>
                      <a:pt x="16764" y="554380"/>
                    </a:lnTo>
                    <a:lnTo>
                      <a:pt x="3149" y="554380"/>
                    </a:lnTo>
                    <a:lnTo>
                      <a:pt x="3149" y="558190"/>
                    </a:lnTo>
                    <a:lnTo>
                      <a:pt x="3149" y="601370"/>
                    </a:lnTo>
                    <a:lnTo>
                      <a:pt x="3149" y="616610"/>
                    </a:lnTo>
                    <a:lnTo>
                      <a:pt x="103035" y="616610"/>
                    </a:lnTo>
                    <a:lnTo>
                      <a:pt x="103035" y="601370"/>
                    </a:lnTo>
                    <a:close/>
                  </a:path>
                  <a:path w="113665" h="617219">
                    <a:moveTo>
                      <a:pt x="105054" y="410895"/>
                    </a:moveTo>
                    <a:lnTo>
                      <a:pt x="104622" y="402882"/>
                    </a:lnTo>
                    <a:lnTo>
                      <a:pt x="103289" y="394982"/>
                    </a:lnTo>
                    <a:lnTo>
                      <a:pt x="101015" y="387324"/>
                    </a:lnTo>
                    <a:lnTo>
                      <a:pt x="97751" y="380022"/>
                    </a:lnTo>
                    <a:lnTo>
                      <a:pt x="81508" y="380022"/>
                    </a:lnTo>
                    <a:lnTo>
                      <a:pt x="85610" y="386372"/>
                    </a:lnTo>
                    <a:lnTo>
                      <a:pt x="88747" y="393407"/>
                    </a:lnTo>
                    <a:lnTo>
                      <a:pt x="90754" y="401243"/>
                    </a:lnTo>
                    <a:lnTo>
                      <a:pt x="91452" y="410006"/>
                    </a:lnTo>
                    <a:lnTo>
                      <a:pt x="88150" y="427786"/>
                    </a:lnTo>
                    <a:lnTo>
                      <a:pt x="79438" y="439991"/>
                    </a:lnTo>
                    <a:lnTo>
                      <a:pt x="67170" y="447040"/>
                    </a:lnTo>
                    <a:lnTo>
                      <a:pt x="53149" y="449300"/>
                    </a:lnTo>
                    <a:lnTo>
                      <a:pt x="38442" y="446798"/>
                    </a:lnTo>
                    <a:lnTo>
                      <a:pt x="26212" y="439445"/>
                    </a:lnTo>
                    <a:lnTo>
                      <a:pt x="17843" y="427520"/>
                    </a:lnTo>
                    <a:lnTo>
                      <a:pt x="14744" y="411276"/>
                    </a:lnTo>
                    <a:lnTo>
                      <a:pt x="15519" y="402831"/>
                    </a:lnTo>
                    <a:lnTo>
                      <a:pt x="17564" y="395643"/>
                    </a:lnTo>
                    <a:lnTo>
                      <a:pt x="20535" y="389686"/>
                    </a:lnTo>
                    <a:lnTo>
                      <a:pt x="24053" y="384937"/>
                    </a:lnTo>
                    <a:lnTo>
                      <a:pt x="10325" y="380022"/>
                    </a:lnTo>
                    <a:lnTo>
                      <a:pt x="6248" y="387311"/>
                    </a:lnTo>
                    <a:lnTo>
                      <a:pt x="3378" y="394868"/>
                    </a:lnTo>
                    <a:lnTo>
                      <a:pt x="1701" y="402780"/>
                    </a:lnTo>
                    <a:lnTo>
                      <a:pt x="1143" y="411137"/>
                    </a:lnTo>
                    <a:lnTo>
                      <a:pt x="4775" y="431825"/>
                    </a:lnTo>
                    <a:lnTo>
                      <a:pt x="15176" y="448729"/>
                    </a:lnTo>
                    <a:lnTo>
                      <a:pt x="31584" y="460121"/>
                    </a:lnTo>
                    <a:lnTo>
                      <a:pt x="53276" y="464299"/>
                    </a:lnTo>
                    <a:lnTo>
                      <a:pt x="73164" y="460870"/>
                    </a:lnTo>
                    <a:lnTo>
                      <a:pt x="89662" y="450723"/>
                    </a:lnTo>
                    <a:lnTo>
                      <a:pt x="100901" y="434009"/>
                    </a:lnTo>
                    <a:lnTo>
                      <a:pt x="105054" y="410895"/>
                    </a:lnTo>
                    <a:close/>
                  </a:path>
                  <a:path w="113665" h="617219">
                    <a:moveTo>
                      <a:pt x="105067" y="513435"/>
                    </a:moveTo>
                    <a:lnTo>
                      <a:pt x="102781" y="498970"/>
                    </a:lnTo>
                    <a:lnTo>
                      <a:pt x="96443" y="487883"/>
                    </a:lnTo>
                    <a:lnTo>
                      <a:pt x="86829" y="480796"/>
                    </a:lnTo>
                    <a:lnTo>
                      <a:pt x="74701" y="478294"/>
                    </a:lnTo>
                    <a:lnTo>
                      <a:pt x="62395" y="480796"/>
                    </a:lnTo>
                    <a:lnTo>
                      <a:pt x="54254" y="487362"/>
                    </a:lnTo>
                    <a:lnTo>
                      <a:pt x="48907" y="496582"/>
                    </a:lnTo>
                    <a:lnTo>
                      <a:pt x="44970" y="507022"/>
                    </a:lnTo>
                    <a:lnTo>
                      <a:pt x="41325" y="517461"/>
                    </a:lnTo>
                    <a:lnTo>
                      <a:pt x="38303" y="523760"/>
                    </a:lnTo>
                    <a:lnTo>
                      <a:pt x="21170" y="523760"/>
                    </a:lnTo>
                    <a:lnTo>
                      <a:pt x="14744" y="517093"/>
                    </a:lnTo>
                    <a:lnTo>
                      <a:pt x="14744" y="499325"/>
                    </a:lnTo>
                    <a:lnTo>
                      <a:pt x="17145" y="493153"/>
                    </a:lnTo>
                    <a:lnTo>
                      <a:pt x="21297" y="487235"/>
                    </a:lnTo>
                    <a:lnTo>
                      <a:pt x="7442" y="483704"/>
                    </a:lnTo>
                    <a:lnTo>
                      <a:pt x="1143" y="495046"/>
                    </a:lnTo>
                    <a:lnTo>
                      <a:pt x="1143" y="507022"/>
                    </a:lnTo>
                    <a:lnTo>
                      <a:pt x="3289" y="519734"/>
                    </a:lnTo>
                    <a:lnTo>
                      <a:pt x="9309" y="529780"/>
                    </a:lnTo>
                    <a:lnTo>
                      <a:pt x="18516" y="536384"/>
                    </a:lnTo>
                    <a:lnTo>
                      <a:pt x="30238" y="538759"/>
                    </a:lnTo>
                    <a:lnTo>
                      <a:pt x="40259" y="537044"/>
                    </a:lnTo>
                    <a:lnTo>
                      <a:pt x="47840" y="532003"/>
                    </a:lnTo>
                    <a:lnTo>
                      <a:pt x="53581" y="523824"/>
                    </a:lnTo>
                    <a:lnTo>
                      <a:pt x="58077" y="512673"/>
                    </a:lnTo>
                    <a:lnTo>
                      <a:pt x="61074" y="504710"/>
                    </a:lnTo>
                    <a:lnTo>
                      <a:pt x="64731" y="498589"/>
                    </a:lnTo>
                    <a:lnTo>
                      <a:pt x="69494" y="494665"/>
                    </a:lnTo>
                    <a:lnTo>
                      <a:pt x="75831" y="493280"/>
                    </a:lnTo>
                    <a:lnTo>
                      <a:pt x="82626" y="495046"/>
                    </a:lnTo>
                    <a:lnTo>
                      <a:pt x="87515" y="499757"/>
                    </a:lnTo>
                    <a:lnTo>
                      <a:pt x="90462" y="506526"/>
                    </a:lnTo>
                    <a:lnTo>
                      <a:pt x="91452" y="514451"/>
                    </a:lnTo>
                    <a:lnTo>
                      <a:pt x="91452" y="523138"/>
                    </a:lnTo>
                    <a:lnTo>
                      <a:pt x="88303" y="531075"/>
                    </a:lnTo>
                    <a:lnTo>
                      <a:pt x="83146" y="538365"/>
                    </a:lnTo>
                    <a:lnTo>
                      <a:pt x="96621" y="542658"/>
                    </a:lnTo>
                    <a:lnTo>
                      <a:pt x="100393" y="535838"/>
                    </a:lnTo>
                    <a:lnTo>
                      <a:pt x="103022" y="528751"/>
                    </a:lnTo>
                    <a:lnTo>
                      <a:pt x="104559" y="521309"/>
                    </a:lnTo>
                    <a:lnTo>
                      <a:pt x="105067" y="513435"/>
                    </a:lnTo>
                    <a:close/>
                  </a:path>
                  <a:path w="113665" h="617219">
                    <a:moveTo>
                      <a:pt x="108077" y="260578"/>
                    </a:moveTo>
                    <a:lnTo>
                      <a:pt x="104305" y="248615"/>
                    </a:lnTo>
                    <a:lnTo>
                      <a:pt x="94551" y="250380"/>
                    </a:lnTo>
                    <a:lnTo>
                      <a:pt x="85255" y="252742"/>
                    </a:lnTo>
                    <a:lnTo>
                      <a:pt x="76568" y="255638"/>
                    </a:lnTo>
                    <a:lnTo>
                      <a:pt x="68656" y="258940"/>
                    </a:lnTo>
                    <a:lnTo>
                      <a:pt x="71678" y="270027"/>
                    </a:lnTo>
                    <a:lnTo>
                      <a:pt x="79565" y="267157"/>
                    </a:lnTo>
                    <a:lnTo>
                      <a:pt x="87985" y="264591"/>
                    </a:lnTo>
                    <a:lnTo>
                      <a:pt x="97358" y="262394"/>
                    </a:lnTo>
                    <a:lnTo>
                      <a:pt x="108077" y="260578"/>
                    </a:lnTo>
                    <a:close/>
                  </a:path>
                  <a:path w="113665" h="617219">
                    <a:moveTo>
                      <a:pt x="110096" y="120091"/>
                    </a:moveTo>
                    <a:lnTo>
                      <a:pt x="97878" y="120091"/>
                    </a:lnTo>
                    <a:lnTo>
                      <a:pt x="97878" y="143395"/>
                    </a:lnTo>
                    <a:lnTo>
                      <a:pt x="57569" y="143395"/>
                    </a:lnTo>
                    <a:lnTo>
                      <a:pt x="57569" y="124256"/>
                    </a:lnTo>
                    <a:lnTo>
                      <a:pt x="45212" y="124256"/>
                    </a:lnTo>
                    <a:lnTo>
                      <a:pt x="45212" y="143395"/>
                    </a:lnTo>
                    <a:lnTo>
                      <a:pt x="12344" y="143395"/>
                    </a:lnTo>
                    <a:lnTo>
                      <a:pt x="12344" y="121970"/>
                    </a:lnTo>
                    <a:lnTo>
                      <a:pt x="0" y="121970"/>
                    </a:lnTo>
                    <a:lnTo>
                      <a:pt x="0" y="187858"/>
                    </a:lnTo>
                    <a:lnTo>
                      <a:pt x="12344" y="187858"/>
                    </a:lnTo>
                    <a:lnTo>
                      <a:pt x="12344" y="156362"/>
                    </a:lnTo>
                    <a:lnTo>
                      <a:pt x="97878" y="156362"/>
                    </a:lnTo>
                    <a:lnTo>
                      <a:pt x="97878" y="170218"/>
                    </a:lnTo>
                    <a:lnTo>
                      <a:pt x="29984" y="170218"/>
                    </a:lnTo>
                    <a:lnTo>
                      <a:pt x="29984" y="183070"/>
                    </a:lnTo>
                    <a:lnTo>
                      <a:pt x="97878" y="183070"/>
                    </a:lnTo>
                    <a:lnTo>
                      <a:pt x="97878" y="190119"/>
                    </a:lnTo>
                    <a:lnTo>
                      <a:pt x="110096" y="190119"/>
                    </a:lnTo>
                    <a:lnTo>
                      <a:pt x="110096" y="156362"/>
                    </a:lnTo>
                    <a:lnTo>
                      <a:pt x="110096" y="143395"/>
                    </a:lnTo>
                    <a:lnTo>
                      <a:pt x="110096" y="120091"/>
                    </a:lnTo>
                    <a:close/>
                  </a:path>
                  <a:path w="113665" h="617219">
                    <a:moveTo>
                      <a:pt x="111734" y="194157"/>
                    </a:moveTo>
                    <a:lnTo>
                      <a:pt x="100901" y="194157"/>
                    </a:lnTo>
                    <a:lnTo>
                      <a:pt x="100901" y="206883"/>
                    </a:lnTo>
                    <a:lnTo>
                      <a:pt x="100901" y="223253"/>
                    </a:lnTo>
                    <a:lnTo>
                      <a:pt x="84023" y="223253"/>
                    </a:lnTo>
                    <a:lnTo>
                      <a:pt x="84023" y="206883"/>
                    </a:lnTo>
                    <a:lnTo>
                      <a:pt x="100901" y="206883"/>
                    </a:lnTo>
                    <a:lnTo>
                      <a:pt x="100901" y="194157"/>
                    </a:lnTo>
                    <a:lnTo>
                      <a:pt x="72936" y="194157"/>
                    </a:lnTo>
                    <a:lnTo>
                      <a:pt x="72936" y="235724"/>
                    </a:lnTo>
                    <a:lnTo>
                      <a:pt x="111734" y="235724"/>
                    </a:lnTo>
                    <a:lnTo>
                      <a:pt x="111734" y="223253"/>
                    </a:lnTo>
                    <a:lnTo>
                      <a:pt x="111734" y="206883"/>
                    </a:lnTo>
                    <a:lnTo>
                      <a:pt x="111734" y="194157"/>
                    </a:lnTo>
                    <a:close/>
                  </a:path>
                  <a:path w="113665" h="617219">
                    <a:moveTo>
                      <a:pt x="111988" y="325069"/>
                    </a:moveTo>
                    <a:lnTo>
                      <a:pt x="102285" y="325069"/>
                    </a:lnTo>
                    <a:lnTo>
                      <a:pt x="108077" y="316128"/>
                    </a:lnTo>
                    <a:lnTo>
                      <a:pt x="101155" y="313220"/>
                    </a:lnTo>
                    <a:lnTo>
                      <a:pt x="101155" y="336156"/>
                    </a:lnTo>
                    <a:lnTo>
                      <a:pt x="101155" y="353148"/>
                    </a:lnTo>
                    <a:lnTo>
                      <a:pt x="84404" y="353148"/>
                    </a:lnTo>
                    <a:lnTo>
                      <a:pt x="84404" y="336156"/>
                    </a:lnTo>
                    <a:lnTo>
                      <a:pt x="101155" y="336156"/>
                    </a:lnTo>
                    <a:lnTo>
                      <a:pt x="101155" y="313220"/>
                    </a:lnTo>
                    <a:lnTo>
                      <a:pt x="98082" y="311912"/>
                    </a:lnTo>
                    <a:lnTo>
                      <a:pt x="88036" y="309067"/>
                    </a:lnTo>
                    <a:lnTo>
                      <a:pt x="78905" y="307327"/>
                    </a:lnTo>
                    <a:lnTo>
                      <a:pt x="71678" y="306412"/>
                    </a:lnTo>
                    <a:lnTo>
                      <a:pt x="70789" y="318008"/>
                    </a:lnTo>
                    <a:lnTo>
                      <a:pt x="80187" y="319201"/>
                    </a:lnTo>
                    <a:lnTo>
                      <a:pt x="87668" y="320840"/>
                    </a:lnTo>
                    <a:lnTo>
                      <a:pt x="93637" y="322821"/>
                    </a:lnTo>
                    <a:lnTo>
                      <a:pt x="98501" y="325069"/>
                    </a:lnTo>
                    <a:lnTo>
                      <a:pt x="73571" y="325069"/>
                    </a:lnTo>
                    <a:lnTo>
                      <a:pt x="73571" y="364363"/>
                    </a:lnTo>
                    <a:lnTo>
                      <a:pt x="111988" y="364363"/>
                    </a:lnTo>
                    <a:lnTo>
                      <a:pt x="111988" y="353148"/>
                    </a:lnTo>
                    <a:lnTo>
                      <a:pt x="111988" y="336156"/>
                    </a:lnTo>
                    <a:lnTo>
                      <a:pt x="111988" y="325069"/>
                    </a:lnTo>
                    <a:close/>
                  </a:path>
                  <a:path w="113665" h="617219">
                    <a:moveTo>
                      <a:pt x="113245" y="269900"/>
                    </a:moveTo>
                    <a:lnTo>
                      <a:pt x="106565" y="267754"/>
                    </a:lnTo>
                    <a:lnTo>
                      <a:pt x="92583" y="266369"/>
                    </a:lnTo>
                    <a:lnTo>
                      <a:pt x="89065" y="277710"/>
                    </a:lnTo>
                    <a:lnTo>
                      <a:pt x="98767" y="278587"/>
                    </a:lnTo>
                    <a:lnTo>
                      <a:pt x="101917" y="278955"/>
                    </a:lnTo>
                    <a:lnTo>
                      <a:pt x="101917" y="289928"/>
                    </a:lnTo>
                    <a:lnTo>
                      <a:pt x="101155" y="290944"/>
                    </a:lnTo>
                    <a:lnTo>
                      <a:pt x="71678" y="290944"/>
                    </a:lnTo>
                    <a:lnTo>
                      <a:pt x="71678" y="302768"/>
                    </a:lnTo>
                    <a:lnTo>
                      <a:pt x="108585" y="302768"/>
                    </a:lnTo>
                    <a:lnTo>
                      <a:pt x="113245" y="299872"/>
                    </a:lnTo>
                    <a:lnTo>
                      <a:pt x="113245" y="269900"/>
                    </a:lnTo>
                    <a:close/>
                  </a:path>
                </a:pathLst>
              </a:custGeom>
              <a:solidFill>
                <a:srgbClr val="00b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8953920" y="1821240"/>
                <a:ext cx="105120" cy="7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8956800" y="1690920"/>
                <a:ext cx="102240" cy="10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" name="Group 181"/>
            <p:cNvGrpSpPr/>
            <p:nvPr/>
          </p:nvGrpSpPr>
          <p:grpSpPr>
            <a:xfrm>
              <a:off x="90360" y="2095560"/>
              <a:ext cx="1028520" cy="2800440"/>
              <a:chOff x="90360" y="2095560"/>
              <a:chExt cx="1028520" cy="2800440"/>
            </a:xfrm>
          </p:grpSpPr>
          <p:sp>
            <p:nvSpPr>
              <p:cNvPr id="31" name="AutoShape 175"/>
              <p:cNvSpPr/>
              <p:nvPr/>
            </p:nvSpPr>
            <p:spPr>
              <a:xfrm>
                <a:off x="90360" y="4037040"/>
                <a:ext cx="1028520" cy="858960"/>
              </a:xfrm>
              <a:prstGeom prst="wedgeRoundRectCallout">
                <a:avLst>
                  <a:gd name="adj1" fmla="val 212037"/>
                  <a:gd name="adj2" fmla="val -52222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AutoShape 176"/>
              <p:cNvSpPr/>
              <p:nvPr/>
            </p:nvSpPr>
            <p:spPr>
              <a:xfrm>
                <a:off x="90360" y="2095560"/>
                <a:ext cx="102852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prima-rire</dc:creator>
  <dc:description/>
  <dc:language>en-US</dc:language>
  <cp:lastModifiedBy>HP Inc.</cp:lastModifiedBy>
  <dcterms:modified xsi:type="dcterms:W3CDTF">2021-08-30T01:08:18Z</dcterms:modified>
  <cp:revision>29</cp:revision>
  <dc:subject/>
  <dc:title>スライド 1</dc:title>
</cp:coreProperties>
</file>