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53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55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7" descr=""/>
          <p:cNvPicPr/>
          <p:nvPr/>
        </p:nvPicPr>
        <p:blipFill>
          <a:blip r:embed="rId2"/>
          <a:stretch/>
        </p:blipFill>
        <p:spPr>
          <a:xfrm>
            <a:off x="3960720" y="360360"/>
            <a:ext cx="3624480" cy="392040"/>
          </a:xfrm>
          <a:prstGeom prst="rect">
            <a:avLst/>
          </a:prstGeom>
          <a:ln w="0">
            <a:noFill/>
          </a:ln>
        </p:spPr>
      </p:pic>
      <p:grpSp>
        <p:nvGrpSpPr>
          <p:cNvPr id="68" name="グループ化 17"/>
          <p:cNvGrpSpPr/>
          <p:nvPr/>
        </p:nvGrpSpPr>
        <p:grpSpPr>
          <a:xfrm>
            <a:off x="98280" y="1436760"/>
            <a:ext cx="9987120" cy="11952360"/>
            <a:chOff x="98280" y="1436760"/>
            <a:chExt cx="9987120" cy="11952360"/>
          </a:xfrm>
        </p:grpSpPr>
        <p:grpSp>
          <p:nvGrpSpPr>
            <p:cNvPr id="69" name="object 28"/>
            <p:cNvGrpSpPr/>
            <p:nvPr/>
          </p:nvGrpSpPr>
          <p:grpSpPr>
            <a:xfrm>
              <a:off x="1444320" y="1436760"/>
              <a:ext cx="8641080" cy="11952360"/>
              <a:chOff x="1444320" y="1436760"/>
              <a:chExt cx="8641080" cy="11952360"/>
            </a:xfrm>
          </p:grpSpPr>
          <p:sp>
            <p:nvSpPr>
              <p:cNvPr id="70" name="object 29"/>
              <p:cNvSpPr/>
              <p:nvPr/>
            </p:nvSpPr>
            <p:spPr>
              <a:xfrm>
                <a:off x="1444320" y="1436760"/>
                <a:ext cx="8641080" cy="11952360"/>
              </a:xfrm>
              <a:custGeom>
                <a:avLst/>
                <a:gdLst/>
                <a:ahLst/>
                <a:rect l="l" t="t" r="r" b="b"/>
                <a:pathLst>
                  <a:path w="8640445" h="11952605">
                    <a:moveTo>
                      <a:pt x="8640000" y="0"/>
                    </a:moveTo>
                    <a:lnTo>
                      <a:pt x="0" y="0"/>
                    </a:lnTo>
                    <a:lnTo>
                      <a:pt x="0" y="11951995"/>
                    </a:lnTo>
                    <a:lnTo>
                      <a:pt x="8640000" y="11951995"/>
                    </a:lnTo>
                    <a:lnTo>
                      <a:pt x="8640000" y="0"/>
                    </a:lnTo>
                    <a:close/>
                  </a:path>
                </a:pathLst>
              </a:custGeom>
              <a:solidFill>
                <a:srgbClr val="e1f4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bject 30"/>
              <p:cNvSpPr/>
              <p:nvPr/>
            </p:nvSpPr>
            <p:spPr>
              <a:xfrm>
                <a:off x="1444320" y="1436760"/>
                <a:ext cx="8641080" cy="11952360"/>
              </a:xfrm>
              <a:custGeom>
                <a:avLst/>
                <a:gdLst/>
                <a:ahLst/>
                <a:rect l="l" t="t" r="r" b="b"/>
                <a:pathLst>
                  <a:path w="8640445" h="11952605">
                    <a:moveTo>
                      <a:pt x="8640000" y="11951995"/>
                    </a:moveTo>
                    <a:lnTo>
                      <a:pt x="0" y="11951995"/>
                    </a:lnTo>
                    <a:lnTo>
                      <a:pt x="0" y="0"/>
                    </a:lnTo>
                    <a:lnTo>
                      <a:pt x="8640000" y="0"/>
                    </a:lnTo>
                    <a:lnTo>
                      <a:pt x="8640000" y="11951995"/>
                    </a:lnTo>
                    <a:close/>
                  </a:path>
                </a:pathLst>
              </a:custGeom>
              <a:noFill/>
              <a:ln w="12600">
                <a:solidFill>
                  <a:srgbClr val="0000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bject 31"/>
              <p:cNvSpPr/>
              <p:nvPr/>
            </p:nvSpPr>
            <p:spPr>
              <a:xfrm>
                <a:off x="1803960" y="3200760"/>
                <a:ext cx="7921800" cy="9076680"/>
              </a:xfrm>
              <a:custGeom>
                <a:avLst/>
                <a:gdLst/>
                <a:ahLst/>
                <a:rect l="l" t="t" r="r" b="b"/>
                <a:pathLst>
                  <a:path w="7920990" h="9076690">
                    <a:moveTo>
                      <a:pt x="7920520" y="0"/>
                    </a:moveTo>
                    <a:lnTo>
                      <a:pt x="0" y="0"/>
                    </a:lnTo>
                    <a:lnTo>
                      <a:pt x="241" y="9072003"/>
                    </a:lnTo>
                    <a:lnTo>
                      <a:pt x="6843293" y="9076067"/>
                    </a:lnTo>
                    <a:lnTo>
                      <a:pt x="6843293" y="8711996"/>
                    </a:lnTo>
                    <a:lnTo>
                      <a:pt x="7920520" y="8711996"/>
                    </a:lnTo>
                    <a:lnTo>
                      <a:pt x="79205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bject 33"/>
              <p:cNvSpPr/>
              <p:nvPr/>
            </p:nvSpPr>
            <p:spPr>
              <a:xfrm>
                <a:off x="9365040" y="1436760"/>
                <a:ext cx="720000" cy="11160000"/>
              </a:xfrm>
              <a:custGeom>
                <a:avLst/>
                <a:gdLst/>
                <a:ahLst/>
                <a:rect l="l" t="t" r="r" b="b"/>
                <a:pathLst>
                  <a:path w="720090" h="11160125">
                    <a:moveTo>
                      <a:pt x="719988" y="0"/>
                    </a:moveTo>
                    <a:lnTo>
                      <a:pt x="647992" y="71996"/>
                    </a:lnTo>
                    <a:lnTo>
                      <a:pt x="0" y="145796"/>
                    </a:lnTo>
                    <a:lnTo>
                      <a:pt x="0" y="11159998"/>
                    </a:lnTo>
                  </a:path>
                </a:pathLst>
              </a:custGeom>
              <a:noFill/>
              <a:ln w="12600">
                <a:solidFill>
                  <a:srgbClr val="bcbe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bject 34"/>
              <p:cNvSpPr/>
              <p:nvPr/>
            </p:nvSpPr>
            <p:spPr>
              <a:xfrm>
                <a:off x="1444320" y="1436760"/>
                <a:ext cx="8479440" cy="11505960"/>
              </a:xfrm>
              <a:custGeom>
                <a:avLst/>
                <a:gdLst/>
                <a:ahLst/>
                <a:rect l="l" t="t" r="r" b="b"/>
                <a:pathLst>
                  <a:path w="8478520" h="11506200">
                    <a:moveTo>
                      <a:pt x="8478012" y="11505628"/>
                    </a:moveTo>
                    <a:lnTo>
                      <a:pt x="8478012" y="144005"/>
                    </a:lnTo>
                    <a:lnTo>
                      <a:pt x="8208009" y="90004"/>
                    </a:lnTo>
                    <a:lnTo>
                      <a:pt x="4320006" y="432003"/>
                    </a:lnTo>
                    <a:lnTo>
                      <a:pt x="72008" y="7199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cbe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bject 35"/>
              <p:cNvSpPr/>
              <p:nvPr/>
            </p:nvSpPr>
            <p:spPr>
              <a:xfrm>
                <a:off x="1444320" y="12596760"/>
                <a:ext cx="8641080" cy="600480"/>
              </a:xfrm>
              <a:custGeom>
                <a:avLst/>
                <a:gdLst/>
                <a:ahLst/>
                <a:rect l="l" t="t" r="r" b="b"/>
                <a:pathLst>
                  <a:path w="8640445" h="600709">
                    <a:moveTo>
                      <a:pt x="0" y="600303"/>
                    </a:moveTo>
                    <a:lnTo>
                      <a:pt x="403961" y="0"/>
                    </a:lnTo>
                    <a:lnTo>
                      <a:pt x="8258149" y="0"/>
                    </a:lnTo>
                    <a:lnTo>
                      <a:pt x="8640000" y="600303"/>
                    </a:lnTo>
                  </a:path>
                </a:pathLst>
              </a:custGeom>
              <a:noFill/>
              <a:ln w="12600">
                <a:solidFill>
                  <a:srgbClr val="bcbe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bject 36"/>
              <p:cNvSpPr/>
              <p:nvPr/>
            </p:nvSpPr>
            <p:spPr>
              <a:xfrm>
                <a:off x="8750520" y="12024360"/>
                <a:ext cx="954360" cy="432360"/>
              </a:xfrm>
              <a:custGeom>
                <a:avLst/>
                <a:gdLst/>
                <a:ahLst/>
                <a:rect l="l" t="t" r="r" b="b"/>
                <a:pathLst>
                  <a:path w="954404" h="432434">
                    <a:moveTo>
                      <a:pt x="905230" y="0"/>
                    </a:moveTo>
                    <a:lnTo>
                      <a:pt x="48806" y="0"/>
                    </a:lnTo>
                    <a:lnTo>
                      <a:pt x="29810" y="4242"/>
                    </a:lnTo>
                    <a:lnTo>
                      <a:pt x="14297" y="15813"/>
                    </a:lnTo>
                    <a:lnTo>
                      <a:pt x="3836" y="32977"/>
                    </a:lnTo>
                    <a:lnTo>
                      <a:pt x="0" y="54000"/>
                    </a:lnTo>
                    <a:lnTo>
                      <a:pt x="0" y="378015"/>
                    </a:lnTo>
                    <a:lnTo>
                      <a:pt x="3836" y="399033"/>
                    </a:lnTo>
                    <a:lnTo>
                      <a:pt x="14297" y="416198"/>
                    </a:lnTo>
                    <a:lnTo>
                      <a:pt x="29810" y="427771"/>
                    </a:lnTo>
                    <a:lnTo>
                      <a:pt x="48806" y="432015"/>
                    </a:lnTo>
                    <a:lnTo>
                      <a:pt x="905230" y="432015"/>
                    </a:lnTo>
                    <a:lnTo>
                      <a:pt x="924219" y="427771"/>
                    </a:lnTo>
                    <a:lnTo>
                      <a:pt x="939720" y="416198"/>
                    </a:lnTo>
                    <a:lnTo>
                      <a:pt x="950168" y="399033"/>
                    </a:lnTo>
                    <a:lnTo>
                      <a:pt x="953998" y="378015"/>
                    </a:lnTo>
                    <a:lnTo>
                      <a:pt x="953998" y="54000"/>
                    </a:lnTo>
                    <a:lnTo>
                      <a:pt x="950168" y="32977"/>
                    </a:lnTo>
                    <a:lnTo>
                      <a:pt x="939720" y="15813"/>
                    </a:lnTo>
                    <a:lnTo>
                      <a:pt x="924219" y="4242"/>
                    </a:lnTo>
                    <a:lnTo>
                      <a:pt x="905230" y="0"/>
                    </a:lnTo>
                    <a:close/>
                  </a:path>
                </a:pathLst>
              </a:custGeom>
              <a:solidFill>
                <a:srgbClr val="e1f4fd"/>
              </a:solidFill>
              <a:ln w="9360">
                <a:solidFill>
                  <a:srgbClr val="e6e6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bject 37"/>
              <p:cNvSpPr/>
              <p:nvPr/>
            </p:nvSpPr>
            <p:spPr>
              <a:xfrm>
                <a:off x="8750520" y="12024360"/>
                <a:ext cx="954360" cy="432360"/>
              </a:xfrm>
              <a:custGeom>
                <a:avLst/>
                <a:gdLst/>
                <a:ahLst/>
                <a:rect l="l" t="t" r="r" b="b"/>
                <a:pathLst>
                  <a:path w="954404" h="432434">
                    <a:moveTo>
                      <a:pt x="48806" y="0"/>
                    </a:moveTo>
                    <a:lnTo>
                      <a:pt x="905230" y="0"/>
                    </a:lnTo>
                    <a:lnTo>
                      <a:pt x="924219" y="4242"/>
                    </a:lnTo>
                    <a:lnTo>
                      <a:pt x="939720" y="15813"/>
                    </a:lnTo>
                    <a:lnTo>
                      <a:pt x="950168" y="32977"/>
                    </a:lnTo>
                    <a:lnTo>
                      <a:pt x="953998" y="54000"/>
                    </a:lnTo>
                    <a:lnTo>
                      <a:pt x="953998" y="378015"/>
                    </a:lnTo>
                    <a:lnTo>
                      <a:pt x="950168" y="399033"/>
                    </a:lnTo>
                    <a:lnTo>
                      <a:pt x="939720" y="416198"/>
                    </a:lnTo>
                    <a:lnTo>
                      <a:pt x="924219" y="427771"/>
                    </a:lnTo>
                    <a:lnTo>
                      <a:pt x="905230" y="432015"/>
                    </a:lnTo>
                    <a:lnTo>
                      <a:pt x="48806" y="432015"/>
                    </a:lnTo>
                    <a:lnTo>
                      <a:pt x="29810" y="427771"/>
                    </a:lnTo>
                    <a:lnTo>
                      <a:pt x="14297" y="416198"/>
                    </a:lnTo>
                    <a:lnTo>
                      <a:pt x="3836" y="399033"/>
                    </a:lnTo>
                    <a:lnTo>
                      <a:pt x="0" y="378015"/>
                    </a:lnTo>
                    <a:lnTo>
                      <a:pt x="0" y="54000"/>
                    </a:lnTo>
                    <a:lnTo>
                      <a:pt x="3836" y="32977"/>
                    </a:lnTo>
                    <a:lnTo>
                      <a:pt x="14297" y="15813"/>
                    </a:lnTo>
                    <a:lnTo>
                      <a:pt x="29810" y="4242"/>
                    </a:lnTo>
                    <a:lnTo>
                      <a:pt x="48806" y="0"/>
                    </a:lnTo>
                    <a:close/>
                  </a:path>
                </a:pathLst>
              </a:custGeom>
              <a:noFill/>
              <a:ln w="1260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bject 38"/>
              <p:cNvSpPr/>
              <p:nvPr/>
            </p:nvSpPr>
            <p:spPr>
              <a:xfrm>
                <a:off x="8802720" y="12183840"/>
                <a:ext cx="616320" cy="113400"/>
              </a:xfrm>
              <a:custGeom>
                <a:avLst/>
                <a:gdLst/>
                <a:ahLst/>
                <a:rect l="l" t="t" r="r" b="b"/>
                <a:pathLst>
                  <a:path w="616584" h="113665">
                    <a:moveTo>
                      <a:pt x="61976" y="3162"/>
                    </a:moveTo>
                    <a:lnTo>
                      <a:pt x="0" y="3162"/>
                    </a:lnTo>
                    <a:lnTo>
                      <a:pt x="0" y="103047"/>
                    </a:lnTo>
                    <a:lnTo>
                      <a:pt x="14998" y="103047"/>
                    </a:lnTo>
                    <a:lnTo>
                      <a:pt x="14998" y="59105"/>
                    </a:lnTo>
                    <a:lnTo>
                      <a:pt x="57937" y="59105"/>
                    </a:lnTo>
                    <a:lnTo>
                      <a:pt x="57937" y="45618"/>
                    </a:lnTo>
                    <a:lnTo>
                      <a:pt x="14998" y="45618"/>
                    </a:lnTo>
                    <a:lnTo>
                      <a:pt x="14998" y="16776"/>
                    </a:lnTo>
                    <a:lnTo>
                      <a:pt x="61976" y="16776"/>
                    </a:lnTo>
                    <a:lnTo>
                      <a:pt x="61976" y="3162"/>
                    </a:lnTo>
                    <a:close/>
                  </a:path>
                  <a:path w="616584" h="113665">
                    <a:moveTo>
                      <a:pt x="137833" y="74714"/>
                    </a:moveTo>
                    <a:lnTo>
                      <a:pt x="109105" y="44983"/>
                    </a:lnTo>
                    <a:lnTo>
                      <a:pt x="98666" y="41338"/>
                    </a:lnTo>
                    <a:lnTo>
                      <a:pt x="92367" y="38315"/>
                    </a:lnTo>
                    <a:lnTo>
                      <a:pt x="92367" y="21183"/>
                    </a:lnTo>
                    <a:lnTo>
                      <a:pt x="99034" y="14757"/>
                    </a:lnTo>
                    <a:lnTo>
                      <a:pt x="116801" y="14757"/>
                    </a:lnTo>
                    <a:lnTo>
                      <a:pt x="122974" y="17157"/>
                    </a:lnTo>
                    <a:lnTo>
                      <a:pt x="128892" y="21310"/>
                    </a:lnTo>
                    <a:lnTo>
                      <a:pt x="132422" y="7454"/>
                    </a:lnTo>
                    <a:lnTo>
                      <a:pt x="121081" y="1155"/>
                    </a:lnTo>
                    <a:lnTo>
                      <a:pt x="109105" y="1155"/>
                    </a:lnTo>
                    <a:lnTo>
                      <a:pt x="96393" y="3302"/>
                    </a:lnTo>
                    <a:lnTo>
                      <a:pt x="86347" y="9321"/>
                    </a:lnTo>
                    <a:lnTo>
                      <a:pt x="79743" y="18529"/>
                    </a:lnTo>
                    <a:lnTo>
                      <a:pt x="77368" y="30251"/>
                    </a:lnTo>
                    <a:lnTo>
                      <a:pt x="79082" y="40271"/>
                    </a:lnTo>
                    <a:lnTo>
                      <a:pt x="84124" y="47853"/>
                    </a:lnTo>
                    <a:lnTo>
                      <a:pt x="92303" y="53594"/>
                    </a:lnTo>
                    <a:lnTo>
                      <a:pt x="103454" y="58089"/>
                    </a:lnTo>
                    <a:lnTo>
                      <a:pt x="111429" y="61087"/>
                    </a:lnTo>
                    <a:lnTo>
                      <a:pt x="117538" y="64744"/>
                    </a:lnTo>
                    <a:lnTo>
                      <a:pt x="121462" y="69507"/>
                    </a:lnTo>
                    <a:lnTo>
                      <a:pt x="122847" y="75844"/>
                    </a:lnTo>
                    <a:lnTo>
                      <a:pt x="121081" y="82638"/>
                    </a:lnTo>
                    <a:lnTo>
                      <a:pt x="116370" y="87528"/>
                    </a:lnTo>
                    <a:lnTo>
                      <a:pt x="109613" y="90474"/>
                    </a:lnTo>
                    <a:lnTo>
                      <a:pt x="101676" y="91465"/>
                    </a:lnTo>
                    <a:lnTo>
                      <a:pt x="92989" y="91465"/>
                    </a:lnTo>
                    <a:lnTo>
                      <a:pt x="85051" y="88315"/>
                    </a:lnTo>
                    <a:lnTo>
                      <a:pt x="77762" y="83159"/>
                    </a:lnTo>
                    <a:lnTo>
                      <a:pt x="73469" y="96634"/>
                    </a:lnTo>
                    <a:lnTo>
                      <a:pt x="80289" y="100406"/>
                    </a:lnTo>
                    <a:lnTo>
                      <a:pt x="87376" y="103035"/>
                    </a:lnTo>
                    <a:lnTo>
                      <a:pt x="94818" y="104571"/>
                    </a:lnTo>
                    <a:lnTo>
                      <a:pt x="102692" y="105079"/>
                    </a:lnTo>
                    <a:lnTo>
                      <a:pt x="117170" y="102793"/>
                    </a:lnTo>
                    <a:lnTo>
                      <a:pt x="128244" y="96456"/>
                    </a:lnTo>
                    <a:lnTo>
                      <a:pt x="135331" y="86842"/>
                    </a:lnTo>
                    <a:lnTo>
                      <a:pt x="137833" y="74714"/>
                    </a:lnTo>
                    <a:close/>
                  </a:path>
                  <a:path w="616584" h="113665">
                    <a:moveTo>
                      <a:pt x="236118" y="10337"/>
                    </a:moveTo>
                    <a:lnTo>
                      <a:pt x="228815" y="6261"/>
                    </a:lnTo>
                    <a:lnTo>
                      <a:pt x="221259" y="3390"/>
                    </a:lnTo>
                    <a:lnTo>
                      <a:pt x="213347" y="1714"/>
                    </a:lnTo>
                    <a:lnTo>
                      <a:pt x="205003" y="1155"/>
                    </a:lnTo>
                    <a:lnTo>
                      <a:pt x="184302" y="4787"/>
                    </a:lnTo>
                    <a:lnTo>
                      <a:pt x="167411" y="15189"/>
                    </a:lnTo>
                    <a:lnTo>
                      <a:pt x="156006" y="31597"/>
                    </a:lnTo>
                    <a:lnTo>
                      <a:pt x="151841" y="53289"/>
                    </a:lnTo>
                    <a:lnTo>
                      <a:pt x="155257" y="73177"/>
                    </a:lnTo>
                    <a:lnTo>
                      <a:pt x="165417" y="89674"/>
                    </a:lnTo>
                    <a:lnTo>
                      <a:pt x="182130" y="100914"/>
                    </a:lnTo>
                    <a:lnTo>
                      <a:pt x="205244" y="105067"/>
                    </a:lnTo>
                    <a:lnTo>
                      <a:pt x="213245" y="104635"/>
                    </a:lnTo>
                    <a:lnTo>
                      <a:pt x="221145" y="103301"/>
                    </a:lnTo>
                    <a:lnTo>
                      <a:pt x="228803" y="101028"/>
                    </a:lnTo>
                    <a:lnTo>
                      <a:pt x="236118" y="97764"/>
                    </a:lnTo>
                    <a:lnTo>
                      <a:pt x="236118" y="81521"/>
                    </a:lnTo>
                    <a:lnTo>
                      <a:pt x="229755" y="85623"/>
                    </a:lnTo>
                    <a:lnTo>
                      <a:pt x="222719" y="88760"/>
                    </a:lnTo>
                    <a:lnTo>
                      <a:pt x="214884" y="90766"/>
                    </a:lnTo>
                    <a:lnTo>
                      <a:pt x="206133" y="91465"/>
                    </a:lnTo>
                    <a:lnTo>
                      <a:pt x="188353" y="88163"/>
                    </a:lnTo>
                    <a:lnTo>
                      <a:pt x="176136" y="79451"/>
                    </a:lnTo>
                    <a:lnTo>
                      <a:pt x="169100" y="67183"/>
                    </a:lnTo>
                    <a:lnTo>
                      <a:pt x="166839" y="53162"/>
                    </a:lnTo>
                    <a:lnTo>
                      <a:pt x="169341" y="38455"/>
                    </a:lnTo>
                    <a:lnTo>
                      <a:pt x="176682" y="26225"/>
                    </a:lnTo>
                    <a:lnTo>
                      <a:pt x="188607" y="17856"/>
                    </a:lnTo>
                    <a:lnTo>
                      <a:pt x="204863" y="14757"/>
                    </a:lnTo>
                    <a:lnTo>
                      <a:pt x="213296" y="15532"/>
                    </a:lnTo>
                    <a:lnTo>
                      <a:pt x="220484" y="17576"/>
                    </a:lnTo>
                    <a:lnTo>
                      <a:pt x="226441" y="20548"/>
                    </a:lnTo>
                    <a:lnTo>
                      <a:pt x="231203" y="24066"/>
                    </a:lnTo>
                    <a:lnTo>
                      <a:pt x="236118" y="10337"/>
                    </a:lnTo>
                    <a:close/>
                  </a:path>
                  <a:path w="616584" h="113665">
                    <a:moveTo>
                      <a:pt x="291058" y="54927"/>
                    </a:moveTo>
                    <a:lnTo>
                      <a:pt x="251764" y="54927"/>
                    </a:lnTo>
                    <a:lnTo>
                      <a:pt x="251764" y="66141"/>
                    </a:lnTo>
                    <a:lnTo>
                      <a:pt x="291058" y="66141"/>
                    </a:lnTo>
                    <a:lnTo>
                      <a:pt x="291058" y="54927"/>
                    </a:lnTo>
                    <a:close/>
                  </a:path>
                  <a:path w="616584" h="113665">
                    <a:moveTo>
                      <a:pt x="291058" y="36042"/>
                    </a:moveTo>
                    <a:lnTo>
                      <a:pt x="251764" y="36042"/>
                    </a:lnTo>
                    <a:lnTo>
                      <a:pt x="251764" y="47256"/>
                    </a:lnTo>
                    <a:lnTo>
                      <a:pt x="291058" y="47256"/>
                    </a:lnTo>
                    <a:lnTo>
                      <a:pt x="291058" y="36042"/>
                    </a:lnTo>
                    <a:close/>
                  </a:path>
                  <a:path w="616584" h="113665">
                    <a:moveTo>
                      <a:pt x="291058" y="279"/>
                    </a:moveTo>
                    <a:lnTo>
                      <a:pt x="251764" y="279"/>
                    </a:lnTo>
                    <a:lnTo>
                      <a:pt x="251764" y="11493"/>
                    </a:lnTo>
                    <a:lnTo>
                      <a:pt x="291058" y="11493"/>
                    </a:lnTo>
                    <a:lnTo>
                      <a:pt x="291058" y="279"/>
                    </a:lnTo>
                    <a:close/>
                  </a:path>
                  <a:path w="616584" h="113665">
                    <a:moveTo>
                      <a:pt x="295351" y="17907"/>
                    </a:moveTo>
                    <a:lnTo>
                      <a:pt x="247853" y="17907"/>
                    </a:lnTo>
                    <a:lnTo>
                      <a:pt x="247853" y="29375"/>
                    </a:lnTo>
                    <a:lnTo>
                      <a:pt x="295351" y="29375"/>
                    </a:lnTo>
                    <a:lnTo>
                      <a:pt x="295351" y="17907"/>
                    </a:lnTo>
                    <a:close/>
                  </a:path>
                  <a:path w="616584" h="113665">
                    <a:moveTo>
                      <a:pt x="309714" y="71691"/>
                    </a:moveTo>
                    <a:lnTo>
                      <a:pt x="298119" y="70802"/>
                    </a:lnTo>
                    <a:lnTo>
                      <a:pt x="296926" y="80200"/>
                    </a:lnTo>
                    <a:lnTo>
                      <a:pt x="295300" y="87680"/>
                    </a:lnTo>
                    <a:lnTo>
                      <a:pt x="293306" y="93649"/>
                    </a:lnTo>
                    <a:lnTo>
                      <a:pt x="291058" y="98513"/>
                    </a:lnTo>
                    <a:lnTo>
                      <a:pt x="291058" y="84416"/>
                    </a:lnTo>
                    <a:lnTo>
                      <a:pt x="291058" y="73583"/>
                    </a:lnTo>
                    <a:lnTo>
                      <a:pt x="279971" y="73583"/>
                    </a:lnTo>
                    <a:lnTo>
                      <a:pt x="279971" y="84416"/>
                    </a:lnTo>
                    <a:lnTo>
                      <a:pt x="279971" y="101168"/>
                    </a:lnTo>
                    <a:lnTo>
                      <a:pt x="262978" y="101168"/>
                    </a:lnTo>
                    <a:lnTo>
                      <a:pt x="262978" y="84416"/>
                    </a:lnTo>
                    <a:lnTo>
                      <a:pt x="279971" y="84416"/>
                    </a:lnTo>
                    <a:lnTo>
                      <a:pt x="279971" y="73583"/>
                    </a:lnTo>
                    <a:lnTo>
                      <a:pt x="251764" y="73583"/>
                    </a:lnTo>
                    <a:lnTo>
                      <a:pt x="251764" y="112001"/>
                    </a:lnTo>
                    <a:lnTo>
                      <a:pt x="291058" y="112001"/>
                    </a:lnTo>
                    <a:lnTo>
                      <a:pt x="291058" y="102298"/>
                    </a:lnTo>
                    <a:lnTo>
                      <a:pt x="299999" y="108089"/>
                    </a:lnTo>
                    <a:lnTo>
                      <a:pt x="302450" y="102298"/>
                    </a:lnTo>
                    <a:lnTo>
                      <a:pt x="302920" y="101168"/>
                    </a:lnTo>
                    <a:lnTo>
                      <a:pt x="304050" y="98513"/>
                    </a:lnTo>
                    <a:lnTo>
                      <a:pt x="304228" y="98094"/>
                    </a:lnTo>
                    <a:lnTo>
                      <a:pt x="307073" y="88049"/>
                    </a:lnTo>
                    <a:lnTo>
                      <a:pt x="308813" y="78917"/>
                    </a:lnTo>
                    <a:lnTo>
                      <a:pt x="309714" y="71691"/>
                    </a:lnTo>
                    <a:close/>
                  </a:path>
                  <a:path w="616584" h="113665">
                    <a:moveTo>
                      <a:pt x="342696" y="66408"/>
                    </a:moveTo>
                    <a:lnTo>
                      <a:pt x="337591" y="61709"/>
                    </a:lnTo>
                    <a:lnTo>
                      <a:pt x="332422" y="57581"/>
                    </a:lnTo>
                    <a:lnTo>
                      <a:pt x="327139" y="53924"/>
                    </a:lnTo>
                    <a:lnTo>
                      <a:pt x="321665" y="50660"/>
                    </a:lnTo>
                    <a:lnTo>
                      <a:pt x="314363" y="59601"/>
                    </a:lnTo>
                    <a:lnTo>
                      <a:pt x="321868" y="64223"/>
                    </a:lnTo>
                    <a:lnTo>
                      <a:pt x="328028" y="68668"/>
                    </a:lnTo>
                    <a:lnTo>
                      <a:pt x="332701" y="72478"/>
                    </a:lnTo>
                    <a:lnTo>
                      <a:pt x="336029" y="75476"/>
                    </a:lnTo>
                    <a:lnTo>
                      <a:pt x="342696" y="66408"/>
                    </a:lnTo>
                    <a:close/>
                  </a:path>
                  <a:path w="616584" h="113665">
                    <a:moveTo>
                      <a:pt x="349758" y="92595"/>
                    </a:moveTo>
                    <a:lnTo>
                      <a:pt x="338416" y="89077"/>
                    </a:lnTo>
                    <a:lnTo>
                      <a:pt x="337540" y="98780"/>
                    </a:lnTo>
                    <a:lnTo>
                      <a:pt x="337172" y="101930"/>
                    </a:lnTo>
                    <a:lnTo>
                      <a:pt x="326199" y="101930"/>
                    </a:lnTo>
                    <a:lnTo>
                      <a:pt x="325183" y="101168"/>
                    </a:lnTo>
                    <a:lnTo>
                      <a:pt x="325183" y="71691"/>
                    </a:lnTo>
                    <a:lnTo>
                      <a:pt x="313359" y="71691"/>
                    </a:lnTo>
                    <a:lnTo>
                      <a:pt x="313359" y="108597"/>
                    </a:lnTo>
                    <a:lnTo>
                      <a:pt x="316255" y="113258"/>
                    </a:lnTo>
                    <a:lnTo>
                      <a:pt x="346227" y="113258"/>
                    </a:lnTo>
                    <a:lnTo>
                      <a:pt x="348373" y="106578"/>
                    </a:lnTo>
                    <a:lnTo>
                      <a:pt x="348830" y="101930"/>
                    </a:lnTo>
                    <a:lnTo>
                      <a:pt x="349758" y="92595"/>
                    </a:lnTo>
                    <a:close/>
                  </a:path>
                  <a:path w="616584" h="113665">
                    <a:moveTo>
                      <a:pt x="361975" y="279"/>
                    </a:moveTo>
                    <a:lnTo>
                      <a:pt x="299364" y="279"/>
                    </a:lnTo>
                    <a:lnTo>
                      <a:pt x="299364" y="11099"/>
                    </a:lnTo>
                    <a:lnTo>
                      <a:pt x="319151" y="11099"/>
                    </a:lnTo>
                    <a:lnTo>
                      <a:pt x="318770" y="14008"/>
                    </a:lnTo>
                    <a:lnTo>
                      <a:pt x="318516" y="15760"/>
                    </a:lnTo>
                    <a:lnTo>
                      <a:pt x="317512" y="19672"/>
                    </a:lnTo>
                    <a:lnTo>
                      <a:pt x="310083" y="17399"/>
                    </a:lnTo>
                    <a:lnTo>
                      <a:pt x="307936" y="16903"/>
                    </a:lnTo>
                    <a:lnTo>
                      <a:pt x="303657" y="16014"/>
                    </a:lnTo>
                    <a:lnTo>
                      <a:pt x="299364" y="25717"/>
                    </a:lnTo>
                    <a:lnTo>
                      <a:pt x="306679" y="27863"/>
                    </a:lnTo>
                    <a:lnTo>
                      <a:pt x="308940" y="28613"/>
                    </a:lnTo>
                    <a:lnTo>
                      <a:pt x="292442" y="47256"/>
                    </a:lnTo>
                    <a:lnTo>
                      <a:pt x="300380" y="57708"/>
                    </a:lnTo>
                    <a:lnTo>
                      <a:pt x="309562" y="51320"/>
                    </a:lnTo>
                    <a:lnTo>
                      <a:pt x="316077" y="45275"/>
                    </a:lnTo>
                    <a:lnTo>
                      <a:pt x="320624" y="39636"/>
                    </a:lnTo>
                    <a:lnTo>
                      <a:pt x="323938" y="34531"/>
                    </a:lnTo>
                    <a:lnTo>
                      <a:pt x="330390" y="37566"/>
                    </a:lnTo>
                    <a:lnTo>
                      <a:pt x="332625" y="38950"/>
                    </a:lnTo>
                    <a:lnTo>
                      <a:pt x="336397" y="41338"/>
                    </a:lnTo>
                    <a:lnTo>
                      <a:pt x="339928" y="34531"/>
                    </a:lnTo>
                    <a:lnTo>
                      <a:pt x="341820" y="30886"/>
                    </a:lnTo>
                    <a:lnTo>
                      <a:pt x="338543" y="28613"/>
                    </a:lnTo>
                    <a:lnTo>
                      <a:pt x="336651" y="27470"/>
                    </a:lnTo>
                    <a:lnTo>
                      <a:pt x="328726" y="23952"/>
                    </a:lnTo>
                    <a:lnTo>
                      <a:pt x="330136" y="19672"/>
                    </a:lnTo>
                    <a:lnTo>
                      <a:pt x="330225" y="19418"/>
                    </a:lnTo>
                    <a:lnTo>
                      <a:pt x="330987" y="16522"/>
                    </a:lnTo>
                    <a:lnTo>
                      <a:pt x="331863" y="11099"/>
                    </a:lnTo>
                    <a:lnTo>
                      <a:pt x="350888" y="11099"/>
                    </a:lnTo>
                    <a:lnTo>
                      <a:pt x="344093" y="42976"/>
                    </a:lnTo>
                    <a:lnTo>
                      <a:pt x="332511" y="42976"/>
                    </a:lnTo>
                    <a:lnTo>
                      <a:pt x="334391" y="55321"/>
                    </a:lnTo>
                    <a:lnTo>
                      <a:pt x="352031" y="55321"/>
                    </a:lnTo>
                    <a:lnTo>
                      <a:pt x="355549" y="53809"/>
                    </a:lnTo>
                    <a:lnTo>
                      <a:pt x="361861" y="11493"/>
                    </a:lnTo>
                    <a:lnTo>
                      <a:pt x="361975" y="279"/>
                    </a:lnTo>
                    <a:close/>
                  </a:path>
                  <a:path w="616584" h="113665">
                    <a:moveTo>
                      <a:pt x="367512" y="104317"/>
                    </a:moveTo>
                    <a:lnTo>
                      <a:pt x="365760" y="94564"/>
                    </a:lnTo>
                    <a:lnTo>
                      <a:pt x="363385" y="85267"/>
                    </a:lnTo>
                    <a:lnTo>
                      <a:pt x="360502" y="76581"/>
                    </a:lnTo>
                    <a:lnTo>
                      <a:pt x="357187" y="68668"/>
                    </a:lnTo>
                    <a:lnTo>
                      <a:pt x="346100" y="71691"/>
                    </a:lnTo>
                    <a:lnTo>
                      <a:pt x="348983" y="79578"/>
                    </a:lnTo>
                    <a:lnTo>
                      <a:pt x="351548" y="88049"/>
                    </a:lnTo>
                    <a:lnTo>
                      <a:pt x="353733" y="97370"/>
                    </a:lnTo>
                    <a:lnTo>
                      <a:pt x="355549" y="108089"/>
                    </a:lnTo>
                    <a:lnTo>
                      <a:pt x="367512" y="104317"/>
                    </a:lnTo>
                    <a:close/>
                  </a:path>
                  <a:path w="616584" h="113665">
                    <a:moveTo>
                      <a:pt x="421970" y="72948"/>
                    </a:moveTo>
                    <a:lnTo>
                      <a:pt x="409244" y="72948"/>
                    </a:lnTo>
                    <a:lnTo>
                      <a:pt x="409244" y="84035"/>
                    </a:lnTo>
                    <a:lnTo>
                      <a:pt x="409244" y="100914"/>
                    </a:lnTo>
                    <a:lnTo>
                      <a:pt x="392874" y="100914"/>
                    </a:lnTo>
                    <a:lnTo>
                      <a:pt x="392874" y="84035"/>
                    </a:lnTo>
                    <a:lnTo>
                      <a:pt x="409244" y="84035"/>
                    </a:lnTo>
                    <a:lnTo>
                      <a:pt x="409244" y="72948"/>
                    </a:lnTo>
                    <a:lnTo>
                      <a:pt x="380403" y="72948"/>
                    </a:lnTo>
                    <a:lnTo>
                      <a:pt x="380403" y="111747"/>
                    </a:lnTo>
                    <a:lnTo>
                      <a:pt x="421970" y="111747"/>
                    </a:lnTo>
                    <a:lnTo>
                      <a:pt x="421970" y="100914"/>
                    </a:lnTo>
                    <a:lnTo>
                      <a:pt x="421970" y="84035"/>
                    </a:lnTo>
                    <a:lnTo>
                      <a:pt x="421970" y="72948"/>
                    </a:lnTo>
                    <a:close/>
                  </a:path>
                  <a:path w="616584" h="113665">
                    <a:moveTo>
                      <a:pt x="421970" y="54546"/>
                    </a:moveTo>
                    <a:lnTo>
                      <a:pt x="380403" y="54546"/>
                    </a:lnTo>
                    <a:lnTo>
                      <a:pt x="380403" y="65887"/>
                    </a:lnTo>
                    <a:lnTo>
                      <a:pt x="421970" y="65887"/>
                    </a:lnTo>
                    <a:lnTo>
                      <a:pt x="421970" y="54546"/>
                    </a:lnTo>
                    <a:close/>
                  </a:path>
                  <a:path w="616584" h="113665">
                    <a:moveTo>
                      <a:pt x="421970" y="35915"/>
                    </a:moveTo>
                    <a:lnTo>
                      <a:pt x="380403" y="35915"/>
                    </a:lnTo>
                    <a:lnTo>
                      <a:pt x="380403" y="47129"/>
                    </a:lnTo>
                    <a:lnTo>
                      <a:pt x="421970" y="47129"/>
                    </a:lnTo>
                    <a:lnTo>
                      <a:pt x="421970" y="35915"/>
                    </a:lnTo>
                    <a:close/>
                  </a:path>
                  <a:path w="616584" h="113665">
                    <a:moveTo>
                      <a:pt x="421970" y="0"/>
                    </a:moveTo>
                    <a:lnTo>
                      <a:pt x="380403" y="0"/>
                    </a:lnTo>
                    <a:lnTo>
                      <a:pt x="380403" y="11341"/>
                    </a:lnTo>
                    <a:lnTo>
                      <a:pt x="421970" y="11341"/>
                    </a:lnTo>
                    <a:lnTo>
                      <a:pt x="421970" y="0"/>
                    </a:lnTo>
                    <a:close/>
                  </a:path>
                  <a:path w="616584" h="113665">
                    <a:moveTo>
                      <a:pt x="426008" y="17894"/>
                    </a:moveTo>
                    <a:lnTo>
                      <a:pt x="376516" y="17894"/>
                    </a:lnTo>
                    <a:lnTo>
                      <a:pt x="376516" y="29362"/>
                    </a:lnTo>
                    <a:lnTo>
                      <a:pt x="426008" y="29362"/>
                    </a:lnTo>
                    <a:lnTo>
                      <a:pt x="426008" y="17894"/>
                    </a:lnTo>
                    <a:close/>
                  </a:path>
                  <a:path w="616584" h="113665">
                    <a:moveTo>
                      <a:pt x="496036" y="97891"/>
                    </a:moveTo>
                    <a:lnTo>
                      <a:pt x="472732" y="97891"/>
                    </a:lnTo>
                    <a:lnTo>
                      <a:pt x="472732" y="57581"/>
                    </a:lnTo>
                    <a:lnTo>
                      <a:pt x="491871" y="57581"/>
                    </a:lnTo>
                    <a:lnTo>
                      <a:pt x="491871" y="45224"/>
                    </a:lnTo>
                    <a:lnTo>
                      <a:pt x="472732" y="45224"/>
                    </a:lnTo>
                    <a:lnTo>
                      <a:pt x="472732" y="12357"/>
                    </a:lnTo>
                    <a:lnTo>
                      <a:pt x="494157" y="12357"/>
                    </a:lnTo>
                    <a:lnTo>
                      <a:pt x="494157" y="12"/>
                    </a:lnTo>
                    <a:lnTo>
                      <a:pt x="428269" y="12"/>
                    </a:lnTo>
                    <a:lnTo>
                      <a:pt x="428269" y="12357"/>
                    </a:lnTo>
                    <a:lnTo>
                      <a:pt x="459765" y="12357"/>
                    </a:lnTo>
                    <a:lnTo>
                      <a:pt x="459765" y="97891"/>
                    </a:lnTo>
                    <a:lnTo>
                      <a:pt x="445909" y="97891"/>
                    </a:lnTo>
                    <a:lnTo>
                      <a:pt x="445909" y="29997"/>
                    </a:lnTo>
                    <a:lnTo>
                      <a:pt x="433057" y="29997"/>
                    </a:lnTo>
                    <a:lnTo>
                      <a:pt x="433057" y="97891"/>
                    </a:lnTo>
                    <a:lnTo>
                      <a:pt x="426008" y="97891"/>
                    </a:lnTo>
                    <a:lnTo>
                      <a:pt x="426008" y="110109"/>
                    </a:lnTo>
                    <a:lnTo>
                      <a:pt x="496036" y="110109"/>
                    </a:lnTo>
                    <a:lnTo>
                      <a:pt x="496036" y="97891"/>
                    </a:lnTo>
                    <a:close/>
                  </a:path>
                  <a:path w="616584" h="113665">
                    <a:moveTo>
                      <a:pt x="616127" y="85534"/>
                    </a:moveTo>
                    <a:lnTo>
                      <a:pt x="570903" y="85534"/>
                    </a:lnTo>
                    <a:lnTo>
                      <a:pt x="570903" y="24574"/>
                    </a:lnTo>
                    <a:lnTo>
                      <a:pt x="609574" y="24574"/>
                    </a:lnTo>
                    <a:lnTo>
                      <a:pt x="609574" y="10604"/>
                    </a:lnTo>
                    <a:lnTo>
                      <a:pt x="517994" y="10604"/>
                    </a:lnTo>
                    <a:lnTo>
                      <a:pt x="517994" y="24574"/>
                    </a:lnTo>
                    <a:lnTo>
                      <a:pt x="556171" y="24574"/>
                    </a:lnTo>
                    <a:lnTo>
                      <a:pt x="556171" y="85534"/>
                    </a:lnTo>
                    <a:lnTo>
                      <a:pt x="511441" y="85534"/>
                    </a:lnTo>
                    <a:lnTo>
                      <a:pt x="511441" y="99504"/>
                    </a:lnTo>
                    <a:lnTo>
                      <a:pt x="616127" y="99504"/>
                    </a:lnTo>
                    <a:lnTo>
                      <a:pt x="616127" y="85534"/>
                    </a:lnTo>
                    <a:close/>
                  </a:path>
                </a:pathLst>
              </a:custGeom>
              <a:solidFill>
                <a:srgbClr val="00b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object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9444960" y="12186720"/>
                <a:ext cx="77040" cy="10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" name="object 40" descr=""/>
              <p:cNvPicPr/>
              <p:nvPr/>
            </p:nvPicPr>
            <p:blipFill>
              <a:blip r:embed="rId4"/>
              <a:stretch/>
            </p:blipFill>
            <p:spPr>
              <a:xfrm>
                <a:off x="9547200" y="12189960"/>
                <a:ext cx="104760" cy="10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1" name="AutoShape 124"/>
            <p:cNvSpPr/>
            <p:nvPr/>
          </p:nvSpPr>
          <p:spPr>
            <a:xfrm>
              <a:off x="98280" y="3571920"/>
              <a:ext cx="1028520" cy="80964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bject 32"/>
            <p:cNvSpPr/>
            <p:nvPr/>
          </p:nvSpPr>
          <p:spPr>
            <a:xfrm>
              <a:off x="1807920" y="3208320"/>
              <a:ext cx="7921800" cy="9077400"/>
            </a:xfrm>
            <a:custGeom>
              <a:avLst/>
              <a:gdLst/>
              <a:ahLst/>
              <a:rect l="l" t="t" r="r" b="b"/>
              <a:pathLst>
                <a:path w="7920990" h="9076690">
                  <a:moveTo>
                    <a:pt x="7920520" y="8711996"/>
                  </a:moveTo>
                  <a:lnTo>
                    <a:pt x="6843293" y="8711996"/>
                  </a:lnTo>
                  <a:lnTo>
                    <a:pt x="6843293" y="9076067"/>
                  </a:lnTo>
                  <a:lnTo>
                    <a:pt x="241" y="9072003"/>
                  </a:lnTo>
                  <a:lnTo>
                    <a:pt x="0" y="0"/>
                  </a:lnTo>
                  <a:lnTo>
                    <a:pt x="7920520" y="0"/>
                  </a:lnTo>
                  <a:lnTo>
                    <a:pt x="7920520" y="8711996"/>
                  </a:lnTo>
                  <a:lnTo>
                    <a:pt x="6843293" y="8711996"/>
                  </a:lnTo>
                </a:path>
              </a:pathLst>
            </a:custGeom>
            <a:noFill/>
            <a:ln w="1260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471240"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1881360" indent="-3765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2637000" indent="-3780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389400" indent="-37620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prima-rire</dc:creator>
  <dc:description/>
  <dc:language>en-US</dc:language>
  <cp:lastModifiedBy>HP Inc.</cp:lastModifiedBy>
  <dcterms:modified xsi:type="dcterms:W3CDTF">2021-08-30T01:02:00Z</dcterms:modified>
  <cp:revision>26</cp:revision>
  <dc:subject/>
  <dc:title>スライド 1</dc:title>
</cp:coreProperties>
</file>