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999538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18852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27400" y="112860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00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18852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27400" y="2589840"/>
            <a:ext cx="26078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0000" y="192240"/>
            <a:ext cx="8099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00440" y="258984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000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00440" y="1128600"/>
            <a:ext cx="39524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0000" y="2589840"/>
            <a:ext cx="8099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6360" y="3759120"/>
            <a:ext cx="21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46840" y="2557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079640" y="1079640"/>
            <a:ext cx="6842160" cy="2665440"/>
            <a:chOff x="1079640" y="1079640"/>
            <a:chExt cx="6842160" cy="2665440"/>
          </a:xfrm>
        </p:grpSpPr>
        <p:sp>
          <p:nvSpPr>
            <p:cNvPr id="3" name=""/>
            <p:cNvSpPr/>
            <p:nvPr/>
          </p:nvSpPr>
          <p:spPr>
            <a:xfrm>
              <a:off x="1079640" y="1330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3820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24130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38148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3490920"/>
              <a:ext cx="684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6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644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0200" y="1330200"/>
              <a:ext cx="633420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3444120" y="10904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スジ入れ凹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4212720" y="1187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54764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608360" y="1547640"/>
            <a:ext cx="2843280" cy="17272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440000" y="1440000"/>
            <a:ext cx="6119640" cy="1942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2550960"/>
            <a:ext cx="1028520" cy="703440"/>
          </a:xfrm>
          <a:prstGeom prst="wedgeRoundRectCallout">
            <a:avLst>
              <a:gd name="adj1" fmla="val 89967"/>
              <a:gd name="adj2" fmla="val -47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4560840" y="35272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45594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7885080" y="1547640"/>
            <a:ext cx="1028880" cy="720720"/>
          </a:xfrm>
          <a:prstGeom prst="wedgeRoundRectCallout">
            <a:avLst>
              <a:gd name="adj1" fmla="val -71449"/>
              <a:gd name="adj2" fmla="val -39648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2413080" y="3814920"/>
            <a:ext cx="4680000" cy="86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4"/>
          <a:stretch/>
        </p:blipFill>
        <p:spPr>
          <a:xfrm>
            <a:off x="2556000" y="395280"/>
            <a:ext cx="3936960" cy="35244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000" y="192240"/>
            <a:ext cx="8099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0000" y="1128600"/>
            <a:ext cx="8099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45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198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44468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232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232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2320" indent="-19836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/>
  <dcterms:modified xsi:type="dcterms:W3CDTF">2012-01-05T07:21:59Z</dcterms:modified>
  <cp:revision>20</cp:revision>
  <dc:subject/>
  <dc:title/>
</cp:coreProperties>
</file>