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8160" y="3710160"/>
            <a:ext cx="2155680" cy="1047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746840" y="25574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079640" y="1079640"/>
            <a:ext cx="6842160" cy="2665440"/>
            <a:chOff x="1079640" y="1079640"/>
            <a:chExt cx="6842160" cy="2665440"/>
          </a:xfrm>
        </p:grpSpPr>
        <p:sp>
          <p:nvSpPr>
            <p:cNvPr id="3" name=""/>
            <p:cNvSpPr/>
            <p:nvPr/>
          </p:nvSpPr>
          <p:spPr>
            <a:xfrm>
              <a:off x="1079640" y="1330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79640" y="349092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6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64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0200" y="1330200"/>
              <a:ext cx="63342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154764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60836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440000" y="1440000"/>
            <a:ext cx="6119640" cy="1942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444120" y="10904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スジ入れ凸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 flipH="1">
            <a:off x="4212720" y="1187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8000" y="2550960"/>
            <a:ext cx="1028520" cy="703440"/>
          </a:xfrm>
          <a:prstGeom prst="wedgeRoundRectCallout">
            <a:avLst>
              <a:gd name="adj1" fmla="val 89967"/>
              <a:gd name="adj2" fmla="val -4751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4560840" y="35272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45594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7885080" y="1547640"/>
            <a:ext cx="1028880" cy="720720"/>
          </a:xfrm>
          <a:prstGeom prst="wedgeRoundRectCallout">
            <a:avLst>
              <a:gd name="adj1" fmla="val -71449"/>
              <a:gd name="adj2" fmla="val -39648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2484360" y="38149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4"/>
          <a:stretch/>
        </p:blipFill>
        <p:spPr>
          <a:xfrm>
            <a:off x="2556000" y="324000"/>
            <a:ext cx="3936960" cy="35244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1520" indent="-246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98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77804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77804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77804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/>
  <dcterms:modified xsi:type="dcterms:W3CDTF">2012-01-05T07:22:02Z</dcterms:modified>
  <cp:revision>18</cp:revision>
  <dc:subject/>
  <dc:title/>
</cp:coreProperties>
</file>