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940425" cy="47879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97000" y="190800"/>
            <a:ext cx="5345640" cy="7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1272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97000" y="1120320"/>
            <a:ext cx="5345640" cy="13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272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297000" y="2570760"/>
            <a:ext cx="5345640" cy="13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272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97000" y="190800"/>
            <a:ext cx="5345640" cy="7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1272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97000" y="1120320"/>
            <a:ext cx="2608560" cy="13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272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036240" y="1120320"/>
            <a:ext cx="2608560" cy="13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272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297000" y="2570760"/>
            <a:ext cx="2608560" cy="13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272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3036240" y="2570760"/>
            <a:ext cx="2608560" cy="13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272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97000" y="190800"/>
            <a:ext cx="5345640" cy="7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1272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97000" y="1120320"/>
            <a:ext cx="1721160" cy="13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272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2104560" y="1120320"/>
            <a:ext cx="1721160" cy="13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272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912120" y="1120320"/>
            <a:ext cx="1721160" cy="13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272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297000" y="2570760"/>
            <a:ext cx="1721160" cy="13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272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2104560" y="2570760"/>
            <a:ext cx="1721160" cy="13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272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3912120" y="2570760"/>
            <a:ext cx="1721160" cy="13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272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97000" y="190800"/>
            <a:ext cx="5345640" cy="7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1272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297000" y="1120320"/>
            <a:ext cx="5345640" cy="27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61272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97000" y="190800"/>
            <a:ext cx="5345640" cy="7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1272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97000" y="1120320"/>
            <a:ext cx="5345640" cy="27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272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97000" y="190800"/>
            <a:ext cx="5345640" cy="7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1272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97000" y="1120320"/>
            <a:ext cx="2608560" cy="27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272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36240" y="1120320"/>
            <a:ext cx="2608560" cy="27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272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97000" y="190800"/>
            <a:ext cx="5345640" cy="7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1272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297000" y="190800"/>
            <a:ext cx="5345640" cy="37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61272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97000" y="190800"/>
            <a:ext cx="5345640" cy="7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1272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97000" y="1120320"/>
            <a:ext cx="2608560" cy="13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272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036240" y="1120320"/>
            <a:ext cx="2608560" cy="27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272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297000" y="2570760"/>
            <a:ext cx="2608560" cy="13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272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97000" y="190800"/>
            <a:ext cx="5345640" cy="7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1272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97000" y="1120320"/>
            <a:ext cx="2608560" cy="27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272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036240" y="1120320"/>
            <a:ext cx="2608560" cy="13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272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3036240" y="2570760"/>
            <a:ext cx="2608560" cy="13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272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97000" y="190800"/>
            <a:ext cx="5345640" cy="7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1272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97000" y="1120320"/>
            <a:ext cx="2608560" cy="13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272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036240" y="1120320"/>
            <a:ext cx="2608560" cy="13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272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297000" y="2570760"/>
            <a:ext cx="5345640" cy="13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272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3475080"/>
            <a:ext cx="1446120" cy="1170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4691160" y="2421000"/>
            <a:ext cx="1212840" cy="1525680"/>
          </a:xfrm>
          <a:prstGeom prst="rect">
            <a:avLst/>
          </a:prstGeom>
          <a:ln w="0">
            <a:noFill/>
          </a:ln>
        </p:spPr>
      </p:pic>
      <p:grpSp>
        <p:nvGrpSpPr>
          <p:cNvPr id="2" name=""/>
          <p:cNvGrpSpPr/>
          <p:nvPr/>
        </p:nvGrpSpPr>
        <p:grpSpPr>
          <a:xfrm>
            <a:off x="1079640" y="1079640"/>
            <a:ext cx="3784320" cy="2628720"/>
            <a:chOff x="1079640" y="1079640"/>
            <a:chExt cx="3784320" cy="2628720"/>
          </a:xfrm>
        </p:grpSpPr>
        <p:sp>
          <p:nvSpPr>
            <p:cNvPr id="3" name=""/>
            <p:cNvSpPr/>
            <p:nvPr/>
          </p:nvSpPr>
          <p:spPr>
            <a:xfrm>
              <a:off x="1079640" y="1332000"/>
              <a:ext cx="37843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1079640" y="1440000"/>
              <a:ext cx="37843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079640" y="3456000"/>
              <a:ext cx="37843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1079640" y="3348000"/>
              <a:ext cx="37843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079640" y="2394000"/>
              <a:ext cx="37843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332000" y="1079640"/>
              <a:ext cx="0" cy="2628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440000" y="1079640"/>
              <a:ext cx="0" cy="2628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611600" y="1079640"/>
              <a:ext cx="0" cy="2628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4503600" y="1079640"/>
              <a:ext cx="0" cy="2628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971800" y="1079640"/>
              <a:ext cx="0" cy="2628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332000" y="1332000"/>
              <a:ext cx="3279600" cy="21240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" name=""/>
          <p:cNvSpPr/>
          <p:nvPr/>
        </p:nvSpPr>
        <p:spPr>
          <a:xfrm>
            <a:off x="1530360" y="1098720"/>
            <a:ext cx="503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表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1547640" y="1547640"/>
            <a:ext cx="2848320" cy="169236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"/>
          <p:cNvSpPr/>
          <p:nvPr/>
        </p:nvSpPr>
        <p:spPr>
          <a:xfrm>
            <a:off x="1440000" y="1440000"/>
            <a:ext cx="3063600" cy="190800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"/>
          <p:cNvSpPr/>
          <p:nvPr/>
        </p:nvSpPr>
        <p:spPr>
          <a:xfrm>
            <a:off x="71280" y="3290760"/>
            <a:ext cx="882720" cy="1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entury"/>
              </a:rPr>
              <a:t>■</a:t>
            </a:r>
            <a:r>
              <a:rPr b="0" lang="zh-CN" sz="800" spc="-1" strike="noStrike">
                <a:solidFill>
                  <a:srgbClr val="000000"/>
                </a:solidFill>
                <a:latin typeface="Century"/>
              </a:rPr>
              <a:t>イメージ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"/>
          <p:cNvSpPr/>
          <p:nvPr/>
        </p:nvSpPr>
        <p:spPr>
          <a:xfrm>
            <a:off x="90360" y="4627440"/>
            <a:ext cx="15112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ＭＳ Ｐゴシック"/>
              </a:rPr>
              <a:t>表紙は</a:t>
            </a:r>
            <a:r>
              <a:rPr b="0" lang="en-US" sz="800" spc="-1" strike="noStrike">
                <a:solidFill>
                  <a:srgbClr val="000000"/>
                </a:solidFill>
                <a:latin typeface="ＭＳ Ｐゴシック"/>
              </a:rPr>
              <a:t>180</a:t>
            </a:r>
            <a:r>
              <a:rPr b="0" lang="zh-CN" sz="800" spc="-1" strike="noStrike">
                <a:solidFill>
                  <a:srgbClr val="000000"/>
                </a:solidFill>
                <a:latin typeface="ＭＳ Ｐゴシック"/>
              </a:rPr>
              <a:t>度回転になります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"/>
          <p:cNvSpPr/>
          <p:nvPr/>
        </p:nvSpPr>
        <p:spPr>
          <a:xfrm>
            <a:off x="125280" y="2482920"/>
            <a:ext cx="1028880" cy="703080"/>
          </a:xfrm>
          <a:prstGeom prst="wedgeRoundRectCallout">
            <a:avLst>
              <a:gd name="adj1" fmla="val 86884"/>
              <a:gd name="adj2" fmla="val -45259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ＭＳ Ｐゴシック"/>
              </a:rPr>
              <a:t>切れては困るものは、ピンクの破線</a:t>
            </a:r>
            <a:r>
              <a:rPr b="0" lang="zh-CN" sz="1000" spc="-1" strike="noStrike">
                <a:solidFill>
                  <a:srgbClr val="000000"/>
                </a:solidFill>
                <a:latin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"/>
          <p:cNvSpPr/>
          <p:nvPr/>
        </p:nvSpPr>
        <p:spPr>
          <a:xfrm>
            <a:off x="98280" y="1603440"/>
            <a:ext cx="1028880" cy="57132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"/>
          <p:cNvSpPr/>
          <p:nvPr/>
        </p:nvSpPr>
        <p:spPr>
          <a:xfrm>
            <a:off x="1674720" y="3835440"/>
            <a:ext cx="309744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zh-CN" sz="700" spc="-1" strike="noStrike">
                <a:solidFill>
                  <a:srgbClr val="000000"/>
                </a:solidFill>
                <a:latin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zh-CN" sz="700" spc="-1" strike="noStrike">
                <a:solidFill>
                  <a:srgbClr val="000000"/>
                </a:solidFill>
                <a:latin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zh-CN" sz="700" spc="-1" strike="noStrike">
                <a:solidFill>
                  <a:srgbClr val="000000"/>
                </a:solidFill>
                <a:latin typeface="ＭＳ Ｐゴシック"/>
              </a:rPr>
              <a:t>用紙サイズの変更や、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zh-CN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zh-CN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zh-CN" sz="700" spc="-1" strike="noStrike">
                <a:solidFill>
                  <a:srgbClr val="000000"/>
                </a:solidFill>
                <a:latin typeface="ＭＳ Ｐゴシック"/>
              </a:rPr>
              <a:t>　　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/>
          <p:nvPr/>
        </p:nvSpPr>
        <p:spPr>
          <a:xfrm>
            <a:off x="3024360" y="3470400"/>
            <a:ext cx="247320" cy="247680"/>
          </a:xfrm>
          <a:custGeom>
            <a:avLst/>
            <a:gdLst>
              <a:gd name="textAreaLeft" fmla="*/ 56520 w 247320"/>
              <a:gd name="textAreaRight" fmla="*/ 190800 w 24732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zh-CN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"/>
          <p:cNvSpPr/>
          <p:nvPr/>
        </p:nvSpPr>
        <p:spPr>
          <a:xfrm>
            <a:off x="3016080" y="106992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zh-CN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"/>
          <p:cNvSpPr/>
          <p:nvPr/>
        </p:nvSpPr>
        <p:spPr>
          <a:xfrm>
            <a:off x="4842000" y="1530360"/>
            <a:ext cx="1028520" cy="720720"/>
          </a:xfrm>
          <a:prstGeom prst="wedgeRoundRectCallout">
            <a:avLst>
              <a:gd name="adj1" fmla="val -71449"/>
              <a:gd name="adj2" fmla="val -43393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" name="" descr=""/>
          <p:cNvPicPr/>
          <p:nvPr/>
        </p:nvPicPr>
        <p:blipFill>
          <a:blip r:embed="rId4"/>
          <a:stretch/>
        </p:blipFill>
        <p:spPr>
          <a:xfrm>
            <a:off x="1025640" y="378000"/>
            <a:ext cx="3843360" cy="352080"/>
          </a:xfrm>
          <a:prstGeom prst="rect">
            <a:avLst/>
          </a:prstGeom>
          <a:ln w="0">
            <a:noFill/>
          </a:ln>
        </p:spPr>
      </p:pic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97000" y="190800"/>
            <a:ext cx="5345640" cy="7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1272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body"/>
          </p:nvPr>
        </p:nvSpPr>
        <p:spPr>
          <a:xfrm>
            <a:off x="297000" y="1120320"/>
            <a:ext cx="5345640" cy="27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61272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498600" indent="-19224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61272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766800" indent="-154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073160" indent="-15408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4" marL="1379520" indent="-15408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5" marL="1379520" indent="-15408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6" marL="1379520" indent="-15408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6T08:22:24Z</dcterms:created>
  <dc:creator/>
  <dc:description/>
  <dc:language>en-US</dc:language>
  <cp:lastModifiedBy/>
  <dcterms:modified xsi:type="dcterms:W3CDTF">2012-01-05T07:21:46Z</dcterms:modified>
  <cp:revision>10</cp:revision>
  <dc:subject/>
  <dc:title/>
</cp:coreProperties>
</file>