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47879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97000" y="257076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03624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10456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1212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29700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10456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391212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297000" y="1120320"/>
            <a:ext cx="5345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5345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297000" y="190800"/>
            <a:ext cx="5345640" cy="37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3624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600360"/>
            <a:ext cx="1446120" cy="1170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4691160" y="242100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1079640" y="1079640"/>
            <a:ext cx="3784320" cy="2628720"/>
            <a:chOff x="1079640" y="1079640"/>
            <a:chExt cx="3784320" cy="2628720"/>
          </a:xfrm>
        </p:grpSpPr>
        <p:sp>
          <p:nvSpPr>
            <p:cNvPr id="3" name=""/>
            <p:cNvSpPr/>
            <p:nvPr/>
          </p:nvSpPr>
          <p:spPr>
            <a:xfrm>
              <a:off x="1079640" y="1332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9640" y="1440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9640" y="3456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79640" y="3348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79640" y="2394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6116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036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9718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3279600" cy="2124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1547640" y="1547640"/>
            <a:ext cx="2848320" cy="1692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440000" y="1440000"/>
            <a:ext cx="3063600" cy="1908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9080" y="3441600"/>
            <a:ext cx="9349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"/>
              </a:rPr>
              <a:t>■</a:t>
            </a:r>
            <a:r>
              <a:rPr b="0" lang="zh-CN" sz="800" spc="-1" strike="noStrike">
                <a:solidFill>
                  <a:srgbClr val="000000"/>
                </a:solidFill>
                <a:latin typeface="Century"/>
              </a:rPr>
              <a:t>イメー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530360" y="109872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裏表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125280" y="2482920"/>
            <a:ext cx="1028880" cy="703080"/>
          </a:xfrm>
          <a:prstGeom prst="wedgeRoundRectCallout">
            <a:avLst>
              <a:gd name="adj1" fmla="val 86884"/>
              <a:gd name="adj2" fmla="val -45259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98280" y="16034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1674720" y="3835440"/>
            <a:ext cx="30974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3024360" y="34704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3016080" y="1069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4842000" y="1530360"/>
            <a:ext cx="1028520" cy="720720"/>
          </a:xfrm>
          <a:prstGeom prst="wedgeRoundRectCallout">
            <a:avLst>
              <a:gd name="adj1" fmla="val -71449"/>
              <a:gd name="adj2" fmla="val -43393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" name="" descr=""/>
          <p:cNvPicPr/>
          <p:nvPr/>
        </p:nvPicPr>
        <p:blipFill>
          <a:blip r:embed="rId4"/>
          <a:stretch/>
        </p:blipFill>
        <p:spPr>
          <a:xfrm>
            <a:off x="1025640" y="450720"/>
            <a:ext cx="3879720" cy="352440"/>
          </a:xfrm>
          <a:prstGeom prst="rect">
            <a:avLst/>
          </a:prstGeom>
          <a:ln w="0">
            <a:noFill/>
          </a:ln>
        </p:spPr>
      </p:pic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297000" y="1120320"/>
            <a:ext cx="5345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98600" indent="-192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5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3160" indent="-15408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379520" indent="-15408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379520" indent="-15408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379520" indent="-15408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8:22:24Z</dcterms:created>
  <dc:creator/>
  <dc:description/>
  <dc:language>en-US</dc:language>
  <cp:lastModifiedBy/>
  <dcterms:modified xsi:type="dcterms:W3CDTF">2012-01-05T07:21:44Z</dcterms:modified>
  <cp:revision>7</cp:revision>
  <dc:subject/>
  <dc:title/>
</cp:coreProperties>
</file>