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0480" y="5241960"/>
            <a:ext cx="1076040" cy="13968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2" name="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547640" y="1547640"/>
            <a:ext cx="284508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547640" y="3456000"/>
            <a:ext cx="284508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440000" y="1440000"/>
            <a:ext cx="3060720" cy="381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4691160" y="3565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386000" y="57578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024360" y="5392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4"/>
          <a:stretch/>
        </p:blipFill>
        <p:spPr>
          <a:xfrm>
            <a:off x="1025640" y="396720"/>
            <a:ext cx="3879720" cy="35244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53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179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80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05T07:21:49Z</dcterms:modified>
  <cp:revision>22</cp:revision>
  <dc:subject/>
  <dc:title/>
</cp:coreProperties>
</file>