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20" y="5241960"/>
            <a:ext cx="1076040" cy="1396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691160" y="50990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3" name="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1547640" y="1547640"/>
            <a:ext cx="2845080" cy="3600720"/>
            <a:chOff x="1547640" y="1547640"/>
            <a:chExt cx="2845080" cy="3600720"/>
          </a:xfrm>
        </p:grpSpPr>
        <p:sp>
          <p:nvSpPr>
            <p:cNvPr id="19" name=""/>
            <p:cNvSpPr/>
            <p:nvPr/>
          </p:nvSpPr>
          <p:spPr>
            <a:xfrm>
              <a:off x="1547640" y="1547640"/>
              <a:ext cx="2845080" cy="16923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7640" y="3456000"/>
              <a:ext cx="2845080" cy="16923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"/>
          <p:cNvSpPr/>
          <p:nvPr/>
        </p:nvSpPr>
        <p:spPr>
          <a:xfrm>
            <a:off x="1440000" y="1440000"/>
            <a:ext cx="3060720" cy="381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386000" y="57578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" descr=""/>
          <p:cNvPicPr/>
          <p:nvPr/>
        </p:nvPicPr>
        <p:blipFill>
          <a:blip r:embed="rId4"/>
          <a:stretch/>
        </p:blipFill>
        <p:spPr>
          <a:xfrm>
            <a:off x="1025640" y="324000"/>
            <a:ext cx="3843360" cy="35244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53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179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8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62120" indent="-1792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13T04:32:57Z</dcterms:modified>
  <cp:revision>25</cp:revision>
  <dc:subject/>
  <dc:title/>
</cp:coreProperties>
</file>