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7"/>
          <p:cNvSpPr/>
          <p:nvPr/>
        </p:nvSpPr>
        <p:spPr>
          <a:xfrm>
            <a:off x="1333440" y="1332000"/>
            <a:ext cx="5542200" cy="38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3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04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05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06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7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08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0" descr=""/>
          <p:cNvPicPr/>
          <p:nvPr/>
        </p:nvPicPr>
        <p:blipFill>
          <a:blip r:embed="rId3"/>
          <a:stretch/>
        </p:blipFill>
        <p:spPr>
          <a:xfrm>
            <a:off x="2039760" y="360360"/>
            <a:ext cx="4152960" cy="3920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3"/>
          <p:cNvGrpSpPr/>
          <p:nvPr/>
        </p:nvGrpSpPr>
        <p:grpSpPr>
          <a:xfrm>
            <a:off x="982800" y="982800"/>
            <a:ext cx="6243480" cy="4514760"/>
            <a:chOff x="982800" y="982800"/>
            <a:chExt cx="6243480" cy="4514760"/>
          </a:xfrm>
        </p:grpSpPr>
        <p:grpSp>
          <p:nvGrpSpPr>
            <p:cNvPr id="12" name="object 2"/>
            <p:cNvGrpSpPr/>
            <p:nvPr/>
          </p:nvGrpSpPr>
          <p:grpSpPr>
            <a:xfrm>
              <a:off x="3647160" y="5193000"/>
              <a:ext cx="914400" cy="304560"/>
              <a:chOff x="3647160" y="5193000"/>
              <a:chExt cx="914400" cy="3045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4104360" y="5193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3647160" y="5268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3647160" y="982800"/>
              <a:ext cx="914400" cy="304560"/>
              <a:chOff x="3647160" y="982800"/>
              <a:chExt cx="914400" cy="3045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4104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3647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6921720" y="2782800"/>
              <a:ext cx="304560" cy="914400"/>
              <a:chOff x="6921720" y="2782800"/>
              <a:chExt cx="304560" cy="91440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699768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692172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982800" y="2782800"/>
              <a:ext cx="304560" cy="914400"/>
              <a:chOff x="982800" y="2782800"/>
              <a:chExt cx="304560" cy="91440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1211400" y="2782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982800" y="3240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6767280" y="5038560"/>
              <a:ext cx="436320" cy="435960"/>
              <a:chOff x="6767280" y="5038560"/>
              <a:chExt cx="436320" cy="43596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676728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687600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6767280" y="1005840"/>
              <a:ext cx="436320" cy="435960"/>
              <a:chOff x="6767280" y="1005840"/>
              <a:chExt cx="436320" cy="43596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6767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6876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1005840" y="5038560"/>
              <a:ext cx="436320" cy="435960"/>
              <a:chOff x="1005840" y="5038560"/>
              <a:chExt cx="436320" cy="43596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1005840" y="514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1005840" y="5038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2:24Z</dcterms:modified>
  <cp:revision>21</cp:revision>
  <dc:subject/>
  <dc:title>PowerPoint プレゼンテーション</dc:title>
</cp:coreProperties>
</file>