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2"/>
          <p:cNvSpPr/>
          <p:nvPr/>
        </p:nvSpPr>
        <p:spPr>
          <a:xfrm>
            <a:off x="1332000" y="1332000"/>
            <a:ext cx="3816360" cy="5545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5" descr=""/>
          <p:cNvPicPr/>
          <p:nvPr/>
        </p:nvPicPr>
        <p:blipFill>
          <a:blip r:embed="rId3"/>
          <a:stretch/>
        </p:blipFill>
        <p:spPr>
          <a:xfrm>
            <a:off x="1295280" y="431640"/>
            <a:ext cx="384660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4"/>
          <p:cNvGrpSpPr/>
          <p:nvPr/>
        </p:nvGrpSpPr>
        <p:grpSpPr>
          <a:xfrm>
            <a:off x="982800" y="982800"/>
            <a:ext cx="4514760" cy="6243480"/>
            <a:chOff x="982800" y="982800"/>
            <a:chExt cx="4514760" cy="6243480"/>
          </a:xfrm>
        </p:grpSpPr>
        <p:grpSp>
          <p:nvGrpSpPr>
            <p:cNvPr id="12" name="object 2"/>
            <p:cNvGrpSpPr/>
            <p:nvPr/>
          </p:nvGrpSpPr>
          <p:grpSpPr>
            <a:xfrm>
              <a:off x="2782800" y="6921720"/>
              <a:ext cx="914400" cy="304560"/>
              <a:chOff x="2782800" y="6921720"/>
              <a:chExt cx="914400" cy="3045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3240000" y="6921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2782800" y="6997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2782800" y="982800"/>
              <a:ext cx="914400" cy="304560"/>
              <a:chOff x="2782800" y="982800"/>
              <a:chExt cx="914400" cy="3045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324000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2782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5193000" y="3647160"/>
              <a:ext cx="304560" cy="914400"/>
              <a:chOff x="5193000" y="3647160"/>
              <a:chExt cx="304560" cy="91440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526896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51930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982800" y="3647160"/>
              <a:ext cx="304560" cy="914400"/>
              <a:chOff x="982800" y="3647160"/>
              <a:chExt cx="304560" cy="91440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1211400" y="3647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982800" y="4104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5038560" y="6767280"/>
              <a:ext cx="435960" cy="436320"/>
              <a:chOff x="5038560" y="6767280"/>
              <a:chExt cx="435960" cy="43632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503856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514728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5038560" y="1005840"/>
              <a:ext cx="435960" cy="436320"/>
              <a:chOff x="5038560" y="1005840"/>
              <a:chExt cx="435960" cy="43632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5038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514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1005840" y="6767280"/>
              <a:ext cx="435960" cy="436320"/>
              <a:chOff x="1005840" y="6767280"/>
              <a:chExt cx="435960" cy="43632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1005840" y="6876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1005840" y="6767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4:37Z</dcterms:modified>
  <cp:revision>20</cp:revision>
  <dc:subject/>
  <dc:title>PowerPoint プレゼンテーション</dc:title>
</cp:coreProperties>
</file>