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7921440" cy="6049800"/>
            <a:chOff x="1079640" y="1079640"/>
            <a:chExt cx="7921440" cy="6049800"/>
          </a:xfrm>
        </p:grpSpPr>
        <p:sp>
          <p:nvSpPr>
            <p:cNvPr id="1" name=""/>
            <p:cNvSpPr/>
            <p:nvPr/>
          </p:nvSpPr>
          <p:spPr>
            <a:xfrm>
              <a:off x="1079640" y="1330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79640" y="1438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4102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67644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687564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0371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636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44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30200" y="1330200"/>
              <a:ext cx="741384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145120" y="1547640"/>
            <a:ext cx="338436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440000" y="1440000"/>
            <a:ext cx="719748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037120" y="1440000"/>
            <a:ext cx="0" cy="53258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647640" y="7345440"/>
            <a:ext cx="8744040" cy="790560"/>
          </a:xfrm>
          <a:prstGeom prst="rect">
            <a:avLst/>
          </a:prstGeom>
          <a:ln w="0">
            <a:noFill/>
          </a:ln>
        </p:spPr>
      </p:pic>
      <p:sp>
        <p:nvSpPr>
          <p:cNvPr id="17" name="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08000" y="1512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8000" y="324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" descr=""/>
          <p:cNvPicPr/>
          <p:nvPr/>
        </p:nvPicPr>
        <p:blipFill>
          <a:blip r:embed="rId3"/>
          <a:stretch/>
        </p:blipFill>
        <p:spPr>
          <a:xfrm>
            <a:off x="63360" y="5091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1" name=""/>
          <p:cNvSpPr/>
          <p:nvPr/>
        </p:nvSpPr>
        <p:spPr>
          <a:xfrm>
            <a:off x="4464000" y="144360"/>
            <a:ext cx="5113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白い紙に印刷となります。郵便番号枠、切手枠、往信、返信、郵便はがき、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ST CARD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等お客様でお作りいただく必要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" descr=""/>
          <p:cNvPicPr/>
          <p:nvPr/>
        </p:nvPicPr>
        <p:blipFill>
          <a:blip r:embed="rId4"/>
          <a:stretch/>
        </p:blipFill>
        <p:spPr>
          <a:xfrm>
            <a:off x="863640" y="431640"/>
            <a:ext cx="3390840" cy="352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61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10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09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/>
  <dcterms:modified xsi:type="dcterms:W3CDTF">2012-01-05T07:22:30Z</dcterms:modified>
  <cp:revision>15</cp:revision>
  <dc:subject/>
  <dc:title/>
</cp:coreProperties>
</file>