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726000" y="324000"/>
            <a:ext cx="388296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/>
  <dcterms:modified xsi:type="dcterms:W3CDTF">2012-01-05T07:23:04Z</dcterms:modified>
  <cp:revision>8</cp:revision>
  <dc:subject/>
  <dc:title/>
</cp:coreProperties>
</file>