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1760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8560" y="160056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670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1760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468560" y="3672720"/>
            <a:ext cx="328608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67000" y="272880"/>
            <a:ext cx="10205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6720" y="367272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6700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796720" y="1600560"/>
            <a:ext cx="49802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7000" y="3672720"/>
            <a:ext cx="10205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064360" y="573552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079640" y="1079640"/>
            <a:ext cx="9181800" cy="4686120"/>
            <a:chOff x="1079640" y="1079640"/>
            <a:chExt cx="9181800" cy="4686120"/>
          </a:xfrm>
        </p:grpSpPr>
        <p:sp>
          <p:nvSpPr>
            <p:cNvPr id="2" name=""/>
            <p:cNvSpPr/>
            <p:nvPr/>
          </p:nvSpPr>
          <p:spPr>
            <a:xfrm>
              <a:off x="1079640" y="1332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44000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5505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539748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3417840"/>
              <a:ext cx="9181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32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400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004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89640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667480" y="1079640"/>
              <a:ext cx="0" cy="468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2000" y="1332000"/>
              <a:ext cx="8672400" cy="4174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1440000" y="1440000"/>
            <a:ext cx="8456400" cy="39589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1547640" y="1547640"/>
            <a:ext cx="8240760" cy="37436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8000" y="25527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108000" y="162072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5716440" y="5557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5707080" y="102888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108000" y="362916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3268800" y="588024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" descr=""/>
          <p:cNvPicPr/>
          <p:nvPr/>
        </p:nvPicPr>
        <p:blipFill>
          <a:blip r:embed="rId3"/>
          <a:stretch/>
        </p:blipFill>
        <p:spPr>
          <a:xfrm>
            <a:off x="3726000" y="395280"/>
            <a:ext cx="3882960" cy="352440"/>
          </a:xfrm>
          <a:prstGeom prst="rect">
            <a:avLst/>
          </a:prstGeom>
          <a:ln w="0">
            <a:noFill/>
          </a:ln>
        </p:spPr>
      </p:pic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72880"/>
            <a:ext cx="10205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567000" y="1600560"/>
            <a:ext cx="10205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09:14:23Z</dcterms:created>
  <dc:creator/>
  <dc:description/>
  <dc:language>en-US</dc:language>
  <cp:lastModifiedBy/>
  <dcterms:modified xsi:type="dcterms:W3CDTF">2012-01-05T07:23:07Z</dcterms:modified>
  <cp:revision>8</cp:revision>
  <dc:subject/>
  <dc:title/>
</cp:coreProperties>
</file>