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42316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04680" y="265356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4200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242316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4504680" y="6089040"/>
            <a:ext cx="19818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342000" y="452160"/>
            <a:ext cx="6155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96320" y="608904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00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96320" y="2653560"/>
            <a:ext cx="30038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342000" y="6089040"/>
            <a:ext cx="6155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4686120" cy="9181800"/>
            <a:chOff x="1079640" y="1079640"/>
            <a:chExt cx="4686120" cy="9181800"/>
          </a:xfrm>
        </p:grpSpPr>
        <p:sp>
          <p:nvSpPr>
            <p:cNvPr id="1" name=""/>
            <p:cNvSpPr/>
            <p:nvPr/>
          </p:nvSpPr>
          <p:spPr>
            <a:xfrm>
              <a:off x="1079640" y="1332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079640" y="14400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0004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989640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5667480"/>
              <a:ext cx="4686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32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4000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505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9748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417840" y="1079640"/>
              <a:ext cx="0" cy="918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332000" y="1332000"/>
              <a:ext cx="4174920" cy="86724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"/>
          <p:cNvSpPr/>
          <p:nvPr/>
        </p:nvSpPr>
        <p:spPr>
          <a:xfrm>
            <a:off x="1547640" y="1547640"/>
            <a:ext cx="3743640" cy="82407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440000" y="1440000"/>
            <a:ext cx="3958920" cy="84564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08000" y="271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178596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3459240" y="10063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44952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108000" y="379404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44720" y="103852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" name="" descr=""/>
          <p:cNvPicPr/>
          <p:nvPr/>
        </p:nvPicPr>
        <p:blipFill>
          <a:blip r:embed="rId2"/>
          <a:stretch/>
        </p:blipFill>
        <p:spPr>
          <a:xfrm>
            <a:off x="5581800" y="8261280"/>
            <a:ext cx="1212840" cy="1525680"/>
          </a:xfrm>
          <a:prstGeom prst="rect">
            <a:avLst/>
          </a:prstGeom>
          <a:ln w="0">
            <a:noFill/>
          </a:ln>
        </p:spPr>
      </p:pic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1547640" y="414360"/>
            <a:ext cx="377856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000" y="452160"/>
            <a:ext cx="6155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342000" y="2653560"/>
            <a:ext cx="6155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/>
  <dcterms:modified xsi:type="dcterms:W3CDTF">2012-01-05T07:23:01Z</dcterms:modified>
  <cp:revision>3</cp:revision>
  <dc:subject/>
  <dc:title/>
</cp:coreProperties>
</file>