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40280" y="102250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2" name="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547640" y="1547640"/>
            <a:ext cx="410220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440000" y="1438200"/>
            <a:ext cx="4317840" cy="84567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664080" y="10047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65436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44360" y="10369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1728720" y="414360"/>
            <a:ext cx="3865680" cy="3524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/>
  <dc:description/>
  <dc:language>en-US</dc:language>
  <cp:lastModifiedBy/>
  <dcterms:modified xsi:type="dcterms:W3CDTF">2012-01-05T07:22:50Z</dcterms:modified>
  <cp:revision>5</cp:revision>
  <dc:subject/>
  <dc:title/>
</cp:coreProperties>
</file>