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47640" y="1547640"/>
            <a:ext cx="8245800" cy="410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0000" y="1440000"/>
            <a:ext cx="8461080" cy="43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8000" y="2660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1728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724360" y="591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715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276720" y="6235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8072280" y="6048360"/>
            <a:ext cx="2187720" cy="106200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3726000" y="431640"/>
            <a:ext cx="386532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/>
  <dc:description/>
  <dc:language>en-US</dc:language>
  <cp:lastModifiedBy/>
  <dcterms:modified xsi:type="dcterms:W3CDTF">2012-01-05T07:22:48Z</dcterms:modified>
  <cp:revision>4</cp:revision>
  <dc:subject/>
  <dc:title/>
</cp:coreProperties>
</file>