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940280" y="102250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1079640" y="1079640"/>
            <a:ext cx="5041800" cy="9181800"/>
            <a:chOff x="1079640" y="1079640"/>
            <a:chExt cx="5041800" cy="9181800"/>
          </a:xfrm>
        </p:grpSpPr>
        <p:sp>
          <p:nvSpPr>
            <p:cNvPr id="2" name=""/>
            <p:cNvSpPr/>
            <p:nvPr/>
          </p:nvSpPr>
          <p:spPr>
            <a:xfrm>
              <a:off x="1079640" y="1332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1440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10004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9896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566748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865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75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60036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32000" y="1332000"/>
              <a:ext cx="453384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547640" y="1547640"/>
            <a:ext cx="4102200" cy="82407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440000" y="1438200"/>
            <a:ext cx="4317840" cy="84567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664080" y="10047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65436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44360" y="10369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1655640" y="414360"/>
            <a:ext cx="3865680" cy="352440"/>
          </a:xfrm>
          <a:prstGeom prst="rect">
            <a:avLst/>
          </a:prstGeom>
          <a:ln w="0">
            <a:noFill/>
          </a:ln>
        </p:spPr>
      </p:pic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8:55:39Z</dcterms:created>
  <dc:creator/>
  <dc:description/>
  <dc:language>en-US</dc:language>
  <cp:lastModifiedBy/>
  <dcterms:modified xsi:type="dcterms:W3CDTF">2012-01-05T07:22:44Z</dcterms:modified>
  <cp:revision>5</cp:revision>
  <dc:subject/>
  <dc:title/>
</cp:coreProperties>
</file>