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すべてのオブジェクトを仕上がりの周囲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5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より内側（ピンクの破線内）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ができない範囲は、水色枠で表示している箇所です。こちらには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6" descr=""/>
          <p:cNvPicPr/>
          <p:nvPr/>
        </p:nvPicPr>
        <p:blipFill>
          <a:blip r:embed="rId2"/>
          <a:stretch/>
        </p:blipFill>
        <p:spPr>
          <a:xfrm>
            <a:off x="1368360" y="431640"/>
            <a:ext cx="3800520" cy="39240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99" descr=""/>
          <p:cNvPicPr/>
          <p:nvPr/>
        </p:nvPicPr>
        <p:blipFill>
          <a:blip r:embed="rId3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3"/>
          <p:cNvGrpSpPr/>
          <p:nvPr/>
        </p:nvGrpSpPr>
        <p:grpSpPr>
          <a:xfrm>
            <a:off x="108000" y="1336680"/>
            <a:ext cx="5056200" cy="5545080"/>
            <a:chOff x="108000" y="1336680"/>
            <a:chExt cx="5056200" cy="5545080"/>
          </a:xfrm>
        </p:grpSpPr>
        <p:grpSp>
          <p:nvGrpSpPr>
            <p:cNvPr id="19" name="グループ化 3"/>
            <p:cNvGrpSpPr/>
            <p:nvPr/>
          </p:nvGrpSpPr>
          <p:grpSpPr>
            <a:xfrm>
              <a:off x="108000" y="1336680"/>
              <a:ext cx="5056200" cy="5545080"/>
              <a:chOff x="108000" y="1336680"/>
              <a:chExt cx="5056200" cy="5545080"/>
            </a:xfrm>
          </p:grpSpPr>
          <p:pic>
            <p:nvPicPr>
              <p:cNvPr id="20" name="図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7760" y="1336680"/>
                <a:ext cx="3826440" cy="554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" name="AutoShape 89"/>
              <p:cNvSpPr/>
              <p:nvPr/>
            </p:nvSpPr>
            <p:spPr>
              <a:xfrm>
                <a:off x="108000" y="1811160"/>
                <a:ext cx="1028520" cy="564840"/>
              </a:xfrm>
              <a:prstGeom prst="wedgeRoundRectCallout">
                <a:avLst>
                  <a:gd name="adj1" fmla="val 95986"/>
                  <a:gd name="adj2" fmla="val -4438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ピンクの破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内に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テキスト ボックス 2"/>
            <p:cNvSpPr/>
            <p:nvPr/>
          </p:nvSpPr>
          <p:spPr>
            <a:xfrm>
              <a:off x="1364760" y="1743120"/>
              <a:ext cx="332640" cy="47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70c0"/>
                  </a:solidFill>
                  <a:latin typeface="メイリオ"/>
                  <a:ea typeface="メイリオ"/>
                </a:rPr>
                <a:t>水色の枠内には、オブジェクトや文字を配置しないようお願いいた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テキスト ボックス 26"/>
            <p:cNvSpPr/>
            <p:nvPr/>
          </p:nvSpPr>
          <p:spPr>
            <a:xfrm>
              <a:off x="4779000" y="1743120"/>
              <a:ext cx="332640" cy="47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4472c4"/>
                  </a:solidFill>
                  <a:latin typeface="Century"/>
                  <a:ea typeface="メイリオ"/>
                </a:rPr>
                <a:t>印刷したい文字や写真情報は、ピンクの破線内に収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2-12-14T05:34:18Z</dcterms:modified>
  <cp:revision>21</cp:revision>
  <dc:subject/>
  <dc:title>PowerPoint プレゼンテーション</dc:title>
</cp:coreProperties>
</file>