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7" descr=""/>
          <p:cNvPicPr/>
          <p:nvPr/>
        </p:nvPicPr>
        <p:blipFill>
          <a:blip r:embed="rId2"/>
          <a:stretch/>
        </p:blipFill>
        <p:spPr>
          <a:xfrm>
            <a:off x="4560840" y="5099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7"/>
          <p:cNvSpPr/>
          <p:nvPr/>
        </p:nvSpPr>
        <p:spPr>
          <a:xfrm>
            <a:off x="1728720" y="1657440"/>
            <a:ext cx="2482920" cy="3382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9"/>
          <p:cNvSpPr/>
          <p:nvPr/>
        </p:nvSpPr>
        <p:spPr>
          <a:xfrm>
            <a:off x="1944720" y="1873080"/>
            <a:ext cx="2050920" cy="2951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7"/>
          <p:cNvSpPr/>
          <p:nvPr/>
        </p:nvSpPr>
        <p:spPr>
          <a:xfrm>
            <a:off x="1836720" y="1765440"/>
            <a:ext cx="2266920" cy="3166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28"/>
          <p:cNvSpPr/>
          <p:nvPr/>
        </p:nvSpPr>
        <p:spPr>
          <a:xfrm>
            <a:off x="484200" y="2583000"/>
            <a:ext cx="1028520" cy="703080"/>
          </a:xfrm>
          <a:prstGeom prst="wedgeRoundRectCallout">
            <a:avLst>
              <a:gd name="adj1" fmla="val 90999"/>
              <a:gd name="adj2" fmla="val -46462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129"/>
          <p:cNvSpPr/>
          <p:nvPr/>
        </p:nvSpPr>
        <p:spPr>
          <a:xfrm>
            <a:off x="484200" y="18842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30"/>
          <p:cNvSpPr/>
          <p:nvPr/>
        </p:nvSpPr>
        <p:spPr>
          <a:xfrm>
            <a:off x="449280" y="5640480"/>
            <a:ext cx="3960720" cy="98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131"/>
          <p:cNvSpPr/>
          <p:nvPr/>
        </p:nvSpPr>
        <p:spPr>
          <a:xfrm>
            <a:off x="3070080" y="5240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32"/>
          <p:cNvSpPr/>
          <p:nvPr/>
        </p:nvSpPr>
        <p:spPr>
          <a:xfrm>
            <a:off x="3056040" y="121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34"/>
          <p:cNvSpPr/>
          <p:nvPr/>
        </p:nvSpPr>
        <p:spPr>
          <a:xfrm>
            <a:off x="4427640" y="2166840"/>
            <a:ext cx="1028520" cy="720720"/>
          </a:xfrm>
          <a:prstGeom prst="wedgeRoundRectCallout">
            <a:avLst>
              <a:gd name="adj1" fmla="val -69800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グループ化 11"/>
          <p:cNvGrpSpPr/>
          <p:nvPr/>
        </p:nvGrpSpPr>
        <p:grpSpPr>
          <a:xfrm>
            <a:off x="1379520" y="1308240"/>
            <a:ext cx="3181320" cy="4081320"/>
            <a:chOff x="1379520" y="1308240"/>
            <a:chExt cx="3181320" cy="4081320"/>
          </a:xfrm>
        </p:grpSpPr>
        <p:grpSp>
          <p:nvGrpSpPr>
            <p:cNvPr id="11" name="object 2"/>
            <p:cNvGrpSpPr/>
            <p:nvPr/>
          </p:nvGrpSpPr>
          <p:grpSpPr>
            <a:xfrm>
              <a:off x="1402560" y="4930560"/>
              <a:ext cx="435960" cy="435960"/>
              <a:chOff x="1402560" y="4930560"/>
              <a:chExt cx="435960" cy="435960"/>
            </a:xfrm>
          </p:grpSpPr>
          <p:sp>
            <p:nvSpPr>
              <p:cNvPr id="12" name="object 3"/>
              <p:cNvSpPr/>
              <p:nvPr/>
            </p:nvSpPr>
            <p:spPr>
              <a:xfrm>
                <a:off x="1402560" y="4930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4"/>
              <p:cNvSpPr/>
              <p:nvPr/>
            </p:nvSpPr>
            <p:spPr>
              <a:xfrm>
                <a:off x="1402560" y="5039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5"/>
            <p:cNvGrpSpPr/>
            <p:nvPr/>
          </p:nvGrpSpPr>
          <p:grpSpPr>
            <a:xfrm>
              <a:off x="1402560" y="1331280"/>
              <a:ext cx="435960" cy="435960"/>
              <a:chOff x="1402560" y="1331280"/>
              <a:chExt cx="435960" cy="435960"/>
            </a:xfrm>
          </p:grpSpPr>
          <p:sp>
            <p:nvSpPr>
              <p:cNvPr id="15" name="object 6"/>
              <p:cNvSpPr/>
              <p:nvPr/>
            </p:nvSpPr>
            <p:spPr>
              <a:xfrm>
                <a:off x="1402560" y="133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7"/>
              <p:cNvSpPr/>
              <p:nvPr/>
            </p:nvSpPr>
            <p:spPr>
              <a:xfrm>
                <a:off x="1402560" y="133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8"/>
            <p:cNvGrpSpPr/>
            <p:nvPr/>
          </p:nvGrpSpPr>
          <p:grpSpPr>
            <a:xfrm>
              <a:off x="4101840" y="1331280"/>
              <a:ext cx="435960" cy="435960"/>
              <a:chOff x="4101840" y="1331280"/>
              <a:chExt cx="435960" cy="435960"/>
            </a:xfrm>
          </p:grpSpPr>
          <p:sp>
            <p:nvSpPr>
              <p:cNvPr id="18" name="object 9"/>
              <p:cNvSpPr/>
              <p:nvPr/>
            </p:nvSpPr>
            <p:spPr>
              <a:xfrm>
                <a:off x="4210560" y="133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0"/>
              <p:cNvSpPr/>
              <p:nvPr/>
            </p:nvSpPr>
            <p:spPr>
              <a:xfrm>
                <a:off x="4101840" y="133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11"/>
            <p:cNvGrpSpPr/>
            <p:nvPr/>
          </p:nvGrpSpPr>
          <p:grpSpPr>
            <a:xfrm>
              <a:off x="4101840" y="4930560"/>
              <a:ext cx="435960" cy="435960"/>
              <a:chOff x="4101840" y="4930560"/>
              <a:chExt cx="435960" cy="435960"/>
            </a:xfrm>
          </p:grpSpPr>
          <p:sp>
            <p:nvSpPr>
              <p:cNvPr id="21" name="object 12"/>
              <p:cNvSpPr/>
              <p:nvPr/>
            </p:nvSpPr>
            <p:spPr>
              <a:xfrm>
                <a:off x="4210560" y="4930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13"/>
              <p:cNvSpPr/>
              <p:nvPr/>
            </p:nvSpPr>
            <p:spPr>
              <a:xfrm>
                <a:off x="4101840" y="5039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14"/>
            <p:cNvGrpSpPr/>
            <p:nvPr/>
          </p:nvGrpSpPr>
          <p:grpSpPr>
            <a:xfrm>
              <a:off x="1379520" y="2891880"/>
              <a:ext cx="304560" cy="914040"/>
              <a:chOff x="1379520" y="2891880"/>
              <a:chExt cx="304560" cy="914040"/>
            </a:xfrm>
          </p:grpSpPr>
          <p:sp>
            <p:nvSpPr>
              <p:cNvPr id="24" name="object 15"/>
              <p:cNvSpPr/>
              <p:nvPr/>
            </p:nvSpPr>
            <p:spPr>
              <a:xfrm>
                <a:off x="137952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16"/>
              <p:cNvSpPr/>
              <p:nvPr/>
            </p:nvSpPr>
            <p:spPr>
              <a:xfrm>
                <a:off x="160812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17"/>
            <p:cNvGrpSpPr/>
            <p:nvPr/>
          </p:nvGrpSpPr>
          <p:grpSpPr>
            <a:xfrm>
              <a:off x="4256280" y="2891880"/>
              <a:ext cx="304560" cy="914040"/>
              <a:chOff x="4256280" y="2891880"/>
              <a:chExt cx="304560" cy="914040"/>
            </a:xfrm>
          </p:grpSpPr>
          <p:sp>
            <p:nvSpPr>
              <p:cNvPr id="27" name="object 18"/>
              <p:cNvSpPr/>
              <p:nvPr/>
            </p:nvSpPr>
            <p:spPr>
              <a:xfrm>
                <a:off x="425628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19"/>
              <p:cNvSpPr/>
              <p:nvPr/>
            </p:nvSpPr>
            <p:spPr>
              <a:xfrm>
                <a:off x="433224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20"/>
            <p:cNvGrpSpPr/>
            <p:nvPr/>
          </p:nvGrpSpPr>
          <p:grpSpPr>
            <a:xfrm>
              <a:off x="2513160" y="1308240"/>
              <a:ext cx="914040" cy="304560"/>
              <a:chOff x="2513160" y="1308240"/>
              <a:chExt cx="914040" cy="304560"/>
            </a:xfrm>
          </p:grpSpPr>
          <p:sp>
            <p:nvSpPr>
              <p:cNvPr id="30" name="object 21"/>
              <p:cNvSpPr/>
              <p:nvPr/>
            </p:nvSpPr>
            <p:spPr>
              <a:xfrm>
                <a:off x="2513160" y="15368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22"/>
              <p:cNvSpPr/>
              <p:nvPr/>
            </p:nvSpPr>
            <p:spPr>
              <a:xfrm>
                <a:off x="2970000" y="1308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object 23"/>
            <p:cNvGrpSpPr/>
            <p:nvPr/>
          </p:nvGrpSpPr>
          <p:grpSpPr>
            <a:xfrm>
              <a:off x="2513160" y="5085000"/>
              <a:ext cx="914040" cy="304560"/>
              <a:chOff x="2513160" y="5085000"/>
              <a:chExt cx="914040" cy="304560"/>
            </a:xfrm>
          </p:grpSpPr>
          <p:sp>
            <p:nvSpPr>
              <p:cNvPr id="33" name="object 24"/>
              <p:cNvSpPr/>
              <p:nvPr/>
            </p:nvSpPr>
            <p:spPr>
              <a:xfrm>
                <a:off x="2513160" y="516096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object 25"/>
              <p:cNvSpPr/>
              <p:nvPr/>
            </p:nvSpPr>
            <p:spPr>
              <a:xfrm>
                <a:off x="2970000" y="5085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グループ化 1074"/>
          <p:cNvGrpSpPr/>
          <p:nvPr/>
        </p:nvGrpSpPr>
        <p:grpSpPr>
          <a:xfrm>
            <a:off x="720720" y="287280"/>
            <a:ext cx="4649760" cy="555840"/>
            <a:chOff x="720720" y="287280"/>
            <a:chExt cx="4649760" cy="555840"/>
          </a:xfrm>
        </p:grpSpPr>
        <p:sp>
          <p:nvSpPr>
            <p:cNvPr id="36" name="object 2"/>
            <p:cNvSpPr/>
            <p:nvPr/>
          </p:nvSpPr>
          <p:spPr>
            <a:xfrm>
              <a:off x="2400120" y="316080"/>
              <a:ext cx="99720" cy="161280"/>
            </a:xfrm>
            <a:custGeom>
              <a:avLst/>
              <a:gdLst/>
              <a:ahLst/>
              <a:rect l="l" t="t" r="r" b="b"/>
              <a:pathLst>
                <a:path w="212089" h="342900">
                  <a:moveTo>
                    <a:pt x="1143" y="0"/>
                  </a:moveTo>
                  <a:lnTo>
                    <a:pt x="1643" y="23550"/>
                  </a:lnTo>
                  <a:lnTo>
                    <a:pt x="2214" y="95363"/>
                  </a:lnTo>
                  <a:lnTo>
                    <a:pt x="2143" y="197047"/>
                  </a:lnTo>
                  <a:lnTo>
                    <a:pt x="1714" y="253542"/>
                  </a:lnTo>
                  <a:lnTo>
                    <a:pt x="1000" y="303751"/>
                  </a:lnTo>
                  <a:lnTo>
                    <a:pt x="0" y="342887"/>
                  </a:lnTo>
                  <a:lnTo>
                    <a:pt x="54102" y="342506"/>
                  </a:lnTo>
                  <a:lnTo>
                    <a:pt x="53599" y="314955"/>
                  </a:lnTo>
                  <a:lnTo>
                    <a:pt x="53019" y="242427"/>
                  </a:lnTo>
                  <a:lnTo>
                    <a:pt x="52946" y="145541"/>
                  </a:lnTo>
                  <a:lnTo>
                    <a:pt x="85783" y="161727"/>
                  </a:lnTo>
                  <a:lnTo>
                    <a:pt x="121007" y="181344"/>
                  </a:lnTo>
                  <a:lnTo>
                    <a:pt x="154585" y="202107"/>
                  </a:lnTo>
                  <a:lnTo>
                    <a:pt x="182486" y="221729"/>
                  </a:lnTo>
                  <a:lnTo>
                    <a:pt x="211823" y="176402"/>
                  </a:lnTo>
                  <a:lnTo>
                    <a:pt x="179987" y="157079"/>
                  </a:lnTo>
                  <a:lnTo>
                    <a:pt x="146296" y="138112"/>
                  </a:lnTo>
                  <a:lnTo>
                    <a:pt x="112601" y="120574"/>
                  </a:lnTo>
                  <a:lnTo>
                    <a:pt x="80759" y="105536"/>
                  </a:lnTo>
                  <a:lnTo>
                    <a:pt x="52946" y="134492"/>
                  </a:lnTo>
                  <a:lnTo>
                    <a:pt x="53428" y="53768"/>
                  </a:lnTo>
                  <a:lnTo>
                    <a:pt x="54483" y="761"/>
                  </a:lnTo>
                  <a:lnTo>
                    <a:pt x="114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bject 3"/>
            <p:cNvSpPr/>
            <p:nvPr/>
          </p:nvSpPr>
          <p:spPr>
            <a:xfrm>
              <a:off x="2533680" y="322560"/>
              <a:ext cx="173880" cy="148680"/>
            </a:xfrm>
            <a:custGeom>
              <a:avLst/>
              <a:gdLst/>
              <a:ahLst/>
              <a:rect l="l" t="t" r="r" b="b"/>
              <a:pathLst>
                <a:path w="370204" h="315595">
                  <a:moveTo>
                    <a:pt x="299453" y="145529"/>
                  </a:moveTo>
                  <a:lnTo>
                    <a:pt x="268592" y="104775"/>
                  </a:lnTo>
                  <a:lnTo>
                    <a:pt x="229196" y="148043"/>
                  </a:lnTo>
                  <a:lnTo>
                    <a:pt x="183083" y="185356"/>
                  </a:lnTo>
                  <a:lnTo>
                    <a:pt x="134747" y="215773"/>
                  </a:lnTo>
                  <a:lnTo>
                    <a:pt x="88722" y="238366"/>
                  </a:lnTo>
                  <a:lnTo>
                    <a:pt x="49530" y="252209"/>
                  </a:lnTo>
                  <a:lnTo>
                    <a:pt x="49758" y="205257"/>
                  </a:lnTo>
                  <a:lnTo>
                    <a:pt x="50444" y="150431"/>
                  </a:lnTo>
                  <a:lnTo>
                    <a:pt x="51587" y="94068"/>
                  </a:lnTo>
                  <a:lnTo>
                    <a:pt x="53174" y="42456"/>
                  </a:lnTo>
                  <a:lnTo>
                    <a:pt x="55232" y="1905"/>
                  </a:lnTo>
                  <a:lnTo>
                    <a:pt x="0" y="0"/>
                  </a:lnTo>
                  <a:lnTo>
                    <a:pt x="723" y="22440"/>
                  </a:lnTo>
                  <a:lnTo>
                    <a:pt x="1193" y="50990"/>
                  </a:lnTo>
                  <a:lnTo>
                    <a:pt x="1524" y="120002"/>
                  </a:lnTo>
                  <a:lnTo>
                    <a:pt x="1041" y="210489"/>
                  </a:lnTo>
                  <a:lnTo>
                    <a:pt x="0" y="286118"/>
                  </a:lnTo>
                  <a:lnTo>
                    <a:pt x="32004" y="315455"/>
                  </a:lnTo>
                  <a:lnTo>
                    <a:pt x="86918" y="295300"/>
                  </a:lnTo>
                  <a:lnTo>
                    <a:pt x="137236" y="271818"/>
                  </a:lnTo>
                  <a:lnTo>
                    <a:pt x="183299" y="245071"/>
                  </a:lnTo>
                  <a:lnTo>
                    <a:pt x="225450" y="215074"/>
                  </a:lnTo>
                  <a:lnTo>
                    <a:pt x="264058" y="181876"/>
                  </a:lnTo>
                  <a:lnTo>
                    <a:pt x="299453" y="145529"/>
                  </a:lnTo>
                  <a:close/>
                </a:path>
                <a:path w="370204" h="315595">
                  <a:moveTo>
                    <a:pt x="369646" y="178168"/>
                  </a:moveTo>
                  <a:lnTo>
                    <a:pt x="340690" y="178168"/>
                  </a:lnTo>
                  <a:lnTo>
                    <a:pt x="340690" y="179438"/>
                  </a:lnTo>
                  <a:lnTo>
                    <a:pt x="369646" y="179438"/>
                  </a:lnTo>
                  <a:lnTo>
                    <a:pt x="369646" y="178168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bject 4"/>
            <p:cNvSpPr/>
            <p:nvPr/>
          </p:nvSpPr>
          <p:spPr>
            <a:xfrm>
              <a:off x="2693880" y="383040"/>
              <a:ext cx="151560" cy="2376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73" y="49530"/>
                  </a:lnTo>
                  <a:lnTo>
                    <a:pt x="291973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bject 5"/>
            <p:cNvSpPr/>
            <p:nvPr/>
          </p:nvSpPr>
          <p:spPr>
            <a:xfrm>
              <a:off x="2870280" y="327240"/>
              <a:ext cx="300600" cy="151200"/>
            </a:xfrm>
            <a:custGeom>
              <a:avLst/>
              <a:gdLst/>
              <a:ahLst/>
              <a:rect l="l" t="t" r="r" b="b"/>
              <a:pathLst>
                <a:path w="638810" h="321309">
                  <a:moveTo>
                    <a:pt x="266700" y="3441"/>
                  </a:moveTo>
                  <a:lnTo>
                    <a:pt x="248589" y="3937"/>
                  </a:lnTo>
                  <a:lnTo>
                    <a:pt x="195072" y="4508"/>
                  </a:lnTo>
                  <a:lnTo>
                    <a:pt x="131191" y="4508"/>
                  </a:lnTo>
                  <a:lnTo>
                    <a:pt x="72542" y="3937"/>
                  </a:lnTo>
                  <a:lnTo>
                    <a:pt x="49911" y="3441"/>
                  </a:lnTo>
                  <a:lnTo>
                    <a:pt x="49911" y="49911"/>
                  </a:lnTo>
                  <a:lnTo>
                    <a:pt x="135801" y="48844"/>
                  </a:lnTo>
                  <a:lnTo>
                    <a:pt x="199732" y="48844"/>
                  </a:lnTo>
                  <a:lnTo>
                    <a:pt x="249758" y="49415"/>
                  </a:lnTo>
                  <a:lnTo>
                    <a:pt x="266700" y="49911"/>
                  </a:lnTo>
                  <a:lnTo>
                    <a:pt x="266700" y="48844"/>
                  </a:lnTo>
                  <a:lnTo>
                    <a:pt x="266700" y="4508"/>
                  </a:lnTo>
                  <a:lnTo>
                    <a:pt x="266700" y="3441"/>
                  </a:lnTo>
                  <a:close/>
                </a:path>
                <a:path w="638810" h="321309">
                  <a:moveTo>
                    <a:pt x="328790" y="76200"/>
                  </a:moveTo>
                  <a:lnTo>
                    <a:pt x="321830" y="64731"/>
                  </a:lnTo>
                  <a:lnTo>
                    <a:pt x="314223" y="53301"/>
                  </a:lnTo>
                  <a:lnTo>
                    <a:pt x="306184" y="42075"/>
                  </a:lnTo>
                  <a:lnTo>
                    <a:pt x="297942" y="31242"/>
                  </a:lnTo>
                  <a:lnTo>
                    <a:pt x="272402" y="44577"/>
                  </a:lnTo>
                  <a:lnTo>
                    <a:pt x="280377" y="55803"/>
                  </a:lnTo>
                  <a:lnTo>
                    <a:pt x="288137" y="67538"/>
                  </a:lnTo>
                  <a:lnTo>
                    <a:pt x="295452" y="79400"/>
                  </a:lnTo>
                  <a:lnTo>
                    <a:pt x="302120" y="91059"/>
                  </a:lnTo>
                  <a:lnTo>
                    <a:pt x="328790" y="76200"/>
                  </a:lnTo>
                  <a:close/>
                </a:path>
                <a:path w="638810" h="321309">
                  <a:moveTo>
                    <a:pt x="330695" y="95643"/>
                  </a:moveTo>
                  <a:lnTo>
                    <a:pt x="166014" y="97167"/>
                  </a:lnTo>
                  <a:lnTo>
                    <a:pt x="99631" y="97167"/>
                  </a:lnTo>
                  <a:lnTo>
                    <a:pt x="22694" y="96367"/>
                  </a:lnTo>
                  <a:lnTo>
                    <a:pt x="0" y="95643"/>
                  </a:lnTo>
                  <a:lnTo>
                    <a:pt x="0" y="144018"/>
                  </a:lnTo>
                  <a:lnTo>
                    <a:pt x="153073" y="143497"/>
                  </a:lnTo>
                  <a:lnTo>
                    <a:pt x="147320" y="187642"/>
                  </a:lnTo>
                  <a:lnTo>
                    <a:pt x="128968" y="226174"/>
                  </a:lnTo>
                  <a:lnTo>
                    <a:pt x="96050" y="257911"/>
                  </a:lnTo>
                  <a:lnTo>
                    <a:pt x="46482" y="282321"/>
                  </a:lnTo>
                  <a:lnTo>
                    <a:pt x="93345" y="320789"/>
                  </a:lnTo>
                  <a:lnTo>
                    <a:pt x="131254" y="297903"/>
                  </a:lnTo>
                  <a:lnTo>
                    <a:pt x="161010" y="271614"/>
                  </a:lnTo>
                  <a:lnTo>
                    <a:pt x="182918" y="238975"/>
                  </a:lnTo>
                  <a:lnTo>
                    <a:pt x="197231" y="197040"/>
                  </a:lnTo>
                  <a:lnTo>
                    <a:pt x="204076" y="144018"/>
                  </a:lnTo>
                  <a:lnTo>
                    <a:pt x="204152" y="143319"/>
                  </a:lnTo>
                  <a:lnTo>
                    <a:pt x="247294" y="143167"/>
                  </a:lnTo>
                  <a:lnTo>
                    <a:pt x="308635" y="143573"/>
                  </a:lnTo>
                  <a:lnTo>
                    <a:pt x="330695" y="144018"/>
                  </a:lnTo>
                  <a:lnTo>
                    <a:pt x="330695" y="142875"/>
                  </a:lnTo>
                  <a:lnTo>
                    <a:pt x="330695" y="97167"/>
                  </a:lnTo>
                  <a:lnTo>
                    <a:pt x="330695" y="95643"/>
                  </a:lnTo>
                  <a:close/>
                </a:path>
                <a:path w="638810" h="321309">
                  <a:moveTo>
                    <a:pt x="358127" y="43827"/>
                  </a:moveTo>
                  <a:lnTo>
                    <a:pt x="351002" y="32639"/>
                  </a:lnTo>
                  <a:lnTo>
                    <a:pt x="343369" y="21488"/>
                  </a:lnTo>
                  <a:lnTo>
                    <a:pt x="335305" y="10553"/>
                  </a:lnTo>
                  <a:lnTo>
                    <a:pt x="326885" y="0"/>
                  </a:lnTo>
                  <a:lnTo>
                    <a:pt x="301752" y="12585"/>
                  </a:lnTo>
                  <a:lnTo>
                    <a:pt x="310311" y="23850"/>
                  </a:lnTo>
                  <a:lnTo>
                    <a:pt x="318274" y="35255"/>
                  </a:lnTo>
                  <a:lnTo>
                    <a:pt x="325589" y="46659"/>
                  </a:lnTo>
                  <a:lnTo>
                    <a:pt x="332219" y="57924"/>
                  </a:lnTo>
                  <a:lnTo>
                    <a:pt x="358127" y="43827"/>
                  </a:lnTo>
                  <a:close/>
                </a:path>
                <a:path w="638810" h="321309">
                  <a:moveTo>
                    <a:pt x="638251" y="54102"/>
                  </a:moveTo>
                  <a:lnTo>
                    <a:pt x="597865" y="25527"/>
                  </a:lnTo>
                  <a:lnTo>
                    <a:pt x="571919" y="56959"/>
                  </a:lnTo>
                  <a:lnTo>
                    <a:pt x="536892" y="88849"/>
                  </a:lnTo>
                  <a:lnTo>
                    <a:pt x="495808" y="119634"/>
                  </a:lnTo>
                  <a:lnTo>
                    <a:pt x="451700" y="147764"/>
                  </a:lnTo>
                  <a:lnTo>
                    <a:pt x="407619" y="171640"/>
                  </a:lnTo>
                  <a:lnTo>
                    <a:pt x="366610" y="189725"/>
                  </a:lnTo>
                  <a:lnTo>
                    <a:pt x="397459" y="227444"/>
                  </a:lnTo>
                  <a:lnTo>
                    <a:pt x="424027" y="213537"/>
                  </a:lnTo>
                  <a:lnTo>
                    <a:pt x="451421" y="198208"/>
                  </a:lnTo>
                  <a:lnTo>
                    <a:pt x="479171" y="181584"/>
                  </a:lnTo>
                  <a:lnTo>
                    <a:pt x="506818" y="163817"/>
                  </a:lnTo>
                  <a:lnTo>
                    <a:pt x="506526" y="259219"/>
                  </a:lnTo>
                  <a:lnTo>
                    <a:pt x="505663" y="315836"/>
                  </a:lnTo>
                  <a:lnTo>
                    <a:pt x="552145" y="315836"/>
                  </a:lnTo>
                  <a:lnTo>
                    <a:pt x="551091" y="248361"/>
                  </a:lnTo>
                  <a:lnTo>
                    <a:pt x="550621" y="179451"/>
                  </a:lnTo>
                  <a:lnTo>
                    <a:pt x="551002" y="132207"/>
                  </a:lnTo>
                  <a:lnTo>
                    <a:pt x="575297" y="113093"/>
                  </a:lnTo>
                  <a:lnTo>
                    <a:pt x="598195" y="93586"/>
                  </a:lnTo>
                  <a:lnTo>
                    <a:pt x="619315" y="73863"/>
                  </a:lnTo>
                  <a:lnTo>
                    <a:pt x="638251" y="5410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bject 6"/>
            <p:cNvSpPr/>
            <p:nvPr/>
          </p:nvSpPr>
          <p:spPr>
            <a:xfrm>
              <a:off x="3198600" y="304920"/>
              <a:ext cx="477360" cy="171360"/>
            </a:xfrm>
            <a:custGeom>
              <a:avLst/>
              <a:gdLst/>
              <a:ahLst/>
              <a:rect l="l" t="t" r="r" b="b"/>
              <a:pathLst>
                <a:path w="1014729" h="363855">
                  <a:moveTo>
                    <a:pt x="136385" y="104394"/>
                  </a:moveTo>
                  <a:lnTo>
                    <a:pt x="113817" y="87553"/>
                  </a:lnTo>
                  <a:lnTo>
                    <a:pt x="88709" y="70573"/>
                  </a:lnTo>
                  <a:lnTo>
                    <a:pt x="63246" y="54889"/>
                  </a:lnTo>
                  <a:lnTo>
                    <a:pt x="39611" y="41910"/>
                  </a:lnTo>
                  <a:lnTo>
                    <a:pt x="2667" y="78486"/>
                  </a:lnTo>
                  <a:lnTo>
                    <a:pt x="25171" y="91325"/>
                  </a:lnTo>
                  <a:lnTo>
                    <a:pt x="50990" y="108724"/>
                  </a:lnTo>
                  <a:lnTo>
                    <a:pt x="76758" y="128041"/>
                  </a:lnTo>
                  <a:lnTo>
                    <a:pt x="99060" y="146672"/>
                  </a:lnTo>
                  <a:lnTo>
                    <a:pt x="136385" y="104394"/>
                  </a:lnTo>
                  <a:close/>
                </a:path>
                <a:path w="1014729" h="363855">
                  <a:moveTo>
                    <a:pt x="322681" y="132588"/>
                  </a:moveTo>
                  <a:lnTo>
                    <a:pt x="281546" y="100203"/>
                  </a:lnTo>
                  <a:lnTo>
                    <a:pt x="256489" y="144640"/>
                  </a:lnTo>
                  <a:lnTo>
                    <a:pt x="226618" y="184480"/>
                  </a:lnTo>
                  <a:lnTo>
                    <a:pt x="191795" y="219138"/>
                  </a:lnTo>
                  <a:lnTo>
                    <a:pt x="151866" y="248056"/>
                  </a:lnTo>
                  <a:lnTo>
                    <a:pt x="106692" y="270637"/>
                  </a:lnTo>
                  <a:lnTo>
                    <a:pt x="56121" y="286321"/>
                  </a:lnTo>
                  <a:lnTo>
                    <a:pt x="0" y="294500"/>
                  </a:lnTo>
                  <a:lnTo>
                    <a:pt x="21336" y="348983"/>
                  </a:lnTo>
                  <a:lnTo>
                    <a:pt x="74180" y="336905"/>
                  </a:lnTo>
                  <a:lnTo>
                    <a:pt x="122047" y="320421"/>
                  </a:lnTo>
                  <a:lnTo>
                    <a:pt x="165265" y="299593"/>
                  </a:lnTo>
                  <a:lnTo>
                    <a:pt x="204152" y="274497"/>
                  </a:lnTo>
                  <a:lnTo>
                    <a:pt x="239026" y="245186"/>
                  </a:lnTo>
                  <a:lnTo>
                    <a:pt x="270179" y="211721"/>
                  </a:lnTo>
                  <a:lnTo>
                    <a:pt x="297967" y="174167"/>
                  </a:lnTo>
                  <a:lnTo>
                    <a:pt x="322681" y="132588"/>
                  </a:lnTo>
                  <a:close/>
                </a:path>
                <a:path w="1014729" h="363855">
                  <a:moveTo>
                    <a:pt x="663727" y="53708"/>
                  </a:moveTo>
                  <a:lnTo>
                    <a:pt x="654481" y="43751"/>
                  </a:lnTo>
                  <a:lnTo>
                    <a:pt x="644626" y="33959"/>
                  </a:lnTo>
                  <a:lnTo>
                    <a:pt x="634415" y="24523"/>
                  </a:lnTo>
                  <a:lnTo>
                    <a:pt x="624103" y="15608"/>
                  </a:lnTo>
                  <a:lnTo>
                    <a:pt x="610209" y="27101"/>
                  </a:lnTo>
                  <a:lnTo>
                    <a:pt x="602043" y="33959"/>
                  </a:lnTo>
                  <a:lnTo>
                    <a:pt x="612089" y="43370"/>
                  </a:lnTo>
                  <a:lnTo>
                    <a:pt x="622096" y="53289"/>
                  </a:lnTo>
                  <a:lnTo>
                    <a:pt x="631685" y="63423"/>
                  </a:lnTo>
                  <a:lnTo>
                    <a:pt x="640486" y="73520"/>
                  </a:lnTo>
                  <a:lnTo>
                    <a:pt x="663727" y="53708"/>
                  </a:lnTo>
                  <a:close/>
                </a:path>
                <a:path w="1014729" h="363855">
                  <a:moveTo>
                    <a:pt x="669061" y="108191"/>
                  </a:moveTo>
                  <a:lnTo>
                    <a:pt x="639470" y="80759"/>
                  </a:lnTo>
                  <a:lnTo>
                    <a:pt x="637438" y="78867"/>
                  </a:lnTo>
                  <a:lnTo>
                    <a:pt x="615708" y="79641"/>
                  </a:lnTo>
                  <a:lnTo>
                    <a:pt x="591705" y="80238"/>
                  </a:lnTo>
                  <a:lnTo>
                    <a:pt x="540283" y="80759"/>
                  </a:lnTo>
                  <a:lnTo>
                    <a:pt x="519341" y="80759"/>
                  </a:lnTo>
                  <a:lnTo>
                    <a:pt x="524116" y="71488"/>
                  </a:lnTo>
                  <a:lnTo>
                    <a:pt x="528802" y="61950"/>
                  </a:lnTo>
                  <a:lnTo>
                    <a:pt x="533412" y="52209"/>
                  </a:lnTo>
                  <a:lnTo>
                    <a:pt x="537997" y="42291"/>
                  </a:lnTo>
                  <a:lnTo>
                    <a:pt x="487883" y="27101"/>
                  </a:lnTo>
                  <a:lnTo>
                    <a:pt x="487680" y="27101"/>
                  </a:lnTo>
                  <a:lnTo>
                    <a:pt x="469277" y="69075"/>
                  </a:lnTo>
                  <a:lnTo>
                    <a:pt x="439458" y="112623"/>
                  </a:lnTo>
                  <a:lnTo>
                    <a:pt x="398703" y="152247"/>
                  </a:lnTo>
                  <a:lnTo>
                    <a:pt x="347497" y="182486"/>
                  </a:lnTo>
                  <a:lnTo>
                    <a:pt x="391325" y="217919"/>
                  </a:lnTo>
                  <a:lnTo>
                    <a:pt x="421132" y="197954"/>
                  </a:lnTo>
                  <a:lnTo>
                    <a:pt x="446989" y="176720"/>
                  </a:lnTo>
                  <a:lnTo>
                    <a:pt x="469480" y="154000"/>
                  </a:lnTo>
                  <a:lnTo>
                    <a:pt x="489229" y="129527"/>
                  </a:lnTo>
                  <a:lnTo>
                    <a:pt x="520319" y="128587"/>
                  </a:lnTo>
                  <a:lnTo>
                    <a:pt x="579932" y="127723"/>
                  </a:lnTo>
                  <a:lnTo>
                    <a:pt x="606920" y="127723"/>
                  </a:lnTo>
                  <a:lnTo>
                    <a:pt x="577684" y="195237"/>
                  </a:lnTo>
                  <a:lnTo>
                    <a:pt x="553974" y="227203"/>
                  </a:lnTo>
                  <a:lnTo>
                    <a:pt x="523036" y="256501"/>
                  </a:lnTo>
                  <a:lnTo>
                    <a:pt x="483984" y="282079"/>
                  </a:lnTo>
                  <a:lnTo>
                    <a:pt x="435927" y="302844"/>
                  </a:lnTo>
                  <a:lnTo>
                    <a:pt x="377990" y="317728"/>
                  </a:lnTo>
                  <a:lnTo>
                    <a:pt x="424840" y="363448"/>
                  </a:lnTo>
                  <a:lnTo>
                    <a:pt x="472097" y="345960"/>
                  </a:lnTo>
                  <a:lnTo>
                    <a:pt x="513194" y="325653"/>
                  </a:lnTo>
                  <a:lnTo>
                    <a:pt x="548817" y="301879"/>
                  </a:lnTo>
                  <a:lnTo>
                    <a:pt x="579666" y="273964"/>
                  </a:lnTo>
                  <a:lnTo>
                    <a:pt x="606412" y="241300"/>
                  </a:lnTo>
                  <a:lnTo>
                    <a:pt x="629767" y="203212"/>
                  </a:lnTo>
                  <a:lnTo>
                    <a:pt x="650417" y="159054"/>
                  </a:lnTo>
                  <a:lnTo>
                    <a:pt x="661898" y="127723"/>
                  </a:lnTo>
                  <a:lnTo>
                    <a:pt x="669061" y="108191"/>
                  </a:lnTo>
                  <a:close/>
                </a:path>
                <a:path w="1014729" h="363855">
                  <a:moveTo>
                    <a:pt x="705637" y="36576"/>
                  </a:moveTo>
                  <a:lnTo>
                    <a:pt x="696506" y="27101"/>
                  </a:lnTo>
                  <a:lnTo>
                    <a:pt x="686866" y="17716"/>
                  </a:lnTo>
                  <a:lnTo>
                    <a:pt x="676808" y="8610"/>
                  </a:lnTo>
                  <a:lnTo>
                    <a:pt x="666394" y="0"/>
                  </a:lnTo>
                  <a:lnTo>
                    <a:pt x="644677" y="17526"/>
                  </a:lnTo>
                  <a:lnTo>
                    <a:pt x="655231" y="26809"/>
                  </a:lnTo>
                  <a:lnTo>
                    <a:pt x="665187" y="36334"/>
                  </a:lnTo>
                  <a:lnTo>
                    <a:pt x="674509" y="46075"/>
                  </a:lnTo>
                  <a:lnTo>
                    <a:pt x="683158" y="55994"/>
                  </a:lnTo>
                  <a:lnTo>
                    <a:pt x="705637" y="36576"/>
                  </a:lnTo>
                  <a:close/>
                </a:path>
                <a:path w="1014729" h="363855">
                  <a:moveTo>
                    <a:pt x="1014247" y="102476"/>
                  </a:moveTo>
                  <a:lnTo>
                    <a:pt x="880897" y="104000"/>
                  </a:lnTo>
                  <a:lnTo>
                    <a:pt x="882129" y="86499"/>
                  </a:lnTo>
                  <a:lnTo>
                    <a:pt x="883043" y="68859"/>
                  </a:lnTo>
                  <a:lnTo>
                    <a:pt x="884339" y="33134"/>
                  </a:lnTo>
                  <a:lnTo>
                    <a:pt x="830237" y="31991"/>
                  </a:lnTo>
                  <a:lnTo>
                    <a:pt x="831608" y="55003"/>
                  </a:lnTo>
                  <a:lnTo>
                    <a:pt x="832142" y="77711"/>
                  </a:lnTo>
                  <a:lnTo>
                    <a:pt x="831380" y="104000"/>
                  </a:lnTo>
                  <a:lnTo>
                    <a:pt x="775220" y="103530"/>
                  </a:lnTo>
                  <a:lnTo>
                    <a:pt x="727379" y="102476"/>
                  </a:lnTo>
                  <a:lnTo>
                    <a:pt x="728129" y="153530"/>
                  </a:lnTo>
                  <a:lnTo>
                    <a:pt x="775792" y="152107"/>
                  </a:lnTo>
                  <a:lnTo>
                    <a:pt x="826046" y="151244"/>
                  </a:lnTo>
                  <a:lnTo>
                    <a:pt x="811542" y="202920"/>
                  </a:lnTo>
                  <a:lnTo>
                    <a:pt x="786892" y="248348"/>
                  </a:lnTo>
                  <a:lnTo>
                    <a:pt x="750392" y="285991"/>
                  </a:lnTo>
                  <a:lnTo>
                    <a:pt x="700316" y="314312"/>
                  </a:lnTo>
                  <a:lnTo>
                    <a:pt x="741464" y="355447"/>
                  </a:lnTo>
                  <a:lnTo>
                    <a:pt x="787768" y="324307"/>
                  </a:lnTo>
                  <a:lnTo>
                    <a:pt x="822680" y="287578"/>
                  </a:lnTo>
                  <a:lnTo>
                    <a:pt x="847839" y="246011"/>
                  </a:lnTo>
                  <a:lnTo>
                    <a:pt x="864908" y="200317"/>
                  </a:lnTo>
                  <a:lnTo>
                    <a:pt x="875563" y="151244"/>
                  </a:lnTo>
                  <a:lnTo>
                    <a:pt x="960526" y="151244"/>
                  </a:lnTo>
                  <a:lnTo>
                    <a:pt x="958329" y="212775"/>
                  </a:lnTo>
                  <a:lnTo>
                    <a:pt x="951001" y="275437"/>
                  </a:lnTo>
                  <a:lnTo>
                    <a:pt x="909866" y="294881"/>
                  </a:lnTo>
                  <a:lnTo>
                    <a:pt x="894181" y="294309"/>
                  </a:lnTo>
                  <a:lnTo>
                    <a:pt x="874814" y="292595"/>
                  </a:lnTo>
                  <a:lnTo>
                    <a:pt x="898423" y="352780"/>
                  </a:lnTo>
                  <a:lnTo>
                    <a:pt x="952449" y="345160"/>
                  </a:lnTo>
                  <a:lnTo>
                    <a:pt x="997051" y="305054"/>
                  </a:lnTo>
                  <a:lnTo>
                    <a:pt x="1006576" y="246062"/>
                  </a:lnTo>
                  <a:lnTo>
                    <a:pt x="1010196" y="196481"/>
                  </a:lnTo>
                  <a:lnTo>
                    <a:pt x="1012875" y="145046"/>
                  </a:lnTo>
                  <a:lnTo>
                    <a:pt x="1014247" y="10247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bject 7"/>
            <p:cNvSpPr/>
            <p:nvPr/>
          </p:nvSpPr>
          <p:spPr>
            <a:xfrm>
              <a:off x="3704760" y="406440"/>
              <a:ext cx="13680" cy="360"/>
            </a:xfrm>
            <a:custGeom>
              <a:avLst/>
              <a:gdLst/>
              <a:ahLst/>
              <a:rect l="l" t="t" r="r" b="b"/>
              <a:pathLst>
                <a:path w="29210" h="1270">
                  <a:moveTo>
                    <a:pt x="0" y="1269"/>
                  </a:moveTo>
                  <a:lnTo>
                    <a:pt x="28963" y="1269"/>
                  </a:lnTo>
                  <a:lnTo>
                    <a:pt x="28963" y="0"/>
                  </a:lnTo>
                  <a:lnTo>
                    <a:pt x="0" y="0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bject 8"/>
            <p:cNvSpPr/>
            <p:nvPr/>
          </p:nvSpPr>
          <p:spPr>
            <a:xfrm>
              <a:off x="3704760" y="383040"/>
              <a:ext cx="151560" cy="2376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85" y="49530"/>
                  </a:lnTo>
                  <a:lnTo>
                    <a:pt x="291985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bject 9"/>
            <p:cNvSpPr/>
            <p:nvPr/>
          </p:nvSpPr>
          <p:spPr>
            <a:xfrm>
              <a:off x="3903840" y="316080"/>
              <a:ext cx="103680" cy="161280"/>
            </a:xfrm>
            <a:custGeom>
              <a:avLst/>
              <a:gdLst/>
              <a:ahLst/>
              <a:rect l="l" t="t" r="r" b="b"/>
              <a:pathLst>
                <a:path w="220345" h="342900">
                  <a:moveTo>
                    <a:pt x="1142" y="0"/>
                  </a:moveTo>
                  <a:lnTo>
                    <a:pt x="1531" y="18300"/>
                  </a:lnTo>
                  <a:lnTo>
                    <a:pt x="1626" y="22782"/>
                  </a:lnTo>
                  <a:lnTo>
                    <a:pt x="1687" y="27579"/>
                  </a:lnTo>
                  <a:lnTo>
                    <a:pt x="1791" y="37106"/>
                  </a:lnTo>
                  <a:lnTo>
                    <a:pt x="1898" y="46847"/>
                  </a:lnTo>
                  <a:lnTo>
                    <a:pt x="2000" y="56102"/>
                  </a:lnTo>
                  <a:lnTo>
                    <a:pt x="2104" y="202109"/>
                  </a:lnTo>
                  <a:lnTo>
                    <a:pt x="1798" y="242429"/>
                  </a:lnTo>
                  <a:lnTo>
                    <a:pt x="1714" y="253549"/>
                  </a:lnTo>
                  <a:lnTo>
                    <a:pt x="1000" y="303753"/>
                  </a:lnTo>
                  <a:lnTo>
                    <a:pt x="9" y="342506"/>
                  </a:lnTo>
                  <a:lnTo>
                    <a:pt x="0" y="342887"/>
                  </a:lnTo>
                  <a:lnTo>
                    <a:pt x="54101" y="342506"/>
                  </a:lnTo>
                  <a:lnTo>
                    <a:pt x="53601" y="314960"/>
                  </a:lnTo>
                  <a:lnTo>
                    <a:pt x="53244" y="280981"/>
                  </a:lnTo>
                  <a:lnTo>
                    <a:pt x="53092" y="253549"/>
                  </a:lnTo>
                  <a:lnTo>
                    <a:pt x="52967" y="157079"/>
                  </a:lnTo>
                  <a:lnTo>
                    <a:pt x="52958" y="145542"/>
                  </a:lnTo>
                  <a:lnTo>
                    <a:pt x="159496" y="145542"/>
                  </a:lnTo>
                  <a:lnTo>
                    <a:pt x="146297" y="138112"/>
                  </a:lnTo>
                  <a:lnTo>
                    <a:pt x="139343" y="134493"/>
                  </a:lnTo>
                  <a:lnTo>
                    <a:pt x="52958" y="134493"/>
                  </a:lnTo>
                  <a:lnTo>
                    <a:pt x="53077" y="95369"/>
                  </a:lnTo>
                  <a:lnTo>
                    <a:pt x="53462" y="51750"/>
                  </a:lnTo>
                  <a:lnTo>
                    <a:pt x="53539" y="46847"/>
                  </a:lnTo>
                  <a:lnTo>
                    <a:pt x="53610" y="42338"/>
                  </a:lnTo>
                  <a:lnTo>
                    <a:pt x="53692" y="37106"/>
                  </a:lnTo>
                  <a:lnTo>
                    <a:pt x="53758" y="32902"/>
                  </a:lnTo>
                  <a:lnTo>
                    <a:pt x="53842" y="27579"/>
                  </a:lnTo>
                  <a:lnTo>
                    <a:pt x="53918" y="22782"/>
                  </a:lnTo>
                  <a:lnTo>
                    <a:pt x="54482" y="761"/>
                  </a:lnTo>
                  <a:lnTo>
                    <a:pt x="1142" y="0"/>
                  </a:lnTo>
                  <a:close/>
                </a:path>
                <a:path w="220345" h="342900">
                  <a:moveTo>
                    <a:pt x="159496" y="145542"/>
                  </a:moveTo>
                  <a:lnTo>
                    <a:pt x="52958" y="145542"/>
                  </a:lnTo>
                  <a:lnTo>
                    <a:pt x="85790" y="161732"/>
                  </a:lnTo>
                  <a:lnTo>
                    <a:pt x="121013" y="181349"/>
                  </a:lnTo>
                  <a:lnTo>
                    <a:pt x="154591" y="202109"/>
                  </a:lnTo>
                  <a:lnTo>
                    <a:pt x="182486" y="221729"/>
                  </a:lnTo>
                  <a:lnTo>
                    <a:pt x="211835" y="176402"/>
                  </a:lnTo>
                  <a:lnTo>
                    <a:pt x="179993" y="157079"/>
                  </a:lnTo>
                  <a:lnTo>
                    <a:pt x="159496" y="145542"/>
                  </a:lnTo>
                  <a:close/>
                </a:path>
                <a:path w="220345" h="342900">
                  <a:moveTo>
                    <a:pt x="80759" y="105536"/>
                  </a:moveTo>
                  <a:lnTo>
                    <a:pt x="52958" y="134493"/>
                  </a:lnTo>
                  <a:lnTo>
                    <a:pt x="139343" y="134493"/>
                  </a:lnTo>
                  <a:lnTo>
                    <a:pt x="112602" y="120574"/>
                  </a:lnTo>
                  <a:lnTo>
                    <a:pt x="80759" y="105536"/>
                  </a:lnTo>
                  <a:close/>
                </a:path>
                <a:path w="220345" h="342900">
                  <a:moveTo>
                    <a:pt x="146291" y="24002"/>
                  </a:moveTo>
                  <a:lnTo>
                    <a:pt x="130178" y="37337"/>
                  </a:lnTo>
                  <a:lnTo>
                    <a:pt x="124244" y="42338"/>
                  </a:lnTo>
                  <a:lnTo>
                    <a:pt x="134278" y="51750"/>
                  </a:lnTo>
                  <a:lnTo>
                    <a:pt x="144292" y="61674"/>
                  </a:lnTo>
                  <a:lnTo>
                    <a:pt x="153880" y="71812"/>
                  </a:lnTo>
                  <a:lnTo>
                    <a:pt x="162686" y="81914"/>
                  </a:lnTo>
                  <a:lnTo>
                    <a:pt x="185927" y="62102"/>
                  </a:lnTo>
                  <a:lnTo>
                    <a:pt x="176677" y="52131"/>
                  </a:lnTo>
                  <a:lnTo>
                    <a:pt x="166824" y="42338"/>
                  </a:lnTo>
                  <a:lnTo>
                    <a:pt x="156613" y="32902"/>
                  </a:lnTo>
                  <a:lnTo>
                    <a:pt x="146291" y="24002"/>
                  </a:lnTo>
                  <a:close/>
                </a:path>
                <a:path w="220345" h="342900">
                  <a:moveTo>
                    <a:pt x="180593" y="761"/>
                  </a:moveTo>
                  <a:lnTo>
                    <a:pt x="158876" y="18300"/>
                  </a:lnTo>
                  <a:lnTo>
                    <a:pt x="169436" y="27579"/>
                  </a:lnTo>
                  <a:lnTo>
                    <a:pt x="179392" y="37106"/>
                  </a:lnTo>
                  <a:lnTo>
                    <a:pt x="188707" y="46847"/>
                  </a:lnTo>
                  <a:lnTo>
                    <a:pt x="197345" y="56768"/>
                  </a:lnTo>
                  <a:lnTo>
                    <a:pt x="219836" y="37337"/>
                  </a:lnTo>
                  <a:lnTo>
                    <a:pt x="210697" y="27872"/>
                  </a:lnTo>
                  <a:lnTo>
                    <a:pt x="201063" y="18478"/>
                  </a:lnTo>
                  <a:lnTo>
                    <a:pt x="191004" y="9370"/>
                  </a:lnTo>
                  <a:lnTo>
                    <a:pt x="180593" y="76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bject 10"/>
            <p:cNvSpPr/>
            <p:nvPr/>
          </p:nvSpPr>
          <p:spPr>
            <a:xfrm>
              <a:off x="2374200" y="525600"/>
              <a:ext cx="334080" cy="161280"/>
            </a:xfrm>
            <a:custGeom>
              <a:avLst/>
              <a:gdLst/>
              <a:ahLst/>
              <a:rect l="l" t="t" r="r" b="b"/>
              <a:pathLst>
                <a:path w="710564" h="342900">
                  <a:moveTo>
                    <a:pt x="334124" y="16764"/>
                  </a:moveTo>
                  <a:lnTo>
                    <a:pt x="195821" y="16764"/>
                  </a:lnTo>
                  <a:lnTo>
                    <a:pt x="195821" y="0"/>
                  </a:lnTo>
                  <a:lnTo>
                    <a:pt x="144399" y="0"/>
                  </a:lnTo>
                  <a:lnTo>
                    <a:pt x="144399" y="16764"/>
                  </a:lnTo>
                  <a:lnTo>
                    <a:pt x="9525" y="16764"/>
                  </a:lnTo>
                  <a:lnTo>
                    <a:pt x="9525" y="56388"/>
                  </a:lnTo>
                  <a:lnTo>
                    <a:pt x="334124" y="56388"/>
                  </a:lnTo>
                  <a:lnTo>
                    <a:pt x="334124" y="16764"/>
                  </a:lnTo>
                  <a:close/>
                </a:path>
                <a:path w="710564" h="342900">
                  <a:moveTo>
                    <a:pt x="343268" y="301739"/>
                  </a:moveTo>
                  <a:lnTo>
                    <a:pt x="327672" y="300799"/>
                  </a:lnTo>
                  <a:lnTo>
                    <a:pt x="313855" y="299237"/>
                  </a:lnTo>
                  <a:lnTo>
                    <a:pt x="313474" y="299237"/>
                  </a:lnTo>
                  <a:lnTo>
                    <a:pt x="298843" y="296735"/>
                  </a:lnTo>
                  <a:lnTo>
                    <a:pt x="298704" y="296735"/>
                  </a:lnTo>
                  <a:lnTo>
                    <a:pt x="284213" y="293357"/>
                  </a:lnTo>
                  <a:lnTo>
                    <a:pt x="326123" y="270129"/>
                  </a:lnTo>
                  <a:lnTo>
                    <a:pt x="293738" y="250304"/>
                  </a:lnTo>
                  <a:lnTo>
                    <a:pt x="338315" y="250304"/>
                  </a:lnTo>
                  <a:lnTo>
                    <a:pt x="338315" y="217538"/>
                  </a:lnTo>
                  <a:lnTo>
                    <a:pt x="284594" y="217538"/>
                  </a:lnTo>
                  <a:lnTo>
                    <a:pt x="284594" y="250304"/>
                  </a:lnTo>
                  <a:lnTo>
                    <a:pt x="276707" y="257733"/>
                  </a:lnTo>
                  <a:lnTo>
                    <a:pt x="268363" y="264541"/>
                  </a:lnTo>
                  <a:lnTo>
                    <a:pt x="259270" y="270764"/>
                  </a:lnTo>
                  <a:lnTo>
                    <a:pt x="249542" y="276212"/>
                  </a:lnTo>
                  <a:lnTo>
                    <a:pt x="240144" y="270764"/>
                  </a:lnTo>
                  <a:lnTo>
                    <a:pt x="231787" y="264680"/>
                  </a:lnTo>
                  <a:lnTo>
                    <a:pt x="224205" y="257886"/>
                  </a:lnTo>
                  <a:lnTo>
                    <a:pt x="217157" y="250304"/>
                  </a:lnTo>
                  <a:lnTo>
                    <a:pt x="284594" y="250304"/>
                  </a:lnTo>
                  <a:lnTo>
                    <a:pt x="284594" y="217538"/>
                  </a:lnTo>
                  <a:lnTo>
                    <a:pt x="193916" y="217538"/>
                  </a:lnTo>
                  <a:lnTo>
                    <a:pt x="193916" y="206121"/>
                  </a:lnTo>
                  <a:lnTo>
                    <a:pt x="324599" y="206121"/>
                  </a:lnTo>
                  <a:lnTo>
                    <a:pt x="324599" y="178676"/>
                  </a:lnTo>
                  <a:lnTo>
                    <a:pt x="193916" y="178676"/>
                  </a:lnTo>
                  <a:lnTo>
                    <a:pt x="193916" y="168021"/>
                  </a:lnTo>
                  <a:lnTo>
                    <a:pt x="315455" y="168021"/>
                  </a:lnTo>
                  <a:lnTo>
                    <a:pt x="315455" y="141338"/>
                  </a:lnTo>
                  <a:lnTo>
                    <a:pt x="315455" y="128384"/>
                  </a:lnTo>
                  <a:lnTo>
                    <a:pt x="315455" y="105918"/>
                  </a:lnTo>
                  <a:lnTo>
                    <a:pt x="315455" y="93726"/>
                  </a:lnTo>
                  <a:lnTo>
                    <a:pt x="315455" y="67056"/>
                  </a:lnTo>
                  <a:lnTo>
                    <a:pt x="272021" y="67056"/>
                  </a:lnTo>
                  <a:lnTo>
                    <a:pt x="272021" y="93726"/>
                  </a:lnTo>
                  <a:lnTo>
                    <a:pt x="272021" y="105918"/>
                  </a:lnTo>
                  <a:lnTo>
                    <a:pt x="272021" y="128384"/>
                  </a:lnTo>
                  <a:lnTo>
                    <a:pt x="272021" y="141338"/>
                  </a:lnTo>
                  <a:lnTo>
                    <a:pt x="193929" y="141338"/>
                  </a:lnTo>
                  <a:lnTo>
                    <a:pt x="193929" y="128384"/>
                  </a:lnTo>
                  <a:lnTo>
                    <a:pt x="272021" y="128384"/>
                  </a:lnTo>
                  <a:lnTo>
                    <a:pt x="272021" y="105918"/>
                  </a:lnTo>
                  <a:lnTo>
                    <a:pt x="193929" y="105918"/>
                  </a:lnTo>
                  <a:lnTo>
                    <a:pt x="193929" y="93726"/>
                  </a:lnTo>
                  <a:lnTo>
                    <a:pt x="272021" y="93726"/>
                  </a:lnTo>
                  <a:lnTo>
                    <a:pt x="272021" y="67056"/>
                  </a:lnTo>
                  <a:lnTo>
                    <a:pt x="150482" y="67056"/>
                  </a:lnTo>
                  <a:lnTo>
                    <a:pt x="150482" y="93726"/>
                  </a:lnTo>
                  <a:lnTo>
                    <a:pt x="150482" y="105918"/>
                  </a:lnTo>
                  <a:lnTo>
                    <a:pt x="150482" y="128384"/>
                  </a:lnTo>
                  <a:lnTo>
                    <a:pt x="150482" y="141338"/>
                  </a:lnTo>
                  <a:lnTo>
                    <a:pt x="70472" y="141338"/>
                  </a:lnTo>
                  <a:lnTo>
                    <a:pt x="70472" y="128384"/>
                  </a:lnTo>
                  <a:lnTo>
                    <a:pt x="150482" y="128384"/>
                  </a:lnTo>
                  <a:lnTo>
                    <a:pt x="150482" y="105918"/>
                  </a:lnTo>
                  <a:lnTo>
                    <a:pt x="70472" y="105918"/>
                  </a:lnTo>
                  <a:lnTo>
                    <a:pt x="70472" y="93726"/>
                  </a:lnTo>
                  <a:lnTo>
                    <a:pt x="150482" y="93726"/>
                  </a:lnTo>
                  <a:lnTo>
                    <a:pt x="150482" y="67056"/>
                  </a:lnTo>
                  <a:lnTo>
                    <a:pt x="27051" y="67056"/>
                  </a:lnTo>
                  <a:lnTo>
                    <a:pt x="27051" y="168021"/>
                  </a:lnTo>
                  <a:lnTo>
                    <a:pt x="150482" y="168021"/>
                  </a:lnTo>
                  <a:lnTo>
                    <a:pt x="150482" y="178676"/>
                  </a:lnTo>
                  <a:lnTo>
                    <a:pt x="16002" y="178676"/>
                  </a:lnTo>
                  <a:lnTo>
                    <a:pt x="16002" y="206121"/>
                  </a:lnTo>
                  <a:lnTo>
                    <a:pt x="150482" y="206121"/>
                  </a:lnTo>
                  <a:lnTo>
                    <a:pt x="150482" y="217538"/>
                  </a:lnTo>
                  <a:lnTo>
                    <a:pt x="5715" y="217538"/>
                  </a:lnTo>
                  <a:lnTo>
                    <a:pt x="5715" y="250304"/>
                  </a:lnTo>
                  <a:lnTo>
                    <a:pt x="114681" y="250304"/>
                  </a:lnTo>
                  <a:lnTo>
                    <a:pt x="82727" y="256463"/>
                  </a:lnTo>
                  <a:lnTo>
                    <a:pt x="53340" y="260781"/>
                  </a:lnTo>
                  <a:lnTo>
                    <a:pt x="25958" y="263372"/>
                  </a:lnTo>
                  <a:lnTo>
                    <a:pt x="0" y="264401"/>
                  </a:lnTo>
                  <a:lnTo>
                    <a:pt x="12954" y="302882"/>
                  </a:lnTo>
                  <a:lnTo>
                    <a:pt x="33705" y="300215"/>
                  </a:lnTo>
                  <a:lnTo>
                    <a:pt x="53492" y="296735"/>
                  </a:lnTo>
                  <a:lnTo>
                    <a:pt x="72910" y="292328"/>
                  </a:lnTo>
                  <a:lnTo>
                    <a:pt x="92570" y="286880"/>
                  </a:lnTo>
                  <a:lnTo>
                    <a:pt x="92570" y="303644"/>
                  </a:lnTo>
                  <a:lnTo>
                    <a:pt x="79260" y="304520"/>
                  </a:lnTo>
                  <a:lnTo>
                    <a:pt x="66344" y="304977"/>
                  </a:lnTo>
                  <a:lnTo>
                    <a:pt x="53289" y="305168"/>
                  </a:lnTo>
                  <a:lnTo>
                    <a:pt x="40005" y="305168"/>
                  </a:lnTo>
                  <a:lnTo>
                    <a:pt x="49415" y="342404"/>
                  </a:lnTo>
                  <a:lnTo>
                    <a:pt x="49530" y="342887"/>
                  </a:lnTo>
                  <a:lnTo>
                    <a:pt x="62471" y="342404"/>
                  </a:lnTo>
                  <a:lnTo>
                    <a:pt x="96723" y="340448"/>
                  </a:lnTo>
                  <a:lnTo>
                    <a:pt x="145478" y="336296"/>
                  </a:lnTo>
                  <a:lnTo>
                    <a:pt x="201917" y="329171"/>
                  </a:lnTo>
                  <a:lnTo>
                    <a:pt x="201917" y="300596"/>
                  </a:lnTo>
                  <a:lnTo>
                    <a:pt x="201917" y="292976"/>
                  </a:lnTo>
                  <a:lnTo>
                    <a:pt x="185508" y="295389"/>
                  </a:lnTo>
                  <a:lnTo>
                    <a:pt x="169443" y="297497"/>
                  </a:lnTo>
                  <a:lnTo>
                    <a:pt x="153809" y="299237"/>
                  </a:lnTo>
                  <a:lnTo>
                    <a:pt x="138671" y="300596"/>
                  </a:lnTo>
                  <a:lnTo>
                    <a:pt x="138671" y="286880"/>
                  </a:lnTo>
                  <a:lnTo>
                    <a:pt x="138671" y="272021"/>
                  </a:lnTo>
                  <a:lnTo>
                    <a:pt x="147878" y="267347"/>
                  </a:lnTo>
                  <a:lnTo>
                    <a:pt x="156248" y="262305"/>
                  </a:lnTo>
                  <a:lnTo>
                    <a:pt x="164122" y="256705"/>
                  </a:lnTo>
                  <a:lnTo>
                    <a:pt x="171818" y="250304"/>
                  </a:lnTo>
                  <a:lnTo>
                    <a:pt x="199491" y="285978"/>
                  </a:lnTo>
                  <a:lnTo>
                    <a:pt x="230835" y="312026"/>
                  </a:lnTo>
                  <a:lnTo>
                    <a:pt x="269811" y="330339"/>
                  </a:lnTo>
                  <a:lnTo>
                    <a:pt x="320408" y="342887"/>
                  </a:lnTo>
                  <a:lnTo>
                    <a:pt x="343268" y="301739"/>
                  </a:lnTo>
                  <a:close/>
                </a:path>
                <a:path w="710564" h="342900">
                  <a:moveTo>
                    <a:pt x="710222" y="8763"/>
                  </a:moveTo>
                  <a:lnTo>
                    <a:pt x="377990" y="8763"/>
                  </a:lnTo>
                  <a:lnTo>
                    <a:pt x="377990" y="54470"/>
                  </a:lnTo>
                  <a:lnTo>
                    <a:pt x="517055" y="54470"/>
                  </a:lnTo>
                  <a:lnTo>
                    <a:pt x="514477" y="61976"/>
                  </a:lnTo>
                  <a:lnTo>
                    <a:pt x="512140" y="67284"/>
                  </a:lnTo>
                  <a:lnTo>
                    <a:pt x="508749" y="72961"/>
                  </a:lnTo>
                  <a:lnTo>
                    <a:pt x="502958" y="81521"/>
                  </a:lnTo>
                  <a:lnTo>
                    <a:pt x="474383" y="81521"/>
                  </a:lnTo>
                  <a:lnTo>
                    <a:pt x="474383" y="125323"/>
                  </a:lnTo>
                  <a:lnTo>
                    <a:pt x="474383" y="283832"/>
                  </a:lnTo>
                  <a:lnTo>
                    <a:pt x="437807" y="283832"/>
                  </a:lnTo>
                  <a:lnTo>
                    <a:pt x="437807" y="125323"/>
                  </a:lnTo>
                  <a:lnTo>
                    <a:pt x="474383" y="125323"/>
                  </a:lnTo>
                  <a:lnTo>
                    <a:pt x="474383" y="81521"/>
                  </a:lnTo>
                  <a:lnTo>
                    <a:pt x="392087" y="81521"/>
                  </a:lnTo>
                  <a:lnTo>
                    <a:pt x="392087" y="342874"/>
                  </a:lnTo>
                  <a:lnTo>
                    <a:pt x="437807" y="342874"/>
                  </a:lnTo>
                  <a:lnTo>
                    <a:pt x="437807" y="327634"/>
                  </a:lnTo>
                  <a:lnTo>
                    <a:pt x="650405" y="327634"/>
                  </a:lnTo>
                  <a:lnTo>
                    <a:pt x="650405" y="342874"/>
                  </a:lnTo>
                  <a:lnTo>
                    <a:pt x="696112" y="342874"/>
                  </a:lnTo>
                  <a:lnTo>
                    <a:pt x="696112" y="327634"/>
                  </a:lnTo>
                  <a:lnTo>
                    <a:pt x="696112" y="283832"/>
                  </a:lnTo>
                  <a:lnTo>
                    <a:pt x="696112" y="125323"/>
                  </a:lnTo>
                  <a:lnTo>
                    <a:pt x="696112" y="81521"/>
                  </a:lnTo>
                  <a:lnTo>
                    <a:pt x="650405" y="81521"/>
                  </a:lnTo>
                  <a:lnTo>
                    <a:pt x="650405" y="125323"/>
                  </a:lnTo>
                  <a:lnTo>
                    <a:pt x="650405" y="283832"/>
                  </a:lnTo>
                  <a:lnTo>
                    <a:pt x="613829" y="283832"/>
                  </a:lnTo>
                  <a:lnTo>
                    <a:pt x="613829" y="125323"/>
                  </a:lnTo>
                  <a:lnTo>
                    <a:pt x="650405" y="125323"/>
                  </a:lnTo>
                  <a:lnTo>
                    <a:pt x="650405" y="81521"/>
                  </a:lnTo>
                  <a:lnTo>
                    <a:pt x="568109" y="81521"/>
                  </a:lnTo>
                  <a:lnTo>
                    <a:pt x="568109" y="125323"/>
                  </a:lnTo>
                  <a:lnTo>
                    <a:pt x="568109" y="152006"/>
                  </a:lnTo>
                  <a:lnTo>
                    <a:pt x="568109" y="191249"/>
                  </a:lnTo>
                  <a:lnTo>
                    <a:pt x="568109" y="217919"/>
                  </a:lnTo>
                  <a:lnTo>
                    <a:pt x="568109" y="257149"/>
                  </a:lnTo>
                  <a:lnTo>
                    <a:pt x="568109" y="283832"/>
                  </a:lnTo>
                  <a:lnTo>
                    <a:pt x="520103" y="283832"/>
                  </a:lnTo>
                  <a:lnTo>
                    <a:pt x="520103" y="257149"/>
                  </a:lnTo>
                  <a:lnTo>
                    <a:pt x="568109" y="257149"/>
                  </a:lnTo>
                  <a:lnTo>
                    <a:pt x="568109" y="217919"/>
                  </a:lnTo>
                  <a:lnTo>
                    <a:pt x="520103" y="217919"/>
                  </a:lnTo>
                  <a:lnTo>
                    <a:pt x="520103" y="191249"/>
                  </a:lnTo>
                  <a:lnTo>
                    <a:pt x="568109" y="191249"/>
                  </a:lnTo>
                  <a:lnTo>
                    <a:pt x="568109" y="152006"/>
                  </a:lnTo>
                  <a:lnTo>
                    <a:pt x="520103" y="152006"/>
                  </a:lnTo>
                  <a:lnTo>
                    <a:pt x="520103" y="125323"/>
                  </a:lnTo>
                  <a:lnTo>
                    <a:pt x="568109" y="125323"/>
                  </a:lnTo>
                  <a:lnTo>
                    <a:pt x="568109" y="81521"/>
                  </a:lnTo>
                  <a:lnTo>
                    <a:pt x="556298" y="81521"/>
                  </a:lnTo>
                  <a:lnTo>
                    <a:pt x="557669" y="79336"/>
                  </a:lnTo>
                  <a:lnTo>
                    <a:pt x="561009" y="73431"/>
                  </a:lnTo>
                  <a:lnTo>
                    <a:pt x="565137" y="64808"/>
                  </a:lnTo>
                  <a:lnTo>
                    <a:pt x="568871" y="54470"/>
                  </a:lnTo>
                  <a:lnTo>
                    <a:pt x="710222" y="54470"/>
                  </a:lnTo>
                  <a:lnTo>
                    <a:pt x="710222" y="8763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bject 11"/>
            <p:cNvSpPr/>
            <p:nvPr/>
          </p:nvSpPr>
          <p:spPr>
            <a:xfrm>
              <a:off x="2764800" y="675360"/>
              <a:ext cx="89640" cy="15120"/>
            </a:xfrm>
            <a:custGeom>
              <a:avLst/>
              <a:gdLst/>
              <a:ahLst/>
              <a:rect l="l" t="t" r="r" b="b"/>
              <a:pathLst>
                <a:path w="190500" h="32384">
                  <a:moveTo>
                    <a:pt x="190487" y="0"/>
                  </a:moveTo>
                  <a:lnTo>
                    <a:pt x="0" y="0"/>
                  </a:lnTo>
                  <a:lnTo>
                    <a:pt x="0" y="32003"/>
                  </a:lnTo>
                  <a:lnTo>
                    <a:pt x="190487" y="32003"/>
                  </a:lnTo>
                  <a:lnTo>
                    <a:pt x="190487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12"/>
            <p:cNvSpPr/>
            <p:nvPr/>
          </p:nvSpPr>
          <p:spPr>
            <a:xfrm>
              <a:off x="2907720" y="547200"/>
              <a:ext cx="140760" cy="140400"/>
            </a:xfrm>
            <a:custGeom>
              <a:avLst/>
              <a:gdLst/>
              <a:ahLst/>
              <a:rect l="l" t="t" r="r" b="b"/>
              <a:pathLst>
                <a:path w="299085" h="298450">
                  <a:moveTo>
                    <a:pt x="270116" y="0"/>
                  </a:moveTo>
                  <a:lnTo>
                    <a:pt x="244095" y="720"/>
                  </a:lnTo>
                  <a:lnTo>
                    <a:pt x="212823" y="1190"/>
                  </a:lnTo>
                  <a:lnTo>
                    <a:pt x="140957" y="1524"/>
                  </a:lnTo>
                  <a:lnTo>
                    <a:pt x="62196" y="1190"/>
                  </a:lnTo>
                  <a:lnTo>
                    <a:pt x="27919" y="720"/>
                  </a:lnTo>
                  <a:lnTo>
                    <a:pt x="0" y="0"/>
                  </a:lnTo>
                  <a:lnTo>
                    <a:pt x="380" y="52197"/>
                  </a:lnTo>
                  <a:lnTo>
                    <a:pt x="43417" y="50590"/>
                  </a:lnTo>
                  <a:lnTo>
                    <a:pt x="94955" y="49405"/>
                  </a:lnTo>
                  <a:lnTo>
                    <a:pt x="149054" y="48603"/>
                  </a:lnTo>
                  <a:lnTo>
                    <a:pt x="241160" y="48006"/>
                  </a:lnTo>
                  <a:lnTo>
                    <a:pt x="231739" y="90395"/>
                  </a:lnTo>
                  <a:lnTo>
                    <a:pt x="215108" y="129366"/>
                  </a:lnTo>
                  <a:lnTo>
                    <a:pt x="191565" y="164391"/>
                  </a:lnTo>
                  <a:lnTo>
                    <a:pt x="161412" y="194943"/>
                  </a:lnTo>
                  <a:lnTo>
                    <a:pt x="124948" y="220495"/>
                  </a:lnTo>
                  <a:lnTo>
                    <a:pt x="82474" y="240521"/>
                  </a:lnTo>
                  <a:lnTo>
                    <a:pt x="34289" y="254495"/>
                  </a:lnTo>
                  <a:lnTo>
                    <a:pt x="76199" y="297929"/>
                  </a:lnTo>
                  <a:lnTo>
                    <a:pt x="123121" y="280610"/>
                  </a:lnTo>
                  <a:lnTo>
                    <a:pt x="164275" y="258366"/>
                  </a:lnTo>
                  <a:lnTo>
                    <a:pt x="199821" y="231200"/>
                  </a:lnTo>
                  <a:lnTo>
                    <a:pt x="229922" y="199118"/>
                  </a:lnTo>
                  <a:lnTo>
                    <a:pt x="254737" y="162124"/>
                  </a:lnTo>
                  <a:lnTo>
                    <a:pt x="274426" y="120223"/>
                  </a:lnTo>
                  <a:lnTo>
                    <a:pt x="289151" y="73419"/>
                  </a:lnTo>
                  <a:lnTo>
                    <a:pt x="299072" y="21717"/>
                  </a:lnTo>
                  <a:lnTo>
                    <a:pt x="270116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bject 13"/>
            <p:cNvSpPr/>
            <p:nvPr/>
          </p:nvSpPr>
          <p:spPr>
            <a:xfrm>
              <a:off x="3081240" y="537480"/>
              <a:ext cx="109080" cy="158400"/>
            </a:xfrm>
            <a:custGeom>
              <a:avLst/>
              <a:gdLst/>
              <a:ahLst/>
              <a:rect l="l" t="t" r="r" b="b"/>
              <a:pathLst>
                <a:path w="232410" h="336550">
                  <a:moveTo>
                    <a:pt x="179450" y="0"/>
                  </a:moveTo>
                  <a:lnTo>
                    <a:pt x="179945" y="23953"/>
                  </a:lnTo>
                  <a:lnTo>
                    <a:pt x="180094" y="33808"/>
                  </a:lnTo>
                  <a:lnTo>
                    <a:pt x="180200" y="156578"/>
                  </a:lnTo>
                  <a:lnTo>
                    <a:pt x="175380" y="196202"/>
                  </a:lnTo>
                  <a:lnTo>
                    <a:pt x="159105" y="234381"/>
                  </a:lnTo>
                  <a:lnTo>
                    <a:pt x="92942" y="277364"/>
                  </a:lnTo>
                  <a:lnTo>
                    <a:pt x="40766" y="289547"/>
                  </a:lnTo>
                  <a:lnTo>
                    <a:pt x="82308" y="336029"/>
                  </a:lnTo>
                  <a:lnTo>
                    <a:pt x="142777" y="312602"/>
                  </a:lnTo>
                  <a:lnTo>
                    <a:pt x="185162" y="281018"/>
                  </a:lnTo>
                  <a:lnTo>
                    <a:pt x="212132" y="243089"/>
                  </a:lnTo>
                  <a:lnTo>
                    <a:pt x="226356" y="200624"/>
                  </a:lnTo>
                  <a:lnTo>
                    <a:pt x="230400" y="156578"/>
                  </a:lnTo>
                  <a:lnTo>
                    <a:pt x="230582" y="121301"/>
                  </a:lnTo>
                  <a:lnTo>
                    <a:pt x="230696" y="104066"/>
                  </a:lnTo>
                  <a:lnTo>
                    <a:pt x="230723" y="99988"/>
                  </a:lnTo>
                  <a:lnTo>
                    <a:pt x="230838" y="82626"/>
                  </a:lnTo>
                  <a:lnTo>
                    <a:pt x="231164" y="54126"/>
                  </a:lnTo>
                  <a:lnTo>
                    <a:pt x="231239" y="47620"/>
                  </a:lnTo>
                  <a:lnTo>
                    <a:pt x="231308" y="41588"/>
                  </a:lnTo>
                  <a:lnTo>
                    <a:pt x="232002" y="1904"/>
                  </a:lnTo>
                  <a:lnTo>
                    <a:pt x="232028" y="368"/>
                  </a:lnTo>
                  <a:lnTo>
                    <a:pt x="179450" y="0"/>
                  </a:lnTo>
                  <a:close/>
                </a:path>
                <a:path w="232410" h="336550">
                  <a:moveTo>
                    <a:pt x="774" y="1142"/>
                  </a:moveTo>
                  <a:lnTo>
                    <a:pt x="1042" y="17461"/>
                  </a:lnTo>
                  <a:lnTo>
                    <a:pt x="1264" y="33808"/>
                  </a:lnTo>
                  <a:lnTo>
                    <a:pt x="1205" y="121301"/>
                  </a:lnTo>
                  <a:lnTo>
                    <a:pt x="597" y="164372"/>
                  </a:lnTo>
                  <a:lnTo>
                    <a:pt x="0" y="196964"/>
                  </a:lnTo>
                  <a:lnTo>
                    <a:pt x="53733" y="196202"/>
                  </a:lnTo>
                  <a:lnTo>
                    <a:pt x="53002" y="166431"/>
                  </a:lnTo>
                  <a:lnTo>
                    <a:pt x="52405" y="135251"/>
                  </a:lnTo>
                  <a:lnTo>
                    <a:pt x="52346" y="132110"/>
                  </a:lnTo>
                  <a:lnTo>
                    <a:pt x="52080" y="110299"/>
                  </a:lnTo>
                  <a:lnTo>
                    <a:pt x="52101" y="33808"/>
                  </a:lnTo>
                  <a:lnTo>
                    <a:pt x="52452" y="17757"/>
                  </a:lnTo>
                  <a:lnTo>
                    <a:pt x="52958" y="1904"/>
                  </a:lnTo>
                  <a:lnTo>
                    <a:pt x="774" y="114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14"/>
            <p:cNvSpPr/>
            <p:nvPr/>
          </p:nvSpPr>
          <p:spPr>
            <a:xfrm>
              <a:off x="3227040" y="622080"/>
              <a:ext cx="13680" cy="360"/>
            </a:xfrm>
            <a:custGeom>
              <a:avLst/>
              <a:gdLst/>
              <a:ahLst/>
              <a:rect l="l" t="t" r="r" b="b"/>
              <a:pathLst>
                <a:path w="29210" h="1270">
                  <a:moveTo>
                    <a:pt x="0" y="1270"/>
                  </a:moveTo>
                  <a:lnTo>
                    <a:pt x="28958" y="1270"/>
                  </a:lnTo>
                  <a:lnTo>
                    <a:pt x="28958" y="0"/>
                  </a:lnTo>
                  <a:lnTo>
                    <a:pt x="0" y="0"/>
                  </a:lnTo>
                  <a:lnTo>
                    <a:pt x="0" y="127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15"/>
            <p:cNvSpPr/>
            <p:nvPr/>
          </p:nvSpPr>
          <p:spPr>
            <a:xfrm>
              <a:off x="3227040" y="598680"/>
              <a:ext cx="151560" cy="2376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73" y="49530"/>
                  </a:lnTo>
                  <a:lnTo>
                    <a:pt x="291973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16"/>
            <p:cNvSpPr/>
            <p:nvPr/>
          </p:nvSpPr>
          <p:spPr>
            <a:xfrm>
              <a:off x="1172520" y="354960"/>
              <a:ext cx="200520" cy="225360"/>
            </a:xfrm>
            <a:custGeom>
              <a:avLst/>
              <a:gdLst/>
              <a:ahLst/>
              <a:rect l="l" t="t" r="r" b="b"/>
              <a:pathLst>
                <a:path w="426084" h="478790">
                  <a:moveTo>
                    <a:pt x="391147" y="0"/>
                  </a:moveTo>
                  <a:lnTo>
                    <a:pt x="330442" y="42970"/>
                  </a:lnTo>
                  <a:lnTo>
                    <a:pt x="292609" y="73653"/>
                  </a:lnTo>
                  <a:lnTo>
                    <a:pt x="252733" y="102491"/>
                  </a:lnTo>
                  <a:lnTo>
                    <a:pt x="210740" y="129371"/>
                  </a:lnTo>
                  <a:lnTo>
                    <a:pt x="166555" y="154184"/>
                  </a:lnTo>
                  <a:lnTo>
                    <a:pt x="120103" y="176817"/>
                  </a:lnTo>
                  <a:lnTo>
                    <a:pt x="71311" y="197159"/>
                  </a:lnTo>
                  <a:lnTo>
                    <a:pt x="20104" y="215099"/>
                  </a:lnTo>
                  <a:lnTo>
                    <a:pt x="12360" y="218483"/>
                  </a:lnTo>
                  <a:lnTo>
                    <a:pt x="6084" y="223326"/>
                  </a:lnTo>
                  <a:lnTo>
                    <a:pt x="1792" y="229669"/>
                  </a:lnTo>
                  <a:lnTo>
                    <a:pt x="0" y="237553"/>
                  </a:lnTo>
                  <a:lnTo>
                    <a:pt x="1940" y="245621"/>
                  </a:lnTo>
                  <a:lnTo>
                    <a:pt x="6929" y="251631"/>
                  </a:lnTo>
                  <a:lnTo>
                    <a:pt x="13721" y="255384"/>
                  </a:lnTo>
                  <a:lnTo>
                    <a:pt x="21069" y="256679"/>
                  </a:lnTo>
                  <a:lnTo>
                    <a:pt x="26314" y="256324"/>
                  </a:lnTo>
                  <a:lnTo>
                    <a:pt x="31102" y="254952"/>
                  </a:lnTo>
                  <a:lnTo>
                    <a:pt x="44068" y="251828"/>
                  </a:lnTo>
                  <a:lnTo>
                    <a:pt x="75429" y="243263"/>
                  </a:lnTo>
                  <a:lnTo>
                    <a:pt x="116768" y="230324"/>
                  </a:lnTo>
                  <a:lnTo>
                    <a:pt x="164696" y="212969"/>
                  </a:lnTo>
                  <a:lnTo>
                    <a:pt x="215823" y="191160"/>
                  </a:lnTo>
                  <a:lnTo>
                    <a:pt x="215823" y="446405"/>
                  </a:lnTo>
                  <a:lnTo>
                    <a:pt x="242836" y="478167"/>
                  </a:lnTo>
                  <a:lnTo>
                    <a:pt x="258635" y="478167"/>
                  </a:lnTo>
                  <a:lnTo>
                    <a:pt x="285902" y="446405"/>
                  </a:lnTo>
                  <a:lnTo>
                    <a:pt x="279057" y="158381"/>
                  </a:lnTo>
                  <a:lnTo>
                    <a:pt x="314485" y="136255"/>
                  </a:lnTo>
                  <a:lnTo>
                    <a:pt x="347724" y="112972"/>
                  </a:lnTo>
                  <a:lnTo>
                    <a:pt x="379389" y="88508"/>
                  </a:lnTo>
                  <a:lnTo>
                    <a:pt x="410095" y="62839"/>
                  </a:lnTo>
                  <a:lnTo>
                    <a:pt x="425551" y="33146"/>
                  </a:lnTo>
                  <a:lnTo>
                    <a:pt x="422569" y="19836"/>
                  </a:lnTo>
                  <a:lnTo>
                    <a:pt x="414969" y="9367"/>
                  </a:lnTo>
                  <a:lnTo>
                    <a:pt x="404059" y="2502"/>
                  </a:lnTo>
                  <a:lnTo>
                    <a:pt x="391147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17"/>
            <p:cNvSpPr/>
            <p:nvPr/>
          </p:nvSpPr>
          <p:spPr>
            <a:xfrm>
              <a:off x="1485720" y="385560"/>
              <a:ext cx="187200" cy="177120"/>
            </a:xfrm>
            <a:custGeom>
              <a:avLst/>
              <a:gdLst/>
              <a:ahLst/>
              <a:rect l="l" t="t" r="r" b="b"/>
              <a:pathLst>
                <a:path w="398144" h="375920">
                  <a:moveTo>
                    <a:pt x="341630" y="0"/>
                  </a:moveTo>
                  <a:lnTo>
                    <a:pt x="47104" y="0"/>
                  </a:lnTo>
                  <a:lnTo>
                    <a:pt x="38348" y="665"/>
                  </a:lnTo>
                  <a:lnTo>
                    <a:pt x="6346" y="31169"/>
                  </a:lnTo>
                  <a:lnTo>
                    <a:pt x="5758" y="38315"/>
                  </a:lnTo>
                  <a:lnTo>
                    <a:pt x="5715" y="38849"/>
                  </a:lnTo>
                  <a:lnTo>
                    <a:pt x="32" y="338467"/>
                  </a:lnTo>
                  <a:lnTo>
                    <a:pt x="0" y="341007"/>
                  </a:lnTo>
                  <a:lnTo>
                    <a:pt x="3235" y="355801"/>
                  </a:lnTo>
                  <a:lnTo>
                    <a:pt x="11517" y="366568"/>
                  </a:lnTo>
                  <a:lnTo>
                    <a:pt x="22797" y="373145"/>
                  </a:lnTo>
                  <a:lnTo>
                    <a:pt x="35235" y="375411"/>
                  </a:lnTo>
                  <a:lnTo>
                    <a:pt x="36207" y="375411"/>
                  </a:lnTo>
                  <a:lnTo>
                    <a:pt x="45754" y="373950"/>
                  </a:lnTo>
                  <a:lnTo>
                    <a:pt x="54897" y="369665"/>
                  </a:lnTo>
                  <a:lnTo>
                    <a:pt x="62652" y="362703"/>
                  </a:lnTo>
                  <a:lnTo>
                    <a:pt x="68033" y="353212"/>
                  </a:lnTo>
                  <a:lnTo>
                    <a:pt x="394676" y="353212"/>
                  </a:lnTo>
                  <a:lnTo>
                    <a:pt x="397518" y="340156"/>
                  </a:lnTo>
                  <a:lnTo>
                    <a:pt x="397598" y="338467"/>
                  </a:lnTo>
                  <a:lnTo>
                    <a:pt x="396176" y="307886"/>
                  </a:lnTo>
                  <a:lnTo>
                    <a:pt x="70243" y="307886"/>
                  </a:lnTo>
                  <a:lnTo>
                    <a:pt x="74319" y="45986"/>
                  </a:lnTo>
                  <a:lnTo>
                    <a:pt x="383998" y="45986"/>
                  </a:lnTo>
                  <a:lnTo>
                    <a:pt x="383666" y="38849"/>
                  </a:lnTo>
                  <a:lnTo>
                    <a:pt x="383641" y="38315"/>
                  </a:lnTo>
                  <a:lnTo>
                    <a:pt x="380573" y="23780"/>
                  </a:lnTo>
                  <a:lnTo>
                    <a:pt x="380499" y="23429"/>
                  </a:lnTo>
                  <a:lnTo>
                    <a:pt x="371789" y="11018"/>
                  </a:lnTo>
                  <a:lnTo>
                    <a:pt x="358566" y="2717"/>
                  </a:lnTo>
                  <a:lnTo>
                    <a:pt x="358756" y="2717"/>
                  </a:lnTo>
                  <a:lnTo>
                    <a:pt x="341630" y="0"/>
                  </a:lnTo>
                  <a:close/>
                </a:path>
                <a:path w="398144" h="375920">
                  <a:moveTo>
                    <a:pt x="394676" y="353212"/>
                  </a:moveTo>
                  <a:lnTo>
                    <a:pt x="330974" y="353212"/>
                  </a:lnTo>
                  <a:lnTo>
                    <a:pt x="336825" y="362167"/>
                  </a:lnTo>
                  <a:lnTo>
                    <a:pt x="344747" y="368609"/>
                  </a:lnTo>
                  <a:lnTo>
                    <a:pt x="353841" y="372420"/>
                  </a:lnTo>
                  <a:lnTo>
                    <a:pt x="363207" y="373481"/>
                  </a:lnTo>
                  <a:lnTo>
                    <a:pt x="375371" y="371229"/>
                  </a:lnTo>
                  <a:lnTo>
                    <a:pt x="386432" y="364688"/>
                  </a:lnTo>
                  <a:lnTo>
                    <a:pt x="394479" y="354120"/>
                  </a:lnTo>
                  <a:lnTo>
                    <a:pt x="394676" y="353212"/>
                  </a:lnTo>
                  <a:close/>
                </a:path>
                <a:path w="398144" h="375920">
                  <a:moveTo>
                    <a:pt x="383998" y="45986"/>
                  </a:moveTo>
                  <a:lnTo>
                    <a:pt x="315353" y="45986"/>
                  </a:lnTo>
                  <a:lnTo>
                    <a:pt x="327038" y="307886"/>
                  </a:lnTo>
                  <a:lnTo>
                    <a:pt x="396176" y="307886"/>
                  </a:lnTo>
                  <a:lnTo>
                    <a:pt x="383998" y="4598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18"/>
            <p:cNvSpPr/>
            <p:nvPr/>
          </p:nvSpPr>
          <p:spPr>
            <a:xfrm>
              <a:off x="1811880" y="329760"/>
              <a:ext cx="160560" cy="257400"/>
            </a:xfrm>
            <a:custGeom>
              <a:avLst/>
              <a:gdLst/>
              <a:ahLst/>
              <a:rect l="l" t="t" r="r" b="b"/>
              <a:pathLst>
                <a:path w="341630" h="546735">
                  <a:moveTo>
                    <a:pt x="39573" y="37223"/>
                  </a:moveTo>
                  <a:lnTo>
                    <a:pt x="24180" y="37223"/>
                  </a:lnTo>
                  <a:lnTo>
                    <a:pt x="16192" y="39839"/>
                  </a:lnTo>
                  <a:lnTo>
                    <a:pt x="0" y="70370"/>
                  </a:lnTo>
                  <a:lnTo>
                    <a:pt x="7619" y="509181"/>
                  </a:lnTo>
                  <a:lnTo>
                    <a:pt x="10306" y="524278"/>
                  </a:lnTo>
                  <a:lnTo>
                    <a:pt x="17473" y="536098"/>
                  </a:lnTo>
                  <a:lnTo>
                    <a:pt x="27838" y="543814"/>
                  </a:lnTo>
                  <a:lnTo>
                    <a:pt x="40119" y="546595"/>
                  </a:lnTo>
                  <a:lnTo>
                    <a:pt x="48348" y="546595"/>
                  </a:lnTo>
                  <a:lnTo>
                    <a:pt x="71970" y="509625"/>
                  </a:lnTo>
                  <a:lnTo>
                    <a:pt x="69076" y="346608"/>
                  </a:lnTo>
                  <a:lnTo>
                    <a:pt x="68973" y="340813"/>
                  </a:lnTo>
                  <a:lnTo>
                    <a:pt x="68892" y="336281"/>
                  </a:lnTo>
                  <a:lnTo>
                    <a:pt x="68832" y="332890"/>
                  </a:lnTo>
                  <a:lnTo>
                    <a:pt x="68711" y="326036"/>
                  </a:lnTo>
                  <a:lnTo>
                    <a:pt x="68650" y="322624"/>
                  </a:lnTo>
                  <a:lnTo>
                    <a:pt x="68548" y="316865"/>
                  </a:lnTo>
                  <a:lnTo>
                    <a:pt x="68510" y="314744"/>
                  </a:lnTo>
                  <a:lnTo>
                    <a:pt x="68394" y="308195"/>
                  </a:lnTo>
                  <a:lnTo>
                    <a:pt x="68339" y="305136"/>
                  </a:lnTo>
                  <a:lnTo>
                    <a:pt x="68236" y="299313"/>
                  </a:lnTo>
                  <a:lnTo>
                    <a:pt x="68176" y="295909"/>
                  </a:lnTo>
                  <a:lnTo>
                    <a:pt x="68080" y="290536"/>
                  </a:lnTo>
                  <a:lnTo>
                    <a:pt x="68040" y="288255"/>
                  </a:lnTo>
                  <a:lnTo>
                    <a:pt x="67932" y="282181"/>
                  </a:lnTo>
                  <a:lnTo>
                    <a:pt x="197300" y="282181"/>
                  </a:lnTo>
                  <a:lnTo>
                    <a:pt x="175089" y="274657"/>
                  </a:lnTo>
                  <a:lnTo>
                    <a:pt x="140212" y="260675"/>
                  </a:lnTo>
                  <a:lnTo>
                    <a:pt x="67398" y="229425"/>
                  </a:lnTo>
                  <a:lnTo>
                    <a:pt x="64982" y="102577"/>
                  </a:lnTo>
                  <a:lnTo>
                    <a:pt x="64865" y="96431"/>
                  </a:lnTo>
                  <a:lnTo>
                    <a:pt x="64784" y="92203"/>
                  </a:lnTo>
                  <a:lnTo>
                    <a:pt x="64659" y="85650"/>
                  </a:lnTo>
                  <a:lnTo>
                    <a:pt x="64631" y="84137"/>
                  </a:lnTo>
                  <a:lnTo>
                    <a:pt x="64517" y="78181"/>
                  </a:lnTo>
                  <a:lnTo>
                    <a:pt x="47613" y="39839"/>
                  </a:lnTo>
                  <a:lnTo>
                    <a:pt x="39573" y="37223"/>
                  </a:lnTo>
                  <a:close/>
                </a:path>
                <a:path w="341630" h="546735">
                  <a:moveTo>
                    <a:pt x="197300" y="282181"/>
                  </a:moveTo>
                  <a:lnTo>
                    <a:pt x="67932" y="282181"/>
                  </a:lnTo>
                  <a:lnTo>
                    <a:pt x="81574" y="290536"/>
                  </a:lnTo>
                  <a:lnTo>
                    <a:pt x="127101" y="316865"/>
                  </a:lnTo>
                  <a:lnTo>
                    <a:pt x="166255" y="337185"/>
                  </a:lnTo>
                  <a:lnTo>
                    <a:pt x="193738" y="346608"/>
                  </a:lnTo>
                  <a:lnTo>
                    <a:pt x="206708" y="343724"/>
                  </a:lnTo>
                  <a:lnTo>
                    <a:pt x="216300" y="336281"/>
                  </a:lnTo>
                  <a:lnTo>
                    <a:pt x="222252" y="326036"/>
                  </a:lnTo>
                  <a:lnTo>
                    <a:pt x="224307" y="314744"/>
                  </a:lnTo>
                  <a:lnTo>
                    <a:pt x="223070" y="305136"/>
                  </a:lnTo>
                  <a:lnTo>
                    <a:pt x="218638" y="295909"/>
                  </a:lnTo>
                  <a:lnTo>
                    <a:pt x="211161" y="288255"/>
                  </a:lnTo>
                  <a:lnTo>
                    <a:pt x="200786" y="283362"/>
                  </a:lnTo>
                  <a:lnTo>
                    <a:pt x="197300" y="282181"/>
                  </a:lnTo>
                  <a:close/>
                </a:path>
                <a:path w="341630" h="546735">
                  <a:moveTo>
                    <a:pt x="190119" y="35636"/>
                  </a:moveTo>
                  <a:lnTo>
                    <a:pt x="183768" y="44821"/>
                  </a:lnTo>
                  <a:lnTo>
                    <a:pt x="183587" y="49390"/>
                  </a:lnTo>
                  <a:lnTo>
                    <a:pt x="183019" y="51574"/>
                  </a:lnTo>
                  <a:lnTo>
                    <a:pt x="183337" y="52349"/>
                  </a:lnTo>
                  <a:lnTo>
                    <a:pt x="183248" y="52603"/>
                  </a:lnTo>
                  <a:lnTo>
                    <a:pt x="184584" y="61048"/>
                  </a:lnTo>
                  <a:lnTo>
                    <a:pt x="198970" y="100126"/>
                  </a:lnTo>
                  <a:lnTo>
                    <a:pt x="224475" y="138231"/>
                  </a:lnTo>
                  <a:lnTo>
                    <a:pt x="241160" y="145745"/>
                  </a:lnTo>
                  <a:lnTo>
                    <a:pt x="243090" y="145745"/>
                  </a:lnTo>
                  <a:lnTo>
                    <a:pt x="252471" y="144007"/>
                  </a:lnTo>
                  <a:lnTo>
                    <a:pt x="260273" y="139398"/>
                  </a:lnTo>
                  <a:lnTo>
                    <a:pt x="266075" y="132564"/>
                  </a:lnTo>
                  <a:lnTo>
                    <a:pt x="269455" y="124155"/>
                  </a:lnTo>
                  <a:lnTo>
                    <a:pt x="258203" y="121653"/>
                  </a:lnTo>
                  <a:lnTo>
                    <a:pt x="269924" y="121653"/>
                  </a:lnTo>
                  <a:lnTo>
                    <a:pt x="270167" y="120078"/>
                  </a:lnTo>
                  <a:lnTo>
                    <a:pt x="270217" y="110375"/>
                  </a:lnTo>
                  <a:lnTo>
                    <a:pt x="267195" y="102577"/>
                  </a:lnTo>
                  <a:lnTo>
                    <a:pt x="261429" y="96431"/>
                  </a:lnTo>
                  <a:lnTo>
                    <a:pt x="251281" y="85900"/>
                  </a:lnTo>
                  <a:lnTo>
                    <a:pt x="240072" y="73829"/>
                  </a:lnTo>
                  <a:lnTo>
                    <a:pt x="228995" y="61299"/>
                  </a:lnTo>
                  <a:lnTo>
                    <a:pt x="219240" y="49390"/>
                  </a:lnTo>
                  <a:lnTo>
                    <a:pt x="214414" y="43408"/>
                  </a:lnTo>
                  <a:lnTo>
                    <a:pt x="210769" y="38747"/>
                  </a:lnTo>
                  <a:lnTo>
                    <a:pt x="202704" y="36563"/>
                  </a:lnTo>
                  <a:lnTo>
                    <a:pt x="201714" y="36258"/>
                  </a:lnTo>
                  <a:lnTo>
                    <a:pt x="200113" y="36118"/>
                  </a:lnTo>
                  <a:lnTo>
                    <a:pt x="198970" y="36118"/>
                  </a:lnTo>
                  <a:lnTo>
                    <a:pt x="190119" y="35636"/>
                  </a:lnTo>
                  <a:close/>
                </a:path>
                <a:path w="341630" h="546735">
                  <a:moveTo>
                    <a:pt x="269924" y="121653"/>
                  </a:moveTo>
                  <a:lnTo>
                    <a:pt x="258203" y="121653"/>
                  </a:lnTo>
                  <a:lnTo>
                    <a:pt x="269557" y="123748"/>
                  </a:lnTo>
                  <a:lnTo>
                    <a:pt x="269862" y="122059"/>
                  </a:lnTo>
                  <a:lnTo>
                    <a:pt x="269924" y="121653"/>
                  </a:lnTo>
                  <a:close/>
                </a:path>
                <a:path w="341630" h="546735">
                  <a:moveTo>
                    <a:pt x="261480" y="0"/>
                  </a:moveTo>
                  <a:lnTo>
                    <a:pt x="254432" y="0"/>
                  </a:lnTo>
                  <a:lnTo>
                    <a:pt x="250825" y="863"/>
                  </a:lnTo>
                  <a:lnTo>
                    <a:pt x="244894" y="7226"/>
                  </a:lnTo>
                  <a:lnTo>
                    <a:pt x="243979" y="10274"/>
                  </a:lnTo>
                  <a:lnTo>
                    <a:pt x="243522" y="12687"/>
                  </a:lnTo>
                  <a:lnTo>
                    <a:pt x="243306" y="13639"/>
                  </a:lnTo>
                  <a:lnTo>
                    <a:pt x="243243" y="15506"/>
                  </a:lnTo>
                  <a:lnTo>
                    <a:pt x="243916" y="23596"/>
                  </a:lnTo>
                  <a:lnTo>
                    <a:pt x="246608" y="27266"/>
                  </a:lnTo>
                  <a:lnTo>
                    <a:pt x="250532" y="35636"/>
                  </a:lnTo>
                  <a:lnTo>
                    <a:pt x="275729" y="74955"/>
                  </a:lnTo>
                  <a:lnTo>
                    <a:pt x="311073" y="102184"/>
                  </a:lnTo>
                  <a:lnTo>
                    <a:pt x="306038" y="102184"/>
                  </a:lnTo>
                  <a:lnTo>
                    <a:pt x="318964" y="102577"/>
                  </a:lnTo>
                  <a:lnTo>
                    <a:pt x="314178" y="102577"/>
                  </a:lnTo>
                  <a:lnTo>
                    <a:pt x="324763" y="100397"/>
                  </a:lnTo>
                  <a:lnTo>
                    <a:pt x="332651" y="95088"/>
                  </a:lnTo>
                  <a:lnTo>
                    <a:pt x="338119" y="87545"/>
                  </a:lnTo>
                  <a:lnTo>
                    <a:pt x="340829" y="78790"/>
                  </a:lnTo>
                  <a:lnTo>
                    <a:pt x="329399" y="77139"/>
                  </a:lnTo>
                  <a:lnTo>
                    <a:pt x="340979" y="77139"/>
                  </a:lnTo>
                  <a:lnTo>
                    <a:pt x="341007" y="73829"/>
                  </a:lnTo>
                  <a:lnTo>
                    <a:pt x="340303" y="67686"/>
                  </a:lnTo>
                  <a:lnTo>
                    <a:pt x="338019" y="61536"/>
                  </a:lnTo>
                  <a:lnTo>
                    <a:pt x="337932" y="61299"/>
                  </a:lnTo>
                  <a:lnTo>
                    <a:pt x="337839" y="61048"/>
                  </a:lnTo>
                  <a:lnTo>
                    <a:pt x="333793" y="54906"/>
                  </a:lnTo>
                  <a:lnTo>
                    <a:pt x="328269" y="49580"/>
                  </a:lnTo>
                  <a:lnTo>
                    <a:pt x="316493" y="40766"/>
                  </a:lnTo>
                  <a:lnTo>
                    <a:pt x="303266" y="30564"/>
                  </a:lnTo>
                  <a:lnTo>
                    <a:pt x="290054" y="19878"/>
                  </a:lnTo>
                  <a:lnTo>
                    <a:pt x="278320" y="9613"/>
                  </a:lnTo>
                  <a:lnTo>
                    <a:pt x="272973" y="4419"/>
                  </a:lnTo>
                  <a:lnTo>
                    <a:pt x="267728" y="1041"/>
                  </a:lnTo>
                  <a:lnTo>
                    <a:pt x="261480" y="0"/>
                  </a:lnTo>
                  <a:close/>
                </a:path>
                <a:path w="341630" h="546735">
                  <a:moveTo>
                    <a:pt x="340979" y="77139"/>
                  </a:moveTo>
                  <a:lnTo>
                    <a:pt x="329399" y="77139"/>
                  </a:lnTo>
                  <a:lnTo>
                    <a:pt x="340906" y="78181"/>
                  </a:lnTo>
                  <a:lnTo>
                    <a:pt x="340979" y="7713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ject 19"/>
            <p:cNvSpPr/>
            <p:nvPr/>
          </p:nvSpPr>
          <p:spPr>
            <a:xfrm>
              <a:off x="2070360" y="359640"/>
              <a:ext cx="147240" cy="232920"/>
            </a:xfrm>
            <a:custGeom>
              <a:avLst/>
              <a:gdLst/>
              <a:ahLst/>
              <a:rect l="l" t="t" r="r" b="b"/>
              <a:pathLst>
                <a:path w="313055" h="494665">
                  <a:moveTo>
                    <a:pt x="285330" y="0"/>
                  </a:moveTo>
                  <a:lnTo>
                    <a:pt x="269989" y="0"/>
                  </a:lnTo>
                  <a:lnTo>
                    <a:pt x="262343" y="2184"/>
                  </a:lnTo>
                  <a:lnTo>
                    <a:pt x="245630" y="31191"/>
                  </a:lnTo>
                  <a:lnTo>
                    <a:pt x="245833" y="50283"/>
                  </a:lnTo>
                  <a:lnTo>
                    <a:pt x="246723" y="87929"/>
                  </a:lnTo>
                  <a:lnTo>
                    <a:pt x="246926" y="107378"/>
                  </a:lnTo>
                  <a:lnTo>
                    <a:pt x="245808" y="168760"/>
                  </a:lnTo>
                  <a:lnTo>
                    <a:pt x="241871" y="239153"/>
                  </a:lnTo>
                  <a:lnTo>
                    <a:pt x="234031" y="290280"/>
                  </a:lnTo>
                  <a:lnTo>
                    <a:pt x="219350" y="339048"/>
                  </a:lnTo>
                  <a:lnTo>
                    <a:pt x="199060" y="384211"/>
                  </a:lnTo>
                  <a:lnTo>
                    <a:pt x="174393" y="424526"/>
                  </a:lnTo>
                  <a:lnTo>
                    <a:pt x="146583" y="458749"/>
                  </a:lnTo>
                  <a:lnTo>
                    <a:pt x="142176" y="463232"/>
                  </a:lnTo>
                  <a:lnTo>
                    <a:pt x="140944" y="468668"/>
                  </a:lnTo>
                  <a:lnTo>
                    <a:pt x="160705" y="494042"/>
                  </a:lnTo>
                  <a:lnTo>
                    <a:pt x="168694" y="493255"/>
                  </a:lnTo>
                  <a:lnTo>
                    <a:pt x="170459" y="490854"/>
                  </a:lnTo>
                  <a:lnTo>
                    <a:pt x="175933" y="487667"/>
                  </a:lnTo>
                  <a:lnTo>
                    <a:pt x="222361" y="443650"/>
                  </a:lnTo>
                  <a:lnTo>
                    <a:pt x="250374" y="406474"/>
                  </a:lnTo>
                  <a:lnTo>
                    <a:pt x="276456" y="360124"/>
                  </a:lnTo>
                  <a:lnTo>
                    <a:pt x="296761" y="305302"/>
                  </a:lnTo>
                  <a:lnTo>
                    <a:pt x="307441" y="242709"/>
                  </a:lnTo>
                  <a:lnTo>
                    <a:pt x="309846" y="203616"/>
                  </a:lnTo>
                  <a:lnTo>
                    <a:pt x="312285" y="138232"/>
                  </a:lnTo>
                  <a:lnTo>
                    <a:pt x="312547" y="110540"/>
                  </a:lnTo>
                  <a:lnTo>
                    <a:pt x="312344" y="89319"/>
                  </a:lnTo>
                  <a:lnTo>
                    <a:pt x="311454" y="51053"/>
                  </a:lnTo>
                  <a:lnTo>
                    <a:pt x="311251" y="33096"/>
                  </a:lnTo>
                  <a:lnTo>
                    <a:pt x="293458" y="2400"/>
                  </a:lnTo>
                  <a:lnTo>
                    <a:pt x="285330" y="0"/>
                  </a:lnTo>
                  <a:close/>
                </a:path>
                <a:path w="313055" h="494665">
                  <a:moveTo>
                    <a:pt x="39522" y="6311"/>
                  </a:moveTo>
                  <a:lnTo>
                    <a:pt x="24142" y="6311"/>
                  </a:lnTo>
                  <a:lnTo>
                    <a:pt x="16268" y="8915"/>
                  </a:lnTo>
                  <a:lnTo>
                    <a:pt x="0" y="38811"/>
                  </a:lnTo>
                  <a:lnTo>
                    <a:pt x="635" y="264172"/>
                  </a:lnTo>
                  <a:lnTo>
                    <a:pt x="24218" y="300456"/>
                  </a:lnTo>
                  <a:lnTo>
                    <a:pt x="32486" y="300456"/>
                  </a:lnTo>
                  <a:lnTo>
                    <a:pt x="62358" y="271835"/>
                  </a:lnTo>
                  <a:lnTo>
                    <a:pt x="63715" y="38811"/>
                  </a:lnTo>
                  <a:lnTo>
                    <a:pt x="63048" y="31688"/>
                  </a:lnTo>
                  <a:lnTo>
                    <a:pt x="39522" y="631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bject 20"/>
            <p:cNvSpPr/>
            <p:nvPr/>
          </p:nvSpPr>
          <p:spPr>
            <a:xfrm>
              <a:off x="874440" y="504000"/>
              <a:ext cx="68760" cy="13716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43" y="0"/>
                  </a:moveTo>
                  <a:lnTo>
                    <a:pt x="72025" y="40958"/>
                  </a:lnTo>
                  <a:lnTo>
                    <a:pt x="62320" y="78925"/>
                  </a:lnTo>
                  <a:lnTo>
                    <a:pt x="46155" y="120095"/>
                  </a:lnTo>
                  <a:lnTo>
                    <a:pt x="20856" y="170662"/>
                  </a:lnTo>
                  <a:lnTo>
                    <a:pt x="12389" y="186792"/>
                  </a:lnTo>
                  <a:lnTo>
                    <a:pt x="0" y="223643"/>
                  </a:lnTo>
                  <a:lnTo>
                    <a:pt x="3207" y="263909"/>
                  </a:lnTo>
                  <a:lnTo>
                    <a:pt x="41705" y="290322"/>
                  </a:lnTo>
                  <a:lnTo>
                    <a:pt x="44195" y="290868"/>
                  </a:lnTo>
                  <a:lnTo>
                    <a:pt x="53863" y="290868"/>
                  </a:lnTo>
                  <a:lnTo>
                    <a:pt x="56721" y="290322"/>
                  </a:lnTo>
                  <a:lnTo>
                    <a:pt x="111885" y="277739"/>
                  </a:lnTo>
                  <a:lnTo>
                    <a:pt x="139085" y="259384"/>
                  </a:lnTo>
                  <a:lnTo>
                    <a:pt x="146252" y="222513"/>
                  </a:lnTo>
                  <a:lnTo>
                    <a:pt x="141316" y="154381"/>
                  </a:lnTo>
                  <a:lnTo>
                    <a:pt x="128980" y="102916"/>
                  </a:lnTo>
                  <a:lnTo>
                    <a:pt x="116028" y="64246"/>
                  </a:lnTo>
                  <a:lnTo>
                    <a:pt x="99884" y="32048"/>
                  </a:lnTo>
                  <a:lnTo>
                    <a:pt x="77943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1"/>
            <p:cNvSpPr/>
            <p:nvPr/>
          </p:nvSpPr>
          <p:spPr>
            <a:xfrm>
              <a:off x="851760" y="287280"/>
              <a:ext cx="68400" cy="13716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95" y="0"/>
                  </a:moveTo>
                  <a:lnTo>
                    <a:pt x="96931" y="152"/>
                  </a:lnTo>
                  <a:lnTo>
                    <a:pt x="94607" y="0"/>
                  </a:lnTo>
                  <a:lnTo>
                    <a:pt x="92003" y="152"/>
                  </a:lnTo>
                  <a:lnTo>
                    <a:pt x="34351" y="12782"/>
                  </a:lnTo>
                  <a:lnTo>
                    <a:pt x="7269" y="30972"/>
                  </a:lnTo>
                  <a:lnTo>
                    <a:pt x="0" y="67977"/>
                  </a:lnTo>
                  <a:lnTo>
                    <a:pt x="4615" y="136537"/>
                  </a:lnTo>
                  <a:lnTo>
                    <a:pt x="16948" y="187976"/>
                  </a:lnTo>
                  <a:lnTo>
                    <a:pt x="29894" y="226639"/>
                  </a:lnTo>
                  <a:lnTo>
                    <a:pt x="46031" y="258836"/>
                  </a:lnTo>
                  <a:lnTo>
                    <a:pt x="67937" y="290880"/>
                  </a:lnTo>
                  <a:lnTo>
                    <a:pt x="73900" y="249920"/>
                  </a:lnTo>
                  <a:lnTo>
                    <a:pt x="83606" y="211951"/>
                  </a:lnTo>
                  <a:lnTo>
                    <a:pt x="99774" y="170785"/>
                  </a:lnTo>
                  <a:lnTo>
                    <a:pt x="125074" y="120230"/>
                  </a:lnTo>
                  <a:lnTo>
                    <a:pt x="133468" y="103986"/>
                  </a:lnTo>
                  <a:lnTo>
                    <a:pt x="145731" y="66948"/>
                  </a:lnTo>
                  <a:lnTo>
                    <a:pt x="142487" y="26662"/>
                  </a:lnTo>
                  <a:lnTo>
                    <a:pt x="104361" y="673"/>
                  </a:lnTo>
                  <a:lnTo>
                    <a:pt x="101897" y="152"/>
                  </a:lnTo>
                  <a:lnTo>
                    <a:pt x="99395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object 22" descr=""/>
            <p:cNvPicPr/>
            <p:nvPr/>
          </p:nvPicPr>
          <p:blipFill>
            <a:blip r:embed="rId3"/>
            <a:stretch/>
          </p:blipFill>
          <p:spPr>
            <a:xfrm>
              <a:off x="777960" y="502200"/>
              <a:ext cx="10080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object 23" descr=""/>
            <p:cNvPicPr/>
            <p:nvPr/>
          </p:nvPicPr>
          <p:blipFill>
            <a:blip r:embed="rId4"/>
            <a:stretch/>
          </p:blipFill>
          <p:spPr>
            <a:xfrm>
              <a:off x="915840" y="322920"/>
              <a:ext cx="10080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object 24"/>
            <p:cNvSpPr/>
            <p:nvPr/>
          </p:nvSpPr>
          <p:spPr>
            <a:xfrm>
              <a:off x="720720" y="441000"/>
              <a:ext cx="137160" cy="6876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25" y="0"/>
                  </a:moveTo>
                  <a:lnTo>
                    <a:pt x="26980" y="3228"/>
                  </a:lnTo>
                  <a:lnTo>
                    <a:pt x="711" y="41529"/>
                  </a:lnTo>
                  <a:lnTo>
                    <a:pt x="165" y="44018"/>
                  </a:lnTo>
                  <a:lnTo>
                    <a:pt x="0" y="46494"/>
                  </a:lnTo>
                  <a:lnTo>
                    <a:pt x="228" y="48958"/>
                  </a:lnTo>
                  <a:lnTo>
                    <a:pt x="0" y="51244"/>
                  </a:lnTo>
                  <a:lnTo>
                    <a:pt x="152" y="53936"/>
                  </a:lnTo>
                  <a:lnTo>
                    <a:pt x="13279" y="111919"/>
                  </a:lnTo>
                  <a:lnTo>
                    <a:pt x="31624" y="139112"/>
                  </a:lnTo>
                  <a:lnTo>
                    <a:pt x="68469" y="146260"/>
                  </a:lnTo>
                  <a:lnTo>
                    <a:pt x="136550" y="141287"/>
                  </a:lnTo>
                  <a:lnTo>
                    <a:pt x="188010" y="128935"/>
                  </a:lnTo>
                  <a:lnTo>
                    <a:pt x="226682" y="115982"/>
                  </a:lnTo>
                  <a:lnTo>
                    <a:pt x="258887" y="99839"/>
                  </a:lnTo>
                  <a:lnTo>
                    <a:pt x="290944" y="77914"/>
                  </a:lnTo>
                  <a:lnTo>
                    <a:pt x="249961" y="72005"/>
                  </a:lnTo>
                  <a:lnTo>
                    <a:pt x="211980" y="62293"/>
                  </a:lnTo>
                  <a:lnTo>
                    <a:pt x="170806" y="46114"/>
                  </a:lnTo>
                  <a:lnTo>
                    <a:pt x="120243" y="20802"/>
                  </a:lnTo>
                  <a:lnTo>
                    <a:pt x="104097" y="12353"/>
                  </a:lnTo>
                  <a:lnTo>
                    <a:pt x="67225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bject 25"/>
            <p:cNvSpPr/>
            <p:nvPr/>
          </p:nvSpPr>
          <p:spPr>
            <a:xfrm>
              <a:off x="937440" y="418320"/>
              <a:ext cx="137160" cy="6876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222499" y="0"/>
                  </a:moveTo>
                  <a:lnTo>
                    <a:pt x="154419" y="4929"/>
                  </a:lnTo>
                  <a:lnTo>
                    <a:pt x="102948" y="17278"/>
                  </a:lnTo>
                  <a:lnTo>
                    <a:pt x="64265" y="30235"/>
                  </a:lnTo>
                  <a:lnTo>
                    <a:pt x="0" y="68315"/>
                  </a:lnTo>
                  <a:lnTo>
                    <a:pt x="40973" y="74221"/>
                  </a:lnTo>
                  <a:lnTo>
                    <a:pt x="78960" y="83939"/>
                  </a:lnTo>
                  <a:lnTo>
                    <a:pt x="120145" y="100129"/>
                  </a:lnTo>
                  <a:lnTo>
                    <a:pt x="170713" y="125452"/>
                  </a:lnTo>
                  <a:lnTo>
                    <a:pt x="186793" y="133860"/>
                  </a:lnTo>
                  <a:lnTo>
                    <a:pt x="223551" y="146145"/>
                  </a:lnTo>
                  <a:lnTo>
                    <a:pt x="263767" y="142902"/>
                  </a:lnTo>
                  <a:lnTo>
                    <a:pt x="290220" y="104726"/>
                  </a:lnTo>
                  <a:lnTo>
                    <a:pt x="290957" y="99747"/>
                  </a:lnTo>
                  <a:lnTo>
                    <a:pt x="290753" y="97283"/>
                  </a:lnTo>
                  <a:lnTo>
                    <a:pt x="290957" y="94972"/>
                  </a:lnTo>
                  <a:lnTo>
                    <a:pt x="290804" y="92369"/>
                  </a:lnTo>
                  <a:lnTo>
                    <a:pt x="290220" y="89486"/>
                  </a:lnTo>
                  <a:lnTo>
                    <a:pt x="277668" y="34351"/>
                  </a:lnTo>
                  <a:lnTo>
                    <a:pt x="259338" y="7164"/>
                  </a:lnTo>
                  <a:lnTo>
                    <a:pt x="222499" y="0"/>
                  </a:lnTo>
                  <a:close/>
                </a:path>
              </a:pathLst>
            </a:custGeom>
            <a:solidFill>
              <a:srgbClr val="84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object 26" descr=""/>
            <p:cNvPicPr/>
            <p:nvPr/>
          </p:nvPicPr>
          <p:blipFill>
            <a:blip r:embed="rId5"/>
            <a:stretch/>
          </p:blipFill>
          <p:spPr>
            <a:xfrm>
              <a:off x="756000" y="344520"/>
              <a:ext cx="10332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object 27" descr=""/>
            <p:cNvPicPr/>
            <p:nvPr/>
          </p:nvPicPr>
          <p:blipFill>
            <a:blip r:embed="rId6"/>
            <a:stretch/>
          </p:blipFill>
          <p:spPr>
            <a:xfrm>
              <a:off x="935280" y="482760"/>
              <a:ext cx="103320" cy="1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object 28"/>
            <p:cNvSpPr/>
            <p:nvPr/>
          </p:nvSpPr>
          <p:spPr>
            <a:xfrm>
              <a:off x="5170680" y="504000"/>
              <a:ext cx="68760" cy="13716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39" y="0"/>
                  </a:moveTo>
                  <a:lnTo>
                    <a:pt x="72022" y="40958"/>
                  </a:lnTo>
                  <a:lnTo>
                    <a:pt x="62317" y="78925"/>
                  </a:lnTo>
                  <a:lnTo>
                    <a:pt x="46151" y="120095"/>
                  </a:lnTo>
                  <a:lnTo>
                    <a:pt x="20853" y="170662"/>
                  </a:lnTo>
                  <a:lnTo>
                    <a:pt x="12387" y="186792"/>
                  </a:lnTo>
                  <a:lnTo>
                    <a:pt x="0" y="223643"/>
                  </a:lnTo>
                  <a:lnTo>
                    <a:pt x="3204" y="263909"/>
                  </a:lnTo>
                  <a:lnTo>
                    <a:pt x="41690" y="290322"/>
                  </a:lnTo>
                  <a:lnTo>
                    <a:pt x="44192" y="290868"/>
                  </a:lnTo>
                  <a:lnTo>
                    <a:pt x="53873" y="290868"/>
                  </a:lnTo>
                  <a:lnTo>
                    <a:pt x="56718" y="290322"/>
                  </a:lnTo>
                  <a:lnTo>
                    <a:pt x="111889" y="277739"/>
                  </a:lnTo>
                  <a:lnTo>
                    <a:pt x="139090" y="259384"/>
                  </a:lnTo>
                  <a:lnTo>
                    <a:pt x="146250" y="222513"/>
                  </a:lnTo>
                  <a:lnTo>
                    <a:pt x="141300" y="154381"/>
                  </a:lnTo>
                  <a:lnTo>
                    <a:pt x="128969" y="102916"/>
                  </a:lnTo>
                  <a:lnTo>
                    <a:pt x="116016" y="64246"/>
                  </a:lnTo>
                  <a:lnTo>
                    <a:pt x="99864" y="32048"/>
                  </a:lnTo>
                  <a:lnTo>
                    <a:pt x="77939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bject 29"/>
            <p:cNvSpPr/>
            <p:nvPr/>
          </p:nvSpPr>
          <p:spPr>
            <a:xfrm>
              <a:off x="5148000" y="287280"/>
              <a:ext cx="68400" cy="13716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89" y="0"/>
                  </a:moveTo>
                  <a:lnTo>
                    <a:pt x="96951" y="152"/>
                  </a:lnTo>
                  <a:lnTo>
                    <a:pt x="94627" y="0"/>
                  </a:lnTo>
                  <a:lnTo>
                    <a:pt x="91985" y="152"/>
                  </a:lnTo>
                  <a:lnTo>
                    <a:pt x="34351" y="12782"/>
                  </a:lnTo>
                  <a:lnTo>
                    <a:pt x="7267" y="30972"/>
                  </a:lnTo>
                  <a:lnTo>
                    <a:pt x="0" y="67977"/>
                  </a:lnTo>
                  <a:lnTo>
                    <a:pt x="4622" y="136537"/>
                  </a:lnTo>
                  <a:lnTo>
                    <a:pt x="16961" y="187976"/>
                  </a:lnTo>
                  <a:lnTo>
                    <a:pt x="29908" y="226639"/>
                  </a:lnTo>
                  <a:lnTo>
                    <a:pt x="46045" y="258836"/>
                  </a:lnTo>
                  <a:lnTo>
                    <a:pt x="67957" y="290880"/>
                  </a:lnTo>
                  <a:lnTo>
                    <a:pt x="73883" y="249920"/>
                  </a:lnTo>
                  <a:lnTo>
                    <a:pt x="83597" y="211951"/>
                  </a:lnTo>
                  <a:lnTo>
                    <a:pt x="99779" y="170785"/>
                  </a:lnTo>
                  <a:lnTo>
                    <a:pt x="125107" y="120230"/>
                  </a:lnTo>
                  <a:lnTo>
                    <a:pt x="133497" y="103986"/>
                  </a:lnTo>
                  <a:lnTo>
                    <a:pt x="145752" y="66948"/>
                  </a:lnTo>
                  <a:lnTo>
                    <a:pt x="142504" y="26662"/>
                  </a:lnTo>
                  <a:lnTo>
                    <a:pt x="104380" y="673"/>
                  </a:lnTo>
                  <a:lnTo>
                    <a:pt x="101904" y="152"/>
                  </a:lnTo>
                  <a:lnTo>
                    <a:pt x="99389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object 30" descr=""/>
            <p:cNvPicPr/>
            <p:nvPr/>
          </p:nvPicPr>
          <p:blipFill>
            <a:blip r:embed="rId7"/>
            <a:stretch/>
          </p:blipFill>
          <p:spPr>
            <a:xfrm>
              <a:off x="5074200" y="502200"/>
              <a:ext cx="10080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object 31" descr=""/>
            <p:cNvPicPr/>
            <p:nvPr/>
          </p:nvPicPr>
          <p:blipFill>
            <a:blip r:embed="rId8"/>
            <a:stretch/>
          </p:blipFill>
          <p:spPr>
            <a:xfrm>
              <a:off x="5212080" y="322920"/>
              <a:ext cx="10080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object 32"/>
            <p:cNvSpPr/>
            <p:nvPr/>
          </p:nvSpPr>
          <p:spPr>
            <a:xfrm>
              <a:off x="5016600" y="441000"/>
              <a:ext cx="137160" cy="6876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06" y="0"/>
                  </a:moveTo>
                  <a:lnTo>
                    <a:pt x="26956" y="3228"/>
                  </a:lnTo>
                  <a:lnTo>
                    <a:pt x="685" y="41529"/>
                  </a:lnTo>
                  <a:lnTo>
                    <a:pt x="165" y="44018"/>
                  </a:lnTo>
                  <a:lnTo>
                    <a:pt x="0" y="46494"/>
                  </a:lnTo>
                  <a:lnTo>
                    <a:pt x="215" y="48958"/>
                  </a:lnTo>
                  <a:lnTo>
                    <a:pt x="0" y="51244"/>
                  </a:lnTo>
                  <a:lnTo>
                    <a:pt x="114" y="53936"/>
                  </a:lnTo>
                  <a:lnTo>
                    <a:pt x="13259" y="111919"/>
                  </a:lnTo>
                  <a:lnTo>
                    <a:pt x="31600" y="139112"/>
                  </a:lnTo>
                  <a:lnTo>
                    <a:pt x="68444" y="146260"/>
                  </a:lnTo>
                  <a:lnTo>
                    <a:pt x="136524" y="141287"/>
                  </a:lnTo>
                  <a:lnTo>
                    <a:pt x="187991" y="128935"/>
                  </a:lnTo>
                  <a:lnTo>
                    <a:pt x="226668" y="115982"/>
                  </a:lnTo>
                  <a:lnTo>
                    <a:pt x="258874" y="99839"/>
                  </a:lnTo>
                  <a:lnTo>
                    <a:pt x="290931" y="77914"/>
                  </a:lnTo>
                  <a:lnTo>
                    <a:pt x="249945" y="72005"/>
                  </a:lnTo>
                  <a:lnTo>
                    <a:pt x="211958" y="62293"/>
                  </a:lnTo>
                  <a:lnTo>
                    <a:pt x="170782" y="46114"/>
                  </a:lnTo>
                  <a:lnTo>
                    <a:pt x="120230" y="20802"/>
                  </a:lnTo>
                  <a:lnTo>
                    <a:pt x="104082" y="12353"/>
                  </a:lnTo>
                  <a:lnTo>
                    <a:pt x="67206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bject 33"/>
            <p:cNvSpPr/>
            <p:nvPr/>
          </p:nvSpPr>
          <p:spPr>
            <a:xfrm>
              <a:off x="5233320" y="418320"/>
              <a:ext cx="137160" cy="6876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222519" y="0"/>
                  </a:moveTo>
                  <a:lnTo>
                    <a:pt x="154432" y="4929"/>
                  </a:lnTo>
                  <a:lnTo>
                    <a:pt x="102955" y="17278"/>
                  </a:lnTo>
                  <a:lnTo>
                    <a:pt x="64271" y="30235"/>
                  </a:lnTo>
                  <a:lnTo>
                    <a:pt x="0" y="68315"/>
                  </a:lnTo>
                  <a:lnTo>
                    <a:pt x="40975" y="74221"/>
                  </a:lnTo>
                  <a:lnTo>
                    <a:pt x="78965" y="83939"/>
                  </a:lnTo>
                  <a:lnTo>
                    <a:pt x="120150" y="100129"/>
                  </a:lnTo>
                  <a:lnTo>
                    <a:pt x="170713" y="125452"/>
                  </a:lnTo>
                  <a:lnTo>
                    <a:pt x="186793" y="133860"/>
                  </a:lnTo>
                  <a:lnTo>
                    <a:pt x="223554" y="146145"/>
                  </a:lnTo>
                  <a:lnTo>
                    <a:pt x="263778" y="142902"/>
                  </a:lnTo>
                  <a:lnTo>
                    <a:pt x="290245" y="104726"/>
                  </a:lnTo>
                  <a:lnTo>
                    <a:pt x="290779" y="102287"/>
                  </a:lnTo>
                  <a:lnTo>
                    <a:pt x="290962" y="100129"/>
                  </a:lnTo>
                  <a:lnTo>
                    <a:pt x="290995" y="99747"/>
                  </a:lnTo>
                  <a:lnTo>
                    <a:pt x="290753" y="97283"/>
                  </a:lnTo>
                  <a:lnTo>
                    <a:pt x="290995" y="94972"/>
                  </a:lnTo>
                  <a:lnTo>
                    <a:pt x="290804" y="92369"/>
                  </a:lnTo>
                  <a:lnTo>
                    <a:pt x="290245" y="89486"/>
                  </a:lnTo>
                  <a:lnTo>
                    <a:pt x="277693" y="34351"/>
                  </a:lnTo>
                  <a:lnTo>
                    <a:pt x="259362" y="7164"/>
                  </a:lnTo>
                  <a:lnTo>
                    <a:pt x="222519" y="0"/>
                  </a:lnTo>
                  <a:close/>
                </a:path>
              </a:pathLst>
            </a:custGeom>
            <a:solidFill>
              <a:srgbClr val="84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object 34" descr=""/>
            <p:cNvPicPr/>
            <p:nvPr/>
          </p:nvPicPr>
          <p:blipFill>
            <a:blip r:embed="rId9"/>
            <a:stretch/>
          </p:blipFill>
          <p:spPr>
            <a:xfrm>
              <a:off x="5052240" y="344520"/>
              <a:ext cx="10332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object 35" descr=""/>
            <p:cNvPicPr/>
            <p:nvPr/>
          </p:nvPicPr>
          <p:blipFill>
            <a:blip r:embed="rId10"/>
            <a:stretch/>
          </p:blipFill>
          <p:spPr>
            <a:xfrm>
              <a:off x="5231520" y="482760"/>
              <a:ext cx="10332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object 36" descr=""/>
            <p:cNvPicPr/>
            <p:nvPr/>
          </p:nvPicPr>
          <p:blipFill>
            <a:blip r:embed="rId11"/>
            <a:stretch/>
          </p:blipFill>
          <p:spPr>
            <a:xfrm>
              <a:off x="2387160" y="747360"/>
              <a:ext cx="95760" cy="9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object 37"/>
            <p:cNvGrpSpPr/>
            <p:nvPr/>
          </p:nvGrpSpPr>
          <p:grpSpPr>
            <a:xfrm>
              <a:off x="2509920" y="749880"/>
              <a:ext cx="235080" cy="87480"/>
              <a:chOff x="2509920" y="749880"/>
              <a:chExt cx="235080" cy="87480"/>
            </a:xfrm>
          </p:grpSpPr>
          <p:pic>
            <p:nvPicPr>
              <p:cNvPr id="72" name="object 38" descr=""/>
              <p:cNvPicPr/>
              <p:nvPr/>
            </p:nvPicPr>
            <p:blipFill>
              <a:blip r:embed="rId12"/>
              <a:stretch/>
            </p:blipFill>
            <p:spPr>
              <a:xfrm>
                <a:off x="2612520" y="749880"/>
                <a:ext cx="6012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39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09920" y="751320"/>
                <a:ext cx="9252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40" descr=""/>
              <p:cNvPicPr/>
              <p:nvPr/>
            </p:nvPicPr>
            <p:blipFill>
              <a:blip r:embed="rId14"/>
              <a:stretch/>
            </p:blipFill>
            <p:spPr>
              <a:xfrm>
                <a:off x="2686320" y="749880"/>
                <a:ext cx="58680" cy="87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5" name="object 41" descr=""/>
            <p:cNvPicPr/>
            <p:nvPr/>
          </p:nvPicPr>
          <p:blipFill>
            <a:blip r:embed="rId15"/>
            <a:stretch/>
          </p:blipFill>
          <p:spPr>
            <a:xfrm>
              <a:off x="2774160" y="761400"/>
              <a:ext cx="666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object 42"/>
            <p:cNvSpPr/>
            <p:nvPr/>
          </p:nvSpPr>
          <p:spPr>
            <a:xfrm>
              <a:off x="2871000" y="795600"/>
              <a:ext cx="7920" cy="39960"/>
            </a:xfrm>
            <a:custGeom>
              <a:avLst/>
              <a:gdLst/>
              <a:ahLst/>
              <a:rect l="l" t="t" r="r" b="b"/>
              <a:pathLst>
                <a:path w="17145" h="85090">
                  <a:moveTo>
                    <a:pt x="0" y="85089"/>
                  </a:moveTo>
                  <a:lnTo>
                    <a:pt x="16929" y="85089"/>
                  </a:lnTo>
                  <a:lnTo>
                    <a:pt x="16929" y="0"/>
                  </a:lnTo>
                  <a:lnTo>
                    <a:pt x="0" y="0"/>
                  </a:lnTo>
                  <a:lnTo>
                    <a:pt x="0" y="8508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object 43"/>
            <p:cNvGrpSpPr/>
            <p:nvPr/>
          </p:nvGrpSpPr>
          <p:grpSpPr>
            <a:xfrm>
              <a:off x="2871000" y="749880"/>
              <a:ext cx="391680" cy="87480"/>
              <a:chOff x="2871000" y="749880"/>
              <a:chExt cx="391680" cy="87480"/>
            </a:xfrm>
          </p:grpSpPr>
          <p:sp>
            <p:nvSpPr>
              <p:cNvPr id="78" name="object 44"/>
              <p:cNvSpPr/>
              <p:nvPr/>
            </p:nvSpPr>
            <p:spPr>
              <a:xfrm>
                <a:off x="2871000" y="751680"/>
                <a:ext cx="59760" cy="83880"/>
              </a:xfrm>
              <a:custGeom>
                <a:avLst/>
                <a:gdLst/>
                <a:ahLst/>
                <a:rect l="l" t="t" r="r" b="b"/>
                <a:pathLst>
                  <a:path w="127635" h="177800">
                    <a:moveTo>
                      <a:pt x="127596" y="0"/>
                    </a:moveTo>
                    <a:lnTo>
                      <a:pt x="110451" y="0"/>
                    </a:lnTo>
                    <a:lnTo>
                      <a:pt x="110451" y="77470"/>
                    </a:lnTo>
                    <a:lnTo>
                      <a:pt x="16929" y="77470"/>
                    </a:lnTo>
                    <a:lnTo>
                      <a:pt x="16929" y="0"/>
                    </a:lnTo>
                    <a:lnTo>
                      <a:pt x="0" y="0"/>
                    </a:lnTo>
                    <a:lnTo>
                      <a:pt x="0" y="77470"/>
                    </a:lnTo>
                    <a:lnTo>
                      <a:pt x="0" y="92710"/>
                    </a:lnTo>
                    <a:lnTo>
                      <a:pt x="110451" y="92710"/>
                    </a:lnTo>
                    <a:lnTo>
                      <a:pt x="110451" y="177800"/>
                    </a:lnTo>
                    <a:lnTo>
                      <a:pt x="127596" y="177800"/>
                    </a:lnTo>
                    <a:lnTo>
                      <a:pt x="127596" y="92710"/>
                    </a:lnTo>
                    <a:lnTo>
                      <a:pt x="127596" y="77470"/>
                    </a:lnTo>
                    <a:lnTo>
                      <a:pt x="127596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" name="object 4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48040" y="749880"/>
                <a:ext cx="612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object 46" descr=""/>
              <p:cNvPicPr/>
              <p:nvPr/>
            </p:nvPicPr>
            <p:blipFill>
              <a:blip r:embed="rId17"/>
              <a:stretch/>
            </p:blipFill>
            <p:spPr>
              <a:xfrm>
                <a:off x="3022560" y="749880"/>
                <a:ext cx="612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object 47" descr=""/>
              <p:cNvPicPr/>
              <p:nvPr/>
            </p:nvPicPr>
            <p:blipFill>
              <a:blip r:embed="rId18"/>
              <a:stretch/>
            </p:blipFill>
            <p:spPr>
              <a:xfrm>
                <a:off x="3098520" y="775080"/>
                <a:ext cx="74160" cy="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object 48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88520" y="775080"/>
                <a:ext cx="74160" cy="60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" name="object 49"/>
            <p:cNvGrpSpPr/>
            <p:nvPr/>
          </p:nvGrpSpPr>
          <p:grpSpPr>
            <a:xfrm>
              <a:off x="4112280" y="348120"/>
              <a:ext cx="568800" cy="129240"/>
              <a:chOff x="4112280" y="348120"/>
              <a:chExt cx="568800" cy="129240"/>
            </a:xfrm>
          </p:grpSpPr>
          <p:sp>
            <p:nvSpPr>
              <p:cNvPr id="84" name="object 50"/>
              <p:cNvSpPr/>
              <p:nvPr/>
            </p:nvSpPr>
            <p:spPr>
              <a:xfrm>
                <a:off x="4112280" y="352440"/>
                <a:ext cx="36720" cy="124920"/>
              </a:xfrm>
              <a:custGeom>
                <a:avLst/>
                <a:gdLst/>
                <a:ahLst/>
                <a:rect l="l" t="t" r="r" b="b"/>
                <a:pathLst>
                  <a:path w="78740" h="265430">
                    <a:moveTo>
                      <a:pt x="61188" y="0"/>
                    </a:moveTo>
                    <a:lnTo>
                      <a:pt x="36186" y="25324"/>
                    </a:lnTo>
                    <a:lnTo>
                      <a:pt x="16868" y="55108"/>
                    </a:lnTo>
                    <a:lnTo>
                      <a:pt x="4413" y="90450"/>
                    </a:lnTo>
                    <a:lnTo>
                      <a:pt x="0" y="132448"/>
                    </a:lnTo>
                    <a:lnTo>
                      <a:pt x="3509" y="170786"/>
                    </a:lnTo>
                    <a:lnTo>
                      <a:pt x="14458" y="205279"/>
                    </a:lnTo>
                    <a:lnTo>
                      <a:pt x="33475" y="236472"/>
                    </a:lnTo>
                    <a:lnTo>
                      <a:pt x="61188" y="264909"/>
                    </a:lnTo>
                    <a:lnTo>
                      <a:pt x="78511" y="248704"/>
                    </a:lnTo>
                    <a:lnTo>
                      <a:pt x="59599" y="225190"/>
                    </a:lnTo>
                    <a:lnTo>
                      <a:pt x="44145" y="197486"/>
                    </a:lnTo>
                    <a:lnTo>
                      <a:pt x="33720" y="166327"/>
                    </a:lnTo>
                    <a:lnTo>
                      <a:pt x="29895" y="132448"/>
                    </a:lnTo>
                    <a:lnTo>
                      <a:pt x="34036" y="97271"/>
                    </a:lnTo>
                    <a:lnTo>
                      <a:pt x="44988" y="65868"/>
                    </a:lnTo>
                    <a:lnTo>
                      <a:pt x="60547" y="38761"/>
                    </a:lnTo>
                    <a:lnTo>
                      <a:pt x="78511" y="16471"/>
                    </a:lnTo>
                    <a:lnTo>
                      <a:pt x="61188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" name="object 51" descr=""/>
              <p:cNvPicPr/>
              <p:nvPr/>
            </p:nvPicPr>
            <p:blipFill>
              <a:blip r:embed="rId20"/>
              <a:stretch/>
            </p:blipFill>
            <p:spPr>
              <a:xfrm>
                <a:off x="4162320" y="366480"/>
                <a:ext cx="11520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object 52" descr=""/>
              <p:cNvPicPr/>
              <p:nvPr/>
            </p:nvPicPr>
            <p:blipFill>
              <a:blip r:embed="rId21"/>
              <a:stretch/>
            </p:blipFill>
            <p:spPr>
              <a:xfrm>
                <a:off x="4292640" y="356400"/>
                <a:ext cx="110160" cy="11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53" descr=""/>
              <p:cNvPicPr/>
              <p:nvPr/>
            </p:nvPicPr>
            <p:blipFill>
              <a:blip r:embed="rId22"/>
              <a:stretch/>
            </p:blipFill>
            <p:spPr>
              <a:xfrm>
                <a:off x="4420440" y="361800"/>
                <a:ext cx="111240" cy="1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object 54"/>
              <p:cNvSpPr/>
              <p:nvPr/>
            </p:nvSpPr>
            <p:spPr>
              <a:xfrm>
                <a:off x="4540680" y="348120"/>
                <a:ext cx="140400" cy="125640"/>
              </a:xfrm>
              <a:custGeom>
                <a:avLst/>
                <a:gdLst/>
                <a:ahLst/>
                <a:rect l="l" t="t" r="r" b="b"/>
                <a:pathLst>
                  <a:path w="298450" h="266700">
                    <a:moveTo>
                      <a:pt x="230251" y="36880"/>
                    </a:moveTo>
                    <a:lnTo>
                      <a:pt x="223469" y="29565"/>
                    </a:lnTo>
                    <a:lnTo>
                      <a:pt x="216255" y="22377"/>
                    </a:lnTo>
                    <a:lnTo>
                      <a:pt x="208762" y="15468"/>
                    </a:lnTo>
                    <a:lnTo>
                      <a:pt x="201193" y="8940"/>
                    </a:lnTo>
                    <a:lnTo>
                      <a:pt x="187960" y="19875"/>
                    </a:lnTo>
                    <a:lnTo>
                      <a:pt x="185026" y="22377"/>
                    </a:lnTo>
                    <a:lnTo>
                      <a:pt x="192379" y="29286"/>
                    </a:lnTo>
                    <a:lnTo>
                      <a:pt x="199732" y="36563"/>
                    </a:lnTo>
                    <a:lnTo>
                      <a:pt x="206756" y="44005"/>
                    </a:lnTo>
                    <a:lnTo>
                      <a:pt x="213207" y="51409"/>
                    </a:lnTo>
                    <a:lnTo>
                      <a:pt x="230251" y="36880"/>
                    </a:lnTo>
                    <a:close/>
                  </a:path>
                  <a:path w="298450" h="266700">
                    <a:moveTo>
                      <a:pt x="234442" y="70980"/>
                    </a:moveTo>
                    <a:lnTo>
                      <a:pt x="218376" y="56172"/>
                    </a:lnTo>
                    <a:lnTo>
                      <a:pt x="216839" y="54762"/>
                    </a:lnTo>
                    <a:lnTo>
                      <a:pt x="201028" y="55448"/>
                    </a:lnTo>
                    <a:lnTo>
                      <a:pt x="184810" y="55880"/>
                    </a:lnTo>
                    <a:lnTo>
                      <a:pt x="163944" y="56172"/>
                    </a:lnTo>
                    <a:lnTo>
                      <a:pt x="119037" y="56172"/>
                    </a:lnTo>
                    <a:lnTo>
                      <a:pt x="123342" y="49187"/>
                    </a:lnTo>
                    <a:lnTo>
                      <a:pt x="127457" y="42087"/>
                    </a:lnTo>
                    <a:lnTo>
                      <a:pt x="131419" y="34823"/>
                    </a:lnTo>
                    <a:lnTo>
                      <a:pt x="135242" y="27381"/>
                    </a:lnTo>
                    <a:lnTo>
                      <a:pt x="96672" y="17589"/>
                    </a:lnTo>
                    <a:lnTo>
                      <a:pt x="81216" y="48882"/>
                    </a:lnTo>
                    <a:lnTo>
                      <a:pt x="58928" y="79286"/>
                    </a:lnTo>
                    <a:lnTo>
                      <a:pt x="31330" y="107276"/>
                    </a:lnTo>
                    <a:lnTo>
                      <a:pt x="0" y="131330"/>
                    </a:lnTo>
                    <a:lnTo>
                      <a:pt x="31013" y="156476"/>
                    </a:lnTo>
                    <a:lnTo>
                      <a:pt x="50304" y="139763"/>
                    </a:lnTo>
                    <a:lnTo>
                      <a:pt x="67335" y="123367"/>
                    </a:lnTo>
                    <a:lnTo>
                      <a:pt x="82486" y="106972"/>
                    </a:lnTo>
                    <a:lnTo>
                      <a:pt x="96113" y="90258"/>
                    </a:lnTo>
                    <a:lnTo>
                      <a:pt x="116522" y="89776"/>
                    </a:lnTo>
                    <a:lnTo>
                      <a:pt x="138772" y="89522"/>
                    </a:lnTo>
                    <a:lnTo>
                      <a:pt x="186626" y="89522"/>
                    </a:lnTo>
                    <a:lnTo>
                      <a:pt x="180314" y="105029"/>
                    </a:lnTo>
                    <a:lnTo>
                      <a:pt x="172935" y="120015"/>
                    </a:lnTo>
                    <a:lnTo>
                      <a:pt x="164452" y="134366"/>
                    </a:lnTo>
                    <a:lnTo>
                      <a:pt x="154800" y="148094"/>
                    </a:lnTo>
                    <a:lnTo>
                      <a:pt x="140830" y="138379"/>
                    </a:lnTo>
                    <a:lnTo>
                      <a:pt x="125958" y="128854"/>
                    </a:lnTo>
                    <a:lnTo>
                      <a:pt x="111213" y="120015"/>
                    </a:lnTo>
                    <a:lnTo>
                      <a:pt x="97523" y="112318"/>
                    </a:lnTo>
                    <a:lnTo>
                      <a:pt x="72923" y="136918"/>
                    </a:lnTo>
                    <a:lnTo>
                      <a:pt x="86931" y="145097"/>
                    </a:lnTo>
                    <a:lnTo>
                      <a:pt x="101536" y="154597"/>
                    </a:lnTo>
                    <a:lnTo>
                      <a:pt x="115887" y="164820"/>
                    </a:lnTo>
                    <a:lnTo>
                      <a:pt x="129095" y="175209"/>
                    </a:lnTo>
                    <a:lnTo>
                      <a:pt x="104495" y="193827"/>
                    </a:lnTo>
                    <a:lnTo>
                      <a:pt x="75272" y="210172"/>
                    </a:lnTo>
                    <a:lnTo>
                      <a:pt x="40957" y="224040"/>
                    </a:lnTo>
                    <a:lnTo>
                      <a:pt x="1117" y="235280"/>
                    </a:lnTo>
                    <a:lnTo>
                      <a:pt x="29324" y="266293"/>
                    </a:lnTo>
                    <a:lnTo>
                      <a:pt x="83312" y="246900"/>
                    </a:lnTo>
                    <a:lnTo>
                      <a:pt x="127279" y="222796"/>
                    </a:lnTo>
                    <a:lnTo>
                      <a:pt x="162801" y="193573"/>
                    </a:lnTo>
                    <a:lnTo>
                      <a:pt x="191452" y="158813"/>
                    </a:lnTo>
                    <a:lnTo>
                      <a:pt x="214807" y="118084"/>
                    </a:lnTo>
                    <a:lnTo>
                      <a:pt x="226606" y="89776"/>
                    </a:lnTo>
                    <a:lnTo>
                      <a:pt x="226720" y="89522"/>
                    </a:lnTo>
                    <a:lnTo>
                      <a:pt x="234442" y="70980"/>
                    </a:lnTo>
                    <a:close/>
                  </a:path>
                  <a:path w="298450" h="266700">
                    <a:moveTo>
                      <a:pt x="262953" y="26822"/>
                    </a:moveTo>
                    <a:lnTo>
                      <a:pt x="256260" y="19875"/>
                    </a:lnTo>
                    <a:lnTo>
                      <a:pt x="249186" y="12979"/>
                    </a:lnTo>
                    <a:lnTo>
                      <a:pt x="241808" y="6299"/>
                    </a:lnTo>
                    <a:lnTo>
                      <a:pt x="234162" y="0"/>
                    </a:lnTo>
                    <a:lnTo>
                      <a:pt x="218236" y="12839"/>
                    </a:lnTo>
                    <a:lnTo>
                      <a:pt x="225983" y="19646"/>
                    </a:lnTo>
                    <a:lnTo>
                      <a:pt x="233299" y="26644"/>
                    </a:lnTo>
                    <a:lnTo>
                      <a:pt x="240131" y="33794"/>
                    </a:lnTo>
                    <a:lnTo>
                      <a:pt x="246456" y="41071"/>
                    </a:lnTo>
                    <a:lnTo>
                      <a:pt x="262953" y="26822"/>
                    </a:lnTo>
                    <a:close/>
                  </a:path>
                  <a:path w="298450" h="266700">
                    <a:moveTo>
                      <a:pt x="298170" y="156603"/>
                    </a:moveTo>
                    <a:lnTo>
                      <a:pt x="262166" y="156603"/>
                    </a:lnTo>
                    <a:lnTo>
                      <a:pt x="262166" y="157873"/>
                    </a:lnTo>
                    <a:lnTo>
                      <a:pt x="298170" y="157873"/>
                    </a:lnTo>
                    <a:lnTo>
                      <a:pt x="298170" y="156603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object 55"/>
            <p:cNvSpPr/>
            <p:nvPr/>
          </p:nvSpPr>
          <p:spPr>
            <a:xfrm>
              <a:off x="4664520" y="404280"/>
              <a:ext cx="111240" cy="17640"/>
            </a:xfrm>
            <a:custGeom>
              <a:avLst/>
              <a:gdLst/>
              <a:ahLst/>
              <a:rect l="l" t="t" r="r" b="b"/>
              <a:pathLst>
                <a:path w="236854" h="38100">
                  <a:moveTo>
                    <a:pt x="236397" y="0"/>
                  </a:moveTo>
                  <a:lnTo>
                    <a:pt x="173316" y="0"/>
                  </a:lnTo>
                  <a:lnTo>
                    <a:pt x="173316" y="1270"/>
                  </a:lnTo>
                  <a:lnTo>
                    <a:pt x="49745" y="1270"/>
                  </a:lnTo>
                  <a:lnTo>
                    <a:pt x="49745" y="0"/>
                  </a:lnTo>
                  <a:lnTo>
                    <a:pt x="0" y="0"/>
                  </a:lnTo>
                  <a:lnTo>
                    <a:pt x="0" y="1270"/>
                  </a:lnTo>
                  <a:lnTo>
                    <a:pt x="0" y="36830"/>
                  </a:lnTo>
                  <a:lnTo>
                    <a:pt x="196799" y="36830"/>
                  </a:lnTo>
                  <a:lnTo>
                    <a:pt x="196799" y="38100"/>
                  </a:lnTo>
                  <a:lnTo>
                    <a:pt x="236397" y="38100"/>
                  </a:lnTo>
                  <a:lnTo>
                    <a:pt x="236397" y="36830"/>
                  </a:lnTo>
                  <a:lnTo>
                    <a:pt x="236397" y="1270"/>
                  </a:lnTo>
                  <a:lnTo>
                    <a:pt x="236397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object 56"/>
            <p:cNvGrpSpPr/>
            <p:nvPr/>
          </p:nvGrpSpPr>
          <p:grpSpPr>
            <a:xfrm>
              <a:off x="4811040" y="352440"/>
              <a:ext cx="132120" cy="124920"/>
              <a:chOff x="4811040" y="352440"/>
              <a:chExt cx="132120" cy="124920"/>
            </a:xfrm>
          </p:grpSpPr>
          <p:pic>
            <p:nvPicPr>
              <p:cNvPr id="91" name="object 57" descr=""/>
              <p:cNvPicPr/>
              <p:nvPr/>
            </p:nvPicPr>
            <p:blipFill>
              <a:blip r:embed="rId23"/>
              <a:stretch/>
            </p:blipFill>
            <p:spPr>
              <a:xfrm>
                <a:off x="4811040" y="355320"/>
                <a:ext cx="75600" cy="11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object 58"/>
              <p:cNvSpPr/>
              <p:nvPr/>
            </p:nvSpPr>
            <p:spPr>
              <a:xfrm>
                <a:off x="4906080" y="352440"/>
                <a:ext cx="37080" cy="124920"/>
              </a:xfrm>
              <a:custGeom>
                <a:avLst/>
                <a:gdLst/>
                <a:ahLst/>
                <a:rect l="l" t="t" r="r" b="b"/>
                <a:pathLst>
                  <a:path w="79375" h="265430">
                    <a:moveTo>
                      <a:pt x="17602" y="0"/>
                    </a:moveTo>
                    <a:lnTo>
                      <a:pt x="0" y="16484"/>
                    </a:lnTo>
                    <a:lnTo>
                      <a:pt x="18019" y="38768"/>
                    </a:lnTo>
                    <a:lnTo>
                      <a:pt x="33678" y="65876"/>
                    </a:lnTo>
                    <a:lnTo>
                      <a:pt x="44725" y="97282"/>
                    </a:lnTo>
                    <a:lnTo>
                      <a:pt x="48907" y="132460"/>
                    </a:lnTo>
                    <a:lnTo>
                      <a:pt x="45037" y="166333"/>
                    </a:lnTo>
                    <a:lnTo>
                      <a:pt x="34512" y="197488"/>
                    </a:lnTo>
                    <a:lnTo>
                      <a:pt x="18957" y="225190"/>
                    </a:lnTo>
                    <a:lnTo>
                      <a:pt x="0" y="248704"/>
                    </a:lnTo>
                    <a:lnTo>
                      <a:pt x="17602" y="264909"/>
                    </a:lnTo>
                    <a:lnTo>
                      <a:pt x="45204" y="236473"/>
                    </a:lnTo>
                    <a:lnTo>
                      <a:pt x="64238" y="205285"/>
                    </a:lnTo>
                    <a:lnTo>
                      <a:pt x="75254" y="170797"/>
                    </a:lnTo>
                    <a:lnTo>
                      <a:pt x="78803" y="132460"/>
                    </a:lnTo>
                    <a:lnTo>
                      <a:pt x="74348" y="90463"/>
                    </a:lnTo>
                    <a:lnTo>
                      <a:pt x="61823" y="55119"/>
                    </a:lnTo>
                    <a:lnTo>
                      <a:pt x="42488" y="25331"/>
                    </a:lnTo>
                    <a:lnTo>
                      <a:pt x="17602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34</cp:lastModifiedBy>
  <dcterms:modified xsi:type="dcterms:W3CDTF">2025-11-24T07:39:52Z</dcterms:modified>
  <cp:revision>24</cp:revision>
  <dc:subject/>
  <dc:title/>
</cp:coreProperties>
</file>