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940425" cy="66992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97000" y="359676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03624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10456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91212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29700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10456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391212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97000" y="1567440"/>
            <a:ext cx="534564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534564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97000" y="267120"/>
            <a:ext cx="5345640" cy="51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3624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slideLayout" Target="../slideLayouts/slideLayout1.xml"/><Relationship Id="rId22" Type="http://schemas.openxmlformats.org/officeDocument/2006/relationships/slideLayout" Target="../slideLayouts/slideLayout2.xml"/><Relationship Id="rId23" Type="http://schemas.openxmlformats.org/officeDocument/2006/relationships/slideLayout" Target="../slideLayouts/slideLayout3.xml"/><Relationship Id="rId24" Type="http://schemas.openxmlformats.org/officeDocument/2006/relationships/slideLayout" Target="../slideLayouts/slideLayout4.xml"/><Relationship Id="rId25" Type="http://schemas.openxmlformats.org/officeDocument/2006/relationships/slideLayout" Target="../slideLayouts/slideLayout5.xml"/><Relationship Id="rId26" Type="http://schemas.openxmlformats.org/officeDocument/2006/relationships/slideLayout" Target="../slideLayouts/slideLayout6.xml"/><Relationship Id="rId27" Type="http://schemas.openxmlformats.org/officeDocument/2006/relationships/slideLayout" Target="../slideLayouts/slideLayout7.xml"/><Relationship Id="rId28" Type="http://schemas.openxmlformats.org/officeDocument/2006/relationships/slideLayout" Target="../slideLayouts/slideLayout8.xml"/><Relationship Id="rId29" Type="http://schemas.openxmlformats.org/officeDocument/2006/relationships/slideLayout" Target="../slideLayouts/slideLayout9.xml"/><Relationship Id="rId30" Type="http://schemas.openxmlformats.org/officeDocument/2006/relationships/slideLayout" Target="../slideLayouts/slideLayout10.xml"/><Relationship Id="rId31" Type="http://schemas.openxmlformats.org/officeDocument/2006/relationships/slideLayout" Target="../slideLayouts/slideLayout11.xml"/><Relationship Id="rId32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7" descr=""/>
          <p:cNvPicPr/>
          <p:nvPr/>
        </p:nvPicPr>
        <p:blipFill>
          <a:blip r:embed="rId2"/>
          <a:stretch/>
        </p:blipFill>
        <p:spPr>
          <a:xfrm>
            <a:off x="4579920" y="50990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47"/>
          <p:cNvSpPr/>
          <p:nvPr/>
        </p:nvSpPr>
        <p:spPr>
          <a:xfrm>
            <a:off x="1800360" y="1692360"/>
            <a:ext cx="2340000" cy="331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69"/>
          <p:cNvSpPr/>
          <p:nvPr/>
        </p:nvSpPr>
        <p:spPr>
          <a:xfrm>
            <a:off x="2016000" y="1908000"/>
            <a:ext cx="1908360" cy="2881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7"/>
          <p:cNvSpPr/>
          <p:nvPr/>
        </p:nvSpPr>
        <p:spPr>
          <a:xfrm>
            <a:off x="1908000" y="1800360"/>
            <a:ext cx="2124360" cy="3097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128"/>
          <p:cNvSpPr/>
          <p:nvPr/>
        </p:nvSpPr>
        <p:spPr>
          <a:xfrm>
            <a:off x="541440" y="2581200"/>
            <a:ext cx="1028520" cy="703440"/>
          </a:xfrm>
          <a:prstGeom prst="wedgeRoundRectCallout">
            <a:avLst>
              <a:gd name="adj1" fmla="val 92643"/>
              <a:gd name="adj2" fmla="val -4887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129"/>
          <p:cNvSpPr/>
          <p:nvPr/>
        </p:nvSpPr>
        <p:spPr>
          <a:xfrm>
            <a:off x="534960" y="1908000"/>
            <a:ext cx="1028880" cy="571680"/>
          </a:xfrm>
          <a:prstGeom prst="wedgeRoundRectCallout">
            <a:avLst>
              <a:gd name="adj1" fmla="val 81740"/>
              <a:gd name="adj2" fmla="val -40740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130"/>
          <p:cNvSpPr/>
          <p:nvPr/>
        </p:nvSpPr>
        <p:spPr>
          <a:xfrm>
            <a:off x="358920" y="5640480"/>
            <a:ext cx="4105080" cy="981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用紙サイズの変更や、トンボの移動、変形などなさらないようお願いします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　　また、テンプレートと同じサイズになっているか確認してください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131"/>
          <p:cNvSpPr/>
          <p:nvPr/>
        </p:nvSpPr>
        <p:spPr>
          <a:xfrm>
            <a:off x="3086280" y="523080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132"/>
          <p:cNvSpPr/>
          <p:nvPr/>
        </p:nvSpPr>
        <p:spPr>
          <a:xfrm>
            <a:off x="3070080" y="12222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34"/>
          <p:cNvSpPr/>
          <p:nvPr/>
        </p:nvSpPr>
        <p:spPr>
          <a:xfrm>
            <a:off x="4370400" y="2149560"/>
            <a:ext cx="1028520" cy="720720"/>
          </a:xfrm>
          <a:prstGeom prst="wedgeRoundRectCallout">
            <a:avLst>
              <a:gd name="adj1" fmla="val -71449"/>
              <a:gd name="adj2" fmla="val -43393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グループ化 11"/>
          <p:cNvGrpSpPr/>
          <p:nvPr/>
        </p:nvGrpSpPr>
        <p:grpSpPr>
          <a:xfrm>
            <a:off x="1450800" y="1343160"/>
            <a:ext cx="3038760" cy="4011480"/>
            <a:chOff x="1450800" y="1343160"/>
            <a:chExt cx="3038760" cy="4011480"/>
          </a:xfrm>
        </p:grpSpPr>
        <p:grpSp>
          <p:nvGrpSpPr>
            <p:cNvPr id="11" name="object 2"/>
            <p:cNvGrpSpPr/>
            <p:nvPr/>
          </p:nvGrpSpPr>
          <p:grpSpPr>
            <a:xfrm>
              <a:off x="1473840" y="4895640"/>
              <a:ext cx="436320" cy="436320"/>
              <a:chOff x="1473840" y="4895640"/>
              <a:chExt cx="436320" cy="436320"/>
            </a:xfrm>
          </p:grpSpPr>
          <p:sp>
            <p:nvSpPr>
              <p:cNvPr id="12" name="object 3"/>
              <p:cNvSpPr/>
              <p:nvPr/>
            </p:nvSpPr>
            <p:spPr>
              <a:xfrm>
                <a:off x="1473840" y="48956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object 4"/>
              <p:cNvSpPr/>
              <p:nvPr/>
            </p:nvSpPr>
            <p:spPr>
              <a:xfrm>
                <a:off x="1473840" y="500436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" name="object 5"/>
            <p:cNvGrpSpPr/>
            <p:nvPr/>
          </p:nvGrpSpPr>
          <p:grpSpPr>
            <a:xfrm>
              <a:off x="1473840" y="1366200"/>
              <a:ext cx="436320" cy="436320"/>
              <a:chOff x="1473840" y="1366200"/>
              <a:chExt cx="436320" cy="436320"/>
            </a:xfrm>
          </p:grpSpPr>
          <p:sp>
            <p:nvSpPr>
              <p:cNvPr id="15" name="object 6"/>
              <p:cNvSpPr/>
              <p:nvPr/>
            </p:nvSpPr>
            <p:spPr>
              <a:xfrm>
                <a:off x="1473840" y="136620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object 7"/>
              <p:cNvSpPr/>
              <p:nvPr/>
            </p:nvSpPr>
            <p:spPr>
              <a:xfrm>
                <a:off x="1473840" y="136620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" name="object 8"/>
            <p:cNvGrpSpPr/>
            <p:nvPr/>
          </p:nvGrpSpPr>
          <p:grpSpPr>
            <a:xfrm>
              <a:off x="4030560" y="1366200"/>
              <a:ext cx="436320" cy="436320"/>
              <a:chOff x="4030560" y="1366200"/>
              <a:chExt cx="436320" cy="436320"/>
            </a:xfrm>
          </p:grpSpPr>
          <p:sp>
            <p:nvSpPr>
              <p:cNvPr id="18" name="object 9"/>
              <p:cNvSpPr/>
              <p:nvPr/>
            </p:nvSpPr>
            <p:spPr>
              <a:xfrm>
                <a:off x="4139280" y="136620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bject 10"/>
              <p:cNvSpPr/>
              <p:nvPr/>
            </p:nvSpPr>
            <p:spPr>
              <a:xfrm>
                <a:off x="4030560" y="136620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" name="object 11"/>
            <p:cNvGrpSpPr/>
            <p:nvPr/>
          </p:nvGrpSpPr>
          <p:grpSpPr>
            <a:xfrm>
              <a:off x="4030560" y="4895640"/>
              <a:ext cx="436320" cy="436320"/>
              <a:chOff x="4030560" y="4895640"/>
              <a:chExt cx="436320" cy="436320"/>
            </a:xfrm>
          </p:grpSpPr>
          <p:sp>
            <p:nvSpPr>
              <p:cNvPr id="21" name="object 12"/>
              <p:cNvSpPr/>
              <p:nvPr/>
            </p:nvSpPr>
            <p:spPr>
              <a:xfrm>
                <a:off x="4139280" y="48956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bject 13"/>
              <p:cNvSpPr/>
              <p:nvPr/>
            </p:nvSpPr>
            <p:spPr>
              <a:xfrm>
                <a:off x="4030560" y="500436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" name="object 14"/>
            <p:cNvGrpSpPr/>
            <p:nvPr/>
          </p:nvGrpSpPr>
          <p:grpSpPr>
            <a:xfrm>
              <a:off x="1450800" y="2891520"/>
              <a:ext cx="304560" cy="914400"/>
              <a:chOff x="1450800" y="2891520"/>
              <a:chExt cx="304560" cy="914400"/>
            </a:xfrm>
          </p:grpSpPr>
          <p:sp>
            <p:nvSpPr>
              <p:cNvPr id="24" name="object 15"/>
              <p:cNvSpPr/>
              <p:nvPr/>
            </p:nvSpPr>
            <p:spPr>
              <a:xfrm>
                <a:off x="1450800" y="3348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object 16"/>
              <p:cNvSpPr/>
              <p:nvPr/>
            </p:nvSpPr>
            <p:spPr>
              <a:xfrm>
                <a:off x="1679400" y="2891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" name="object 17"/>
            <p:cNvGrpSpPr/>
            <p:nvPr/>
          </p:nvGrpSpPr>
          <p:grpSpPr>
            <a:xfrm>
              <a:off x="4185000" y="2891520"/>
              <a:ext cx="304560" cy="914400"/>
              <a:chOff x="4185000" y="2891520"/>
              <a:chExt cx="304560" cy="914400"/>
            </a:xfrm>
          </p:grpSpPr>
          <p:sp>
            <p:nvSpPr>
              <p:cNvPr id="27" name="object 18"/>
              <p:cNvSpPr/>
              <p:nvPr/>
            </p:nvSpPr>
            <p:spPr>
              <a:xfrm>
                <a:off x="4185000" y="3348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object 19"/>
              <p:cNvSpPr/>
              <p:nvPr/>
            </p:nvSpPr>
            <p:spPr>
              <a:xfrm>
                <a:off x="4260960" y="2891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" name="object 20"/>
            <p:cNvGrpSpPr/>
            <p:nvPr/>
          </p:nvGrpSpPr>
          <p:grpSpPr>
            <a:xfrm>
              <a:off x="2512800" y="1343160"/>
              <a:ext cx="914400" cy="304560"/>
              <a:chOff x="2512800" y="1343160"/>
              <a:chExt cx="914400" cy="304560"/>
            </a:xfrm>
          </p:grpSpPr>
          <p:sp>
            <p:nvSpPr>
              <p:cNvPr id="30" name="object 21"/>
              <p:cNvSpPr/>
              <p:nvPr/>
            </p:nvSpPr>
            <p:spPr>
              <a:xfrm>
                <a:off x="2512800" y="157176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object 22"/>
              <p:cNvSpPr/>
              <p:nvPr/>
            </p:nvSpPr>
            <p:spPr>
              <a:xfrm>
                <a:off x="2970000" y="134316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" name="object 23"/>
            <p:cNvGrpSpPr/>
            <p:nvPr/>
          </p:nvGrpSpPr>
          <p:grpSpPr>
            <a:xfrm>
              <a:off x="2512800" y="5050080"/>
              <a:ext cx="914400" cy="304560"/>
              <a:chOff x="2512800" y="5050080"/>
              <a:chExt cx="914400" cy="304560"/>
            </a:xfrm>
          </p:grpSpPr>
          <p:sp>
            <p:nvSpPr>
              <p:cNvPr id="33" name="object 24"/>
              <p:cNvSpPr/>
              <p:nvPr/>
            </p:nvSpPr>
            <p:spPr>
              <a:xfrm>
                <a:off x="2512800" y="51260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object 25"/>
              <p:cNvSpPr/>
              <p:nvPr/>
            </p:nvSpPr>
            <p:spPr>
              <a:xfrm>
                <a:off x="2970000" y="5050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99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" name="グループ化 1068"/>
          <p:cNvGrpSpPr/>
          <p:nvPr/>
        </p:nvGrpSpPr>
        <p:grpSpPr>
          <a:xfrm>
            <a:off x="468360" y="252360"/>
            <a:ext cx="5018040" cy="630360"/>
            <a:chOff x="468360" y="252360"/>
            <a:chExt cx="5018040" cy="630360"/>
          </a:xfrm>
        </p:grpSpPr>
        <p:pic>
          <p:nvPicPr>
            <p:cNvPr id="36" name="object 2" descr=""/>
            <p:cNvPicPr/>
            <p:nvPr/>
          </p:nvPicPr>
          <p:blipFill>
            <a:blip r:embed="rId3"/>
            <a:stretch/>
          </p:blipFill>
          <p:spPr>
            <a:xfrm>
              <a:off x="2354040" y="774000"/>
              <a:ext cx="108360" cy="108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" name="object 3"/>
            <p:cNvGrpSpPr/>
            <p:nvPr/>
          </p:nvGrpSpPr>
          <p:grpSpPr>
            <a:xfrm>
              <a:off x="2489400" y="776880"/>
              <a:ext cx="267120" cy="99360"/>
              <a:chOff x="2489400" y="776880"/>
              <a:chExt cx="267120" cy="99360"/>
            </a:xfrm>
          </p:grpSpPr>
          <p:pic>
            <p:nvPicPr>
              <p:cNvPr id="38" name="object 4" descr=""/>
              <p:cNvPicPr/>
              <p:nvPr/>
            </p:nvPicPr>
            <p:blipFill>
              <a:blip r:embed="rId4"/>
              <a:stretch/>
            </p:blipFill>
            <p:spPr>
              <a:xfrm>
                <a:off x="2489400" y="778680"/>
                <a:ext cx="104760" cy="9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" name="object 5" descr=""/>
              <p:cNvPicPr/>
              <p:nvPr/>
            </p:nvPicPr>
            <p:blipFill>
              <a:blip r:embed="rId5"/>
              <a:stretch/>
            </p:blipFill>
            <p:spPr>
              <a:xfrm>
                <a:off x="2606040" y="778680"/>
                <a:ext cx="6660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" name="object 6" descr=""/>
              <p:cNvPicPr/>
              <p:nvPr/>
            </p:nvPicPr>
            <p:blipFill>
              <a:blip r:embed="rId6"/>
              <a:stretch/>
            </p:blipFill>
            <p:spPr>
              <a:xfrm>
                <a:off x="2688840" y="776880"/>
                <a:ext cx="67680" cy="99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" name="object 7" descr=""/>
            <p:cNvPicPr/>
            <p:nvPr/>
          </p:nvPicPr>
          <p:blipFill>
            <a:blip r:embed="rId7"/>
            <a:stretch/>
          </p:blipFill>
          <p:spPr>
            <a:xfrm>
              <a:off x="2788560" y="789840"/>
              <a:ext cx="75240" cy="7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" name="object 8"/>
            <p:cNvSpPr/>
            <p:nvPr/>
          </p:nvSpPr>
          <p:spPr>
            <a:xfrm>
              <a:off x="2898000" y="828720"/>
              <a:ext cx="9000" cy="45360"/>
            </a:xfrm>
            <a:custGeom>
              <a:avLst/>
              <a:gdLst/>
              <a:ahLst/>
              <a:rect l="l" t="t" r="r" b="b"/>
              <a:pathLst>
                <a:path w="17145" h="85090">
                  <a:moveTo>
                    <a:pt x="0" y="85089"/>
                  </a:moveTo>
                  <a:lnTo>
                    <a:pt x="16929" y="85089"/>
                  </a:lnTo>
                  <a:lnTo>
                    <a:pt x="16929" y="0"/>
                  </a:lnTo>
                  <a:lnTo>
                    <a:pt x="0" y="0"/>
                  </a:lnTo>
                  <a:lnTo>
                    <a:pt x="0" y="85089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object 9"/>
            <p:cNvGrpSpPr/>
            <p:nvPr/>
          </p:nvGrpSpPr>
          <p:grpSpPr>
            <a:xfrm>
              <a:off x="2898000" y="776880"/>
              <a:ext cx="443160" cy="99360"/>
              <a:chOff x="2898000" y="776880"/>
              <a:chExt cx="443160" cy="99360"/>
            </a:xfrm>
          </p:grpSpPr>
          <p:sp>
            <p:nvSpPr>
              <p:cNvPr id="44" name="object 10"/>
              <p:cNvSpPr/>
              <p:nvPr/>
            </p:nvSpPr>
            <p:spPr>
              <a:xfrm>
                <a:off x="2898000" y="779040"/>
                <a:ext cx="67680" cy="95400"/>
              </a:xfrm>
              <a:custGeom>
                <a:avLst/>
                <a:gdLst/>
                <a:ahLst/>
                <a:rect l="l" t="t" r="r" b="b"/>
                <a:pathLst>
                  <a:path w="127635" h="177800">
                    <a:moveTo>
                      <a:pt x="127596" y="0"/>
                    </a:moveTo>
                    <a:lnTo>
                      <a:pt x="110451" y="0"/>
                    </a:lnTo>
                    <a:lnTo>
                      <a:pt x="110451" y="77470"/>
                    </a:lnTo>
                    <a:lnTo>
                      <a:pt x="16929" y="77470"/>
                    </a:lnTo>
                    <a:lnTo>
                      <a:pt x="16929" y="0"/>
                    </a:lnTo>
                    <a:lnTo>
                      <a:pt x="0" y="0"/>
                    </a:lnTo>
                    <a:lnTo>
                      <a:pt x="0" y="77470"/>
                    </a:lnTo>
                    <a:lnTo>
                      <a:pt x="0" y="92710"/>
                    </a:lnTo>
                    <a:lnTo>
                      <a:pt x="110451" y="92710"/>
                    </a:lnTo>
                    <a:lnTo>
                      <a:pt x="110451" y="177800"/>
                    </a:lnTo>
                    <a:lnTo>
                      <a:pt x="127596" y="177800"/>
                    </a:lnTo>
                    <a:lnTo>
                      <a:pt x="127596" y="92710"/>
                    </a:lnTo>
                    <a:lnTo>
                      <a:pt x="127596" y="77470"/>
                    </a:lnTo>
                    <a:lnTo>
                      <a:pt x="127596" y="0"/>
                    </a:lnTo>
                    <a:close/>
                  </a:path>
                </a:pathLst>
              </a:custGeom>
              <a:solidFill>
                <a:srgbClr val="23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5" name="object 11" descr=""/>
              <p:cNvPicPr/>
              <p:nvPr/>
            </p:nvPicPr>
            <p:blipFill>
              <a:blip r:embed="rId8"/>
              <a:stretch/>
            </p:blipFill>
            <p:spPr>
              <a:xfrm>
                <a:off x="2985120" y="776880"/>
                <a:ext cx="6948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object 12" descr=""/>
              <p:cNvPicPr/>
              <p:nvPr/>
            </p:nvPicPr>
            <p:blipFill>
              <a:blip r:embed="rId9"/>
              <a:stretch/>
            </p:blipFill>
            <p:spPr>
              <a:xfrm>
                <a:off x="3070440" y="776880"/>
                <a:ext cx="6768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object 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3155400" y="805320"/>
                <a:ext cx="83880" cy="6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" name="object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3257280" y="805320"/>
                <a:ext cx="83880" cy="68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9" name="object 15"/>
            <p:cNvSpPr/>
            <p:nvPr/>
          </p:nvSpPr>
          <p:spPr>
            <a:xfrm>
              <a:off x="2368440" y="285120"/>
              <a:ext cx="112680" cy="182880"/>
            </a:xfrm>
            <a:custGeom>
              <a:avLst/>
              <a:gdLst/>
              <a:ahLst/>
              <a:rect l="l" t="t" r="r" b="b"/>
              <a:pathLst>
                <a:path w="212089" h="342900">
                  <a:moveTo>
                    <a:pt x="1143" y="0"/>
                  </a:moveTo>
                  <a:lnTo>
                    <a:pt x="1643" y="23550"/>
                  </a:lnTo>
                  <a:lnTo>
                    <a:pt x="2214" y="95363"/>
                  </a:lnTo>
                  <a:lnTo>
                    <a:pt x="2143" y="197047"/>
                  </a:lnTo>
                  <a:lnTo>
                    <a:pt x="1714" y="253542"/>
                  </a:lnTo>
                  <a:lnTo>
                    <a:pt x="1000" y="303751"/>
                  </a:lnTo>
                  <a:lnTo>
                    <a:pt x="0" y="342887"/>
                  </a:lnTo>
                  <a:lnTo>
                    <a:pt x="54102" y="342506"/>
                  </a:lnTo>
                  <a:lnTo>
                    <a:pt x="53599" y="314955"/>
                  </a:lnTo>
                  <a:lnTo>
                    <a:pt x="53019" y="242427"/>
                  </a:lnTo>
                  <a:lnTo>
                    <a:pt x="52946" y="145541"/>
                  </a:lnTo>
                  <a:lnTo>
                    <a:pt x="85783" y="161727"/>
                  </a:lnTo>
                  <a:lnTo>
                    <a:pt x="121007" y="181344"/>
                  </a:lnTo>
                  <a:lnTo>
                    <a:pt x="154585" y="202107"/>
                  </a:lnTo>
                  <a:lnTo>
                    <a:pt x="182486" y="221729"/>
                  </a:lnTo>
                  <a:lnTo>
                    <a:pt x="211823" y="176402"/>
                  </a:lnTo>
                  <a:lnTo>
                    <a:pt x="179987" y="157078"/>
                  </a:lnTo>
                  <a:lnTo>
                    <a:pt x="146296" y="138110"/>
                  </a:lnTo>
                  <a:lnTo>
                    <a:pt x="112601" y="120569"/>
                  </a:lnTo>
                  <a:lnTo>
                    <a:pt x="80759" y="105524"/>
                  </a:lnTo>
                  <a:lnTo>
                    <a:pt x="52946" y="134492"/>
                  </a:lnTo>
                  <a:lnTo>
                    <a:pt x="53424" y="53767"/>
                  </a:lnTo>
                  <a:lnTo>
                    <a:pt x="54483" y="749"/>
                  </a:lnTo>
                  <a:lnTo>
                    <a:pt x="1143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bject 16"/>
            <p:cNvSpPr/>
            <p:nvPr/>
          </p:nvSpPr>
          <p:spPr>
            <a:xfrm>
              <a:off x="2519640" y="292320"/>
              <a:ext cx="196920" cy="168480"/>
            </a:xfrm>
            <a:custGeom>
              <a:avLst/>
              <a:gdLst/>
              <a:ahLst/>
              <a:rect l="l" t="t" r="r" b="b"/>
              <a:pathLst>
                <a:path w="370204" h="315595">
                  <a:moveTo>
                    <a:pt x="299453" y="145529"/>
                  </a:moveTo>
                  <a:lnTo>
                    <a:pt x="268592" y="104775"/>
                  </a:lnTo>
                  <a:lnTo>
                    <a:pt x="229196" y="148043"/>
                  </a:lnTo>
                  <a:lnTo>
                    <a:pt x="183083" y="185356"/>
                  </a:lnTo>
                  <a:lnTo>
                    <a:pt x="134747" y="215773"/>
                  </a:lnTo>
                  <a:lnTo>
                    <a:pt x="88722" y="238366"/>
                  </a:lnTo>
                  <a:lnTo>
                    <a:pt x="49530" y="252209"/>
                  </a:lnTo>
                  <a:lnTo>
                    <a:pt x="49758" y="205257"/>
                  </a:lnTo>
                  <a:lnTo>
                    <a:pt x="50444" y="150444"/>
                  </a:lnTo>
                  <a:lnTo>
                    <a:pt x="51587" y="94068"/>
                  </a:lnTo>
                  <a:lnTo>
                    <a:pt x="53187" y="42456"/>
                  </a:lnTo>
                  <a:lnTo>
                    <a:pt x="55245" y="1905"/>
                  </a:lnTo>
                  <a:lnTo>
                    <a:pt x="0" y="0"/>
                  </a:lnTo>
                  <a:lnTo>
                    <a:pt x="711" y="22440"/>
                  </a:lnTo>
                  <a:lnTo>
                    <a:pt x="1181" y="51003"/>
                  </a:lnTo>
                  <a:lnTo>
                    <a:pt x="1524" y="120002"/>
                  </a:lnTo>
                  <a:lnTo>
                    <a:pt x="1041" y="210489"/>
                  </a:lnTo>
                  <a:lnTo>
                    <a:pt x="0" y="286118"/>
                  </a:lnTo>
                  <a:lnTo>
                    <a:pt x="32004" y="315455"/>
                  </a:lnTo>
                  <a:lnTo>
                    <a:pt x="86918" y="295300"/>
                  </a:lnTo>
                  <a:lnTo>
                    <a:pt x="137223" y="271818"/>
                  </a:lnTo>
                  <a:lnTo>
                    <a:pt x="183286" y="245071"/>
                  </a:lnTo>
                  <a:lnTo>
                    <a:pt x="225450" y="215074"/>
                  </a:lnTo>
                  <a:lnTo>
                    <a:pt x="264045" y="181876"/>
                  </a:lnTo>
                  <a:lnTo>
                    <a:pt x="299453" y="145529"/>
                  </a:lnTo>
                  <a:close/>
                </a:path>
                <a:path w="370204" h="315595">
                  <a:moveTo>
                    <a:pt x="369646" y="178168"/>
                  </a:moveTo>
                  <a:lnTo>
                    <a:pt x="340690" y="178168"/>
                  </a:lnTo>
                  <a:lnTo>
                    <a:pt x="340690" y="179438"/>
                  </a:lnTo>
                  <a:lnTo>
                    <a:pt x="369646" y="179438"/>
                  </a:lnTo>
                  <a:lnTo>
                    <a:pt x="369646" y="178168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bject 17"/>
            <p:cNvSpPr/>
            <p:nvPr/>
          </p:nvSpPr>
          <p:spPr>
            <a:xfrm>
              <a:off x="2701080" y="361080"/>
              <a:ext cx="171720" cy="27000"/>
            </a:xfrm>
            <a:custGeom>
              <a:avLst/>
              <a:gdLst/>
              <a:ahLst/>
              <a:rect l="l" t="t" r="r" b="b"/>
              <a:pathLst>
                <a:path w="322579" h="50800">
                  <a:moveTo>
                    <a:pt x="322313" y="0"/>
                  </a:moveTo>
                  <a:lnTo>
                    <a:pt x="0" y="0"/>
                  </a:lnTo>
                  <a:lnTo>
                    <a:pt x="0" y="49530"/>
                  </a:lnTo>
                  <a:lnTo>
                    <a:pt x="291973" y="49530"/>
                  </a:lnTo>
                  <a:lnTo>
                    <a:pt x="291973" y="50800"/>
                  </a:lnTo>
                  <a:lnTo>
                    <a:pt x="322313" y="50800"/>
                  </a:lnTo>
                  <a:lnTo>
                    <a:pt x="322313" y="49530"/>
                  </a:lnTo>
                  <a:lnTo>
                    <a:pt x="322313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bject 18"/>
            <p:cNvSpPr/>
            <p:nvPr/>
          </p:nvSpPr>
          <p:spPr>
            <a:xfrm>
              <a:off x="2900160" y="297720"/>
              <a:ext cx="339840" cy="171360"/>
            </a:xfrm>
            <a:custGeom>
              <a:avLst/>
              <a:gdLst/>
              <a:ahLst/>
              <a:rect l="l" t="t" r="r" b="b"/>
              <a:pathLst>
                <a:path w="638810" h="321309">
                  <a:moveTo>
                    <a:pt x="266687" y="3441"/>
                  </a:moveTo>
                  <a:lnTo>
                    <a:pt x="248564" y="3937"/>
                  </a:lnTo>
                  <a:lnTo>
                    <a:pt x="195059" y="4508"/>
                  </a:lnTo>
                  <a:lnTo>
                    <a:pt x="131178" y="4508"/>
                  </a:lnTo>
                  <a:lnTo>
                    <a:pt x="72517" y="3937"/>
                  </a:lnTo>
                  <a:lnTo>
                    <a:pt x="49911" y="3441"/>
                  </a:lnTo>
                  <a:lnTo>
                    <a:pt x="49911" y="49911"/>
                  </a:lnTo>
                  <a:lnTo>
                    <a:pt x="135788" y="48844"/>
                  </a:lnTo>
                  <a:lnTo>
                    <a:pt x="199720" y="48844"/>
                  </a:lnTo>
                  <a:lnTo>
                    <a:pt x="249745" y="49415"/>
                  </a:lnTo>
                  <a:lnTo>
                    <a:pt x="266687" y="49911"/>
                  </a:lnTo>
                  <a:lnTo>
                    <a:pt x="266687" y="48844"/>
                  </a:lnTo>
                  <a:lnTo>
                    <a:pt x="266687" y="4508"/>
                  </a:lnTo>
                  <a:lnTo>
                    <a:pt x="266687" y="3441"/>
                  </a:lnTo>
                  <a:close/>
                </a:path>
                <a:path w="638810" h="321309">
                  <a:moveTo>
                    <a:pt x="328777" y="76200"/>
                  </a:moveTo>
                  <a:lnTo>
                    <a:pt x="321818" y="64731"/>
                  </a:lnTo>
                  <a:lnTo>
                    <a:pt x="314210" y="53301"/>
                  </a:lnTo>
                  <a:lnTo>
                    <a:pt x="306171" y="42075"/>
                  </a:lnTo>
                  <a:lnTo>
                    <a:pt x="297929" y="31242"/>
                  </a:lnTo>
                  <a:lnTo>
                    <a:pt x="272402" y="44577"/>
                  </a:lnTo>
                  <a:lnTo>
                    <a:pt x="280365" y="55803"/>
                  </a:lnTo>
                  <a:lnTo>
                    <a:pt x="288112" y="67538"/>
                  </a:lnTo>
                  <a:lnTo>
                    <a:pt x="295440" y="79400"/>
                  </a:lnTo>
                  <a:lnTo>
                    <a:pt x="302120" y="91059"/>
                  </a:lnTo>
                  <a:lnTo>
                    <a:pt x="328777" y="76200"/>
                  </a:lnTo>
                  <a:close/>
                </a:path>
                <a:path w="638810" h="321309">
                  <a:moveTo>
                    <a:pt x="330695" y="95643"/>
                  </a:moveTo>
                  <a:lnTo>
                    <a:pt x="166001" y="97167"/>
                  </a:lnTo>
                  <a:lnTo>
                    <a:pt x="99745" y="97167"/>
                  </a:lnTo>
                  <a:lnTo>
                    <a:pt x="22682" y="96354"/>
                  </a:lnTo>
                  <a:lnTo>
                    <a:pt x="0" y="95643"/>
                  </a:lnTo>
                  <a:lnTo>
                    <a:pt x="0" y="144018"/>
                  </a:lnTo>
                  <a:lnTo>
                    <a:pt x="153060" y="143497"/>
                  </a:lnTo>
                  <a:lnTo>
                    <a:pt x="147307" y="187642"/>
                  </a:lnTo>
                  <a:lnTo>
                    <a:pt x="128955" y="226174"/>
                  </a:lnTo>
                  <a:lnTo>
                    <a:pt x="96037" y="257911"/>
                  </a:lnTo>
                  <a:lnTo>
                    <a:pt x="46482" y="282321"/>
                  </a:lnTo>
                  <a:lnTo>
                    <a:pt x="93345" y="320789"/>
                  </a:lnTo>
                  <a:lnTo>
                    <a:pt x="131241" y="297903"/>
                  </a:lnTo>
                  <a:lnTo>
                    <a:pt x="160997" y="271614"/>
                  </a:lnTo>
                  <a:lnTo>
                    <a:pt x="182892" y="238975"/>
                  </a:lnTo>
                  <a:lnTo>
                    <a:pt x="197205" y="197040"/>
                  </a:lnTo>
                  <a:lnTo>
                    <a:pt x="204050" y="144018"/>
                  </a:lnTo>
                  <a:lnTo>
                    <a:pt x="204127" y="143319"/>
                  </a:lnTo>
                  <a:lnTo>
                    <a:pt x="247294" y="143167"/>
                  </a:lnTo>
                  <a:lnTo>
                    <a:pt x="308622" y="143573"/>
                  </a:lnTo>
                  <a:lnTo>
                    <a:pt x="330695" y="144018"/>
                  </a:lnTo>
                  <a:lnTo>
                    <a:pt x="330695" y="142875"/>
                  </a:lnTo>
                  <a:lnTo>
                    <a:pt x="330695" y="97167"/>
                  </a:lnTo>
                  <a:lnTo>
                    <a:pt x="330695" y="95643"/>
                  </a:lnTo>
                  <a:close/>
                </a:path>
                <a:path w="638810" h="321309">
                  <a:moveTo>
                    <a:pt x="358127" y="43827"/>
                  </a:moveTo>
                  <a:lnTo>
                    <a:pt x="350989" y="32639"/>
                  </a:lnTo>
                  <a:lnTo>
                    <a:pt x="343344" y="21488"/>
                  </a:lnTo>
                  <a:lnTo>
                    <a:pt x="335292" y="10553"/>
                  </a:lnTo>
                  <a:lnTo>
                    <a:pt x="326885" y="0"/>
                  </a:lnTo>
                  <a:lnTo>
                    <a:pt x="301739" y="12585"/>
                  </a:lnTo>
                  <a:lnTo>
                    <a:pt x="310299" y="23850"/>
                  </a:lnTo>
                  <a:lnTo>
                    <a:pt x="318262" y="35255"/>
                  </a:lnTo>
                  <a:lnTo>
                    <a:pt x="325577" y="46659"/>
                  </a:lnTo>
                  <a:lnTo>
                    <a:pt x="332219" y="57924"/>
                  </a:lnTo>
                  <a:lnTo>
                    <a:pt x="358127" y="43827"/>
                  </a:lnTo>
                  <a:close/>
                </a:path>
                <a:path w="638810" h="321309">
                  <a:moveTo>
                    <a:pt x="638225" y="54114"/>
                  </a:moveTo>
                  <a:lnTo>
                    <a:pt x="597852" y="25539"/>
                  </a:lnTo>
                  <a:lnTo>
                    <a:pt x="571906" y="56959"/>
                  </a:lnTo>
                  <a:lnTo>
                    <a:pt x="536879" y="88849"/>
                  </a:lnTo>
                  <a:lnTo>
                    <a:pt x="495795" y="119634"/>
                  </a:lnTo>
                  <a:lnTo>
                    <a:pt x="451688" y="147764"/>
                  </a:lnTo>
                  <a:lnTo>
                    <a:pt x="407619" y="171653"/>
                  </a:lnTo>
                  <a:lnTo>
                    <a:pt x="366598" y="189738"/>
                  </a:lnTo>
                  <a:lnTo>
                    <a:pt x="397446" y="227457"/>
                  </a:lnTo>
                  <a:lnTo>
                    <a:pt x="424014" y="213550"/>
                  </a:lnTo>
                  <a:lnTo>
                    <a:pt x="451408" y="198208"/>
                  </a:lnTo>
                  <a:lnTo>
                    <a:pt x="479158" y="181584"/>
                  </a:lnTo>
                  <a:lnTo>
                    <a:pt x="506793" y="163830"/>
                  </a:lnTo>
                  <a:lnTo>
                    <a:pt x="506501" y="259219"/>
                  </a:lnTo>
                  <a:lnTo>
                    <a:pt x="505650" y="315849"/>
                  </a:lnTo>
                  <a:lnTo>
                    <a:pt x="552132" y="315849"/>
                  </a:lnTo>
                  <a:lnTo>
                    <a:pt x="551091" y="248361"/>
                  </a:lnTo>
                  <a:lnTo>
                    <a:pt x="550608" y="179463"/>
                  </a:lnTo>
                  <a:lnTo>
                    <a:pt x="550976" y="132219"/>
                  </a:lnTo>
                  <a:lnTo>
                    <a:pt x="575284" y="113093"/>
                  </a:lnTo>
                  <a:lnTo>
                    <a:pt x="598182" y="93586"/>
                  </a:lnTo>
                  <a:lnTo>
                    <a:pt x="619290" y="73863"/>
                  </a:lnTo>
                  <a:lnTo>
                    <a:pt x="638225" y="54114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bject 19"/>
            <p:cNvSpPr/>
            <p:nvPr/>
          </p:nvSpPr>
          <p:spPr>
            <a:xfrm>
              <a:off x="3272040" y="272160"/>
              <a:ext cx="540000" cy="194400"/>
            </a:xfrm>
            <a:custGeom>
              <a:avLst/>
              <a:gdLst/>
              <a:ahLst/>
              <a:rect l="l" t="t" r="r" b="b"/>
              <a:pathLst>
                <a:path w="1014729" h="363855">
                  <a:moveTo>
                    <a:pt x="136385" y="104394"/>
                  </a:moveTo>
                  <a:lnTo>
                    <a:pt x="113817" y="87553"/>
                  </a:lnTo>
                  <a:lnTo>
                    <a:pt x="88722" y="70573"/>
                  </a:lnTo>
                  <a:lnTo>
                    <a:pt x="63258" y="54889"/>
                  </a:lnTo>
                  <a:lnTo>
                    <a:pt x="39624" y="41910"/>
                  </a:lnTo>
                  <a:lnTo>
                    <a:pt x="2667" y="78486"/>
                  </a:lnTo>
                  <a:lnTo>
                    <a:pt x="25171" y="91325"/>
                  </a:lnTo>
                  <a:lnTo>
                    <a:pt x="51003" y="108724"/>
                  </a:lnTo>
                  <a:lnTo>
                    <a:pt x="76758" y="128041"/>
                  </a:lnTo>
                  <a:lnTo>
                    <a:pt x="99060" y="146672"/>
                  </a:lnTo>
                  <a:lnTo>
                    <a:pt x="136385" y="104394"/>
                  </a:lnTo>
                  <a:close/>
                </a:path>
                <a:path w="1014729" h="363855">
                  <a:moveTo>
                    <a:pt x="322694" y="132588"/>
                  </a:moveTo>
                  <a:lnTo>
                    <a:pt x="281546" y="100203"/>
                  </a:lnTo>
                  <a:lnTo>
                    <a:pt x="256489" y="144640"/>
                  </a:lnTo>
                  <a:lnTo>
                    <a:pt x="226631" y="184480"/>
                  </a:lnTo>
                  <a:lnTo>
                    <a:pt x="191808" y="219138"/>
                  </a:lnTo>
                  <a:lnTo>
                    <a:pt x="151879" y="248056"/>
                  </a:lnTo>
                  <a:lnTo>
                    <a:pt x="106705" y="270637"/>
                  </a:lnTo>
                  <a:lnTo>
                    <a:pt x="56121" y="286321"/>
                  </a:lnTo>
                  <a:lnTo>
                    <a:pt x="0" y="294500"/>
                  </a:lnTo>
                  <a:lnTo>
                    <a:pt x="21336" y="348983"/>
                  </a:lnTo>
                  <a:lnTo>
                    <a:pt x="74180" y="336905"/>
                  </a:lnTo>
                  <a:lnTo>
                    <a:pt x="122059" y="320421"/>
                  </a:lnTo>
                  <a:lnTo>
                    <a:pt x="165277" y="299593"/>
                  </a:lnTo>
                  <a:lnTo>
                    <a:pt x="204165" y="274497"/>
                  </a:lnTo>
                  <a:lnTo>
                    <a:pt x="239039" y="245186"/>
                  </a:lnTo>
                  <a:lnTo>
                    <a:pt x="270205" y="211721"/>
                  </a:lnTo>
                  <a:lnTo>
                    <a:pt x="297980" y="174167"/>
                  </a:lnTo>
                  <a:lnTo>
                    <a:pt x="322694" y="132588"/>
                  </a:lnTo>
                  <a:close/>
                </a:path>
                <a:path w="1014729" h="363855">
                  <a:moveTo>
                    <a:pt x="663727" y="53708"/>
                  </a:moveTo>
                  <a:lnTo>
                    <a:pt x="654481" y="43751"/>
                  </a:lnTo>
                  <a:lnTo>
                    <a:pt x="644639" y="33959"/>
                  </a:lnTo>
                  <a:lnTo>
                    <a:pt x="634428" y="24523"/>
                  </a:lnTo>
                  <a:lnTo>
                    <a:pt x="624116" y="15608"/>
                  </a:lnTo>
                  <a:lnTo>
                    <a:pt x="610222" y="27114"/>
                  </a:lnTo>
                  <a:lnTo>
                    <a:pt x="602056" y="33959"/>
                  </a:lnTo>
                  <a:lnTo>
                    <a:pt x="612089" y="43370"/>
                  </a:lnTo>
                  <a:lnTo>
                    <a:pt x="622109" y="53289"/>
                  </a:lnTo>
                  <a:lnTo>
                    <a:pt x="631698" y="63423"/>
                  </a:lnTo>
                  <a:lnTo>
                    <a:pt x="640499" y="73520"/>
                  </a:lnTo>
                  <a:lnTo>
                    <a:pt x="663727" y="53708"/>
                  </a:lnTo>
                  <a:close/>
                </a:path>
                <a:path w="1014729" h="363855">
                  <a:moveTo>
                    <a:pt x="669061" y="108191"/>
                  </a:moveTo>
                  <a:lnTo>
                    <a:pt x="639483" y="80759"/>
                  </a:lnTo>
                  <a:lnTo>
                    <a:pt x="637438" y="78867"/>
                  </a:lnTo>
                  <a:lnTo>
                    <a:pt x="615721" y="79654"/>
                  </a:lnTo>
                  <a:lnTo>
                    <a:pt x="591731" y="80251"/>
                  </a:lnTo>
                  <a:lnTo>
                    <a:pt x="540296" y="80759"/>
                  </a:lnTo>
                  <a:lnTo>
                    <a:pt x="519341" y="80759"/>
                  </a:lnTo>
                  <a:lnTo>
                    <a:pt x="524129" y="71488"/>
                  </a:lnTo>
                  <a:lnTo>
                    <a:pt x="528815" y="61963"/>
                  </a:lnTo>
                  <a:lnTo>
                    <a:pt x="533425" y="52222"/>
                  </a:lnTo>
                  <a:lnTo>
                    <a:pt x="537997" y="42291"/>
                  </a:lnTo>
                  <a:lnTo>
                    <a:pt x="487883" y="27114"/>
                  </a:lnTo>
                  <a:lnTo>
                    <a:pt x="487680" y="27114"/>
                  </a:lnTo>
                  <a:lnTo>
                    <a:pt x="469290" y="69075"/>
                  </a:lnTo>
                  <a:lnTo>
                    <a:pt x="439470" y="112623"/>
                  </a:lnTo>
                  <a:lnTo>
                    <a:pt x="398716" y="152260"/>
                  </a:lnTo>
                  <a:lnTo>
                    <a:pt x="347510" y="182486"/>
                  </a:lnTo>
                  <a:lnTo>
                    <a:pt x="391337" y="217919"/>
                  </a:lnTo>
                  <a:lnTo>
                    <a:pt x="421144" y="197954"/>
                  </a:lnTo>
                  <a:lnTo>
                    <a:pt x="447001" y="176733"/>
                  </a:lnTo>
                  <a:lnTo>
                    <a:pt x="469493" y="154000"/>
                  </a:lnTo>
                  <a:lnTo>
                    <a:pt x="489229" y="129527"/>
                  </a:lnTo>
                  <a:lnTo>
                    <a:pt x="520331" y="128587"/>
                  </a:lnTo>
                  <a:lnTo>
                    <a:pt x="579945" y="127723"/>
                  </a:lnTo>
                  <a:lnTo>
                    <a:pt x="606933" y="127723"/>
                  </a:lnTo>
                  <a:lnTo>
                    <a:pt x="577697" y="195249"/>
                  </a:lnTo>
                  <a:lnTo>
                    <a:pt x="553999" y="227203"/>
                  </a:lnTo>
                  <a:lnTo>
                    <a:pt x="523062" y="256514"/>
                  </a:lnTo>
                  <a:lnTo>
                    <a:pt x="483997" y="282079"/>
                  </a:lnTo>
                  <a:lnTo>
                    <a:pt x="435940" y="302844"/>
                  </a:lnTo>
                  <a:lnTo>
                    <a:pt x="377990" y="317728"/>
                  </a:lnTo>
                  <a:lnTo>
                    <a:pt x="424853" y="363448"/>
                  </a:lnTo>
                  <a:lnTo>
                    <a:pt x="472109" y="345973"/>
                  </a:lnTo>
                  <a:lnTo>
                    <a:pt x="513207" y="325653"/>
                  </a:lnTo>
                  <a:lnTo>
                    <a:pt x="548830" y="301879"/>
                  </a:lnTo>
                  <a:lnTo>
                    <a:pt x="579678" y="273977"/>
                  </a:lnTo>
                  <a:lnTo>
                    <a:pt x="606425" y="241300"/>
                  </a:lnTo>
                  <a:lnTo>
                    <a:pt x="629780" y="203212"/>
                  </a:lnTo>
                  <a:lnTo>
                    <a:pt x="650430" y="159054"/>
                  </a:lnTo>
                  <a:lnTo>
                    <a:pt x="661797" y="128016"/>
                  </a:lnTo>
                  <a:lnTo>
                    <a:pt x="661911" y="127723"/>
                  </a:lnTo>
                  <a:lnTo>
                    <a:pt x="669061" y="108191"/>
                  </a:lnTo>
                  <a:close/>
                </a:path>
                <a:path w="1014729" h="363855">
                  <a:moveTo>
                    <a:pt x="705637" y="36576"/>
                  </a:moveTo>
                  <a:lnTo>
                    <a:pt x="696506" y="27114"/>
                  </a:lnTo>
                  <a:lnTo>
                    <a:pt x="686879" y="17716"/>
                  </a:lnTo>
                  <a:lnTo>
                    <a:pt x="676808" y="8610"/>
                  </a:lnTo>
                  <a:lnTo>
                    <a:pt x="666394" y="0"/>
                  </a:lnTo>
                  <a:lnTo>
                    <a:pt x="644677" y="17526"/>
                  </a:lnTo>
                  <a:lnTo>
                    <a:pt x="655243" y="26809"/>
                  </a:lnTo>
                  <a:lnTo>
                    <a:pt x="665200" y="36334"/>
                  </a:lnTo>
                  <a:lnTo>
                    <a:pt x="674522" y="46075"/>
                  </a:lnTo>
                  <a:lnTo>
                    <a:pt x="683158" y="55994"/>
                  </a:lnTo>
                  <a:lnTo>
                    <a:pt x="705637" y="36576"/>
                  </a:lnTo>
                  <a:close/>
                </a:path>
                <a:path w="1014729" h="363855">
                  <a:moveTo>
                    <a:pt x="1014247" y="102476"/>
                  </a:moveTo>
                  <a:lnTo>
                    <a:pt x="880910" y="104000"/>
                  </a:lnTo>
                  <a:lnTo>
                    <a:pt x="882142" y="86499"/>
                  </a:lnTo>
                  <a:lnTo>
                    <a:pt x="883056" y="68859"/>
                  </a:lnTo>
                  <a:lnTo>
                    <a:pt x="884339" y="33134"/>
                  </a:lnTo>
                  <a:lnTo>
                    <a:pt x="830237" y="31991"/>
                  </a:lnTo>
                  <a:lnTo>
                    <a:pt x="831621" y="55003"/>
                  </a:lnTo>
                  <a:lnTo>
                    <a:pt x="832154" y="77711"/>
                  </a:lnTo>
                  <a:lnTo>
                    <a:pt x="831380" y="104000"/>
                  </a:lnTo>
                  <a:lnTo>
                    <a:pt x="775233" y="103530"/>
                  </a:lnTo>
                  <a:lnTo>
                    <a:pt x="727379" y="102476"/>
                  </a:lnTo>
                  <a:lnTo>
                    <a:pt x="728129" y="153530"/>
                  </a:lnTo>
                  <a:lnTo>
                    <a:pt x="775804" y="152107"/>
                  </a:lnTo>
                  <a:lnTo>
                    <a:pt x="826046" y="151244"/>
                  </a:lnTo>
                  <a:lnTo>
                    <a:pt x="811542" y="202920"/>
                  </a:lnTo>
                  <a:lnTo>
                    <a:pt x="786904" y="248348"/>
                  </a:lnTo>
                  <a:lnTo>
                    <a:pt x="750404" y="285991"/>
                  </a:lnTo>
                  <a:lnTo>
                    <a:pt x="700328" y="314312"/>
                  </a:lnTo>
                  <a:lnTo>
                    <a:pt x="741476" y="355447"/>
                  </a:lnTo>
                  <a:lnTo>
                    <a:pt x="787793" y="324307"/>
                  </a:lnTo>
                  <a:lnTo>
                    <a:pt x="822693" y="287578"/>
                  </a:lnTo>
                  <a:lnTo>
                    <a:pt x="847852" y="246011"/>
                  </a:lnTo>
                  <a:lnTo>
                    <a:pt x="864920" y="200317"/>
                  </a:lnTo>
                  <a:lnTo>
                    <a:pt x="875576" y="151244"/>
                  </a:lnTo>
                  <a:lnTo>
                    <a:pt x="960539" y="151244"/>
                  </a:lnTo>
                  <a:lnTo>
                    <a:pt x="958354" y="212775"/>
                  </a:lnTo>
                  <a:lnTo>
                    <a:pt x="951014" y="275437"/>
                  </a:lnTo>
                  <a:lnTo>
                    <a:pt x="909866" y="294881"/>
                  </a:lnTo>
                  <a:lnTo>
                    <a:pt x="894194" y="294309"/>
                  </a:lnTo>
                  <a:lnTo>
                    <a:pt x="874814" y="292595"/>
                  </a:lnTo>
                  <a:lnTo>
                    <a:pt x="898436" y="352780"/>
                  </a:lnTo>
                  <a:lnTo>
                    <a:pt x="952449" y="345160"/>
                  </a:lnTo>
                  <a:lnTo>
                    <a:pt x="997064" y="305054"/>
                  </a:lnTo>
                  <a:lnTo>
                    <a:pt x="1006602" y="246062"/>
                  </a:lnTo>
                  <a:lnTo>
                    <a:pt x="1010208" y="196481"/>
                  </a:lnTo>
                  <a:lnTo>
                    <a:pt x="1012888" y="145059"/>
                  </a:lnTo>
                  <a:lnTo>
                    <a:pt x="1014247" y="102476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bject 20"/>
            <p:cNvSpPr/>
            <p:nvPr/>
          </p:nvSpPr>
          <p:spPr>
            <a:xfrm>
              <a:off x="3844440" y="387720"/>
              <a:ext cx="15480" cy="360"/>
            </a:xfrm>
            <a:custGeom>
              <a:avLst/>
              <a:gdLst/>
              <a:ahLst/>
              <a:rect l="l" t="t" r="r" b="b"/>
              <a:pathLst>
                <a:path w="29210" h="1270">
                  <a:moveTo>
                    <a:pt x="0" y="1269"/>
                  </a:moveTo>
                  <a:lnTo>
                    <a:pt x="28958" y="1269"/>
                  </a:lnTo>
                  <a:lnTo>
                    <a:pt x="28958" y="0"/>
                  </a:lnTo>
                  <a:lnTo>
                    <a:pt x="0" y="0"/>
                  </a:lnTo>
                  <a:lnTo>
                    <a:pt x="0" y="1269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bject 21"/>
            <p:cNvSpPr/>
            <p:nvPr/>
          </p:nvSpPr>
          <p:spPr>
            <a:xfrm>
              <a:off x="3844440" y="361080"/>
              <a:ext cx="171720" cy="27000"/>
            </a:xfrm>
            <a:custGeom>
              <a:avLst/>
              <a:gdLst/>
              <a:ahLst/>
              <a:rect l="l" t="t" r="r" b="b"/>
              <a:pathLst>
                <a:path w="322579" h="50800">
                  <a:moveTo>
                    <a:pt x="322313" y="0"/>
                  </a:moveTo>
                  <a:lnTo>
                    <a:pt x="0" y="0"/>
                  </a:lnTo>
                  <a:lnTo>
                    <a:pt x="0" y="49530"/>
                  </a:lnTo>
                  <a:lnTo>
                    <a:pt x="291973" y="49530"/>
                  </a:lnTo>
                  <a:lnTo>
                    <a:pt x="291973" y="50800"/>
                  </a:lnTo>
                  <a:lnTo>
                    <a:pt x="322313" y="50800"/>
                  </a:lnTo>
                  <a:lnTo>
                    <a:pt x="322313" y="49530"/>
                  </a:lnTo>
                  <a:lnTo>
                    <a:pt x="322313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bject 22"/>
            <p:cNvSpPr/>
            <p:nvPr/>
          </p:nvSpPr>
          <p:spPr>
            <a:xfrm>
              <a:off x="4069800" y="285120"/>
              <a:ext cx="117000" cy="182880"/>
            </a:xfrm>
            <a:custGeom>
              <a:avLst/>
              <a:gdLst/>
              <a:ahLst/>
              <a:rect l="l" t="t" r="r" b="b"/>
              <a:pathLst>
                <a:path w="220345" h="342900">
                  <a:moveTo>
                    <a:pt x="1155" y="0"/>
                  </a:moveTo>
                  <a:lnTo>
                    <a:pt x="1540" y="18300"/>
                  </a:lnTo>
                  <a:lnTo>
                    <a:pt x="1634" y="22782"/>
                  </a:lnTo>
                  <a:lnTo>
                    <a:pt x="1694" y="27579"/>
                  </a:lnTo>
                  <a:lnTo>
                    <a:pt x="1799" y="37106"/>
                  </a:lnTo>
                  <a:lnTo>
                    <a:pt x="1906" y="46847"/>
                  </a:lnTo>
                  <a:lnTo>
                    <a:pt x="2008" y="56100"/>
                  </a:lnTo>
                  <a:lnTo>
                    <a:pt x="2115" y="202109"/>
                  </a:lnTo>
                  <a:lnTo>
                    <a:pt x="1806" y="242429"/>
                  </a:lnTo>
                  <a:lnTo>
                    <a:pt x="1002" y="303751"/>
                  </a:lnTo>
                  <a:lnTo>
                    <a:pt x="9" y="342506"/>
                  </a:lnTo>
                  <a:lnTo>
                    <a:pt x="0" y="342887"/>
                  </a:lnTo>
                  <a:lnTo>
                    <a:pt x="54114" y="342506"/>
                  </a:lnTo>
                  <a:lnTo>
                    <a:pt x="53246" y="280981"/>
                  </a:lnTo>
                  <a:lnTo>
                    <a:pt x="52967" y="157079"/>
                  </a:lnTo>
                  <a:lnTo>
                    <a:pt x="52958" y="145542"/>
                  </a:lnTo>
                  <a:lnTo>
                    <a:pt x="159502" y="145542"/>
                  </a:lnTo>
                  <a:lnTo>
                    <a:pt x="146303" y="138112"/>
                  </a:lnTo>
                  <a:lnTo>
                    <a:pt x="139350" y="134493"/>
                  </a:lnTo>
                  <a:lnTo>
                    <a:pt x="52958" y="134493"/>
                  </a:lnTo>
                  <a:lnTo>
                    <a:pt x="53078" y="95363"/>
                  </a:lnTo>
                  <a:lnTo>
                    <a:pt x="53178" y="81914"/>
                  </a:lnTo>
                  <a:lnTo>
                    <a:pt x="53270" y="71812"/>
                  </a:lnTo>
                  <a:lnTo>
                    <a:pt x="53363" y="61674"/>
                  </a:lnTo>
                  <a:lnTo>
                    <a:pt x="53467" y="51750"/>
                  </a:lnTo>
                  <a:lnTo>
                    <a:pt x="53544" y="46847"/>
                  </a:lnTo>
                  <a:lnTo>
                    <a:pt x="53615" y="42338"/>
                  </a:lnTo>
                  <a:lnTo>
                    <a:pt x="53697" y="37106"/>
                  </a:lnTo>
                  <a:lnTo>
                    <a:pt x="53763" y="32902"/>
                  </a:lnTo>
                  <a:lnTo>
                    <a:pt x="53847" y="27579"/>
                  </a:lnTo>
                  <a:lnTo>
                    <a:pt x="53923" y="22782"/>
                  </a:lnTo>
                  <a:lnTo>
                    <a:pt x="54482" y="761"/>
                  </a:lnTo>
                  <a:lnTo>
                    <a:pt x="1155" y="0"/>
                  </a:lnTo>
                  <a:close/>
                </a:path>
                <a:path w="220345" h="342900">
                  <a:moveTo>
                    <a:pt x="159502" y="145542"/>
                  </a:moveTo>
                  <a:lnTo>
                    <a:pt x="52958" y="145542"/>
                  </a:lnTo>
                  <a:lnTo>
                    <a:pt x="85795" y="161732"/>
                  </a:lnTo>
                  <a:lnTo>
                    <a:pt x="121019" y="181349"/>
                  </a:lnTo>
                  <a:lnTo>
                    <a:pt x="154598" y="202109"/>
                  </a:lnTo>
                  <a:lnTo>
                    <a:pt x="182498" y="221729"/>
                  </a:lnTo>
                  <a:lnTo>
                    <a:pt x="211835" y="176402"/>
                  </a:lnTo>
                  <a:lnTo>
                    <a:pt x="179998" y="157079"/>
                  </a:lnTo>
                  <a:lnTo>
                    <a:pt x="159502" y="145542"/>
                  </a:lnTo>
                  <a:close/>
                </a:path>
                <a:path w="220345" h="342900">
                  <a:moveTo>
                    <a:pt x="80771" y="105536"/>
                  </a:moveTo>
                  <a:lnTo>
                    <a:pt x="52958" y="134493"/>
                  </a:lnTo>
                  <a:lnTo>
                    <a:pt x="139350" y="134493"/>
                  </a:lnTo>
                  <a:lnTo>
                    <a:pt x="112609" y="120574"/>
                  </a:lnTo>
                  <a:lnTo>
                    <a:pt x="80771" y="105536"/>
                  </a:lnTo>
                  <a:close/>
                </a:path>
                <a:path w="220345" h="342900">
                  <a:moveTo>
                    <a:pt x="146303" y="24002"/>
                  </a:moveTo>
                  <a:lnTo>
                    <a:pt x="130190" y="37337"/>
                  </a:lnTo>
                  <a:lnTo>
                    <a:pt x="124256" y="42338"/>
                  </a:lnTo>
                  <a:lnTo>
                    <a:pt x="134290" y="51750"/>
                  </a:lnTo>
                  <a:lnTo>
                    <a:pt x="144303" y="61674"/>
                  </a:lnTo>
                  <a:lnTo>
                    <a:pt x="153888" y="71812"/>
                  </a:lnTo>
                  <a:lnTo>
                    <a:pt x="162686" y="81914"/>
                  </a:lnTo>
                  <a:lnTo>
                    <a:pt x="185927" y="62102"/>
                  </a:lnTo>
                  <a:lnTo>
                    <a:pt x="176682" y="52131"/>
                  </a:lnTo>
                  <a:lnTo>
                    <a:pt x="166830" y="42338"/>
                  </a:lnTo>
                  <a:lnTo>
                    <a:pt x="156620" y="32902"/>
                  </a:lnTo>
                  <a:lnTo>
                    <a:pt x="146303" y="24002"/>
                  </a:lnTo>
                  <a:close/>
                </a:path>
                <a:path w="220345" h="342900">
                  <a:moveTo>
                    <a:pt x="180593" y="761"/>
                  </a:moveTo>
                  <a:lnTo>
                    <a:pt x="158876" y="18300"/>
                  </a:lnTo>
                  <a:lnTo>
                    <a:pt x="169443" y="27579"/>
                  </a:lnTo>
                  <a:lnTo>
                    <a:pt x="179403" y="37106"/>
                  </a:lnTo>
                  <a:lnTo>
                    <a:pt x="188720" y="46847"/>
                  </a:lnTo>
                  <a:lnTo>
                    <a:pt x="197357" y="56768"/>
                  </a:lnTo>
                  <a:lnTo>
                    <a:pt x="219836" y="37337"/>
                  </a:lnTo>
                  <a:lnTo>
                    <a:pt x="210704" y="27872"/>
                  </a:lnTo>
                  <a:lnTo>
                    <a:pt x="201072" y="18478"/>
                  </a:lnTo>
                  <a:lnTo>
                    <a:pt x="191011" y="9370"/>
                  </a:lnTo>
                  <a:lnTo>
                    <a:pt x="180593" y="761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object 23"/>
            <p:cNvGrpSpPr/>
            <p:nvPr/>
          </p:nvGrpSpPr>
          <p:grpSpPr>
            <a:xfrm>
              <a:off x="4305600" y="326160"/>
              <a:ext cx="359280" cy="141480"/>
              <a:chOff x="4305600" y="326160"/>
              <a:chExt cx="359280" cy="141480"/>
            </a:xfrm>
          </p:grpSpPr>
          <p:sp>
            <p:nvSpPr>
              <p:cNvPr id="58" name="object 24"/>
              <p:cNvSpPr/>
              <p:nvPr/>
            </p:nvSpPr>
            <p:spPr>
              <a:xfrm>
                <a:off x="4305600" y="326160"/>
                <a:ext cx="41760" cy="141480"/>
              </a:xfrm>
              <a:custGeom>
                <a:avLst/>
                <a:gdLst/>
                <a:ahLst/>
                <a:rect l="l" t="t" r="r" b="b"/>
                <a:pathLst>
                  <a:path w="78740" h="265430">
                    <a:moveTo>
                      <a:pt x="61188" y="0"/>
                    </a:moveTo>
                    <a:lnTo>
                      <a:pt x="36181" y="25324"/>
                    </a:lnTo>
                    <a:lnTo>
                      <a:pt x="16864" y="55108"/>
                    </a:lnTo>
                    <a:lnTo>
                      <a:pt x="4411" y="90450"/>
                    </a:lnTo>
                    <a:lnTo>
                      <a:pt x="0" y="132448"/>
                    </a:lnTo>
                    <a:lnTo>
                      <a:pt x="3508" y="170786"/>
                    </a:lnTo>
                    <a:lnTo>
                      <a:pt x="14454" y="205279"/>
                    </a:lnTo>
                    <a:lnTo>
                      <a:pt x="33470" y="236472"/>
                    </a:lnTo>
                    <a:lnTo>
                      <a:pt x="61188" y="264909"/>
                    </a:lnTo>
                    <a:lnTo>
                      <a:pt x="78511" y="248704"/>
                    </a:lnTo>
                    <a:lnTo>
                      <a:pt x="59597" y="225190"/>
                    </a:lnTo>
                    <a:lnTo>
                      <a:pt x="44138" y="197486"/>
                    </a:lnTo>
                    <a:lnTo>
                      <a:pt x="33709" y="166327"/>
                    </a:lnTo>
                    <a:lnTo>
                      <a:pt x="29883" y="132448"/>
                    </a:lnTo>
                    <a:lnTo>
                      <a:pt x="34023" y="97271"/>
                    </a:lnTo>
                    <a:lnTo>
                      <a:pt x="44977" y="65868"/>
                    </a:lnTo>
                    <a:lnTo>
                      <a:pt x="60540" y="38761"/>
                    </a:lnTo>
                    <a:lnTo>
                      <a:pt x="78511" y="16471"/>
                    </a:lnTo>
                    <a:lnTo>
                      <a:pt x="61188" y="0"/>
                    </a:lnTo>
                    <a:close/>
                  </a:path>
                </a:pathLst>
              </a:custGeom>
              <a:solidFill>
                <a:srgbClr val="23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" name="object 25" descr=""/>
              <p:cNvPicPr/>
              <p:nvPr/>
            </p:nvPicPr>
            <p:blipFill>
              <a:blip r:embed="rId12"/>
              <a:stretch/>
            </p:blipFill>
            <p:spPr>
              <a:xfrm>
                <a:off x="4362120" y="339840"/>
                <a:ext cx="261000" cy="11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object 26"/>
              <p:cNvSpPr/>
              <p:nvPr/>
            </p:nvSpPr>
            <p:spPr>
              <a:xfrm>
                <a:off x="4645800" y="404640"/>
                <a:ext cx="19080" cy="360"/>
              </a:xfrm>
              <a:custGeom>
                <a:avLst/>
                <a:gdLst/>
                <a:ahLst/>
                <a:rect l="l" t="t" r="r" b="b"/>
                <a:pathLst>
                  <a:path w="36195" h="1270">
                    <a:moveTo>
                      <a:pt x="0" y="1269"/>
                    </a:moveTo>
                    <a:lnTo>
                      <a:pt x="-29525" y="1269"/>
                    </a:lnTo>
                    <a:lnTo>
                      <a:pt x="-29525" y="0"/>
                    </a:lnTo>
                    <a:lnTo>
                      <a:pt x="0" y="0"/>
                    </a:lnTo>
                    <a:lnTo>
                      <a:pt x="0" y="1269"/>
                    </a:lnTo>
                    <a:close/>
                  </a:path>
                </a:pathLst>
              </a:custGeom>
              <a:solidFill>
                <a:srgbClr val="23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object 27"/>
            <p:cNvSpPr/>
            <p:nvPr/>
          </p:nvSpPr>
          <p:spPr>
            <a:xfrm>
              <a:off x="4645800" y="326160"/>
              <a:ext cx="323280" cy="141480"/>
            </a:xfrm>
            <a:custGeom>
              <a:avLst/>
              <a:gdLst/>
              <a:ahLst/>
              <a:rect l="l" t="t" r="r" b="b"/>
              <a:pathLst>
                <a:path w="607695" h="265430">
                  <a:moveTo>
                    <a:pt x="236410" y="110274"/>
                  </a:moveTo>
                  <a:lnTo>
                    <a:pt x="173316" y="110274"/>
                  </a:lnTo>
                  <a:lnTo>
                    <a:pt x="173316" y="111544"/>
                  </a:lnTo>
                  <a:lnTo>
                    <a:pt x="49745" y="111544"/>
                  </a:lnTo>
                  <a:lnTo>
                    <a:pt x="49745" y="110274"/>
                  </a:lnTo>
                  <a:lnTo>
                    <a:pt x="0" y="110274"/>
                  </a:lnTo>
                  <a:lnTo>
                    <a:pt x="0" y="111544"/>
                  </a:lnTo>
                  <a:lnTo>
                    <a:pt x="0" y="147104"/>
                  </a:lnTo>
                  <a:lnTo>
                    <a:pt x="196799" y="147104"/>
                  </a:lnTo>
                  <a:lnTo>
                    <a:pt x="196799" y="148374"/>
                  </a:lnTo>
                  <a:lnTo>
                    <a:pt x="236410" y="148374"/>
                  </a:lnTo>
                  <a:lnTo>
                    <a:pt x="236410" y="147104"/>
                  </a:lnTo>
                  <a:lnTo>
                    <a:pt x="236410" y="111544"/>
                  </a:lnTo>
                  <a:lnTo>
                    <a:pt x="236410" y="110274"/>
                  </a:lnTo>
                  <a:close/>
                </a:path>
                <a:path w="607695" h="265430">
                  <a:moveTo>
                    <a:pt x="338277" y="35763"/>
                  </a:moveTo>
                  <a:lnTo>
                    <a:pt x="300558" y="34353"/>
                  </a:lnTo>
                  <a:lnTo>
                    <a:pt x="301129" y="46837"/>
                  </a:lnTo>
                  <a:lnTo>
                    <a:pt x="301561" y="58712"/>
                  </a:lnTo>
                  <a:lnTo>
                    <a:pt x="301853" y="70015"/>
                  </a:lnTo>
                  <a:lnTo>
                    <a:pt x="301955" y="80759"/>
                  </a:lnTo>
                  <a:lnTo>
                    <a:pt x="299186" y="129514"/>
                  </a:lnTo>
                  <a:lnTo>
                    <a:pt x="289661" y="168008"/>
                  </a:lnTo>
                  <a:lnTo>
                    <a:pt x="271538" y="200533"/>
                  </a:lnTo>
                  <a:lnTo>
                    <a:pt x="243001" y="231368"/>
                  </a:lnTo>
                  <a:lnTo>
                    <a:pt x="281825" y="253720"/>
                  </a:lnTo>
                  <a:lnTo>
                    <a:pt x="307949" y="216306"/>
                  </a:lnTo>
                  <a:lnTo>
                    <a:pt x="324231" y="181229"/>
                  </a:lnTo>
                  <a:lnTo>
                    <a:pt x="333095" y="143065"/>
                  </a:lnTo>
                  <a:lnTo>
                    <a:pt x="336956" y="96393"/>
                  </a:lnTo>
                  <a:lnTo>
                    <a:pt x="338277" y="35763"/>
                  </a:lnTo>
                  <a:close/>
                </a:path>
                <a:path w="607695" h="265430">
                  <a:moveTo>
                    <a:pt x="514604" y="126301"/>
                  </a:moveTo>
                  <a:lnTo>
                    <a:pt x="487781" y="100025"/>
                  </a:lnTo>
                  <a:lnTo>
                    <a:pt x="468426" y="133032"/>
                  </a:lnTo>
                  <a:lnTo>
                    <a:pt x="444677" y="162001"/>
                  </a:lnTo>
                  <a:lnTo>
                    <a:pt x="420814" y="183730"/>
                  </a:lnTo>
                  <a:lnTo>
                    <a:pt x="401154" y="195046"/>
                  </a:lnTo>
                  <a:lnTo>
                    <a:pt x="401231" y="114439"/>
                  </a:lnTo>
                  <a:lnTo>
                    <a:pt x="401574" y="81876"/>
                  </a:lnTo>
                  <a:lnTo>
                    <a:pt x="402209" y="54864"/>
                  </a:lnTo>
                  <a:lnTo>
                    <a:pt x="402323" y="49720"/>
                  </a:lnTo>
                  <a:lnTo>
                    <a:pt x="403669" y="18148"/>
                  </a:lnTo>
                  <a:lnTo>
                    <a:pt x="363702" y="17030"/>
                  </a:lnTo>
                  <a:lnTo>
                    <a:pt x="364426" y="33629"/>
                  </a:lnTo>
                  <a:lnTo>
                    <a:pt x="364832" y="49720"/>
                  </a:lnTo>
                  <a:lnTo>
                    <a:pt x="364959" y="54864"/>
                  </a:lnTo>
                  <a:lnTo>
                    <a:pt x="365264" y="79400"/>
                  </a:lnTo>
                  <a:lnTo>
                    <a:pt x="365226" y="145707"/>
                  </a:lnTo>
                  <a:lnTo>
                    <a:pt x="364820" y="182753"/>
                  </a:lnTo>
                  <a:lnTo>
                    <a:pt x="364210" y="212864"/>
                  </a:lnTo>
                  <a:lnTo>
                    <a:pt x="363435" y="231927"/>
                  </a:lnTo>
                  <a:lnTo>
                    <a:pt x="389128" y="248691"/>
                  </a:lnTo>
                  <a:lnTo>
                    <a:pt x="430771" y="222300"/>
                  </a:lnTo>
                  <a:lnTo>
                    <a:pt x="463003" y="195046"/>
                  </a:lnTo>
                  <a:lnTo>
                    <a:pt x="464121" y="194106"/>
                  </a:lnTo>
                  <a:lnTo>
                    <a:pt x="491337" y="162598"/>
                  </a:lnTo>
                  <a:lnTo>
                    <a:pt x="514604" y="126301"/>
                  </a:lnTo>
                  <a:close/>
                </a:path>
                <a:path w="607695" h="265430">
                  <a:moveTo>
                    <a:pt x="607339" y="132461"/>
                  </a:moveTo>
                  <a:lnTo>
                    <a:pt x="602881" y="90462"/>
                  </a:lnTo>
                  <a:lnTo>
                    <a:pt x="590359" y="55118"/>
                  </a:lnTo>
                  <a:lnTo>
                    <a:pt x="571030" y="25323"/>
                  </a:lnTo>
                  <a:lnTo>
                    <a:pt x="546150" y="0"/>
                  </a:lnTo>
                  <a:lnTo>
                    <a:pt x="528535" y="16484"/>
                  </a:lnTo>
                  <a:lnTo>
                    <a:pt x="546544" y="38760"/>
                  </a:lnTo>
                  <a:lnTo>
                    <a:pt x="562203" y="65874"/>
                  </a:lnTo>
                  <a:lnTo>
                    <a:pt x="573252" y="97282"/>
                  </a:lnTo>
                  <a:lnTo>
                    <a:pt x="577443" y="132461"/>
                  </a:lnTo>
                  <a:lnTo>
                    <a:pt x="573570" y="166331"/>
                  </a:lnTo>
                  <a:lnTo>
                    <a:pt x="563041" y="197485"/>
                  </a:lnTo>
                  <a:lnTo>
                    <a:pt x="547484" y="225183"/>
                  </a:lnTo>
                  <a:lnTo>
                    <a:pt x="528535" y="248704"/>
                  </a:lnTo>
                  <a:lnTo>
                    <a:pt x="546150" y="264909"/>
                  </a:lnTo>
                  <a:lnTo>
                    <a:pt x="573735" y="236474"/>
                  </a:lnTo>
                  <a:lnTo>
                    <a:pt x="592772" y="205282"/>
                  </a:lnTo>
                  <a:lnTo>
                    <a:pt x="603783" y="170789"/>
                  </a:lnTo>
                  <a:lnTo>
                    <a:pt x="607339" y="132461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bject 28"/>
            <p:cNvSpPr/>
            <p:nvPr/>
          </p:nvSpPr>
          <p:spPr>
            <a:xfrm>
              <a:off x="2349720" y="522360"/>
              <a:ext cx="378360" cy="182880"/>
            </a:xfrm>
            <a:custGeom>
              <a:avLst/>
              <a:gdLst/>
              <a:ahLst/>
              <a:rect l="l" t="t" r="r" b="b"/>
              <a:pathLst>
                <a:path w="710564" h="342900">
                  <a:moveTo>
                    <a:pt x="334124" y="16764"/>
                  </a:moveTo>
                  <a:lnTo>
                    <a:pt x="195821" y="16764"/>
                  </a:lnTo>
                  <a:lnTo>
                    <a:pt x="195821" y="0"/>
                  </a:lnTo>
                  <a:lnTo>
                    <a:pt x="144399" y="0"/>
                  </a:lnTo>
                  <a:lnTo>
                    <a:pt x="144399" y="16764"/>
                  </a:lnTo>
                  <a:lnTo>
                    <a:pt x="9525" y="16764"/>
                  </a:lnTo>
                  <a:lnTo>
                    <a:pt x="9525" y="56375"/>
                  </a:lnTo>
                  <a:lnTo>
                    <a:pt x="334124" y="56375"/>
                  </a:lnTo>
                  <a:lnTo>
                    <a:pt x="334124" y="16764"/>
                  </a:lnTo>
                  <a:close/>
                </a:path>
                <a:path w="710564" h="342900">
                  <a:moveTo>
                    <a:pt x="343268" y="301739"/>
                  </a:moveTo>
                  <a:lnTo>
                    <a:pt x="327660" y="300799"/>
                  </a:lnTo>
                  <a:lnTo>
                    <a:pt x="313842" y="299237"/>
                  </a:lnTo>
                  <a:lnTo>
                    <a:pt x="313461" y="299237"/>
                  </a:lnTo>
                  <a:lnTo>
                    <a:pt x="298831" y="296735"/>
                  </a:lnTo>
                  <a:lnTo>
                    <a:pt x="298691" y="296735"/>
                  </a:lnTo>
                  <a:lnTo>
                    <a:pt x="284213" y="293357"/>
                  </a:lnTo>
                  <a:lnTo>
                    <a:pt x="295198" y="288709"/>
                  </a:lnTo>
                  <a:lnTo>
                    <a:pt x="305587" y="283311"/>
                  </a:lnTo>
                  <a:lnTo>
                    <a:pt x="315772" y="277126"/>
                  </a:lnTo>
                  <a:lnTo>
                    <a:pt x="317119" y="276212"/>
                  </a:lnTo>
                  <a:lnTo>
                    <a:pt x="326123" y="270129"/>
                  </a:lnTo>
                  <a:lnTo>
                    <a:pt x="293738" y="250304"/>
                  </a:lnTo>
                  <a:lnTo>
                    <a:pt x="338315" y="250304"/>
                  </a:lnTo>
                  <a:lnTo>
                    <a:pt x="338315" y="217538"/>
                  </a:lnTo>
                  <a:lnTo>
                    <a:pt x="284594" y="217538"/>
                  </a:lnTo>
                  <a:lnTo>
                    <a:pt x="284594" y="250304"/>
                  </a:lnTo>
                  <a:lnTo>
                    <a:pt x="276707" y="257733"/>
                  </a:lnTo>
                  <a:lnTo>
                    <a:pt x="268351" y="264541"/>
                  </a:lnTo>
                  <a:lnTo>
                    <a:pt x="259257" y="270764"/>
                  </a:lnTo>
                  <a:lnTo>
                    <a:pt x="249542" y="276212"/>
                  </a:lnTo>
                  <a:lnTo>
                    <a:pt x="240144" y="270764"/>
                  </a:lnTo>
                  <a:lnTo>
                    <a:pt x="231775" y="264680"/>
                  </a:lnTo>
                  <a:lnTo>
                    <a:pt x="224193" y="257886"/>
                  </a:lnTo>
                  <a:lnTo>
                    <a:pt x="217157" y="250304"/>
                  </a:lnTo>
                  <a:lnTo>
                    <a:pt x="284594" y="250304"/>
                  </a:lnTo>
                  <a:lnTo>
                    <a:pt x="284594" y="217538"/>
                  </a:lnTo>
                  <a:lnTo>
                    <a:pt x="193916" y="217538"/>
                  </a:lnTo>
                  <a:lnTo>
                    <a:pt x="193916" y="206121"/>
                  </a:lnTo>
                  <a:lnTo>
                    <a:pt x="324599" y="206121"/>
                  </a:lnTo>
                  <a:lnTo>
                    <a:pt x="324599" y="178676"/>
                  </a:lnTo>
                  <a:lnTo>
                    <a:pt x="193916" y="178676"/>
                  </a:lnTo>
                  <a:lnTo>
                    <a:pt x="193916" y="168021"/>
                  </a:lnTo>
                  <a:lnTo>
                    <a:pt x="315455" y="168021"/>
                  </a:lnTo>
                  <a:lnTo>
                    <a:pt x="315455" y="141351"/>
                  </a:lnTo>
                  <a:lnTo>
                    <a:pt x="315455" y="128384"/>
                  </a:lnTo>
                  <a:lnTo>
                    <a:pt x="315455" y="105918"/>
                  </a:lnTo>
                  <a:lnTo>
                    <a:pt x="315455" y="93726"/>
                  </a:lnTo>
                  <a:lnTo>
                    <a:pt x="315455" y="67056"/>
                  </a:lnTo>
                  <a:lnTo>
                    <a:pt x="272021" y="67056"/>
                  </a:lnTo>
                  <a:lnTo>
                    <a:pt x="272021" y="93726"/>
                  </a:lnTo>
                  <a:lnTo>
                    <a:pt x="272021" y="105918"/>
                  </a:lnTo>
                  <a:lnTo>
                    <a:pt x="272021" y="128384"/>
                  </a:lnTo>
                  <a:lnTo>
                    <a:pt x="272021" y="141351"/>
                  </a:lnTo>
                  <a:lnTo>
                    <a:pt x="193929" y="141351"/>
                  </a:lnTo>
                  <a:lnTo>
                    <a:pt x="193929" y="128384"/>
                  </a:lnTo>
                  <a:lnTo>
                    <a:pt x="272021" y="128384"/>
                  </a:lnTo>
                  <a:lnTo>
                    <a:pt x="272021" y="105918"/>
                  </a:lnTo>
                  <a:lnTo>
                    <a:pt x="193929" y="105918"/>
                  </a:lnTo>
                  <a:lnTo>
                    <a:pt x="193929" y="93726"/>
                  </a:lnTo>
                  <a:lnTo>
                    <a:pt x="272021" y="93726"/>
                  </a:lnTo>
                  <a:lnTo>
                    <a:pt x="272021" y="67056"/>
                  </a:lnTo>
                  <a:lnTo>
                    <a:pt x="150482" y="67056"/>
                  </a:lnTo>
                  <a:lnTo>
                    <a:pt x="150482" y="93726"/>
                  </a:lnTo>
                  <a:lnTo>
                    <a:pt x="150482" y="105918"/>
                  </a:lnTo>
                  <a:lnTo>
                    <a:pt x="150482" y="128384"/>
                  </a:lnTo>
                  <a:lnTo>
                    <a:pt x="150482" y="141351"/>
                  </a:lnTo>
                  <a:lnTo>
                    <a:pt x="70472" y="141351"/>
                  </a:lnTo>
                  <a:lnTo>
                    <a:pt x="70472" y="128384"/>
                  </a:lnTo>
                  <a:lnTo>
                    <a:pt x="150482" y="128384"/>
                  </a:lnTo>
                  <a:lnTo>
                    <a:pt x="150482" y="105918"/>
                  </a:lnTo>
                  <a:lnTo>
                    <a:pt x="70472" y="105918"/>
                  </a:lnTo>
                  <a:lnTo>
                    <a:pt x="70472" y="93726"/>
                  </a:lnTo>
                  <a:lnTo>
                    <a:pt x="150482" y="93726"/>
                  </a:lnTo>
                  <a:lnTo>
                    <a:pt x="150482" y="67056"/>
                  </a:lnTo>
                  <a:lnTo>
                    <a:pt x="27051" y="67056"/>
                  </a:lnTo>
                  <a:lnTo>
                    <a:pt x="27051" y="168021"/>
                  </a:lnTo>
                  <a:lnTo>
                    <a:pt x="150482" y="168021"/>
                  </a:lnTo>
                  <a:lnTo>
                    <a:pt x="150482" y="178676"/>
                  </a:lnTo>
                  <a:lnTo>
                    <a:pt x="16002" y="178676"/>
                  </a:lnTo>
                  <a:lnTo>
                    <a:pt x="16002" y="206121"/>
                  </a:lnTo>
                  <a:lnTo>
                    <a:pt x="150482" y="206121"/>
                  </a:lnTo>
                  <a:lnTo>
                    <a:pt x="150482" y="217538"/>
                  </a:lnTo>
                  <a:lnTo>
                    <a:pt x="5715" y="217538"/>
                  </a:lnTo>
                  <a:lnTo>
                    <a:pt x="5715" y="250304"/>
                  </a:lnTo>
                  <a:lnTo>
                    <a:pt x="114681" y="250304"/>
                  </a:lnTo>
                  <a:lnTo>
                    <a:pt x="82715" y="256463"/>
                  </a:lnTo>
                  <a:lnTo>
                    <a:pt x="53327" y="260781"/>
                  </a:lnTo>
                  <a:lnTo>
                    <a:pt x="25946" y="263372"/>
                  </a:lnTo>
                  <a:lnTo>
                    <a:pt x="0" y="264401"/>
                  </a:lnTo>
                  <a:lnTo>
                    <a:pt x="12954" y="302882"/>
                  </a:lnTo>
                  <a:lnTo>
                    <a:pt x="33693" y="300215"/>
                  </a:lnTo>
                  <a:lnTo>
                    <a:pt x="53479" y="296735"/>
                  </a:lnTo>
                  <a:lnTo>
                    <a:pt x="72898" y="292328"/>
                  </a:lnTo>
                  <a:lnTo>
                    <a:pt x="92570" y="286880"/>
                  </a:lnTo>
                  <a:lnTo>
                    <a:pt x="92570" y="303644"/>
                  </a:lnTo>
                  <a:lnTo>
                    <a:pt x="79260" y="304520"/>
                  </a:lnTo>
                  <a:lnTo>
                    <a:pt x="66332" y="304977"/>
                  </a:lnTo>
                  <a:lnTo>
                    <a:pt x="53276" y="305168"/>
                  </a:lnTo>
                  <a:lnTo>
                    <a:pt x="40005" y="305168"/>
                  </a:lnTo>
                  <a:lnTo>
                    <a:pt x="49403" y="342404"/>
                  </a:lnTo>
                  <a:lnTo>
                    <a:pt x="49530" y="342887"/>
                  </a:lnTo>
                  <a:lnTo>
                    <a:pt x="62458" y="342404"/>
                  </a:lnTo>
                  <a:lnTo>
                    <a:pt x="96710" y="340461"/>
                  </a:lnTo>
                  <a:lnTo>
                    <a:pt x="145478" y="336296"/>
                  </a:lnTo>
                  <a:lnTo>
                    <a:pt x="201917" y="329171"/>
                  </a:lnTo>
                  <a:lnTo>
                    <a:pt x="201917" y="300596"/>
                  </a:lnTo>
                  <a:lnTo>
                    <a:pt x="201917" y="292976"/>
                  </a:lnTo>
                  <a:lnTo>
                    <a:pt x="185496" y="295402"/>
                  </a:lnTo>
                  <a:lnTo>
                    <a:pt x="169430" y="297497"/>
                  </a:lnTo>
                  <a:lnTo>
                    <a:pt x="153797" y="299237"/>
                  </a:lnTo>
                  <a:lnTo>
                    <a:pt x="138671" y="300596"/>
                  </a:lnTo>
                  <a:lnTo>
                    <a:pt x="138671" y="286880"/>
                  </a:lnTo>
                  <a:lnTo>
                    <a:pt x="138671" y="272021"/>
                  </a:lnTo>
                  <a:lnTo>
                    <a:pt x="147866" y="267347"/>
                  </a:lnTo>
                  <a:lnTo>
                    <a:pt x="156235" y="262305"/>
                  </a:lnTo>
                  <a:lnTo>
                    <a:pt x="164122" y="256705"/>
                  </a:lnTo>
                  <a:lnTo>
                    <a:pt x="171818" y="250304"/>
                  </a:lnTo>
                  <a:lnTo>
                    <a:pt x="199478" y="285978"/>
                  </a:lnTo>
                  <a:lnTo>
                    <a:pt x="230822" y="312026"/>
                  </a:lnTo>
                  <a:lnTo>
                    <a:pt x="269811" y="330352"/>
                  </a:lnTo>
                  <a:lnTo>
                    <a:pt x="320408" y="342887"/>
                  </a:lnTo>
                  <a:lnTo>
                    <a:pt x="343268" y="301739"/>
                  </a:lnTo>
                  <a:close/>
                </a:path>
                <a:path w="710564" h="342900">
                  <a:moveTo>
                    <a:pt x="710209" y="8763"/>
                  </a:moveTo>
                  <a:lnTo>
                    <a:pt x="377990" y="8763"/>
                  </a:lnTo>
                  <a:lnTo>
                    <a:pt x="377990" y="54470"/>
                  </a:lnTo>
                  <a:lnTo>
                    <a:pt x="517042" y="54470"/>
                  </a:lnTo>
                  <a:lnTo>
                    <a:pt x="514464" y="61976"/>
                  </a:lnTo>
                  <a:lnTo>
                    <a:pt x="512127" y="67297"/>
                  </a:lnTo>
                  <a:lnTo>
                    <a:pt x="508736" y="72974"/>
                  </a:lnTo>
                  <a:lnTo>
                    <a:pt x="502958" y="81521"/>
                  </a:lnTo>
                  <a:lnTo>
                    <a:pt x="474383" y="81521"/>
                  </a:lnTo>
                  <a:lnTo>
                    <a:pt x="474383" y="125323"/>
                  </a:lnTo>
                  <a:lnTo>
                    <a:pt x="474383" y="283832"/>
                  </a:lnTo>
                  <a:lnTo>
                    <a:pt x="437807" y="283832"/>
                  </a:lnTo>
                  <a:lnTo>
                    <a:pt x="437807" y="125323"/>
                  </a:lnTo>
                  <a:lnTo>
                    <a:pt x="474383" y="125323"/>
                  </a:lnTo>
                  <a:lnTo>
                    <a:pt x="474383" y="81521"/>
                  </a:lnTo>
                  <a:lnTo>
                    <a:pt x="392087" y="81521"/>
                  </a:lnTo>
                  <a:lnTo>
                    <a:pt x="392087" y="342874"/>
                  </a:lnTo>
                  <a:lnTo>
                    <a:pt x="437807" y="342874"/>
                  </a:lnTo>
                  <a:lnTo>
                    <a:pt x="437807" y="327634"/>
                  </a:lnTo>
                  <a:lnTo>
                    <a:pt x="650392" y="327634"/>
                  </a:lnTo>
                  <a:lnTo>
                    <a:pt x="650392" y="342874"/>
                  </a:lnTo>
                  <a:lnTo>
                    <a:pt x="696112" y="342874"/>
                  </a:lnTo>
                  <a:lnTo>
                    <a:pt x="696112" y="327634"/>
                  </a:lnTo>
                  <a:lnTo>
                    <a:pt x="696112" y="283832"/>
                  </a:lnTo>
                  <a:lnTo>
                    <a:pt x="696112" y="125323"/>
                  </a:lnTo>
                  <a:lnTo>
                    <a:pt x="696112" y="81521"/>
                  </a:lnTo>
                  <a:lnTo>
                    <a:pt x="650392" y="81521"/>
                  </a:lnTo>
                  <a:lnTo>
                    <a:pt x="650392" y="125323"/>
                  </a:lnTo>
                  <a:lnTo>
                    <a:pt x="650392" y="283832"/>
                  </a:lnTo>
                  <a:lnTo>
                    <a:pt x="613816" y="283832"/>
                  </a:lnTo>
                  <a:lnTo>
                    <a:pt x="613816" y="125323"/>
                  </a:lnTo>
                  <a:lnTo>
                    <a:pt x="650392" y="125323"/>
                  </a:lnTo>
                  <a:lnTo>
                    <a:pt x="650392" y="81521"/>
                  </a:lnTo>
                  <a:lnTo>
                    <a:pt x="568096" y="81521"/>
                  </a:lnTo>
                  <a:lnTo>
                    <a:pt x="568096" y="125323"/>
                  </a:lnTo>
                  <a:lnTo>
                    <a:pt x="568096" y="152006"/>
                  </a:lnTo>
                  <a:lnTo>
                    <a:pt x="568096" y="191249"/>
                  </a:lnTo>
                  <a:lnTo>
                    <a:pt x="568096" y="217919"/>
                  </a:lnTo>
                  <a:lnTo>
                    <a:pt x="568096" y="257149"/>
                  </a:lnTo>
                  <a:lnTo>
                    <a:pt x="568096" y="283832"/>
                  </a:lnTo>
                  <a:lnTo>
                    <a:pt x="520090" y="283832"/>
                  </a:lnTo>
                  <a:lnTo>
                    <a:pt x="520090" y="257149"/>
                  </a:lnTo>
                  <a:lnTo>
                    <a:pt x="568096" y="257149"/>
                  </a:lnTo>
                  <a:lnTo>
                    <a:pt x="568096" y="217919"/>
                  </a:lnTo>
                  <a:lnTo>
                    <a:pt x="520090" y="217919"/>
                  </a:lnTo>
                  <a:lnTo>
                    <a:pt x="520090" y="191249"/>
                  </a:lnTo>
                  <a:lnTo>
                    <a:pt x="568096" y="191249"/>
                  </a:lnTo>
                  <a:lnTo>
                    <a:pt x="568096" y="152006"/>
                  </a:lnTo>
                  <a:lnTo>
                    <a:pt x="520090" y="152006"/>
                  </a:lnTo>
                  <a:lnTo>
                    <a:pt x="520090" y="125323"/>
                  </a:lnTo>
                  <a:lnTo>
                    <a:pt x="568096" y="125323"/>
                  </a:lnTo>
                  <a:lnTo>
                    <a:pt x="568096" y="81521"/>
                  </a:lnTo>
                  <a:lnTo>
                    <a:pt x="556285" y="81521"/>
                  </a:lnTo>
                  <a:lnTo>
                    <a:pt x="557657" y="79336"/>
                  </a:lnTo>
                  <a:lnTo>
                    <a:pt x="560997" y="73431"/>
                  </a:lnTo>
                  <a:lnTo>
                    <a:pt x="565124" y="64808"/>
                  </a:lnTo>
                  <a:lnTo>
                    <a:pt x="568858" y="54470"/>
                  </a:lnTo>
                  <a:lnTo>
                    <a:pt x="710209" y="54470"/>
                  </a:lnTo>
                  <a:lnTo>
                    <a:pt x="710209" y="8763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bject 29"/>
            <p:cNvSpPr/>
            <p:nvPr/>
          </p:nvSpPr>
          <p:spPr>
            <a:xfrm>
              <a:off x="2791440" y="692280"/>
              <a:ext cx="101160" cy="17280"/>
            </a:xfrm>
            <a:custGeom>
              <a:avLst/>
              <a:gdLst/>
              <a:ahLst/>
              <a:rect l="l" t="t" r="r" b="b"/>
              <a:pathLst>
                <a:path w="190500" h="32384">
                  <a:moveTo>
                    <a:pt x="190500" y="0"/>
                  </a:moveTo>
                  <a:lnTo>
                    <a:pt x="0" y="0"/>
                  </a:lnTo>
                  <a:lnTo>
                    <a:pt x="0" y="32003"/>
                  </a:lnTo>
                  <a:lnTo>
                    <a:pt x="190500" y="32003"/>
                  </a:lnTo>
                  <a:lnTo>
                    <a:pt x="190500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bject 30"/>
            <p:cNvSpPr/>
            <p:nvPr/>
          </p:nvSpPr>
          <p:spPr>
            <a:xfrm>
              <a:off x="2953080" y="547200"/>
              <a:ext cx="159120" cy="159120"/>
            </a:xfrm>
            <a:custGeom>
              <a:avLst/>
              <a:gdLst/>
              <a:ahLst/>
              <a:rect l="l" t="t" r="r" b="b"/>
              <a:pathLst>
                <a:path w="299085" h="298450">
                  <a:moveTo>
                    <a:pt x="270103" y="0"/>
                  </a:moveTo>
                  <a:lnTo>
                    <a:pt x="244089" y="720"/>
                  </a:lnTo>
                  <a:lnTo>
                    <a:pt x="212821" y="1190"/>
                  </a:lnTo>
                  <a:lnTo>
                    <a:pt x="140957" y="1524"/>
                  </a:lnTo>
                  <a:lnTo>
                    <a:pt x="62196" y="1190"/>
                  </a:lnTo>
                  <a:lnTo>
                    <a:pt x="27919" y="720"/>
                  </a:lnTo>
                  <a:lnTo>
                    <a:pt x="0" y="0"/>
                  </a:lnTo>
                  <a:lnTo>
                    <a:pt x="380" y="52197"/>
                  </a:lnTo>
                  <a:lnTo>
                    <a:pt x="43418" y="50590"/>
                  </a:lnTo>
                  <a:lnTo>
                    <a:pt x="94959" y="49405"/>
                  </a:lnTo>
                  <a:lnTo>
                    <a:pt x="149059" y="48603"/>
                  </a:lnTo>
                  <a:lnTo>
                    <a:pt x="241160" y="48006"/>
                  </a:lnTo>
                  <a:lnTo>
                    <a:pt x="231739" y="90395"/>
                  </a:lnTo>
                  <a:lnTo>
                    <a:pt x="215108" y="129364"/>
                  </a:lnTo>
                  <a:lnTo>
                    <a:pt x="191565" y="164387"/>
                  </a:lnTo>
                  <a:lnTo>
                    <a:pt x="161412" y="194937"/>
                  </a:lnTo>
                  <a:lnTo>
                    <a:pt x="124948" y="220489"/>
                  </a:lnTo>
                  <a:lnTo>
                    <a:pt x="82474" y="240517"/>
                  </a:lnTo>
                  <a:lnTo>
                    <a:pt x="34289" y="254495"/>
                  </a:lnTo>
                  <a:lnTo>
                    <a:pt x="76199" y="297929"/>
                  </a:lnTo>
                  <a:lnTo>
                    <a:pt x="123117" y="280610"/>
                  </a:lnTo>
                  <a:lnTo>
                    <a:pt x="164269" y="258366"/>
                  </a:lnTo>
                  <a:lnTo>
                    <a:pt x="199816" y="231200"/>
                  </a:lnTo>
                  <a:lnTo>
                    <a:pt x="229917" y="199118"/>
                  </a:lnTo>
                  <a:lnTo>
                    <a:pt x="254733" y="162124"/>
                  </a:lnTo>
                  <a:lnTo>
                    <a:pt x="274424" y="120223"/>
                  </a:lnTo>
                  <a:lnTo>
                    <a:pt x="289150" y="73419"/>
                  </a:lnTo>
                  <a:lnTo>
                    <a:pt x="299072" y="21717"/>
                  </a:lnTo>
                  <a:lnTo>
                    <a:pt x="270103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bject 31"/>
            <p:cNvSpPr/>
            <p:nvPr/>
          </p:nvSpPr>
          <p:spPr>
            <a:xfrm>
              <a:off x="3149640" y="536040"/>
              <a:ext cx="123480" cy="179640"/>
            </a:xfrm>
            <a:custGeom>
              <a:avLst/>
              <a:gdLst/>
              <a:ahLst/>
              <a:rect l="l" t="t" r="r" b="b"/>
              <a:pathLst>
                <a:path w="232410" h="336550">
                  <a:moveTo>
                    <a:pt x="179438" y="0"/>
                  </a:moveTo>
                  <a:lnTo>
                    <a:pt x="179938" y="23953"/>
                  </a:lnTo>
                  <a:lnTo>
                    <a:pt x="180087" y="33813"/>
                  </a:lnTo>
                  <a:lnTo>
                    <a:pt x="180200" y="156578"/>
                  </a:lnTo>
                  <a:lnTo>
                    <a:pt x="175375" y="196202"/>
                  </a:lnTo>
                  <a:lnTo>
                    <a:pt x="159096" y="234381"/>
                  </a:lnTo>
                  <a:lnTo>
                    <a:pt x="92936" y="277364"/>
                  </a:lnTo>
                  <a:lnTo>
                    <a:pt x="40766" y="289547"/>
                  </a:lnTo>
                  <a:lnTo>
                    <a:pt x="82295" y="336029"/>
                  </a:lnTo>
                  <a:lnTo>
                    <a:pt x="142765" y="312602"/>
                  </a:lnTo>
                  <a:lnTo>
                    <a:pt x="185149" y="281019"/>
                  </a:lnTo>
                  <a:lnTo>
                    <a:pt x="212119" y="243092"/>
                  </a:lnTo>
                  <a:lnTo>
                    <a:pt x="226344" y="200631"/>
                  </a:lnTo>
                  <a:lnTo>
                    <a:pt x="230388" y="156578"/>
                  </a:lnTo>
                  <a:lnTo>
                    <a:pt x="230492" y="155448"/>
                  </a:lnTo>
                  <a:lnTo>
                    <a:pt x="230569" y="121306"/>
                  </a:lnTo>
                  <a:lnTo>
                    <a:pt x="230684" y="104066"/>
                  </a:lnTo>
                  <a:lnTo>
                    <a:pt x="230711" y="99988"/>
                  </a:lnTo>
                  <a:lnTo>
                    <a:pt x="230827" y="82627"/>
                  </a:lnTo>
                  <a:lnTo>
                    <a:pt x="231156" y="54126"/>
                  </a:lnTo>
                  <a:lnTo>
                    <a:pt x="231231" y="47620"/>
                  </a:lnTo>
                  <a:lnTo>
                    <a:pt x="231301" y="41589"/>
                  </a:lnTo>
                  <a:lnTo>
                    <a:pt x="232001" y="1905"/>
                  </a:lnTo>
                  <a:lnTo>
                    <a:pt x="232028" y="368"/>
                  </a:lnTo>
                  <a:lnTo>
                    <a:pt x="179438" y="0"/>
                  </a:lnTo>
                  <a:close/>
                </a:path>
                <a:path w="232410" h="336550">
                  <a:moveTo>
                    <a:pt x="761" y="1143"/>
                  </a:moveTo>
                  <a:lnTo>
                    <a:pt x="1036" y="17466"/>
                  </a:lnTo>
                  <a:lnTo>
                    <a:pt x="1262" y="33813"/>
                  </a:lnTo>
                  <a:lnTo>
                    <a:pt x="1202" y="121306"/>
                  </a:lnTo>
                  <a:lnTo>
                    <a:pt x="591" y="164372"/>
                  </a:lnTo>
                  <a:lnTo>
                    <a:pt x="0" y="196964"/>
                  </a:lnTo>
                  <a:lnTo>
                    <a:pt x="53720" y="196202"/>
                  </a:lnTo>
                  <a:lnTo>
                    <a:pt x="52991" y="166431"/>
                  </a:lnTo>
                  <a:lnTo>
                    <a:pt x="52398" y="135251"/>
                  </a:lnTo>
                  <a:lnTo>
                    <a:pt x="52339" y="132110"/>
                  </a:lnTo>
                  <a:lnTo>
                    <a:pt x="52077" y="110299"/>
                  </a:lnTo>
                  <a:lnTo>
                    <a:pt x="52096" y="33813"/>
                  </a:lnTo>
                  <a:lnTo>
                    <a:pt x="52447" y="17757"/>
                  </a:lnTo>
                  <a:lnTo>
                    <a:pt x="52958" y="1905"/>
                  </a:lnTo>
                  <a:lnTo>
                    <a:pt x="761" y="1143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bject 32"/>
            <p:cNvSpPr/>
            <p:nvPr/>
          </p:nvSpPr>
          <p:spPr>
            <a:xfrm>
              <a:off x="3314880" y="631800"/>
              <a:ext cx="15480" cy="360"/>
            </a:xfrm>
            <a:custGeom>
              <a:avLst/>
              <a:gdLst/>
              <a:ahLst/>
              <a:rect l="l" t="t" r="r" b="b"/>
              <a:pathLst>
                <a:path w="29210" h="1270">
                  <a:moveTo>
                    <a:pt x="0" y="1270"/>
                  </a:moveTo>
                  <a:lnTo>
                    <a:pt x="28963" y="1270"/>
                  </a:lnTo>
                  <a:lnTo>
                    <a:pt x="28963" y="0"/>
                  </a:lnTo>
                  <a:lnTo>
                    <a:pt x="0" y="0"/>
                  </a:lnTo>
                  <a:lnTo>
                    <a:pt x="0" y="127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bject 33"/>
            <p:cNvSpPr/>
            <p:nvPr/>
          </p:nvSpPr>
          <p:spPr>
            <a:xfrm>
              <a:off x="3314880" y="605520"/>
              <a:ext cx="171720" cy="27000"/>
            </a:xfrm>
            <a:custGeom>
              <a:avLst/>
              <a:gdLst/>
              <a:ahLst/>
              <a:rect l="l" t="t" r="r" b="b"/>
              <a:pathLst>
                <a:path w="322579" h="50800">
                  <a:moveTo>
                    <a:pt x="322313" y="0"/>
                  </a:moveTo>
                  <a:lnTo>
                    <a:pt x="0" y="0"/>
                  </a:lnTo>
                  <a:lnTo>
                    <a:pt x="0" y="49530"/>
                  </a:lnTo>
                  <a:lnTo>
                    <a:pt x="291973" y="49530"/>
                  </a:lnTo>
                  <a:lnTo>
                    <a:pt x="291973" y="50800"/>
                  </a:lnTo>
                  <a:lnTo>
                    <a:pt x="322313" y="50800"/>
                  </a:lnTo>
                  <a:lnTo>
                    <a:pt x="322313" y="49530"/>
                  </a:lnTo>
                  <a:lnTo>
                    <a:pt x="322313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bject 34"/>
            <p:cNvSpPr/>
            <p:nvPr/>
          </p:nvSpPr>
          <p:spPr>
            <a:xfrm>
              <a:off x="979560" y="329040"/>
              <a:ext cx="226800" cy="255600"/>
            </a:xfrm>
            <a:custGeom>
              <a:avLst/>
              <a:gdLst/>
              <a:ahLst/>
              <a:rect l="l" t="t" r="r" b="b"/>
              <a:pathLst>
                <a:path w="426084" h="478790">
                  <a:moveTo>
                    <a:pt x="391147" y="0"/>
                  </a:moveTo>
                  <a:lnTo>
                    <a:pt x="330442" y="42970"/>
                  </a:lnTo>
                  <a:lnTo>
                    <a:pt x="292609" y="73653"/>
                  </a:lnTo>
                  <a:lnTo>
                    <a:pt x="252733" y="102491"/>
                  </a:lnTo>
                  <a:lnTo>
                    <a:pt x="210740" y="129371"/>
                  </a:lnTo>
                  <a:lnTo>
                    <a:pt x="166555" y="154184"/>
                  </a:lnTo>
                  <a:lnTo>
                    <a:pt x="120103" y="176817"/>
                  </a:lnTo>
                  <a:lnTo>
                    <a:pt x="71311" y="197159"/>
                  </a:lnTo>
                  <a:lnTo>
                    <a:pt x="20104" y="215099"/>
                  </a:lnTo>
                  <a:lnTo>
                    <a:pt x="12360" y="218483"/>
                  </a:lnTo>
                  <a:lnTo>
                    <a:pt x="6084" y="223326"/>
                  </a:lnTo>
                  <a:lnTo>
                    <a:pt x="1792" y="229669"/>
                  </a:lnTo>
                  <a:lnTo>
                    <a:pt x="0" y="237553"/>
                  </a:lnTo>
                  <a:lnTo>
                    <a:pt x="1940" y="245621"/>
                  </a:lnTo>
                  <a:lnTo>
                    <a:pt x="6929" y="251631"/>
                  </a:lnTo>
                  <a:lnTo>
                    <a:pt x="13721" y="255384"/>
                  </a:lnTo>
                  <a:lnTo>
                    <a:pt x="21069" y="256679"/>
                  </a:lnTo>
                  <a:lnTo>
                    <a:pt x="26314" y="256324"/>
                  </a:lnTo>
                  <a:lnTo>
                    <a:pt x="31102" y="254952"/>
                  </a:lnTo>
                  <a:lnTo>
                    <a:pt x="44068" y="251828"/>
                  </a:lnTo>
                  <a:lnTo>
                    <a:pt x="75429" y="243263"/>
                  </a:lnTo>
                  <a:lnTo>
                    <a:pt x="116768" y="230324"/>
                  </a:lnTo>
                  <a:lnTo>
                    <a:pt x="164696" y="212969"/>
                  </a:lnTo>
                  <a:lnTo>
                    <a:pt x="215823" y="191160"/>
                  </a:lnTo>
                  <a:lnTo>
                    <a:pt x="215823" y="446405"/>
                  </a:lnTo>
                  <a:lnTo>
                    <a:pt x="242836" y="478167"/>
                  </a:lnTo>
                  <a:lnTo>
                    <a:pt x="258648" y="478167"/>
                  </a:lnTo>
                  <a:lnTo>
                    <a:pt x="285902" y="446405"/>
                  </a:lnTo>
                  <a:lnTo>
                    <a:pt x="279057" y="158381"/>
                  </a:lnTo>
                  <a:lnTo>
                    <a:pt x="314485" y="136255"/>
                  </a:lnTo>
                  <a:lnTo>
                    <a:pt x="347724" y="112972"/>
                  </a:lnTo>
                  <a:lnTo>
                    <a:pt x="379389" y="88508"/>
                  </a:lnTo>
                  <a:lnTo>
                    <a:pt x="410095" y="62839"/>
                  </a:lnTo>
                  <a:lnTo>
                    <a:pt x="425551" y="33146"/>
                  </a:lnTo>
                  <a:lnTo>
                    <a:pt x="422569" y="19836"/>
                  </a:lnTo>
                  <a:lnTo>
                    <a:pt x="414969" y="9367"/>
                  </a:lnTo>
                  <a:lnTo>
                    <a:pt x="404059" y="2502"/>
                  </a:lnTo>
                  <a:lnTo>
                    <a:pt x="391147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bject 35"/>
            <p:cNvSpPr/>
            <p:nvPr/>
          </p:nvSpPr>
          <p:spPr>
            <a:xfrm>
              <a:off x="1333800" y="363960"/>
              <a:ext cx="211680" cy="200520"/>
            </a:xfrm>
            <a:custGeom>
              <a:avLst/>
              <a:gdLst/>
              <a:ahLst/>
              <a:rect l="l" t="t" r="r" b="b"/>
              <a:pathLst>
                <a:path w="398144" h="375920">
                  <a:moveTo>
                    <a:pt x="341630" y="0"/>
                  </a:moveTo>
                  <a:lnTo>
                    <a:pt x="47104" y="0"/>
                  </a:lnTo>
                  <a:lnTo>
                    <a:pt x="38354" y="665"/>
                  </a:lnTo>
                  <a:lnTo>
                    <a:pt x="6346" y="31169"/>
                  </a:lnTo>
                  <a:lnTo>
                    <a:pt x="5758" y="38315"/>
                  </a:lnTo>
                  <a:lnTo>
                    <a:pt x="5715" y="38849"/>
                  </a:lnTo>
                  <a:lnTo>
                    <a:pt x="32" y="338467"/>
                  </a:lnTo>
                  <a:lnTo>
                    <a:pt x="0" y="341007"/>
                  </a:lnTo>
                  <a:lnTo>
                    <a:pt x="3235" y="355801"/>
                  </a:lnTo>
                  <a:lnTo>
                    <a:pt x="11517" y="366568"/>
                  </a:lnTo>
                  <a:lnTo>
                    <a:pt x="22797" y="373145"/>
                  </a:lnTo>
                  <a:lnTo>
                    <a:pt x="35235" y="375411"/>
                  </a:lnTo>
                  <a:lnTo>
                    <a:pt x="36207" y="375411"/>
                  </a:lnTo>
                  <a:lnTo>
                    <a:pt x="45754" y="373950"/>
                  </a:lnTo>
                  <a:lnTo>
                    <a:pt x="54897" y="369665"/>
                  </a:lnTo>
                  <a:lnTo>
                    <a:pt x="62652" y="362703"/>
                  </a:lnTo>
                  <a:lnTo>
                    <a:pt x="68033" y="353212"/>
                  </a:lnTo>
                  <a:lnTo>
                    <a:pt x="394676" y="353212"/>
                  </a:lnTo>
                  <a:lnTo>
                    <a:pt x="397518" y="340156"/>
                  </a:lnTo>
                  <a:lnTo>
                    <a:pt x="397598" y="338467"/>
                  </a:lnTo>
                  <a:lnTo>
                    <a:pt x="396176" y="307886"/>
                  </a:lnTo>
                  <a:lnTo>
                    <a:pt x="70243" y="307886"/>
                  </a:lnTo>
                  <a:lnTo>
                    <a:pt x="74319" y="45986"/>
                  </a:lnTo>
                  <a:lnTo>
                    <a:pt x="383998" y="45986"/>
                  </a:lnTo>
                  <a:lnTo>
                    <a:pt x="383666" y="38849"/>
                  </a:lnTo>
                  <a:lnTo>
                    <a:pt x="383641" y="38315"/>
                  </a:lnTo>
                  <a:lnTo>
                    <a:pt x="380573" y="23780"/>
                  </a:lnTo>
                  <a:lnTo>
                    <a:pt x="380499" y="23429"/>
                  </a:lnTo>
                  <a:lnTo>
                    <a:pt x="371789" y="11018"/>
                  </a:lnTo>
                  <a:lnTo>
                    <a:pt x="358566" y="2717"/>
                  </a:lnTo>
                  <a:lnTo>
                    <a:pt x="358756" y="2717"/>
                  </a:lnTo>
                  <a:lnTo>
                    <a:pt x="341630" y="0"/>
                  </a:lnTo>
                  <a:close/>
                </a:path>
                <a:path w="398144" h="375920">
                  <a:moveTo>
                    <a:pt x="394676" y="353212"/>
                  </a:moveTo>
                  <a:lnTo>
                    <a:pt x="330974" y="353212"/>
                  </a:lnTo>
                  <a:lnTo>
                    <a:pt x="336825" y="362167"/>
                  </a:lnTo>
                  <a:lnTo>
                    <a:pt x="344747" y="368609"/>
                  </a:lnTo>
                  <a:lnTo>
                    <a:pt x="353841" y="372420"/>
                  </a:lnTo>
                  <a:lnTo>
                    <a:pt x="363207" y="373481"/>
                  </a:lnTo>
                  <a:lnTo>
                    <a:pt x="375371" y="371229"/>
                  </a:lnTo>
                  <a:lnTo>
                    <a:pt x="386432" y="364688"/>
                  </a:lnTo>
                  <a:lnTo>
                    <a:pt x="394479" y="354120"/>
                  </a:lnTo>
                  <a:lnTo>
                    <a:pt x="394676" y="353212"/>
                  </a:lnTo>
                  <a:close/>
                </a:path>
                <a:path w="398144" h="375920">
                  <a:moveTo>
                    <a:pt x="383998" y="45986"/>
                  </a:moveTo>
                  <a:lnTo>
                    <a:pt x="315353" y="45986"/>
                  </a:lnTo>
                  <a:lnTo>
                    <a:pt x="327038" y="307886"/>
                  </a:lnTo>
                  <a:lnTo>
                    <a:pt x="396176" y="307886"/>
                  </a:lnTo>
                  <a:lnTo>
                    <a:pt x="383998" y="45986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bject 36"/>
            <p:cNvSpPr/>
            <p:nvPr/>
          </p:nvSpPr>
          <p:spPr>
            <a:xfrm>
              <a:off x="1702800" y="300240"/>
              <a:ext cx="181800" cy="291960"/>
            </a:xfrm>
            <a:custGeom>
              <a:avLst/>
              <a:gdLst/>
              <a:ahLst/>
              <a:rect l="l" t="t" r="r" b="b"/>
              <a:pathLst>
                <a:path w="341630" h="546735">
                  <a:moveTo>
                    <a:pt x="39573" y="37223"/>
                  </a:moveTo>
                  <a:lnTo>
                    <a:pt x="24180" y="37223"/>
                  </a:lnTo>
                  <a:lnTo>
                    <a:pt x="16192" y="39839"/>
                  </a:lnTo>
                  <a:lnTo>
                    <a:pt x="0" y="70370"/>
                  </a:lnTo>
                  <a:lnTo>
                    <a:pt x="7619" y="509181"/>
                  </a:lnTo>
                  <a:lnTo>
                    <a:pt x="10306" y="524278"/>
                  </a:lnTo>
                  <a:lnTo>
                    <a:pt x="17473" y="536098"/>
                  </a:lnTo>
                  <a:lnTo>
                    <a:pt x="27838" y="543814"/>
                  </a:lnTo>
                  <a:lnTo>
                    <a:pt x="40119" y="546595"/>
                  </a:lnTo>
                  <a:lnTo>
                    <a:pt x="48348" y="546595"/>
                  </a:lnTo>
                  <a:lnTo>
                    <a:pt x="71970" y="509625"/>
                  </a:lnTo>
                  <a:lnTo>
                    <a:pt x="69076" y="346608"/>
                  </a:lnTo>
                  <a:lnTo>
                    <a:pt x="68973" y="340818"/>
                  </a:lnTo>
                  <a:lnTo>
                    <a:pt x="68892" y="336281"/>
                  </a:lnTo>
                  <a:lnTo>
                    <a:pt x="68832" y="332895"/>
                  </a:lnTo>
                  <a:lnTo>
                    <a:pt x="68711" y="326036"/>
                  </a:lnTo>
                  <a:lnTo>
                    <a:pt x="68650" y="322624"/>
                  </a:lnTo>
                  <a:lnTo>
                    <a:pt x="68548" y="316865"/>
                  </a:lnTo>
                  <a:lnTo>
                    <a:pt x="68510" y="314744"/>
                  </a:lnTo>
                  <a:lnTo>
                    <a:pt x="68394" y="308195"/>
                  </a:lnTo>
                  <a:lnTo>
                    <a:pt x="68339" y="305136"/>
                  </a:lnTo>
                  <a:lnTo>
                    <a:pt x="68236" y="299313"/>
                  </a:lnTo>
                  <a:lnTo>
                    <a:pt x="68176" y="295909"/>
                  </a:lnTo>
                  <a:lnTo>
                    <a:pt x="68080" y="290536"/>
                  </a:lnTo>
                  <a:lnTo>
                    <a:pt x="68040" y="288255"/>
                  </a:lnTo>
                  <a:lnTo>
                    <a:pt x="67932" y="282181"/>
                  </a:lnTo>
                  <a:lnTo>
                    <a:pt x="197300" y="282181"/>
                  </a:lnTo>
                  <a:lnTo>
                    <a:pt x="175089" y="274657"/>
                  </a:lnTo>
                  <a:lnTo>
                    <a:pt x="140212" y="260675"/>
                  </a:lnTo>
                  <a:lnTo>
                    <a:pt x="67398" y="229425"/>
                  </a:lnTo>
                  <a:lnTo>
                    <a:pt x="64982" y="102577"/>
                  </a:lnTo>
                  <a:lnTo>
                    <a:pt x="64865" y="96431"/>
                  </a:lnTo>
                  <a:lnTo>
                    <a:pt x="64784" y="92203"/>
                  </a:lnTo>
                  <a:lnTo>
                    <a:pt x="64659" y="85650"/>
                  </a:lnTo>
                  <a:lnTo>
                    <a:pt x="64631" y="84137"/>
                  </a:lnTo>
                  <a:lnTo>
                    <a:pt x="64517" y="78181"/>
                  </a:lnTo>
                  <a:lnTo>
                    <a:pt x="47613" y="39839"/>
                  </a:lnTo>
                  <a:lnTo>
                    <a:pt x="39573" y="37223"/>
                  </a:lnTo>
                  <a:close/>
                </a:path>
                <a:path w="341630" h="546735">
                  <a:moveTo>
                    <a:pt x="197300" y="282181"/>
                  </a:moveTo>
                  <a:lnTo>
                    <a:pt x="67932" y="282181"/>
                  </a:lnTo>
                  <a:lnTo>
                    <a:pt x="81574" y="290536"/>
                  </a:lnTo>
                  <a:lnTo>
                    <a:pt x="127101" y="316865"/>
                  </a:lnTo>
                  <a:lnTo>
                    <a:pt x="166255" y="337197"/>
                  </a:lnTo>
                  <a:lnTo>
                    <a:pt x="193738" y="346608"/>
                  </a:lnTo>
                  <a:lnTo>
                    <a:pt x="206708" y="343724"/>
                  </a:lnTo>
                  <a:lnTo>
                    <a:pt x="216300" y="336281"/>
                  </a:lnTo>
                  <a:lnTo>
                    <a:pt x="222252" y="326036"/>
                  </a:lnTo>
                  <a:lnTo>
                    <a:pt x="224307" y="314744"/>
                  </a:lnTo>
                  <a:lnTo>
                    <a:pt x="223070" y="305136"/>
                  </a:lnTo>
                  <a:lnTo>
                    <a:pt x="218638" y="295909"/>
                  </a:lnTo>
                  <a:lnTo>
                    <a:pt x="211161" y="288255"/>
                  </a:lnTo>
                  <a:lnTo>
                    <a:pt x="200786" y="283362"/>
                  </a:lnTo>
                  <a:lnTo>
                    <a:pt x="197300" y="282181"/>
                  </a:lnTo>
                  <a:close/>
                </a:path>
                <a:path w="341630" h="546735">
                  <a:moveTo>
                    <a:pt x="190119" y="35636"/>
                  </a:moveTo>
                  <a:lnTo>
                    <a:pt x="183768" y="44821"/>
                  </a:lnTo>
                  <a:lnTo>
                    <a:pt x="183587" y="49390"/>
                  </a:lnTo>
                  <a:lnTo>
                    <a:pt x="183019" y="51574"/>
                  </a:lnTo>
                  <a:lnTo>
                    <a:pt x="183337" y="52349"/>
                  </a:lnTo>
                  <a:lnTo>
                    <a:pt x="183248" y="52603"/>
                  </a:lnTo>
                  <a:lnTo>
                    <a:pt x="184585" y="61048"/>
                  </a:lnTo>
                  <a:lnTo>
                    <a:pt x="198983" y="100126"/>
                  </a:lnTo>
                  <a:lnTo>
                    <a:pt x="224476" y="138231"/>
                  </a:lnTo>
                  <a:lnTo>
                    <a:pt x="241160" y="145745"/>
                  </a:lnTo>
                  <a:lnTo>
                    <a:pt x="243090" y="145745"/>
                  </a:lnTo>
                  <a:lnTo>
                    <a:pt x="252471" y="144007"/>
                  </a:lnTo>
                  <a:lnTo>
                    <a:pt x="260273" y="139398"/>
                  </a:lnTo>
                  <a:lnTo>
                    <a:pt x="266075" y="132564"/>
                  </a:lnTo>
                  <a:lnTo>
                    <a:pt x="269455" y="124155"/>
                  </a:lnTo>
                  <a:lnTo>
                    <a:pt x="258203" y="121653"/>
                  </a:lnTo>
                  <a:lnTo>
                    <a:pt x="269924" y="121653"/>
                  </a:lnTo>
                  <a:lnTo>
                    <a:pt x="270167" y="120078"/>
                  </a:lnTo>
                  <a:lnTo>
                    <a:pt x="270217" y="110375"/>
                  </a:lnTo>
                  <a:lnTo>
                    <a:pt x="267195" y="102577"/>
                  </a:lnTo>
                  <a:lnTo>
                    <a:pt x="261442" y="96431"/>
                  </a:lnTo>
                  <a:lnTo>
                    <a:pt x="251286" y="85900"/>
                  </a:lnTo>
                  <a:lnTo>
                    <a:pt x="240074" y="73829"/>
                  </a:lnTo>
                  <a:lnTo>
                    <a:pt x="228995" y="61299"/>
                  </a:lnTo>
                  <a:lnTo>
                    <a:pt x="219240" y="49390"/>
                  </a:lnTo>
                  <a:lnTo>
                    <a:pt x="214414" y="43408"/>
                  </a:lnTo>
                  <a:lnTo>
                    <a:pt x="210769" y="38747"/>
                  </a:lnTo>
                  <a:lnTo>
                    <a:pt x="202704" y="36563"/>
                  </a:lnTo>
                  <a:lnTo>
                    <a:pt x="201714" y="36258"/>
                  </a:lnTo>
                  <a:lnTo>
                    <a:pt x="200113" y="36118"/>
                  </a:lnTo>
                  <a:lnTo>
                    <a:pt x="198983" y="36118"/>
                  </a:lnTo>
                  <a:lnTo>
                    <a:pt x="190119" y="35636"/>
                  </a:lnTo>
                  <a:close/>
                </a:path>
                <a:path w="341630" h="546735">
                  <a:moveTo>
                    <a:pt x="269924" y="121653"/>
                  </a:moveTo>
                  <a:lnTo>
                    <a:pt x="258203" y="121653"/>
                  </a:lnTo>
                  <a:lnTo>
                    <a:pt x="269557" y="123748"/>
                  </a:lnTo>
                  <a:lnTo>
                    <a:pt x="269862" y="122059"/>
                  </a:lnTo>
                  <a:lnTo>
                    <a:pt x="269924" y="121653"/>
                  </a:lnTo>
                  <a:close/>
                </a:path>
                <a:path w="341630" h="546735">
                  <a:moveTo>
                    <a:pt x="261480" y="0"/>
                  </a:moveTo>
                  <a:lnTo>
                    <a:pt x="254442" y="0"/>
                  </a:lnTo>
                  <a:lnTo>
                    <a:pt x="250825" y="863"/>
                  </a:lnTo>
                  <a:lnTo>
                    <a:pt x="247675" y="4267"/>
                  </a:lnTo>
                  <a:lnTo>
                    <a:pt x="244894" y="7226"/>
                  </a:lnTo>
                  <a:lnTo>
                    <a:pt x="243979" y="10274"/>
                  </a:lnTo>
                  <a:lnTo>
                    <a:pt x="243522" y="12687"/>
                  </a:lnTo>
                  <a:lnTo>
                    <a:pt x="243306" y="13639"/>
                  </a:lnTo>
                  <a:lnTo>
                    <a:pt x="243243" y="15506"/>
                  </a:lnTo>
                  <a:lnTo>
                    <a:pt x="243916" y="23596"/>
                  </a:lnTo>
                  <a:lnTo>
                    <a:pt x="246608" y="27266"/>
                  </a:lnTo>
                  <a:lnTo>
                    <a:pt x="250532" y="35636"/>
                  </a:lnTo>
                  <a:lnTo>
                    <a:pt x="275729" y="74955"/>
                  </a:lnTo>
                  <a:lnTo>
                    <a:pt x="311073" y="102184"/>
                  </a:lnTo>
                  <a:lnTo>
                    <a:pt x="306038" y="102184"/>
                  </a:lnTo>
                  <a:lnTo>
                    <a:pt x="318964" y="102577"/>
                  </a:lnTo>
                  <a:lnTo>
                    <a:pt x="314178" y="102577"/>
                  </a:lnTo>
                  <a:lnTo>
                    <a:pt x="324763" y="100397"/>
                  </a:lnTo>
                  <a:lnTo>
                    <a:pt x="332651" y="95088"/>
                  </a:lnTo>
                  <a:lnTo>
                    <a:pt x="338119" y="87545"/>
                  </a:lnTo>
                  <a:lnTo>
                    <a:pt x="340829" y="78790"/>
                  </a:lnTo>
                  <a:lnTo>
                    <a:pt x="329399" y="77139"/>
                  </a:lnTo>
                  <a:lnTo>
                    <a:pt x="340979" y="77139"/>
                  </a:lnTo>
                  <a:lnTo>
                    <a:pt x="341007" y="73829"/>
                  </a:lnTo>
                  <a:lnTo>
                    <a:pt x="340303" y="67686"/>
                  </a:lnTo>
                  <a:lnTo>
                    <a:pt x="338019" y="61536"/>
                  </a:lnTo>
                  <a:lnTo>
                    <a:pt x="337932" y="61299"/>
                  </a:lnTo>
                  <a:lnTo>
                    <a:pt x="337839" y="61048"/>
                  </a:lnTo>
                  <a:lnTo>
                    <a:pt x="333793" y="54906"/>
                  </a:lnTo>
                  <a:lnTo>
                    <a:pt x="328269" y="49580"/>
                  </a:lnTo>
                  <a:lnTo>
                    <a:pt x="316493" y="40766"/>
                  </a:lnTo>
                  <a:lnTo>
                    <a:pt x="303266" y="30564"/>
                  </a:lnTo>
                  <a:lnTo>
                    <a:pt x="290054" y="19878"/>
                  </a:lnTo>
                  <a:lnTo>
                    <a:pt x="278320" y="9613"/>
                  </a:lnTo>
                  <a:lnTo>
                    <a:pt x="272973" y="4419"/>
                  </a:lnTo>
                  <a:lnTo>
                    <a:pt x="267728" y="1041"/>
                  </a:lnTo>
                  <a:lnTo>
                    <a:pt x="261480" y="0"/>
                  </a:lnTo>
                  <a:close/>
                </a:path>
                <a:path w="341630" h="546735">
                  <a:moveTo>
                    <a:pt x="340979" y="77139"/>
                  </a:moveTo>
                  <a:lnTo>
                    <a:pt x="329399" y="77139"/>
                  </a:lnTo>
                  <a:lnTo>
                    <a:pt x="340906" y="78181"/>
                  </a:lnTo>
                  <a:lnTo>
                    <a:pt x="340979" y="77139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bject 37"/>
            <p:cNvSpPr/>
            <p:nvPr/>
          </p:nvSpPr>
          <p:spPr>
            <a:xfrm>
              <a:off x="1995480" y="334440"/>
              <a:ext cx="166680" cy="264240"/>
            </a:xfrm>
            <a:custGeom>
              <a:avLst/>
              <a:gdLst/>
              <a:ahLst/>
              <a:rect l="l" t="t" r="r" b="b"/>
              <a:pathLst>
                <a:path w="313055" h="494665">
                  <a:moveTo>
                    <a:pt x="285330" y="0"/>
                  </a:moveTo>
                  <a:lnTo>
                    <a:pt x="269989" y="0"/>
                  </a:lnTo>
                  <a:lnTo>
                    <a:pt x="262343" y="2184"/>
                  </a:lnTo>
                  <a:lnTo>
                    <a:pt x="245630" y="31191"/>
                  </a:lnTo>
                  <a:lnTo>
                    <a:pt x="245833" y="50283"/>
                  </a:lnTo>
                  <a:lnTo>
                    <a:pt x="246723" y="87929"/>
                  </a:lnTo>
                  <a:lnTo>
                    <a:pt x="246926" y="107378"/>
                  </a:lnTo>
                  <a:lnTo>
                    <a:pt x="245808" y="168759"/>
                  </a:lnTo>
                  <a:lnTo>
                    <a:pt x="241871" y="239140"/>
                  </a:lnTo>
                  <a:lnTo>
                    <a:pt x="234031" y="290274"/>
                  </a:lnTo>
                  <a:lnTo>
                    <a:pt x="219350" y="339045"/>
                  </a:lnTo>
                  <a:lnTo>
                    <a:pt x="199060" y="384210"/>
                  </a:lnTo>
                  <a:lnTo>
                    <a:pt x="174393" y="424526"/>
                  </a:lnTo>
                  <a:lnTo>
                    <a:pt x="146583" y="458749"/>
                  </a:lnTo>
                  <a:lnTo>
                    <a:pt x="142176" y="463232"/>
                  </a:lnTo>
                  <a:lnTo>
                    <a:pt x="140944" y="468668"/>
                  </a:lnTo>
                  <a:lnTo>
                    <a:pt x="160705" y="494042"/>
                  </a:lnTo>
                  <a:lnTo>
                    <a:pt x="168694" y="493255"/>
                  </a:lnTo>
                  <a:lnTo>
                    <a:pt x="170459" y="490854"/>
                  </a:lnTo>
                  <a:lnTo>
                    <a:pt x="175933" y="487667"/>
                  </a:lnTo>
                  <a:lnTo>
                    <a:pt x="222361" y="443650"/>
                  </a:lnTo>
                  <a:lnTo>
                    <a:pt x="250374" y="406474"/>
                  </a:lnTo>
                  <a:lnTo>
                    <a:pt x="276456" y="360124"/>
                  </a:lnTo>
                  <a:lnTo>
                    <a:pt x="296761" y="305302"/>
                  </a:lnTo>
                  <a:lnTo>
                    <a:pt x="307441" y="242709"/>
                  </a:lnTo>
                  <a:lnTo>
                    <a:pt x="309846" y="203616"/>
                  </a:lnTo>
                  <a:lnTo>
                    <a:pt x="312285" y="138232"/>
                  </a:lnTo>
                  <a:lnTo>
                    <a:pt x="312547" y="110540"/>
                  </a:lnTo>
                  <a:lnTo>
                    <a:pt x="312344" y="89319"/>
                  </a:lnTo>
                  <a:lnTo>
                    <a:pt x="311454" y="51053"/>
                  </a:lnTo>
                  <a:lnTo>
                    <a:pt x="311251" y="33096"/>
                  </a:lnTo>
                  <a:lnTo>
                    <a:pt x="293458" y="2400"/>
                  </a:lnTo>
                  <a:lnTo>
                    <a:pt x="285330" y="0"/>
                  </a:lnTo>
                  <a:close/>
                </a:path>
                <a:path w="313055" h="494665">
                  <a:moveTo>
                    <a:pt x="39535" y="6311"/>
                  </a:moveTo>
                  <a:lnTo>
                    <a:pt x="24142" y="6311"/>
                  </a:lnTo>
                  <a:lnTo>
                    <a:pt x="16268" y="8915"/>
                  </a:lnTo>
                  <a:lnTo>
                    <a:pt x="0" y="38811"/>
                  </a:lnTo>
                  <a:lnTo>
                    <a:pt x="635" y="264172"/>
                  </a:lnTo>
                  <a:lnTo>
                    <a:pt x="24218" y="300456"/>
                  </a:lnTo>
                  <a:lnTo>
                    <a:pt x="32486" y="300456"/>
                  </a:lnTo>
                  <a:lnTo>
                    <a:pt x="62358" y="271835"/>
                  </a:lnTo>
                  <a:lnTo>
                    <a:pt x="63715" y="38811"/>
                  </a:lnTo>
                  <a:lnTo>
                    <a:pt x="63048" y="31688"/>
                  </a:lnTo>
                  <a:lnTo>
                    <a:pt x="39535" y="6311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bject 38"/>
            <p:cNvSpPr/>
            <p:nvPr/>
          </p:nvSpPr>
          <p:spPr>
            <a:xfrm>
              <a:off x="642240" y="498240"/>
              <a:ext cx="77760" cy="155520"/>
            </a:xfrm>
            <a:custGeom>
              <a:avLst/>
              <a:gdLst/>
              <a:ahLst/>
              <a:rect l="l" t="t" r="r" b="b"/>
              <a:pathLst>
                <a:path w="146684" h="291465">
                  <a:moveTo>
                    <a:pt x="77943" y="0"/>
                  </a:moveTo>
                  <a:lnTo>
                    <a:pt x="72025" y="40966"/>
                  </a:lnTo>
                  <a:lnTo>
                    <a:pt x="62320" y="78936"/>
                  </a:lnTo>
                  <a:lnTo>
                    <a:pt x="46155" y="120107"/>
                  </a:lnTo>
                  <a:lnTo>
                    <a:pt x="20856" y="170675"/>
                  </a:lnTo>
                  <a:lnTo>
                    <a:pt x="12389" y="186805"/>
                  </a:lnTo>
                  <a:lnTo>
                    <a:pt x="0" y="223656"/>
                  </a:lnTo>
                  <a:lnTo>
                    <a:pt x="3207" y="263922"/>
                  </a:lnTo>
                  <a:lnTo>
                    <a:pt x="41705" y="290334"/>
                  </a:lnTo>
                  <a:lnTo>
                    <a:pt x="44195" y="290880"/>
                  </a:lnTo>
                  <a:lnTo>
                    <a:pt x="53863" y="290880"/>
                  </a:lnTo>
                  <a:lnTo>
                    <a:pt x="56721" y="290334"/>
                  </a:lnTo>
                  <a:lnTo>
                    <a:pt x="111885" y="277752"/>
                  </a:lnTo>
                  <a:lnTo>
                    <a:pt x="139085" y="259397"/>
                  </a:lnTo>
                  <a:lnTo>
                    <a:pt x="146252" y="222526"/>
                  </a:lnTo>
                  <a:lnTo>
                    <a:pt x="141316" y="154393"/>
                  </a:lnTo>
                  <a:lnTo>
                    <a:pt x="128980" y="102929"/>
                  </a:lnTo>
                  <a:lnTo>
                    <a:pt x="116028" y="64258"/>
                  </a:lnTo>
                  <a:lnTo>
                    <a:pt x="99884" y="32060"/>
                  </a:lnTo>
                  <a:lnTo>
                    <a:pt x="77943" y="0"/>
                  </a:lnTo>
                  <a:close/>
                </a:path>
              </a:pathLst>
            </a:custGeom>
            <a:solidFill>
              <a:srgbClr val="f49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bject 39"/>
            <p:cNvSpPr/>
            <p:nvPr/>
          </p:nvSpPr>
          <p:spPr>
            <a:xfrm>
              <a:off x="616680" y="252360"/>
              <a:ext cx="77760" cy="155520"/>
            </a:xfrm>
            <a:custGeom>
              <a:avLst/>
              <a:gdLst/>
              <a:ahLst/>
              <a:rect l="l" t="t" r="r" b="b"/>
              <a:pathLst>
                <a:path w="146050" h="291465">
                  <a:moveTo>
                    <a:pt x="99395" y="0"/>
                  </a:moveTo>
                  <a:lnTo>
                    <a:pt x="96931" y="152"/>
                  </a:lnTo>
                  <a:lnTo>
                    <a:pt x="94607" y="0"/>
                  </a:lnTo>
                  <a:lnTo>
                    <a:pt x="92003" y="152"/>
                  </a:lnTo>
                  <a:lnTo>
                    <a:pt x="34351" y="12782"/>
                  </a:lnTo>
                  <a:lnTo>
                    <a:pt x="7269" y="30972"/>
                  </a:lnTo>
                  <a:lnTo>
                    <a:pt x="0" y="67977"/>
                  </a:lnTo>
                  <a:lnTo>
                    <a:pt x="4615" y="136537"/>
                  </a:lnTo>
                  <a:lnTo>
                    <a:pt x="16948" y="187976"/>
                  </a:lnTo>
                  <a:lnTo>
                    <a:pt x="29894" y="226639"/>
                  </a:lnTo>
                  <a:lnTo>
                    <a:pt x="46031" y="258836"/>
                  </a:lnTo>
                  <a:lnTo>
                    <a:pt x="67937" y="290880"/>
                  </a:lnTo>
                  <a:lnTo>
                    <a:pt x="73898" y="249920"/>
                  </a:lnTo>
                  <a:lnTo>
                    <a:pt x="83601" y="211951"/>
                  </a:lnTo>
                  <a:lnTo>
                    <a:pt x="99769" y="170785"/>
                  </a:lnTo>
                  <a:lnTo>
                    <a:pt x="125074" y="120230"/>
                  </a:lnTo>
                  <a:lnTo>
                    <a:pt x="133468" y="103986"/>
                  </a:lnTo>
                  <a:lnTo>
                    <a:pt x="145731" y="66948"/>
                  </a:lnTo>
                  <a:lnTo>
                    <a:pt x="142487" y="26662"/>
                  </a:lnTo>
                  <a:lnTo>
                    <a:pt x="104361" y="673"/>
                  </a:lnTo>
                  <a:lnTo>
                    <a:pt x="101897" y="152"/>
                  </a:lnTo>
                  <a:lnTo>
                    <a:pt x="99395" y="0"/>
                  </a:lnTo>
                  <a:close/>
                </a:path>
              </a:pathLst>
            </a:custGeom>
            <a:solidFill>
              <a:srgbClr val="ccd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object 40" descr=""/>
            <p:cNvPicPr/>
            <p:nvPr/>
          </p:nvPicPr>
          <p:blipFill>
            <a:blip r:embed="rId13"/>
            <a:stretch/>
          </p:blipFill>
          <p:spPr>
            <a:xfrm>
              <a:off x="533160" y="495720"/>
              <a:ext cx="114120" cy="11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object 41" descr=""/>
            <p:cNvPicPr/>
            <p:nvPr/>
          </p:nvPicPr>
          <p:blipFill>
            <a:blip r:embed="rId14"/>
            <a:stretch/>
          </p:blipFill>
          <p:spPr>
            <a:xfrm>
              <a:off x="689400" y="292680"/>
              <a:ext cx="114120" cy="11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object 42"/>
            <p:cNvSpPr/>
            <p:nvPr/>
          </p:nvSpPr>
          <p:spPr>
            <a:xfrm>
              <a:off x="468360" y="426600"/>
              <a:ext cx="155160" cy="78120"/>
            </a:xfrm>
            <a:custGeom>
              <a:avLst/>
              <a:gdLst/>
              <a:ahLst/>
              <a:rect l="l" t="t" r="r" b="b"/>
              <a:pathLst>
                <a:path w="291465" h="146684">
                  <a:moveTo>
                    <a:pt x="67225" y="0"/>
                  </a:moveTo>
                  <a:lnTo>
                    <a:pt x="26980" y="3228"/>
                  </a:lnTo>
                  <a:lnTo>
                    <a:pt x="711" y="41529"/>
                  </a:lnTo>
                  <a:lnTo>
                    <a:pt x="165" y="44018"/>
                  </a:lnTo>
                  <a:lnTo>
                    <a:pt x="0" y="46494"/>
                  </a:lnTo>
                  <a:lnTo>
                    <a:pt x="228" y="48958"/>
                  </a:lnTo>
                  <a:lnTo>
                    <a:pt x="0" y="51244"/>
                  </a:lnTo>
                  <a:lnTo>
                    <a:pt x="152" y="53936"/>
                  </a:lnTo>
                  <a:lnTo>
                    <a:pt x="13279" y="111919"/>
                  </a:lnTo>
                  <a:lnTo>
                    <a:pt x="31624" y="139112"/>
                  </a:lnTo>
                  <a:lnTo>
                    <a:pt x="68469" y="146260"/>
                  </a:lnTo>
                  <a:lnTo>
                    <a:pt x="136550" y="141287"/>
                  </a:lnTo>
                  <a:lnTo>
                    <a:pt x="188010" y="128935"/>
                  </a:lnTo>
                  <a:lnTo>
                    <a:pt x="226682" y="115982"/>
                  </a:lnTo>
                  <a:lnTo>
                    <a:pt x="258887" y="99839"/>
                  </a:lnTo>
                  <a:lnTo>
                    <a:pt x="290944" y="77914"/>
                  </a:lnTo>
                  <a:lnTo>
                    <a:pt x="249961" y="72005"/>
                  </a:lnTo>
                  <a:lnTo>
                    <a:pt x="211980" y="62293"/>
                  </a:lnTo>
                  <a:lnTo>
                    <a:pt x="170806" y="46114"/>
                  </a:lnTo>
                  <a:lnTo>
                    <a:pt x="120243" y="20802"/>
                  </a:lnTo>
                  <a:lnTo>
                    <a:pt x="104097" y="12353"/>
                  </a:lnTo>
                  <a:lnTo>
                    <a:pt x="67225" y="0"/>
                  </a:lnTo>
                  <a:close/>
                </a:path>
              </a:pathLst>
            </a:custGeom>
            <a:solidFill>
              <a:srgbClr val="f9a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object 43"/>
            <p:cNvGrpSpPr/>
            <p:nvPr/>
          </p:nvGrpSpPr>
          <p:grpSpPr>
            <a:xfrm>
              <a:off x="711000" y="401040"/>
              <a:ext cx="157320" cy="187920"/>
              <a:chOff x="711000" y="401040"/>
              <a:chExt cx="157320" cy="187920"/>
            </a:xfrm>
          </p:grpSpPr>
          <p:sp>
            <p:nvSpPr>
              <p:cNvPr id="78" name="object 44"/>
              <p:cNvSpPr/>
              <p:nvPr/>
            </p:nvSpPr>
            <p:spPr>
              <a:xfrm>
                <a:off x="713160" y="401040"/>
                <a:ext cx="155160" cy="78480"/>
              </a:xfrm>
              <a:custGeom>
                <a:avLst/>
                <a:gdLst/>
                <a:ahLst/>
                <a:rect l="l" t="t" r="r" b="b"/>
                <a:pathLst>
                  <a:path w="291465" h="146684">
                    <a:moveTo>
                      <a:pt x="222499" y="0"/>
                    </a:moveTo>
                    <a:lnTo>
                      <a:pt x="154419" y="4929"/>
                    </a:lnTo>
                    <a:lnTo>
                      <a:pt x="102948" y="17278"/>
                    </a:lnTo>
                    <a:lnTo>
                      <a:pt x="64265" y="30235"/>
                    </a:lnTo>
                    <a:lnTo>
                      <a:pt x="0" y="68315"/>
                    </a:lnTo>
                    <a:lnTo>
                      <a:pt x="40973" y="74221"/>
                    </a:lnTo>
                    <a:lnTo>
                      <a:pt x="78960" y="83939"/>
                    </a:lnTo>
                    <a:lnTo>
                      <a:pt x="120145" y="100129"/>
                    </a:lnTo>
                    <a:lnTo>
                      <a:pt x="170713" y="125452"/>
                    </a:lnTo>
                    <a:lnTo>
                      <a:pt x="186793" y="133860"/>
                    </a:lnTo>
                    <a:lnTo>
                      <a:pt x="223551" y="146145"/>
                    </a:lnTo>
                    <a:lnTo>
                      <a:pt x="263767" y="142902"/>
                    </a:lnTo>
                    <a:lnTo>
                      <a:pt x="290220" y="104726"/>
                    </a:lnTo>
                    <a:lnTo>
                      <a:pt x="290957" y="99747"/>
                    </a:lnTo>
                    <a:lnTo>
                      <a:pt x="290753" y="97283"/>
                    </a:lnTo>
                    <a:lnTo>
                      <a:pt x="290957" y="94972"/>
                    </a:lnTo>
                    <a:lnTo>
                      <a:pt x="290804" y="92369"/>
                    </a:lnTo>
                    <a:lnTo>
                      <a:pt x="290220" y="89486"/>
                    </a:lnTo>
                    <a:lnTo>
                      <a:pt x="277668" y="34351"/>
                    </a:lnTo>
                    <a:lnTo>
                      <a:pt x="259338" y="7164"/>
                    </a:lnTo>
                    <a:lnTo>
                      <a:pt x="222499" y="0"/>
                    </a:lnTo>
                    <a:close/>
                  </a:path>
                </a:pathLst>
              </a:custGeom>
              <a:solidFill>
                <a:srgbClr val="84be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9" name="object 45" descr=""/>
              <p:cNvPicPr/>
              <p:nvPr/>
            </p:nvPicPr>
            <p:blipFill>
              <a:blip r:embed="rId15"/>
              <a:stretch/>
            </p:blipFill>
            <p:spPr>
              <a:xfrm>
                <a:off x="711000" y="474120"/>
                <a:ext cx="117000" cy="114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0" name="object 46" descr=""/>
            <p:cNvPicPr/>
            <p:nvPr/>
          </p:nvPicPr>
          <p:blipFill>
            <a:blip r:embed="rId16"/>
            <a:stretch/>
          </p:blipFill>
          <p:spPr>
            <a:xfrm>
              <a:off x="508320" y="317520"/>
              <a:ext cx="116640" cy="1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object 47"/>
            <p:cNvSpPr/>
            <p:nvPr/>
          </p:nvSpPr>
          <p:spPr>
            <a:xfrm>
              <a:off x="5260320" y="498240"/>
              <a:ext cx="77760" cy="155520"/>
            </a:xfrm>
            <a:custGeom>
              <a:avLst/>
              <a:gdLst/>
              <a:ahLst/>
              <a:rect l="l" t="t" r="r" b="b"/>
              <a:pathLst>
                <a:path w="146684" h="291465">
                  <a:moveTo>
                    <a:pt x="77939" y="0"/>
                  </a:moveTo>
                  <a:lnTo>
                    <a:pt x="72022" y="40953"/>
                  </a:lnTo>
                  <a:lnTo>
                    <a:pt x="62317" y="78924"/>
                  </a:lnTo>
                  <a:lnTo>
                    <a:pt x="46151" y="120095"/>
                  </a:lnTo>
                  <a:lnTo>
                    <a:pt x="20853" y="170662"/>
                  </a:lnTo>
                  <a:lnTo>
                    <a:pt x="12387" y="186792"/>
                  </a:lnTo>
                  <a:lnTo>
                    <a:pt x="0" y="223643"/>
                  </a:lnTo>
                  <a:lnTo>
                    <a:pt x="3204" y="263909"/>
                  </a:lnTo>
                  <a:lnTo>
                    <a:pt x="41516" y="290283"/>
                  </a:lnTo>
                  <a:lnTo>
                    <a:pt x="44018" y="290830"/>
                  </a:lnTo>
                  <a:lnTo>
                    <a:pt x="46570" y="290944"/>
                  </a:lnTo>
                  <a:lnTo>
                    <a:pt x="48996" y="290753"/>
                  </a:lnTo>
                  <a:lnTo>
                    <a:pt x="51333" y="290944"/>
                  </a:lnTo>
                  <a:lnTo>
                    <a:pt x="53873" y="290868"/>
                  </a:lnTo>
                  <a:lnTo>
                    <a:pt x="111889" y="277739"/>
                  </a:lnTo>
                  <a:lnTo>
                    <a:pt x="139090" y="259384"/>
                  </a:lnTo>
                  <a:lnTo>
                    <a:pt x="146250" y="222513"/>
                  </a:lnTo>
                  <a:lnTo>
                    <a:pt x="141300" y="154381"/>
                  </a:lnTo>
                  <a:lnTo>
                    <a:pt x="128969" y="102916"/>
                  </a:lnTo>
                  <a:lnTo>
                    <a:pt x="116016" y="64246"/>
                  </a:lnTo>
                  <a:lnTo>
                    <a:pt x="99864" y="32048"/>
                  </a:lnTo>
                  <a:lnTo>
                    <a:pt x="77939" y="0"/>
                  </a:lnTo>
                  <a:close/>
                </a:path>
              </a:pathLst>
            </a:custGeom>
            <a:solidFill>
              <a:srgbClr val="f49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bject 48"/>
            <p:cNvSpPr/>
            <p:nvPr/>
          </p:nvSpPr>
          <p:spPr>
            <a:xfrm>
              <a:off x="5234760" y="252360"/>
              <a:ext cx="77760" cy="155520"/>
            </a:xfrm>
            <a:custGeom>
              <a:avLst/>
              <a:gdLst/>
              <a:ahLst/>
              <a:rect l="l" t="t" r="r" b="b"/>
              <a:pathLst>
                <a:path w="146050" h="291465">
                  <a:moveTo>
                    <a:pt x="99389" y="0"/>
                  </a:moveTo>
                  <a:lnTo>
                    <a:pt x="96951" y="152"/>
                  </a:lnTo>
                  <a:lnTo>
                    <a:pt x="94627" y="0"/>
                  </a:lnTo>
                  <a:lnTo>
                    <a:pt x="91998" y="152"/>
                  </a:lnTo>
                  <a:lnTo>
                    <a:pt x="34351" y="12782"/>
                  </a:lnTo>
                  <a:lnTo>
                    <a:pt x="7267" y="30972"/>
                  </a:lnTo>
                  <a:lnTo>
                    <a:pt x="0" y="67977"/>
                  </a:lnTo>
                  <a:lnTo>
                    <a:pt x="4622" y="136537"/>
                  </a:lnTo>
                  <a:lnTo>
                    <a:pt x="16961" y="187976"/>
                  </a:lnTo>
                  <a:lnTo>
                    <a:pt x="29908" y="226639"/>
                  </a:lnTo>
                  <a:lnTo>
                    <a:pt x="46045" y="258836"/>
                  </a:lnTo>
                  <a:lnTo>
                    <a:pt x="67957" y="290880"/>
                  </a:lnTo>
                  <a:lnTo>
                    <a:pt x="73884" y="249920"/>
                  </a:lnTo>
                  <a:lnTo>
                    <a:pt x="83602" y="211951"/>
                  </a:lnTo>
                  <a:lnTo>
                    <a:pt x="99784" y="170785"/>
                  </a:lnTo>
                  <a:lnTo>
                    <a:pt x="125107" y="120230"/>
                  </a:lnTo>
                  <a:lnTo>
                    <a:pt x="133497" y="103986"/>
                  </a:lnTo>
                  <a:lnTo>
                    <a:pt x="145752" y="66948"/>
                  </a:lnTo>
                  <a:lnTo>
                    <a:pt x="142504" y="26662"/>
                  </a:lnTo>
                  <a:lnTo>
                    <a:pt x="104380" y="673"/>
                  </a:lnTo>
                  <a:lnTo>
                    <a:pt x="101904" y="152"/>
                  </a:lnTo>
                  <a:lnTo>
                    <a:pt x="99389" y="0"/>
                  </a:lnTo>
                  <a:close/>
                </a:path>
              </a:pathLst>
            </a:custGeom>
            <a:solidFill>
              <a:srgbClr val="ccd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object 49" descr=""/>
            <p:cNvPicPr/>
            <p:nvPr/>
          </p:nvPicPr>
          <p:blipFill>
            <a:blip r:embed="rId17"/>
            <a:stretch/>
          </p:blipFill>
          <p:spPr>
            <a:xfrm>
              <a:off x="5150880" y="495720"/>
              <a:ext cx="114120" cy="11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object 50" descr=""/>
            <p:cNvPicPr/>
            <p:nvPr/>
          </p:nvPicPr>
          <p:blipFill>
            <a:blip r:embed="rId18"/>
            <a:stretch/>
          </p:blipFill>
          <p:spPr>
            <a:xfrm>
              <a:off x="5307120" y="292680"/>
              <a:ext cx="114120" cy="11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object 51"/>
            <p:cNvSpPr/>
            <p:nvPr/>
          </p:nvSpPr>
          <p:spPr>
            <a:xfrm>
              <a:off x="5086080" y="426600"/>
              <a:ext cx="155160" cy="78120"/>
            </a:xfrm>
            <a:custGeom>
              <a:avLst/>
              <a:gdLst/>
              <a:ahLst/>
              <a:rect l="l" t="t" r="r" b="b"/>
              <a:pathLst>
                <a:path w="291465" h="146684">
                  <a:moveTo>
                    <a:pt x="67206" y="0"/>
                  </a:moveTo>
                  <a:lnTo>
                    <a:pt x="26956" y="3228"/>
                  </a:lnTo>
                  <a:lnTo>
                    <a:pt x="685" y="41529"/>
                  </a:lnTo>
                  <a:lnTo>
                    <a:pt x="165" y="44018"/>
                  </a:lnTo>
                  <a:lnTo>
                    <a:pt x="0" y="46494"/>
                  </a:lnTo>
                  <a:lnTo>
                    <a:pt x="215" y="48958"/>
                  </a:lnTo>
                  <a:lnTo>
                    <a:pt x="0" y="51244"/>
                  </a:lnTo>
                  <a:lnTo>
                    <a:pt x="114" y="53936"/>
                  </a:lnTo>
                  <a:lnTo>
                    <a:pt x="13259" y="111919"/>
                  </a:lnTo>
                  <a:lnTo>
                    <a:pt x="31600" y="139112"/>
                  </a:lnTo>
                  <a:lnTo>
                    <a:pt x="68444" y="146260"/>
                  </a:lnTo>
                  <a:lnTo>
                    <a:pt x="136524" y="141287"/>
                  </a:lnTo>
                  <a:lnTo>
                    <a:pt x="187991" y="128935"/>
                  </a:lnTo>
                  <a:lnTo>
                    <a:pt x="226668" y="115982"/>
                  </a:lnTo>
                  <a:lnTo>
                    <a:pt x="258874" y="99839"/>
                  </a:lnTo>
                  <a:lnTo>
                    <a:pt x="290931" y="77914"/>
                  </a:lnTo>
                  <a:lnTo>
                    <a:pt x="249945" y="72005"/>
                  </a:lnTo>
                  <a:lnTo>
                    <a:pt x="211958" y="62293"/>
                  </a:lnTo>
                  <a:lnTo>
                    <a:pt x="170782" y="46114"/>
                  </a:lnTo>
                  <a:lnTo>
                    <a:pt x="120230" y="20802"/>
                  </a:lnTo>
                  <a:lnTo>
                    <a:pt x="104082" y="12353"/>
                  </a:lnTo>
                  <a:lnTo>
                    <a:pt x="67206" y="0"/>
                  </a:lnTo>
                  <a:close/>
                </a:path>
              </a:pathLst>
            </a:custGeom>
            <a:solidFill>
              <a:srgbClr val="f9a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bject 52"/>
            <p:cNvSpPr/>
            <p:nvPr/>
          </p:nvSpPr>
          <p:spPr>
            <a:xfrm>
              <a:off x="5331240" y="401040"/>
              <a:ext cx="155160" cy="78120"/>
            </a:xfrm>
            <a:custGeom>
              <a:avLst/>
              <a:gdLst/>
              <a:ahLst/>
              <a:rect l="l" t="t" r="r" b="b"/>
              <a:pathLst>
                <a:path w="291465" h="146684">
                  <a:moveTo>
                    <a:pt x="222519" y="0"/>
                  </a:moveTo>
                  <a:lnTo>
                    <a:pt x="154432" y="4929"/>
                  </a:lnTo>
                  <a:lnTo>
                    <a:pt x="102955" y="17278"/>
                  </a:lnTo>
                  <a:lnTo>
                    <a:pt x="64271" y="30235"/>
                  </a:lnTo>
                  <a:lnTo>
                    <a:pt x="0" y="68315"/>
                  </a:lnTo>
                  <a:lnTo>
                    <a:pt x="40975" y="74221"/>
                  </a:lnTo>
                  <a:lnTo>
                    <a:pt x="78965" y="83939"/>
                  </a:lnTo>
                  <a:lnTo>
                    <a:pt x="120150" y="100129"/>
                  </a:lnTo>
                  <a:lnTo>
                    <a:pt x="170713" y="125452"/>
                  </a:lnTo>
                  <a:lnTo>
                    <a:pt x="186793" y="133860"/>
                  </a:lnTo>
                  <a:lnTo>
                    <a:pt x="223554" y="146145"/>
                  </a:lnTo>
                  <a:lnTo>
                    <a:pt x="263778" y="142902"/>
                  </a:lnTo>
                  <a:lnTo>
                    <a:pt x="290245" y="104726"/>
                  </a:lnTo>
                  <a:lnTo>
                    <a:pt x="290779" y="102287"/>
                  </a:lnTo>
                  <a:lnTo>
                    <a:pt x="290962" y="100129"/>
                  </a:lnTo>
                  <a:lnTo>
                    <a:pt x="290995" y="99747"/>
                  </a:lnTo>
                  <a:lnTo>
                    <a:pt x="290753" y="97283"/>
                  </a:lnTo>
                  <a:lnTo>
                    <a:pt x="290995" y="94972"/>
                  </a:lnTo>
                  <a:lnTo>
                    <a:pt x="290804" y="92369"/>
                  </a:lnTo>
                  <a:lnTo>
                    <a:pt x="290245" y="89486"/>
                  </a:lnTo>
                  <a:lnTo>
                    <a:pt x="277693" y="34351"/>
                  </a:lnTo>
                  <a:lnTo>
                    <a:pt x="259362" y="7164"/>
                  </a:lnTo>
                  <a:lnTo>
                    <a:pt x="222519" y="0"/>
                  </a:lnTo>
                  <a:close/>
                </a:path>
              </a:pathLst>
            </a:custGeom>
            <a:solidFill>
              <a:srgbClr val="84b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object 53" descr=""/>
            <p:cNvPicPr/>
            <p:nvPr/>
          </p:nvPicPr>
          <p:blipFill>
            <a:blip r:embed="rId19"/>
            <a:stretch/>
          </p:blipFill>
          <p:spPr>
            <a:xfrm>
              <a:off x="5126400" y="317520"/>
              <a:ext cx="116640" cy="11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object 54" descr=""/>
            <p:cNvPicPr/>
            <p:nvPr/>
          </p:nvPicPr>
          <p:blipFill>
            <a:blip r:embed="rId20"/>
            <a:stretch/>
          </p:blipFill>
          <p:spPr>
            <a:xfrm>
              <a:off x="5329080" y="474120"/>
              <a:ext cx="116640" cy="1144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1"/>
    <p:sldLayoutId id="2147483650" r:id="rId22"/>
    <p:sldLayoutId id="2147483651" r:id="rId23"/>
    <p:sldLayoutId id="2147483652" r:id="rId24"/>
    <p:sldLayoutId id="2147483653" r:id="rId25"/>
    <p:sldLayoutId id="2147483654" r:id="rId26"/>
    <p:sldLayoutId id="2147483655" r:id="rId27"/>
    <p:sldLayoutId id="2147483656" r:id="rId28"/>
    <p:sldLayoutId id="2147483657" r:id="rId29"/>
    <p:sldLayoutId id="2147483658" r:id="rId30"/>
    <p:sldLayoutId id="2147483659" r:id="rId31"/>
    <p:sldLayoutId id="2147483660" r:id="rId3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</dc:creator>
  <dc:description/>
  <dc:language>en-US</dc:language>
  <cp:lastModifiedBy>irodori34</cp:lastModifiedBy>
  <dcterms:modified xsi:type="dcterms:W3CDTF">2025-11-24T07:50:03Z</dcterms:modified>
  <cp:revision>24</cp:revision>
  <dc:subject/>
  <dc:title/>
</cp:coreProperties>
</file>