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tretch/>
        </p:blipFill>
        <p:spPr>
          <a:xfrm>
            <a:off x="4579920" y="5099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800360" y="1692360"/>
            <a:ext cx="2340000" cy="331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9"/>
          <p:cNvSpPr/>
          <p:nvPr/>
        </p:nvSpPr>
        <p:spPr>
          <a:xfrm>
            <a:off x="2016000" y="1908000"/>
            <a:ext cx="1908360" cy="2881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7"/>
          <p:cNvSpPr/>
          <p:nvPr/>
        </p:nvSpPr>
        <p:spPr>
          <a:xfrm>
            <a:off x="1908000" y="1800360"/>
            <a:ext cx="2124360" cy="3097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8"/>
          <p:cNvSpPr/>
          <p:nvPr/>
        </p:nvSpPr>
        <p:spPr>
          <a:xfrm>
            <a:off x="541440" y="2581200"/>
            <a:ext cx="1028520" cy="703440"/>
          </a:xfrm>
          <a:prstGeom prst="wedgeRoundRectCallout">
            <a:avLst>
              <a:gd name="adj1" fmla="val 92643"/>
              <a:gd name="adj2" fmla="val -4887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29"/>
          <p:cNvSpPr/>
          <p:nvPr/>
        </p:nvSpPr>
        <p:spPr>
          <a:xfrm>
            <a:off x="534960" y="1908000"/>
            <a:ext cx="1028880" cy="571680"/>
          </a:xfrm>
          <a:prstGeom prst="wedgeRoundRectCallout">
            <a:avLst>
              <a:gd name="adj1" fmla="val 81740"/>
              <a:gd name="adj2" fmla="val -40740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0"/>
          <p:cNvSpPr/>
          <p:nvPr/>
        </p:nvSpPr>
        <p:spPr>
          <a:xfrm>
            <a:off x="358920" y="5640480"/>
            <a:ext cx="4105080" cy="98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31"/>
          <p:cNvSpPr/>
          <p:nvPr/>
        </p:nvSpPr>
        <p:spPr>
          <a:xfrm>
            <a:off x="3086280" y="5230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2"/>
          <p:cNvSpPr/>
          <p:nvPr/>
        </p:nvSpPr>
        <p:spPr>
          <a:xfrm>
            <a:off x="3070080" y="122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34"/>
          <p:cNvSpPr/>
          <p:nvPr/>
        </p:nvSpPr>
        <p:spPr>
          <a:xfrm>
            <a:off x="4370400" y="21495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グループ化 1"/>
          <p:cNvGrpSpPr/>
          <p:nvPr/>
        </p:nvGrpSpPr>
        <p:grpSpPr>
          <a:xfrm>
            <a:off x="1450800" y="1343160"/>
            <a:ext cx="3038760" cy="4011480"/>
            <a:chOff x="1450800" y="1343160"/>
            <a:chExt cx="3038760" cy="4011480"/>
          </a:xfrm>
        </p:grpSpPr>
        <p:grpSp>
          <p:nvGrpSpPr>
            <p:cNvPr id="11" name="object 2"/>
            <p:cNvGrpSpPr/>
            <p:nvPr/>
          </p:nvGrpSpPr>
          <p:grpSpPr>
            <a:xfrm>
              <a:off x="1473840" y="4895640"/>
              <a:ext cx="436320" cy="436320"/>
              <a:chOff x="1473840" y="4895640"/>
              <a:chExt cx="436320" cy="43632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47384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47384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473840" y="1366200"/>
              <a:ext cx="436320" cy="436320"/>
              <a:chOff x="1473840" y="1366200"/>
              <a:chExt cx="436320" cy="43632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47384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47384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4030560" y="1366200"/>
              <a:ext cx="436320" cy="436320"/>
              <a:chOff x="4030560" y="1366200"/>
              <a:chExt cx="436320" cy="43632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4139280" y="136620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4030560" y="13662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4030560" y="4895640"/>
              <a:ext cx="436320" cy="436320"/>
              <a:chOff x="4030560" y="4895640"/>
              <a:chExt cx="436320" cy="43632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4139280" y="4895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4030560" y="5004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1450800" y="2891520"/>
              <a:ext cx="304560" cy="914400"/>
              <a:chOff x="1450800" y="2891520"/>
              <a:chExt cx="304560" cy="91440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1450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167940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4185000" y="2891520"/>
              <a:ext cx="304560" cy="914400"/>
              <a:chOff x="4185000" y="2891520"/>
              <a:chExt cx="304560" cy="91440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41850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4260960" y="2891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2512800" y="1343160"/>
              <a:ext cx="914400" cy="304560"/>
              <a:chOff x="2512800" y="1343160"/>
              <a:chExt cx="91440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2512800" y="15717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2970000" y="13431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2512800" y="5050080"/>
              <a:ext cx="914400" cy="304560"/>
              <a:chOff x="2512800" y="5050080"/>
              <a:chExt cx="91440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2512800" y="5126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2970000" y="5050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グループ化 26"/>
          <p:cNvGrpSpPr/>
          <p:nvPr/>
        </p:nvGrpSpPr>
        <p:grpSpPr>
          <a:xfrm>
            <a:off x="468360" y="252360"/>
            <a:ext cx="5018040" cy="628560"/>
            <a:chOff x="468360" y="252360"/>
            <a:chExt cx="5018040" cy="628560"/>
          </a:xfrm>
        </p:grpSpPr>
        <p:sp>
          <p:nvSpPr>
            <p:cNvPr id="36" name="object 2"/>
            <p:cNvSpPr/>
            <p:nvPr/>
          </p:nvSpPr>
          <p:spPr>
            <a:xfrm>
              <a:off x="2368440" y="285120"/>
              <a:ext cx="112680" cy="182520"/>
            </a:xfrm>
            <a:custGeom>
              <a:avLst/>
              <a:gdLst/>
              <a:ahLst/>
              <a:rect l="l" t="t" r="r" b="b"/>
              <a:pathLst>
                <a:path w="212089" h="342900">
                  <a:moveTo>
                    <a:pt x="1143" y="0"/>
                  </a:moveTo>
                  <a:lnTo>
                    <a:pt x="1643" y="23550"/>
                  </a:lnTo>
                  <a:lnTo>
                    <a:pt x="2214" y="95363"/>
                  </a:lnTo>
                  <a:lnTo>
                    <a:pt x="2143" y="197047"/>
                  </a:lnTo>
                  <a:lnTo>
                    <a:pt x="1714" y="253542"/>
                  </a:lnTo>
                  <a:lnTo>
                    <a:pt x="1000" y="303751"/>
                  </a:lnTo>
                  <a:lnTo>
                    <a:pt x="0" y="342887"/>
                  </a:lnTo>
                  <a:lnTo>
                    <a:pt x="54102" y="342506"/>
                  </a:lnTo>
                  <a:lnTo>
                    <a:pt x="53599" y="314955"/>
                  </a:lnTo>
                  <a:lnTo>
                    <a:pt x="53019" y="242427"/>
                  </a:lnTo>
                  <a:lnTo>
                    <a:pt x="52946" y="145541"/>
                  </a:lnTo>
                  <a:lnTo>
                    <a:pt x="85783" y="161727"/>
                  </a:lnTo>
                  <a:lnTo>
                    <a:pt x="121007" y="181344"/>
                  </a:lnTo>
                  <a:lnTo>
                    <a:pt x="154585" y="202107"/>
                  </a:lnTo>
                  <a:lnTo>
                    <a:pt x="182486" y="221729"/>
                  </a:lnTo>
                  <a:lnTo>
                    <a:pt x="211823" y="176402"/>
                  </a:lnTo>
                  <a:lnTo>
                    <a:pt x="179987" y="157078"/>
                  </a:lnTo>
                  <a:lnTo>
                    <a:pt x="146296" y="138110"/>
                  </a:lnTo>
                  <a:lnTo>
                    <a:pt x="112601" y="120569"/>
                  </a:lnTo>
                  <a:lnTo>
                    <a:pt x="80759" y="105524"/>
                  </a:lnTo>
                  <a:lnTo>
                    <a:pt x="52946" y="134492"/>
                  </a:lnTo>
                  <a:lnTo>
                    <a:pt x="53424" y="53767"/>
                  </a:lnTo>
                  <a:lnTo>
                    <a:pt x="54483" y="749"/>
                  </a:lnTo>
                  <a:lnTo>
                    <a:pt x="114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3"/>
            <p:cNvSpPr/>
            <p:nvPr/>
          </p:nvSpPr>
          <p:spPr>
            <a:xfrm>
              <a:off x="2519640" y="292320"/>
              <a:ext cx="196920" cy="168120"/>
            </a:xfrm>
            <a:custGeom>
              <a:avLst/>
              <a:gdLst/>
              <a:ahLst/>
              <a:rect l="l" t="t" r="r" b="b"/>
              <a:pathLst>
                <a:path w="370204" h="315595">
                  <a:moveTo>
                    <a:pt x="299453" y="145529"/>
                  </a:moveTo>
                  <a:lnTo>
                    <a:pt x="268592" y="104775"/>
                  </a:lnTo>
                  <a:lnTo>
                    <a:pt x="229196" y="148043"/>
                  </a:lnTo>
                  <a:lnTo>
                    <a:pt x="183083" y="185356"/>
                  </a:lnTo>
                  <a:lnTo>
                    <a:pt x="134747" y="215773"/>
                  </a:lnTo>
                  <a:lnTo>
                    <a:pt x="88722" y="238366"/>
                  </a:lnTo>
                  <a:lnTo>
                    <a:pt x="49530" y="252209"/>
                  </a:lnTo>
                  <a:lnTo>
                    <a:pt x="49758" y="205257"/>
                  </a:lnTo>
                  <a:lnTo>
                    <a:pt x="50444" y="150444"/>
                  </a:lnTo>
                  <a:lnTo>
                    <a:pt x="51587" y="94068"/>
                  </a:lnTo>
                  <a:lnTo>
                    <a:pt x="53187" y="42456"/>
                  </a:lnTo>
                  <a:lnTo>
                    <a:pt x="55245" y="1905"/>
                  </a:lnTo>
                  <a:lnTo>
                    <a:pt x="0" y="0"/>
                  </a:lnTo>
                  <a:lnTo>
                    <a:pt x="711" y="22440"/>
                  </a:lnTo>
                  <a:lnTo>
                    <a:pt x="1181" y="51003"/>
                  </a:lnTo>
                  <a:lnTo>
                    <a:pt x="1524" y="120002"/>
                  </a:lnTo>
                  <a:lnTo>
                    <a:pt x="1041" y="210489"/>
                  </a:lnTo>
                  <a:lnTo>
                    <a:pt x="0" y="286118"/>
                  </a:lnTo>
                  <a:lnTo>
                    <a:pt x="32004" y="315455"/>
                  </a:lnTo>
                  <a:lnTo>
                    <a:pt x="86918" y="295300"/>
                  </a:lnTo>
                  <a:lnTo>
                    <a:pt x="137223" y="271818"/>
                  </a:lnTo>
                  <a:lnTo>
                    <a:pt x="183286" y="245071"/>
                  </a:lnTo>
                  <a:lnTo>
                    <a:pt x="225450" y="215074"/>
                  </a:lnTo>
                  <a:lnTo>
                    <a:pt x="264045" y="181876"/>
                  </a:lnTo>
                  <a:lnTo>
                    <a:pt x="299453" y="145529"/>
                  </a:lnTo>
                  <a:close/>
                </a:path>
                <a:path w="370204" h="315595">
                  <a:moveTo>
                    <a:pt x="369646" y="178168"/>
                  </a:moveTo>
                  <a:lnTo>
                    <a:pt x="340690" y="178168"/>
                  </a:lnTo>
                  <a:lnTo>
                    <a:pt x="340690" y="179438"/>
                  </a:lnTo>
                  <a:lnTo>
                    <a:pt x="369646" y="179438"/>
                  </a:lnTo>
                  <a:lnTo>
                    <a:pt x="369646" y="17816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4"/>
            <p:cNvSpPr/>
            <p:nvPr/>
          </p:nvSpPr>
          <p:spPr>
            <a:xfrm>
              <a:off x="2701080" y="36072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bject 5"/>
            <p:cNvSpPr/>
            <p:nvPr/>
          </p:nvSpPr>
          <p:spPr>
            <a:xfrm>
              <a:off x="2900160" y="297720"/>
              <a:ext cx="339840" cy="171000"/>
            </a:xfrm>
            <a:custGeom>
              <a:avLst/>
              <a:gdLst/>
              <a:ahLst/>
              <a:rect l="l" t="t" r="r" b="b"/>
              <a:pathLst>
                <a:path w="638810" h="321309">
                  <a:moveTo>
                    <a:pt x="266687" y="3441"/>
                  </a:moveTo>
                  <a:lnTo>
                    <a:pt x="248564" y="3937"/>
                  </a:lnTo>
                  <a:lnTo>
                    <a:pt x="195059" y="4508"/>
                  </a:lnTo>
                  <a:lnTo>
                    <a:pt x="131178" y="4508"/>
                  </a:lnTo>
                  <a:lnTo>
                    <a:pt x="72517" y="3937"/>
                  </a:lnTo>
                  <a:lnTo>
                    <a:pt x="49911" y="3441"/>
                  </a:lnTo>
                  <a:lnTo>
                    <a:pt x="49911" y="49911"/>
                  </a:lnTo>
                  <a:lnTo>
                    <a:pt x="135788" y="48844"/>
                  </a:lnTo>
                  <a:lnTo>
                    <a:pt x="199720" y="48844"/>
                  </a:lnTo>
                  <a:lnTo>
                    <a:pt x="249745" y="49415"/>
                  </a:lnTo>
                  <a:lnTo>
                    <a:pt x="266687" y="49911"/>
                  </a:lnTo>
                  <a:lnTo>
                    <a:pt x="266687" y="48844"/>
                  </a:lnTo>
                  <a:lnTo>
                    <a:pt x="266687" y="4508"/>
                  </a:lnTo>
                  <a:lnTo>
                    <a:pt x="266687" y="3441"/>
                  </a:lnTo>
                  <a:close/>
                </a:path>
                <a:path w="638810" h="321309">
                  <a:moveTo>
                    <a:pt x="328777" y="76200"/>
                  </a:moveTo>
                  <a:lnTo>
                    <a:pt x="321818" y="64731"/>
                  </a:lnTo>
                  <a:lnTo>
                    <a:pt x="314210" y="53301"/>
                  </a:lnTo>
                  <a:lnTo>
                    <a:pt x="306171" y="42075"/>
                  </a:lnTo>
                  <a:lnTo>
                    <a:pt x="297929" y="31242"/>
                  </a:lnTo>
                  <a:lnTo>
                    <a:pt x="272402" y="44577"/>
                  </a:lnTo>
                  <a:lnTo>
                    <a:pt x="280365" y="55803"/>
                  </a:lnTo>
                  <a:lnTo>
                    <a:pt x="288112" y="67538"/>
                  </a:lnTo>
                  <a:lnTo>
                    <a:pt x="295440" y="79400"/>
                  </a:lnTo>
                  <a:lnTo>
                    <a:pt x="302120" y="91059"/>
                  </a:lnTo>
                  <a:lnTo>
                    <a:pt x="328777" y="76200"/>
                  </a:lnTo>
                  <a:close/>
                </a:path>
                <a:path w="638810" h="321309">
                  <a:moveTo>
                    <a:pt x="330695" y="95643"/>
                  </a:moveTo>
                  <a:lnTo>
                    <a:pt x="166001" y="97167"/>
                  </a:lnTo>
                  <a:lnTo>
                    <a:pt x="99745" y="97167"/>
                  </a:lnTo>
                  <a:lnTo>
                    <a:pt x="22682" y="96354"/>
                  </a:lnTo>
                  <a:lnTo>
                    <a:pt x="0" y="95643"/>
                  </a:lnTo>
                  <a:lnTo>
                    <a:pt x="0" y="144018"/>
                  </a:lnTo>
                  <a:lnTo>
                    <a:pt x="153060" y="143497"/>
                  </a:lnTo>
                  <a:lnTo>
                    <a:pt x="147307" y="187642"/>
                  </a:lnTo>
                  <a:lnTo>
                    <a:pt x="128955" y="226174"/>
                  </a:lnTo>
                  <a:lnTo>
                    <a:pt x="96037" y="257911"/>
                  </a:lnTo>
                  <a:lnTo>
                    <a:pt x="46482" y="282321"/>
                  </a:lnTo>
                  <a:lnTo>
                    <a:pt x="93345" y="320789"/>
                  </a:lnTo>
                  <a:lnTo>
                    <a:pt x="131241" y="297903"/>
                  </a:lnTo>
                  <a:lnTo>
                    <a:pt x="160997" y="271614"/>
                  </a:lnTo>
                  <a:lnTo>
                    <a:pt x="182892" y="238975"/>
                  </a:lnTo>
                  <a:lnTo>
                    <a:pt x="197205" y="197040"/>
                  </a:lnTo>
                  <a:lnTo>
                    <a:pt x="204050" y="144018"/>
                  </a:lnTo>
                  <a:lnTo>
                    <a:pt x="204127" y="143319"/>
                  </a:lnTo>
                  <a:lnTo>
                    <a:pt x="247294" y="143167"/>
                  </a:lnTo>
                  <a:lnTo>
                    <a:pt x="308622" y="143573"/>
                  </a:lnTo>
                  <a:lnTo>
                    <a:pt x="330695" y="144018"/>
                  </a:lnTo>
                  <a:lnTo>
                    <a:pt x="330695" y="142875"/>
                  </a:lnTo>
                  <a:lnTo>
                    <a:pt x="330695" y="97167"/>
                  </a:lnTo>
                  <a:lnTo>
                    <a:pt x="330695" y="95643"/>
                  </a:lnTo>
                  <a:close/>
                </a:path>
                <a:path w="638810" h="321309">
                  <a:moveTo>
                    <a:pt x="358127" y="43827"/>
                  </a:moveTo>
                  <a:lnTo>
                    <a:pt x="350989" y="32639"/>
                  </a:lnTo>
                  <a:lnTo>
                    <a:pt x="343344" y="21488"/>
                  </a:lnTo>
                  <a:lnTo>
                    <a:pt x="335292" y="10553"/>
                  </a:lnTo>
                  <a:lnTo>
                    <a:pt x="326885" y="0"/>
                  </a:lnTo>
                  <a:lnTo>
                    <a:pt x="301739" y="12585"/>
                  </a:lnTo>
                  <a:lnTo>
                    <a:pt x="310299" y="23850"/>
                  </a:lnTo>
                  <a:lnTo>
                    <a:pt x="318262" y="35255"/>
                  </a:lnTo>
                  <a:lnTo>
                    <a:pt x="325577" y="46659"/>
                  </a:lnTo>
                  <a:lnTo>
                    <a:pt x="332219" y="57924"/>
                  </a:lnTo>
                  <a:lnTo>
                    <a:pt x="358127" y="43827"/>
                  </a:lnTo>
                  <a:close/>
                </a:path>
                <a:path w="638810" h="321309">
                  <a:moveTo>
                    <a:pt x="638225" y="54114"/>
                  </a:moveTo>
                  <a:lnTo>
                    <a:pt x="597852" y="25539"/>
                  </a:lnTo>
                  <a:lnTo>
                    <a:pt x="571906" y="56959"/>
                  </a:lnTo>
                  <a:lnTo>
                    <a:pt x="536879" y="88849"/>
                  </a:lnTo>
                  <a:lnTo>
                    <a:pt x="495795" y="119634"/>
                  </a:lnTo>
                  <a:lnTo>
                    <a:pt x="451688" y="147764"/>
                  </a:lnTo>
                  <a:lnTo>
                    <a:pt x="407619" y="171653"/>
                  </a:lnTo>
                  <a:lnTo>
                    <a:pt x="366598" y="189738"/>
                  </a:lnTo>
                  <a:lnTo>
                    <a:pt x="397446" y="227457"/>
                  </a:lnTo>
                  <a:lnTo>
                    <a:pt x="424014" y="213550"/>
                  </a:lnTo>
                  <a:lnTo>
                    <a:pt x="451408" y="198208"/>
                  </a:lnTo>
                  <a:lnTo>
                    <a:pt x="479158" y="181584"/>
                  </a:lnTo>
                  <a:lnTo>
                    <a:pt x="506793" y="163830"/>
                  </a:lnTo>
                  <a:lnTo>
                    <a:pt x="506501" y="259219"/>
                  </a:lnTo>
                  <a:lnTo>
                    <a:pt x="505650" y="315849"/>
                  </a:lnTo>
                  <a:lnTo>
                    <a:pt x="552132" y="315849"/>
                  </a:lnTo>
                  <a:lnTo>
                    <a:pt x="551091" y="248361"/>
                  </a:lnTo>
                  <a:lnTo>
                    <a:pt x="550608" y="179463"/>
                  </a:lnTo>
                  <a:lnTo>
                    <a:pt x="550976" y="132219"/>
                  </a:lnTo>
                  <a:lnTo>
                    <a:pt x="575284" y="113093"/>
                  </a:lnTo>
                  <a:lnTo>
                    <a:pt x="598182" y="93586"/>
                  </a:lnTo>
                  <a:lnTo>
                    <a:pt x="619290" y="73863"/>
                  </a:lnTo>
                  <a:lnTo>
                    <a:pt x="638225" y="5411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bject 6"/>
            <p:cNvSpPr/>
            <p:nvPr/>
          </p:nvSpPr>
          <p:spPr>
            <a:xfrm>
              <a:off x="3272040" y="272160"/>
              <a:ext cx="540000" cy="193680"/>
            </a:xfrm>
            <a:custGeom>
              <a:avLst/>
              <a:gdLst/>
              <a:ahLst/>
              <a:rect l="l" t="t" r="r" b="b"/>
              <a:pathLst>
                <a:path w="1014729" h="363855">
                  <a:moveTo>
                    <a:pt x="136385" y="104394"/>
                  </a:moveTo>
                  <a:lnTo>
                    <a:pt x="113817" y="87553"/>
                  </a:lnTo>
                  <a:lnTo>
                    <a:pt x="88722" y="70573"/>
                  </a:lnTo>
                  <a:lnTo>
                    <a:pt x="63258" y="54889"/>
                  </a:lnTo>
                  <a:lnTo>
                    <a:pt x="39624" y="41910"/>
                  </a:lnTo>
                  <a:lnTo>
                    <a:pt x="2667" y="78486"/>
                  </a:lnTo>
                  <a:lnTo>
                    <a:pt x="25171" y="91325"/>
                  </a:lnTo>
                  <a:lnTo>
                    <a:pt x="51003" y="108724"/>
                  </a:lnTo>
                  <a:lnTo>
                    <a:pt x="76758" y="128041"/>
                  </a:lnTo>
                  <a:lnTo>
                    <a:pt x="99060" y="146672"/>
                  </a:lnTo>
                  <a:lnTo>
                    <a:pt x="136385" y="104394"/>
                  </a:lnTo>
                  <a:close/>
                </a:path>
                <a:path w="1014729" h="363855">
                  <a:moveTo>
                    <a:pt x="322694" y="132588"/>
                  </a:moveTo>
                  <a:lnTo>
                    <a:pt x="281546" y="100203"/>
                  </a:lnTo>
                  <a:lnTo>
                    <a:pt x="256489" y="144640"/>
                  </a:lnTo>
                  <a:lnTo>
                    <a:pt x="226631" y="184480"/>
                  </a:lnTo>
                  <a:lnTo>
                    <a:pt x="191808" y="219138"/>
                  </a:lnTo>
                  <a:lnTo>
                    <a:pt x="151879" y="248056"/>
                  </a:lnTo>
                  <a:lnTo>
                    <a:pt x="106705" y="270637"/>
                  </a:lnTo>
                  <a:lnTo>
                    <a:pt x="56121" y="286321"/>
                  </a:lnTo>
                  <a:lnTo>
                    <a:pt x="0" y="294500"/>
                  </a:lnTo>
                  <a:lnTo>
                    <a:pt x="21336" y="348983"/>
                  </a:lnTo>
                  <a:lnTo>
                    <a:pt x="74180" y="336905"/>
                  </a:lnTo>
                  <a:lnTo>
                    <a:pt x="122059" y="320421"/>
                  </a:lnTo>
                  <a:lnTo>
                    <a:pt x="165277" y="299593"/>
                  </a:lnTo>
                  <a:lnTo>
                    <a:pt x="204165" y="274497"/>
                  </a:lnTo>
                  <a:lnTo>
                    <a:pt x="239039" y="245186"/>
                  </a:lnTo>
                  <a:lnTo>
                    <a:pt x="270205" y="211721"/>
                  </a:lnTo>
                  <a:lnTo>
                    <a:pt x="297980" y="174167"/>
                  </a:lnTo>
                  <a:lnTo>
                    <a:pt x="322694" y="132588"/>
                  </a:lnTo>
                  <a:close/>
                </a:path>
                <a:path w="1014729" h="363855">
                  <a:moveTo>
                    <a:pt x="663727" y="53708"/>
                  </a:moveTo>
                  <a:lnTo>
                    <a:pt x="654481" y="43751"/>
                  </a:lnTo>
                  <a:lnTo>
                    <a:pt x="644639" y="33959"/>
                  </a:lnTo>
                  <a:lnTo>
                    <a:pt x="634428" y="24523"/>
                  </a:lnTo>
                  <a:lnTo>
                    <a:pt x="624116" y="15608"/>
                  </a:lnTo>
                  <a:lnTo>
                    <a:pt x="610222" y="27114"/>
                  </a:lnTo>
                  <a:lnTo>
                    <a:pt x="602056" y="33959"/>
                  </a:lnTo>
                  <a:lnTo>
                    <a:pt x="612089" y="43370"/>
                  </a:lnTo>
                  <a:lnTo>
                    <a:pt x="622109" y="53289"/>
                  </a:lnTo>
                  <a:lnTo>
                    <a:pt x="631698" y="63423"/>
                  </a:lnTo>
                  <a:lnTo>
                    <a:pt x="640499" y="73520"/>
                  </a:lnTo>
                  <a:lnTo>
                    <a:pt x="663727" y="53708"/>
                  </a:lnTo>
                  <a:close/>
                </a:path>
                <a:path w="1014729" h="363855">
                  <a:moveTo>
                    <a:pt x="669061" y="108191"/>
                  </a:moveTo>
                  <a:lnTo>
                    <a:pt x="639483" y="80759"/>
                  </a:lnTo>
                  <a:lnTo>
                    <a:pt x="637438" y="78867"/>
                  </a:lnTo>
                  <a:lnTo>
                    <a:pt x="615721" y="79654"/>
                  </a:lnTo>
                  <a:lnTo>
                    <a:pt x="591731" y="80251"/>
                  </a:lnTo>
                  <a:lnTo>
                    <a:pt x="540296" y="80759"/>
                  </a:lnTo>
                  <a:lnTo>
                    <a:pt x="519341" y="80759"/>
                  </a:lnTo>
                  <a:lnTo>
                    <a:pt x="524129" y="71488"/>
                  </a:lnTo>
                  <a:lnTo>
                    <a:pt x="528815" y="61963"/>
                  </a:lnTo>
                  <a:lnTo>
                    <a:pt x="533425" y="52222"/>
                  </a:lnTo>
                  <a:lnTo>
                    <a:pt x="537997" y="42291"/>
                  </a:lnTo>
                  <a:lnTo>
                    <a:pt x="487883" y="27114"/>
                  </a:lnTo>
                  <a:lnTo>
                    <a:pt x="487680" y="27114"/>
                  </a:lnTo>
                  <a:lnTo>
                    <a:pt x="469290" y="69075"/>
                  </a:lnTo>
                  <a:lnTo>
                    <a:pt x="439470" y="112623"/>
                  </a:lnTo>
                  <a:lnTo>
                    <a:pt x="398716" y="152260"/>
                  </a:lnTo>
                  <a:lnTo>
                    <a:pt x="347510" y="182486"/>
                  </a:lnTo>
                  <a:lnTo>
                    <a:pt x="391337" y="217919"/>
                  </a:lnTo>
                  <a:lnTo>
                    <a:pt x="421144" y="197954"/>
                  </a:lnTo>
                  <a:lnTo>
                    <a:pt x="447001" y="176733"/>
                  </a:lnTo>
                  <a:lnTo>
                    <a:pt x="469493" y="154000"/>
                  </a:lnTo>
                  <a:lnTo>
                    <a:pt x="489229" y="129527"/>
                  </a:lnTo>
                  <a:lnTo>
                    <a:pt x="520331" y="128587"/>
                  </a:lnTo>
                  <a:lnTo>
                    <a:pt x="579945" y="127723"/>
                  </a:lnTo>
                  <a:lnTo>
                    <a:pt x="606933" y="127723"/>
                  </a:lnTo>
                  <a:lnTo>
                    <a:pt x="577697" y="195249"/>
                  </a:lnTo>
                  <a:lnTo>
                    <a:pt x="553999" y="227203"/>
                  </a:lnTo>
                  <a:lnTo>
                    <a:pt x="523062" y="256514"/>
                  </a:lnTo>
                  <a:lnTo>
                    <a:pt x="483997" y="282079"/>
                  </a:lnTo>
                  <a:lnTo>
                    <a:pt x="435940" y="302844"/>
                  </a:lnTo>
                  <a:lnTo>
                    <a:pt x="377990" y="317728"/>
                  </a:lnTo>
                  <a:lnTo>
                    <a:pt x="424853" y="363448"/>
                  </a:lnTo>
                  <a:lnTo>
                    <a:pt x="472109" y="345973"/>
                  </a:lnTo>
                  <a:lnTo>
                    <a:pt x="513207" y="325653"/>
                  </a:lnTo>
                  <a:lnTo>
                    <a:pt x="548830" y="301879"/>
                  </a:lnTo>
                  <a:lnTo>
                    <a:pt x="579678" y="273977"/>
                  </a:lnTo>
                  <a:lnTo>
                    <a:pt x="606425" y="241300"/>
                  </a:lnTo>
                  <a:lnTo>
                    <a:pt x="629780" y="203212"/>
                  </a:lnTo>
                  <a:lnTo>
                    <a:pt x="650430" y="159054"/>
                  </a:lnTo>
                  <a:lnTo>
                    <a:pt x="661797" y="128016"/>
                  </a:lnTo>
                  <a:lnTo>
                    <a:pt x="661911" y="127723"/>
                  </a:lnTo>
                  <a:lnTo>
                    <a:pt x="669061" y="108191"/>
                  </a:lnTo>
                  <a:close/>
                </a:path>
                <a:path w="1014729" h="363855">
                  <a:moveTo>
                    <a:pt x="705637" y="36576"/>
                  </a:moveTo>
                  <a:lnTo>
                    <a:pt x="696506" y="27114"/>
                  </a:lnTo>
                  <a:lnTo>
                    <a:pt x="686879" y="17716"/>
                  </a:lnTo>
                  <a:lnTo>
                    <a:pt x="676808" y="8610"/>
                  </a:lnTo>
                  <a:lnTo>
                    <a:pt x="666394" y="0"/>
                  </a:lnTo>
                  <a:lnTo>
                    <a:pt x="644677" y="17526"/>
                  </a:lnTo>
                  <a:lnTo>
                    <a:pt x="655243" y="26809"/>
                  </a:lnTo>
                  <a:lnTo>
                    <a:pt x="665200" y="36334"/>
                  </a:lnTo>
                  <a:lnTo>
                    <a:pt x="674522" y="46075"/>
                  </a:lnTo>
                  <a:lnTo>
                    <a:pt x="683158" y="55994"/>
                  </a:lnTo>
                  <a:lnTo>
                    <a:pt x="705637" y="36576"/>
                  </a:lnTo>
                  <a:close/>
                </a:path>
                <a:path w="1014729" h="363855">
                  <a:moveTo>
                    <a:pt x="1014247" y="102476"/>
                  </a:moveTo>
                  <a:lnTo>
                    <a:pt x="880910" y="104000"/>
                  </a:lnTo>
                  <a:lnTo>
                    <a:pt x="882142" y="86499"/>
                  </a:lnTo>
                  <a:lnTo>
                    <a:pt x="883056" y="68859"/>
                  </a:lnTo>
                  <a:lnTo>
                    <a:pt x="884339" y="33134"/>
                  </a:lnTo>
                  <a:lnTo>
                    <a:pt x="830237" y="31991"/>
                  </a:lnTo>
                  <a:lnTo>
                    <a:pt x="831621" y="55003"/>
                  </a:lnTo>
                  <a:lnTo>
                    <a:pt x="832154" y="77711"/>
                  </a:lnTo>
                  <a:lnTo>
                    <a:pt x="831380" y="104000"/>
                  </a:lnTo>
                  <a:lnTo>
                    <a:pt x="775233" y="103530"/>
                  </a:lnTo>
                  <a:lnTo>
                    <a:pt x="727379" y="102476"/>
                  </a:lnTo>
                  <a:lnTo>
                    <a:pt x="728129" y="153530"/>
                  </a:lnTo>
                  <a:lnTo>
                    <a:pt x="775804" y="152107"/>
                  </a:lnTo>
                  <a:lnTo>
                    <a:pt x="826046" y="151244"/>
                  </a:lnTo>
                  <a:lnTo>
                    <a:pt x="811542" y="202920"/>
                  </a:lnTo>
                  <a:lnTo>
                    <a:pt x="786904" y="248348"/>
                  </a:lnTo>
                  <a:lnTo>
                    <a:pt x="750404" y="285991"/>
                  </a:lnTo>
                  <a:lnTo>
                    <a:pt x="700328" y="314312"/>
                  </a:lnTo>
                  <a:lnTo>
                    <a:pt x="741476" y="355447"/>
                  </a:lnTo>
                  <a:lnTo>
                    <a:pt x="787793" y="324307"/>
                  </a:lnTo>
                  <a:lnTo>
                    <a:pt x="822693" y="287578"/>
                  </a:lnTo>
                  <a:lnTo>
                    <a:pt x="847852" y="246011"/>
                  </a:lnTo>
                  <a:lnTo>
                    <a:pt x="864920" y="200317"/>
                  </a:lnTo>
                  <a:lnTo>
                    <a:pt x="875576" y="151244"/>
                  </a:lnTo>
                  <a:lnTo>
                    <a:pt x="960539" y="151244"/>
                  </a:lnTo>
                  <a:lnTo>
                    <a:pt x="958354" y="212775"/>
                  </a:lnTo>
                  <a:lnTo>
                    <a:pt x="951014" y="275437"/>
                  </a:lnTo>
                  <a:lnTo>
                    <a:pt x="909866" y="294881"/>
                  </a:lnTo>
                  <a:lnTo>
                    <a:pt x="894194" y="294309"/>
                  </a:lnTo>
                  <a:lnTo>
                    <a:pt x="874814" y="292595"/>
                  </a:lnTo>
                  <a:lnTo>
                    <a:pt x="898436" y="352780"/>
                  </a:lnTo>
                  <a:lnTo>
                    <a:pt x="952449" y="345160"/>
                  </a:lnTo>
                  <a:lnTo>
                    <a:pt x="997064" y="305054"/>
                  </a:lnTo>
                  <a:lnTo>
                    <a:pt x="1006602" y="246062"/>
                  </a:lnTo>
                  <a:lnTo>
                    <a:pt x="1010208" y="196481"/>
                  </a:lnTo>
                  <a:lnTo>
                    <a:pt x="1012888" y="145059"/>
                  </a:lnTo>
                  <a:lnTo>
                    <a:pt x="1014247" y="10247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bject 7"/>
            <p:cNvSpPr/>
            <p:nvPr/>
          </p:nvSpPr>
          <p:spPr>
            <a:xfrm>
              <a:off x="3844440" y="387000"/>
              <a:ext cx="154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69"/>
                  </a:moveTo>
                  <a:lnTo>
                    <a:pt x="28958" y="1269"/>
                  </a:lnTo>
                  <a:lnTo>
                    <a:pt x="28958" y="0"/>
                  </a:lnTo>
                  <a:lnTo>
                    <a:pt x="0" y="0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bject 8"/>
            <p:cNvSpPr/>
            <p:nvPr/>
          </p:nvSpPr>
          <p:spPr>
            <a:xfrm>
              <a:off x="3844440" y="36072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73" y="49530"/>
                  </a:lnTo>
                  <a:lnTo>
                    <a:pt x="291973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9"/>
            <p:cNvSpPr/>
            <p:nvPr/>
          </p:nvSpPr>
          <p:spPr>
            <a:xfrm>
              <a:off x="4069800" y="285120"/>
              <a:ext cx="117000" cy="182520"/>
            </a:xfrm>
            <a:custGeom>
              <a:avLst/>
              <a:gdLst/>
              <a:ahLst/>
              <a:rect l="l" t="t" r="r" b="b"/>
              <a:pathLst>
                <a:path w="220345" h="342900">
                  <a:moveTo>
                    <a:pt x="1155" y="0"/>
                  </a:moveTo>
                  <a:lnTo>
                    <a:pt x="1540" y="18300"/>
                  </a:lnTo>
                  <a:lnTo>
                    <a:pt x="1634" y="22782"/>
                  </a:lnTo>
                  <a:lnTo>
                    <a:pt x="1694" y="27579"/>
                  </a:lnTo>
                  <a:lnTo>
                    <a:pt x="1799" y="37106"/>
                  </a:lnTo>
                  <a:lnTo>
                    <a:pt x="1906" y="46847"/>
                  </a:lnTo>
                  <a:lnTo>
                    <a:pt x="2008" y="56100"/>
                  </a:lnTo>
                  <a:lnTo>
                    <a:pt x="2115" y="202109"/>
                  </a:lnTo>
                  <a:lnTo>
                    <a:pt x="1806" y="242429"/>
                  </a:lnTo>
                  <a:lnTo>
                    <a:pt x="1002" y="303751"/>
                  </a:lnTo>
                  <a:lnTo>
                    <a:pt x="9" y="342506"/>
                  </a:lnTo>
                  <a:lnTo>
                    <a:pt x="0" y="342887"/>
                  </a:lnTo>
                  <a:lnTo>
                    <a:pt x="54114" y="342506"/>
                  </a:lnTo>
                  <a:lnTo>
                    <a:pt x="53246" y="280981"/>
                  </a:lnTo>
                  <a:lnTo>
                    <a:pt x="52967" y="157079"/>
                  </a:lnTo>
                  <a:lnTo>
                    <a:pt x="52958" y="145542"/>
                  </a:lnTo>
                  <a:lnTo>
                    <a:pt x="159502" y="145542"/>
                  </a:lnTo>
                  <a:lnTo>
                    <a:pt x="146303" y="138112"/>
                  </a:lnTo>
                  <a:lnTo>
                    <a:pt x="139350" y="134493"/>
                  </a:lnTo>
                  <a:lnTo>
                    <a:pt x="52958" y="134493"/>
                  </a:lnTo>
                  <a:lnTo>
                    <a:pt x="53078" y="95363"/>
                  </a:lnTo>
                  <a:lnTo>
                    <a:pt x="53178" y="81914"/>
                  </a:lnTo>
                  <a:lnTo>
                    <a:pt x="53270" y="71812"/>
                  </a:lnTo>
                  <a:lnTo>
                    <a:pt x="53363" y="61674"/>
                  </a:lnTo>
                  <a:lnTo>
                    <a:pt x="53467" y="51750"/>
                  </a:lnTo>
                  <a:lnTo>
                    <a:pt x="53544" y="46847"/>
                  </a:lnTo>
                  <a:lnTo>
                    <a:pt x="53615" y="42338"/>
                  </a:lnTo>
                  <a:lnTo>
                    <a:pt x="53697" y="37106"/>
                  </a:lnTo>
                  <a:lnTo>
                    <a:pt x="53763" y="32902"/>
                  </a:lnTo>
                  <a:lnTo>
                    <a:pt x="53847" y="27579"/>
                  </a:lnTo>
                  <a:lnTo>
                    <a:pt x="53923" y="22782"/>
                  </a:lnTo>
                  <a:lnTo>
                    <a:pt x="54482" y="761"/>
                  </a:lnTo>
                  <a:lnTo>
                    <a:pt x="1155" y="0"/>
                  </a:lnTo>
                  <a:close/>
                </a:path>
                <a:path w="220345" h="342900">
                  <a:moveTo>
                    <a:pt x="159502" y="145542"/>
                  </a:moveTo>
                  <a:lnTo>
                    <a:pt x="52958" y="145542"/>
                  </a:lnTo>
                  <a:lnTo>
                    <a:pt x="85795" y="161732"/>
                  </a:lnTo>
                  <a:lnTo>
                    <a:pt x="121019" y="181349"/>
                  </a:lnTo>
                  <a:lnTo>
                    <a:pt x="154598" y="202109"/>
                  </a:lnTo>
                  <a:lnTo>
                    <a:pt x="182498" y="221729"/>
                  </a:lnTo>
                  <a:lnTo>
                    <a:pt x="211835" y="176402"/>
                  </a:lnTo>
                  <a:lnTo>
                    <a:pt x="179998" y="157079"/>
                  </a:lnTo>
                  <a:lnTo>
                    <a:pt x="159502" y="145542"/>
                  </a:lnTo>
                  <a:close/>
                </a:path>
                <a:path w="220345" h="342900">
                  <a:moveTo>
                    <a:pt x="80771" y="105536"/>
                  </a:moveTo>
                  <a:lnTo>
                    <a:pt x="52958" y="134493"/>
                  </a:lnTo>
                  <a:lnTo>
                    <a:pt x="139350" y="134493"/>
                  </a:lnTo>
                  <a:lnTo>
                    <a:pt x="112609" y="120574"/>
                  </a:lnTo>
                  <a:lnTo>
                    <a:pt x="80771" y="105536"/>
                  </a:lnTo>
                  <a:close/>
                </a:path>
                <a:path w="220345" h="342900">
                  <a:moveTo>
                    <a:pt x="146303" y="24002"/>
                  </a:moveTo>
                  <a:lnTo>
                    <a:pt x="130190" y="37337"/>
                  </a:lnTo>
                  <a:lnTo>
                    <a:pt x="124256" y="42338"/>
                  </a:lnTo>
                  <a:lnTo>
                    <a:pt x="134290" y="51750"/>
                  </a:lnTo>
                  <a:lnTo>
                    <a:pt x="144303" y="61674"/>
                  </a:lnTo>
                  <a:lnTo>
                    <a:pt x="153888" y="71812"/>
                  </a:lnTo>
                  <a:lnTo>
                    <a:pt x="162686" y="81914"/>
                  </a:lnTo>
                  <a:lnTo>
                    <a:pt x="185927" y="62102"/>
                  </a:lnTo>
                  <a:lnTo>
                    <a:pt x="176682" y="52131"/>
                  </a:lnTo>
                  <a:lnTo>
                    <a:pt x="166830" y="42338"/>
                  </a:lnTo>
                  <a:lnTo>
                    <a:pt x="156620" y="32902"/>
                  </a:lnTo>
                  <a:lnTo>
                    <a:pt x="146303" y="24002"/>
                  </a:lnTo>
                  <a:close/>
                </a:path>
                <a:path w="220345" h="342900">
                  <a:moveTo>
                    <a:pt x="180593" y="761"/>
                  </a:moveTo>
                  <a:lnTo>
                    <a:pt x="158876" y="18300"/>
                  </a:lnTo>
                  <a:lnTo>
                    <a:pt x="169443" y="27579"/>
                  </a:lnTo>
                  <a:lnTo>
                    <a:pt x="179403" y="37106"/>
                  </a:lnTo>
                  <a:lnTo>
                    <a:pt x="188720" y="46847"/>
                  </a:lnTo>
                  <a:lnTo>
                    <a:pt x="197357" y="56768"/>
                  </a:lnTo>
                  <a:lnTo>
                    <a:pt x="219836" y="37337"/>
                  </a:lnTo>
                  <a:lnTo>
                    <a:pt x="210704" y="27872"/>
                  </a:lnTo>
                  <a:lnTo>
                    <a:pt x="201072" y="18478"/>
                  </a:lnTo>
                  <a:lnTo>
                    <a:pt x="191011" y="9370"/>
                  </a:lnTo>
                  <a:lnTo>
                    <a:pt x="180593" y="7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10"/>
            <p:cNvSpPr/>
            <p:nvPr/>
          </p:nvSpPr>
          <p:spPr>
            <a:xfrm>
              <a:off x="2345760" y="521640"/>
              <a:ext cx="379080" cy="182520"/>
            </a:xfrm>
            <a:custGeom>
              <a:avLst/>
              <a:gdLst/>
              <a:ahLst/>
              <a:rect l="l" t="t" r="r" b="b"/>
              <a:pathLst>
                <a:path w="712470" h="342900">
                  <a:moveTo>
                    <a:pt x="347459" y="297929"/>
                  </a:moveTo>
                  <a:lnTo>
                    <a:pt x="325450" y="290906"/>
                  </a:lnTo>
                  <a:lnTo>
                    <a:pt x="306260" y="283210"/>
                  </a:lnTo>
                  <a:lnTo>
                    <a:pt x="289001" y="274294"/>
                  </a:lnTo>
                  <a:lnTo>
                    <a:pt x="272783" y="263639"/>
                  </a:lnTo>
                  <a:lnTo>
                    <a:pt x="288137" y="254266"/>
                  </a:lnTo>
                  <a:lnTo>
                    <a:pt x="303072" y="243547"/>
                  </a:lnTo>
                  <a:lnTo>
                    <a:pt x="317144" y="231813"/>
                  </a:lnTo>
                  <a:lnTo>
                    <a:pt x="329933" y="219443"/>
                  </a:lnTo>
                  <a:lnTo>
                    <a:pt x="290309" y="191643"/>
                  </a:lnTo>
                  <a:lnTo>
                    <a:pt x="280695" y="203504"/>
                  </a:lnTo>
                  <a:lnTo>
                    <a:pt x="269684" y="214871"/>
                  </a:lnTo>
                  <a:lnTo>
                    <a:pt x="257467" y="225386"/>
                  </a:lnTo>
                  <a:lnTo>
                    <a:pt x="244208" y="234683"/>
                  </a:lnTo>
                  <a:lnTo>
                    <a:pt x="236410" y="223278"/>
                  </a:lnTo>
                  <a:lnTo>
                    <a:pt x="229870" y="212598"/>
                  </a:lnTo>
                  <a:lnTo>
                    <a:pt x="224116" y="201891"/>
                  </a:lnTo>
                  <a:lnTo>
                    <a:pt x="218681" y="190487"/>
                  </a:lnTo>
                  <a:lnTo>
                    <a:pt x="340982" y="190487"/>
                  </a:lnTo>
                  <a:lnTo>
                    <a:pt x="340982" y="147434"/>
                  </a:lnTo>
                  <a:lnTo>
                    <a:pt x="196202" y="147434"/>
                  </a:lnTo>
                  <a:lnTo>
                    <a:pt x="196202" y="127635"/>
                  </a:lnTo>
                  <a:lnTo>
                    <a:pt x="317360" y="127635"/>
                  </a:lnTo>
                  <a:lnTo>
                    <a:pt x="317360" y="86487"/>
                  </a:lnTo>
                  <a:lnTo>
                    <a:pt x="196202" y="86487"/>
                  </a:lnTo>
                  <a:lnTo>
                    <a:pt x="196202" y="69342"/>
                  </a:lnTo>
                  <a:lnTo>
                    <a:pt x="330314" y="69342"/>
                  </a:lnTo>
                  <a:lnTo>
                    <a:pt x="330314" y="25908"/>
                  </a:lnTo>
                  <a:lnTo>
                    <a:pt x="196202" y="25908"/>
                  </a:lnTo>
                  <a:lnTo>
                    <a:pt x="196202" y="0"/>
                  </a:lnTo>
                  <a:lnTo>
                    <a:pt x="147434" y="0"/>
                  </a:lnTo>
                  <a:lnTo>
                    <a:pt x="147434" y="25908"/>
                  </a:lnTo>
                  <a:lnTo>
                    <a:pt x="19431" y="25908"/>
                  </a:lnTo>
                  <a:lnTo>
                    <a:pt x="19431" y="69342"/>
                  </a:lnTo>
                  <a:lnTo>
                    <a:pt x="147434" y="69342"/>
                  </a:lnTo>
                  <a:lnTo>
                    <a:pt x="147434" y="86487"/>
                  </a:lnTo>
                  <a:lnTo>
                    <a:pt x="34671" y="86487"/>
                  </a:lnTo>
                  <a:lnTo>
                    <a:pt x="34671" y="127635"/>
                  </a:lnTo>
                  <a:lnTo>
                    <a:pt x="147434" y="127635"/>
                  </a:lnTo>
                  <a:lnTo>
                    <a:pt x="147434" y="147434"/>
                  </a:lnTo>
                  <a:lnTo>
                    <a:pt x="8763" y="147434"/>
                  </a:lnTo>
                  <a:lnTo>
                    <a:pt x="8763" y="190487"/>
                  </a:lnTo>
                  <a:lnTo>
                    <a:pt x="120015" y="190487"/>
                  </a:lnTo>
                  <a:lnTo>
                    <a:pt x="90322" y="205574"/>
                  </a:lnTo>
                  <a:lnTo>
                    <a:pt x="60579" y="217728"/>
                  </a:lnTo>
                  <a:lnTo>
                    <a:pt x="30530" y="227037"/>
                  </a:lnTo>
                  <a:lnTo>
                    <a:pt x="0" y="233553"/>
                  </a:lnTo>
                  <a:lnTo>
                    <a:pt x="17145" y="281927"/>
                  </a:lnTo>
                  <a:lnTo>
                    <a:pt x="34137" y="276326"/>
                  </a:lnTo>
                  <a:lnTo>
                    <a:pt x="51104" y="269735"/>
                  </a:lnTo>
                  <a:lnTo>
                    <a:pt x="68414" y="261988"/>
                  </a:lnTo>
                  <a:lnTo>
                    <a:pt x="86474" y="252971"/>
                  </a:lnTo>
                  <a:lnTo>
                    <a:pt x="86474" y="294881"/>
                  </a:lnTo>
                  <a:lnTo>
                    <a:pt x="59143" y="296265"/>
                  </a:lnTo>
                  <a:lnTo>
                    <a:pt x="30086" y="296786"/>
                  </a:lnTo>
                  <a:lnTo>
                    <a:pt x="39611" y="342887"/>
                  </a:lnTo>
                  <a:lnTo>
                    <a:pt x="54254" y="342239"/>
                  </a:lnTo>
                  <a:lnTo>
                    <a:pt x="92811" y="339737"/>
                  </a:lnTo>
                  <a:lnTo>
                    <a:pt x="147142" y="334530"/>
                  </a:lnTo>
                  <a:lnTo>
                    <a:pt x="209156" y="325742"/>
                  </a:lnTo>
                  <a:lnTo>
                    <a:pt x="209156" y="280784"/>
                  </a:lnTo>
                  <a:lnTo>
                    <a:pt x="190220" y="284213"/>
                  </a:lnTo>
                  <a:lnTo>
                    <a:pt x="171678" y="287121"/>
                  </a:lnTo>
                  <a:lnTo>
                    <a:pt x="152641" y="289509"/>
                  </a:lnTo>
                  <a:lnTo>
                    <a:pt x="132207" y="291452"/>
                  </a:lnTo>
                  <a:lnTo>
                    <a:pt x="132207" y="227444"/>
                  </a:lnTo>
                  <a:lnTo>
                    <a:pt x="143383" y="219049"/>
                  </a:lnTo>
                  <a:lnTo>
                    <a:pt x="153390" y="210540"/>
                  </a:lnTo>
                  <a:lnTo>
                    <a:pt x="162890" y="201244"/>
                  </a:lnTo>
                  <a:lnTo>
                    <a:pt x="172580" y="190487"/>
                  </a:lnTo>
                  <a:lnTo>
                    <a:pt x="194094" y="237604"/>
                  </a:lnTo>
                  <a:lnTo>
                    <a:pt x="222681" y="278828"/>
                  </a:lnTo>
                  <a:lnTo>
                    <a:pt x="262699" y="313982"/>
                  </a:lnTo>
                  <a:lnTo>
                    <a:pt x="318503" y="342887"/>
                  </a:lnTo>
                  <a:lnTo>
                    <a:pt x="347459" y="297929"/>
                  </a:lnTo>
                  <a:close/>
                </a:path>
                <a:path w="712470" h="342900">
                  <a:moveTo>
                    <a:pt x="712431" y="8763"/>
                  </a:moveTo>
                  <a:lnTo>
                    <a:pt x="380199" y="8763"/>
                  </a:lnTo>
                  <a:lnTo>
                    <a:pt x="380199" y="54470"/>
                  </a:lnTo>
                  <a:lnTo>
                    <a:pt x="519264" y="54470"/>
                  </a:lnTo>
                  <a:lnTo>
                    <a:pt x="516686" y="61976"/>
                  </a:lnTo>
                  <a:lnTo>
                    <a:pt x="514350" y="67297"/>
                  </a:lnTo>
                  <a:lnTo>
                    <a:pt x="510959" y="72974"/>
                  </a:lnTo>
                  <a:lnTo>
                    <a:pt x="505167" y="81521"/>
                  </a:lnTo>
                  <a:lnTo>
                    <a:pt x="476592" y="81521"/>
                  </a:lnTo>
                  <a:lnTo>
                    <a:pt x="476592" y="125323"/>
                  </a:lnTo>
                  <a:lnTo>
                    <a:pt x="476592" y="283832"/>
                  </a:lnTo>
                  <a:lnTo>
                    <a:pt x="440016" y="283832"/>
                  </a:lnTo>
                  <a:lnTo>
                    <a:pt x="440016" y="125323"/>
                  </a:lnTo>
                  <a:lnTo>
                    <a:pt x="476592" y="125323"/>
                  </a:lnTo>
                  <a:lnTo>
                    <a:pt x="476592" y="81521"/>
                  </a:lnTo>
                  <a:lnTo>
                    <a:pt x="394296" y="81521"/>
                  </a:lnTo>
                  <a:lnTo>
                    <a:pt x="394296" y="342874"/>
                  </a:lnTo>
                  <a:lnTo>
                    <a:pt x="440016" y="342874"/>
                  </a:lnTo>
                  <a:lnTo>
                    <a:pt x="440016" y="327634"/>
                  </a:lnTo>
                  <a:lnTo>
                    <a:pt x="652614" y="327634"/>
                  </a:lnTo>
                  <a:lnTo>
                    <a:pt x="652614" y="342874"/>
                  </a:lnTo>
                  <a:lnTo>
                    <a:pt x="698322" y="342874"/>
                  </a:lnTo>
                  <a:lnTo>
                    <a:pt x="698322" y="327634"/>
                  </a:lnTo>
                  <a:lnTo>
                    <a:pt x="698322" y="283832"/>
                  </a:lnTo>
                  <a:lnTo>
                    <a:pt x="698322" y="125323"/>
                  </a:lnTo>
                  <a:lnTo>
                    <a:pt x="698322" y="81521"/>
                  </a:lnTo>
                  <a:lnTo>
                    <a:pt x="652614" y="81521"/>
                  </a:lnTo>
                  <a:lnTo>
                    <a:pt x="652614" y="125323"/>
                  </a:lnTo>
                  <a:lnTo>
                    <a:pt x="652614" y="283832"/>
                  </a:lnTo>
                  <a:lnTo>
                    <a:pt x="616038" y="283832"/>
                  </a:lnTo>
                  <a:lnTo>
                    <a:pt x="616038" y="125323"/>
                  </a:lnTo>
                  <a:lnTo>
                    <a:pt x="652614" y="125323"/>
                  </a:lnTo>
                  <a:lnTo>
                    <a:pt x="652614" y="81521"/>
                  </a:lnTo>
                  <a:lnTo>
                    <a:pt x="570306" y="81521"/>
                  </a:lnTo>
                  <a:lnTo>
                    <a:pt x="570306" y="125323"/>
                  </a:lnTo>
                  <a:lnTo>
                    <a:pt x="570306" y="152006"/>
                  </a:lnTo>
                  <a:lnTo>
                    <a:pt x="570306" y="191249"/>
                  </a:lnTo>
                  <a:lnTo>
                    <a:pt x="570306" y="217919"/>
                  </a:lnTo>
                  <a:lnTo>
                    <a:pt x="570306" y="257149"/>
                  </a:lnTo>
                  <a:lnTo>
                    <a:pt x="570306" y="283832"/>
                  </a:lnTo>
                  <a:lnTo>
                    <a:pt x="522300" y="283832"/>
                  </a:lnTo>
                  <a:lnTo>
                    <a:pt x="522300" y="257149"/>
                  </a:lnTo>
                  <a:lnTo>
                    <a:pt x="570306" y="257149"/>
                  </a:lnTo>
                  <a:lnTo>
                    <a:pt x="570306" y="217919"/>
                  </a:lnTo>
                  <a:lnTo>
                    <a:pt x="522300" y="217919"/>
                  </a:lnTo>
                  <a:lnTo>
                    <a:pt x="522300" y="191249"/>
                  </a:lnTo>
                  <a:lnTo>
                    <a:pt x="570306" y="191249"/>
                  </a:lnTo>
                  <a:lnTo>
                    <a:pt x="570306" y="152006"/>
                  </a:lnTo>
                  <a:lnTo>
                    <a:pt x="522300" y="152006"/>
                  </a:lnTo>
                  <a:lnTo>
                    <a:pt x="522300" y="125323"/>
                  </a:lnTo>
                  <a:lnTo>
                    <a:pt x="570306" y="125323"/>
                  </a:lnTo>
                  <a:lnTo>
                    <a:pt x="570306" y="81521"/>
                  </a:lnTo>
                  <a:lnTo>
                    <a:pt x="558507" y="81521"/>
                  </a:lnTo>
                  <a:lnTo>
                    <a:pt x="559879" y="79336"/>
                  </a:lnTo>
                  <a:lnTo>
                    <a:pt x="563219" y="73431"/>
                  </a:lnTo>
                  <a:lnTo>
                    <a:pt x="567347" y="64808"/>
                  </a:lnTo>
                  <a:lnTo>
                    <a:pt x="571080" y="54470"/>
                  </a:lnTo>
                  <a:lnTo>
                    <a:pt x="712431" y="54470"/>
                  </a:lnTo>
                  <a:lnTo>
                    <a:pt x="712431" y="876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11"/>
            <p:cNvSpPr/>
            <p:nvPr/>
          </p:nvSpPr>
          <p:spPr>
            <a:xfrm>
              <a:off x="2788560" y="691200"/>
              <a:ext cx="101160" cy="16920"/>
            </a:xfrm>
            <a:custGeom>
              <a:avLst/>
              <a:gdLst/>
              <a:ahLst/>
              <a:rect l="l" t="t" r="r" b="b"/>
              <a:pathLst>
                <a:path w="190500" h="32384">
                  <a:moveTo>
                    <a:pt x="190500" y="0"/>
                  </a:moveTo>
                  <a:lnTo>
                    <a:pt x="0" y="0"/>
                  </a:lnTo>
                  <a:lnTo>
                    <a:pt x="0" y="32003"/>
                  </a:lnTo>
                  <a:lnTo>
                    <a:pt x="190500" y="32003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12"/>
            <p:cNvSpPr/>
            <p:nvPr/>
          </p:nvSpPr>
          <p:spPr>
            <a:xfrm>
              <a:off x="2950200" y="546480"/>
              <a:ext cx="159120" cy="158760"/>
            </a:xfrm>
            <a:custGeom>
              <a:avLst/>
              <a:gdLst/>
              <a:ahLst/>
              <a:rect l="l" t="t" r="r" b="b"/>
              <a:pathLst>
                <a:path w="299085" h="298450">
                  <a:moveTo>
                    <a:pt x="270103" y="0"/>
                  </a:moveTo>
                  <a:lnTo>
                    <a:pt x="244089" y="720"/>
                  </a:lnTo>
                  <a:lnTo>
                    <a:pt x="212821" y="1190"/>
                  </a:lnTo>
                  <a:lnTo>
                    <a:pt x="140957" y="1524"/>
                  </a:lnTo>
                  <a:lnTo>
                    <a:pt x="62196" y="1190"/>
                  </a:lnTo>
                  <a:lnTo>
                    <a:pt x="27919" y="720"/>
                  </a:lnTo>
                  <a:lnTo>
                    <a:pt x="0" y="0"/>
                  </a:lnTo>
                  <a:lnTo>
                    <a:pt x="380" y="52197"/>
                  </a:lnTo>
                  <a:lnTo>
                    <a:pt x="43417" y="50590"/>
                  </a:lnTo>
                  <a:lnTo>
                    <a:pt x="94955" y="49405"/>
                  </a:lnTo>
                  <a:lnTo>
                    <a:pt x="149054" y="48603"/>
                  </a:lnTo>
                  <a:lnTo>
                    <a:pt x="241160" y="48006"/>
                  </a:lnTo>
                  <a:lnTo>
                    <a:pt x="231739" y="90395"/>
                  </a:lnTo>
                  <a:lnTo>
                    <a:pt x="215108" y="129364"/>
                  </a:lnTo>
                  <a:lnTo>
                    <a:pt x="191565" y="164387"/>
                  </a:lnTo>
                  <a:lnTo>
                    <a:pt x="161412" y="194937"/>
                  </a:lnTo>
                  <a:lnTo>
                    <a:pt x="124948" y="220489"/>
                  </a:lnTo>
                  <a:lnTo>
                    <a:pt x="82474" y="240517"/>
                  </a:lnTo>
                  <a:lnTo>
                    <a:pt x="34289" y="254495"/>
                  </a:lnTo>
                  <a:lnTo>
                    <a:pt x="76199" y="297929"/>
                  </a:lnTo>
                  <a:lnTo>
                    <a:pt x="123117" y="280610"/>
                  </a:lnTo>
                  <a:lnTo>
                    <a:pt x="164269" y="258366"/>
                  </a:lnTo>
                  <a:lnTo>
                    <a:pt x="199816" y="231200"/>
                  </a:lnTo>
                  <a:lnTo>
                    <a:pt x="229917" y="199118"/>
                  </a:lnTo>
                  <a:lnTo>
                    <a:pt x="254733" y="162124"/>
                  </a:lnTo>
                  <a:lnTo>
                    <a:pt x="274424" y="120223"/>
                  </a:lnTo>
                  <a:lnTo>
                    <a:pt x="289150" y="73419"/>
                  </a:lnTo>
                  <a:lnTo>
                    <a:pt x="299072" y="21717"/>
                  </a:lnTo>
                  <a:lnTo>
                    <a:pt x="27010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13"/>
            <p:cNvSpPr/>
            <p:nvPr/>
          </p:nvSpPr>
          <p:spPr>
            <a:xfrm>
              <a:off x="3146760" y="535320"/>
              <a:ext cx="123480" cy="179280"/>
            </a:xfrm>
            <a:custGeom>
              <a:avLst/>
              <a:gdLst/>
              <a:ahLst/>
              <a:rect l="l" t="t" r="r" b="b"/>
              <a:pathLst>
                <a:path w="232410" h="336550">
                  <a:moveTo>
                    <a:pt x="179438" y="0"/>
                  </a:moveTo>
                  <a:lnTo>
                    <a:pt x="179938" y="23953"/>
                  </a:lnTo>
                  <a:lnTo>
                    <a:pt x="180087" y="33813"/>
                  </a:lnTo>
                  <a:lnTo>
                    <a:pt x="180200" y="156578"/>
                  </a:lnTo>
                  <a:lnTo>
                    <a:pt x="175375" y="196202"/>
                  </a:lnTo>
                  <a:lnTo>
                    <a:pt x="159096" y="234381"/>
                  </a:lnTo>
                  <a:lnTo>
                    <a:pt x="92936" y="277364"/>
                  </a:lnTo>
                  <a:lnTo>
                    <a:pt x="40766" y="289547"/>
                  </a:lnTo>
                  <a:lnTo>
                    <a:pt x="82295" y="336029"/>
                  </a:lnTo>
                  <a:lnTo>
                    <a:pt x="142765" y="312602"/>
                  </a:lnTo>
                  <a:lnTo>
                    <a:pt x="185149" y="281019"/>
                  </a:lnTo>
                  <a:lnTo>
                    <a:pt x="212119" y="243092"/>
                  </a:lnTo>
                  <a:lnTo>
                    <a:pt x="226344" y="200631"/>
                  </a:lnTo>
                  <a:lnTo>
                    <a:pt x="230388" y="156578"/>
                  </a:lnTo>
                  <a:lnTo>
                    <a:pt x="230492" y="155448"/>
                  </a:lnTo>
                  <a:lnTo>
                    <a:pt x="230569" y="121306"/>
                  </a:lnTo>
                  <a:lnTo>
                    <a:pt x="230684" y="104066"/>
                  </a:lnTo>
                  <a:lnTo>
                    <a:pt x="230711" y="99988"/>
                  </a:lnTo>
                  <a:lnTo>
                    <a:pt x="230827" y="82627"/>
                  </a:lnTo>
                  <a:lnTo>
                    <a:pt x="231156" y="54126"/>
                  </a:lnTo>
                  <a:lnTo>
                    <a:pt x="231231" y="47620"/>
                  </a:lnTo>
                  <a:lnTo>
                    <a:pt x="231301" y="41589"/>
                  </a:lnTo>
                  <a:lnTo>
                    <a:pt x="232001" y="1905"/>
                  </a:lnTo>
                  <a:lnTo>
                    <a:pt x="232028" y="368"/>
                  </a:lnTo>
                  <a:lnTo>
                    <a:pt x="179438" y="0"/>
                  </a:lnTo>
                  <a:close/>
                </a:path>
                <a:path w="232410" h="336550">
                  <a:moveTo>
                    <a:pt x="761" y="1143"/>
                  </a:moveTo>
                  <a:lnTo>
                    <a:pt x="1036" y="17466"/>
                  </a:lnTo>
                  <a:lnTo>
                    <a:pt x="1262" y="33813"/>
                  </a:lnTo>
                  <a:lnTo>
                    <a:pt x="1202" y="121306"/>
                  </a:lnTo>
                  <a:lnTo>
                    <a:pt x="591" y="164372"/>
                  </a:lnTo>
                  <a:lnTo>
                    <a:pt x="0" y="196964"/>
                  </a:lnTo>
                  <a:lnTo>
                    <a:pt x="53720" y="196202"/>
                  </a:lnTo>
                  <a:lnTo>
                    <a:pt x="52991" y="166431"/>
                  </a:lnTo>
                  <a:lnTo>
                    <a:pt x="52398" y="135251"/>
                  </a:lnTo>
                  <a:lnTo>
                    <a:pt x="52339" y="132110"/>
                  </a:lnTo>
                  <a:lnTo>
                    <a:pt x="52077" y="110299"/>
                  </a:lnTo>
                  <a:lnTo>
                    <a:pt x="52096" y="33813"/>
                  </a:lnTo>
                  <a:lnTo>
                    <a:pt x="52447" y="17757"/>
                  </a:lnTo>
                  <a:lnTo>
                    <a:pt x="52958" y="1905"/>
                  </a:lnTo>
                  <a:lnTo>
                    <a:pt x="761" y="114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14"/>
            <p:cNvSpPr/>
            <p:nvPr/>
          </p:nvSpPr>
          <p:spPr>
            <a:xfrm>
              <a:off x="3312000" y="630720"/>
              <a:ext cx="15480" cy="360"/>
            </a:xfrm>
            <a:custGeom>
              <a:avLst/>
              <a:gdLst/>
              <a:ahLst/>
              <a:rect l="l" t="t" r="r" b="b"/>
              <a:pathLst>
                <a:path w="29210" h="1270">
                  <a:moveTo>
                    <a:pt x="0" y="1270"/>
                  </a:moveTo>
                  <a:lnTo>
                    <a:pt x="28963" y="1270"/>
                  </a:lnTo>
                  <a:lnTo>
                    <a:pt x="28963" y="0"/>
                  </a:lnTo>
                  <a:lnTo>
                    <a:pt x="0" y="0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15"/>
            <p:cNvSpPr/>
            <p:nvPr/>
          </p:nvSpPr>
          <p:spPr>
            <a:xfrm>
              <a:off x="3312000" y="604440"/>
              <a:ext cx="171720" cy="27000"/>
            </a:xfrm>
            <a:custGeom>
              <a:avLst/>
              <a:gdLst/>
              <a:ahLst/>
              <a:rect l="l" t="t" r="r" b="b"/>
              <a:pathLst>
                <a:path w="322579" h="50800">
                  <a:moveTo>
                    <a:pt x="322313" y="0"/>
                  </a:moveTo>
                  <a:lnTo>
                    <a:pt x="0" y="0"/>
                  </a:lnTo>
                  <a:lnTo>
                    <a:pt x="0" y="49530"/>
                  </a:lnTo>
                  <a:lnTo>
                    <a:pt x="291985" y="49530"/>
                  </a:lnTo>
                  <a:lnTo>
                    <a:pt x="291985" y="50800"/>
                  </a:lnTo>
                  <a:lnTo>
                    <a:pt x="322313" y="50800"/>
                  </a:lnTo>
                  <a:lnTo>
                    <a:pt x="322313" y="49530"/>
                  </a:lnTo>
                  <a:lnTo>
                    <a:pt x="322313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16"/>
            <p:cNvSpPr/>
            <p:nvPr/>
          </p:nvSpPr>
          <p:spPr>
            <a:xfrm>
              <a:off x="979560" y="329040"/>
              <a:ext cx="226800" cy="25488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3"/>
                  </a:lnTo>
                  <a:lnTo>
                    <a:pt x="6084" y="223326"/>
                  </a:lnTo>
                  <a:lnTo>
                    <a:pt x="1792" y="229669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14" y="256324"/>
                  </a:lnTo>
                  <a:lnTo>
                    <a:pt x="31102" y="254952"/>
                  </a:lnTo>
                  <a:lnTo>
                    <a:pt x="44068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48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17"/>
            <p:cNvSpPr/>
            <p:nvPr/>
          </p:nvSpPr>
          <p:spPr>
            <a:xfrm>
              <a:off x="1333800" y="363600"/>
              <a:ext cx="211680" cy="20016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54" y="665"/>
                  </a:lnTo>
                  <a:lnTo>
                    <a:pt x="6346" y="31169"/>
                  </a:lnTo>
                  <a:lnTo>
                    <a:pt x="5758" y="38315"/>
                  </a:lnTo>
                  <a:lnTo>
                    <a:pt x="5715" y="3884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801"/>
                  </a:lnTo>
                  <a:lnTo>
                    <a:pt x="11517" y="366568"/>
                  </a:lnTo>
                  <a:lnTo>
                    <a:pt x="22797" y="373145"/>
                  </a:lnTo>
                  <a:lnTo>
                    <a:pt x="3523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15"/>
                  </a:lnTo>
                  <a:lnTo>
                    <a:pt x="380573" y="23780"/>
                  </a:lnTo>
                  <a:lnTo>
                    <a:pt x="380499" y="23429"/>
                  </a:lnTo>
                  <a:lnTo>
                    <a:pt x="371789" y="11018"/>
                  </a:lnTo>
                  <a:lnTo>
                    <a:pt x="358566" y="2717"/>
                  </a:lnTo>
                  <a:lnTo>
                    <a:pt x="358756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8"/>
            <p:cNvSpPr/>
            <p:nvPr/>
          </p:nvSpPr>
          <p:spPr>
            <a:xfrm>
              <a:off x="1702800" y="300240"/>
              <a:ext cx="181800" cy="29124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8"/>
                  </a:lnTo>
                  <a:lnTo>
                    <a:pt x="68892" y="336281"/>
                  </a:lnTo>
                  <a:lnTo>
                    <a:pt x="68832" y="332895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97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5" y="61048"/>
                  </a:lnTo>
                  <a:lnTo>
                    <a:pt x="198983" y="100126"/>
                  </a:lnTo>
                  <a:lnTo>
                    <a:pt x="224476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42" y="96431"/>
                  </a:lnTo>
                  <a:lnTo>
                    <a:pt x="251286" y="85900"/>
                  </a:lnTo>
                  <a:lnTo>
                    <a:pt x="240074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83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42" y="0"/>
                  </a:lnTo>
                  <a:lnTo>
                    <a:pt x="250825" y="863"/>
                  </a:lnTo>
                  <a:lnTo>
                    <a:pt x="247675" y="4267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19"/>
            <p:cNvSpPr/>
            <p:nvPr/>
          </p:nvSpPr>
          <p:spPr>
            <a:xfrm>
              <a:off x="1995480" y="334440"/>
              <a:ext cx="166680" cy="26352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59"/>
                  </a:lnTo>
                  <a:lnTo>
                    <a:pt x="241871" y="239140"/>
                  </a:lnTo>
                  <a:lnTo>
                    <a:pt x="234031" y="290274"/>
                  </a:lnTo>
                  <a:lnTo>
                    <a:pt x="219350" y="339045"/>
                  </a:lnTo>
                  <a:lnTo>
                    <a:pt x="199060" y="384210"/>
                  </a:lnTo>
                  <a:lnTo>
                    <a:pt x="174393" y="424526"/>
                  </a:lnTo>
                  <a:lnTo>
                    <a:pt x="146583" y="458749"/>
                  </a:lnTo>
                  <a:lnTo>
                    <a:pt x="142176" y="463232"/>
                  </a:lnTo>
                  <a:lnTo>
                    <a:pt x="140944" y="468668"/>
                  </a:lnTo>
                  <a:lnTo>
                    <a:pt x="160705" y="494042"/>
                  </a:lnTo>
                  <a:lnTo>
                    <a:pt x="168694" y="493255"/>
                  </a:lnTo>
                  <a:lnTo>
                    <a:pt x="170459" y="490854"/>
                  </a:lnTo>
                  <a:lnTo>
                    <a:pt x="175933" y="487667"/>
                  </a:lnTo>
                  <a:lnTo>
                    <a:pt x="222361" y="443650"/>
                  </a:lnTo>
                  <a:lnTo>
                    <a:pt x="250374" y="406474"/>
                  </a:lnTo>
                  <a:lnTo>
                    <a:pt x="276456" y="360124"/>
                  </a:lnTo>
                  <a:lnTo>
                    <a:pt x="296761" y="305302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35" y="6311"/>
                  </a:moveTo>
                  <a:lnTo>
                    <a:pt x="24142" y="6311"/>
                  </a:lnTo>
                  <a:lnTo>
                    <a:pt x="16268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35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0"/>
            <p:cNvSpPr/>
            <p:nvPr/>
          </p:nvSpPr>
          <p:spPr>
            <a:xfrm>
              <a:off x="642240" y="497520"/>
              <a:ext cx="77760" cy="155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66"/>
                  </a:lnTo>
                  <a:lnTo>
                    <a:pt x="62320" y="78936"/>
                  </a:lnTo>
                  <a:lnTo>
                    <a:pt x="46155" y="120107"/>
                  </a:lnTo>
                  <a:lnTo>
                    <a:pt x="20856" y="170675"/>
                  </a:lnTo>
                  <a:lnTo>
                    <a:pt x="12389" y="186805"/>
                  </a:lnTo>
                  <a:lnTo>
                    <a:pt x="0" y="223656"/>
                  </a:lnTo>
                  <a:lnTo>
                    <a:pt x="3207" y="263922"/>
                  </a:lnTo>
                  <a:lnTo>
                    <a:pt x="41705" y="290334"/>
                  </a:lnTo>
                  <a:lnTo>
                    <a:pt x="44195" y="290880"/>
                  </a:lnTo>
                  <a:lnTo>
                    <a:pt x="53863" y="290880"/>
                  </a:lnTo>
                  <a:lnTo>
                    <a:pt x="56721" y="290334"/>
                  </a:lnTo>
                  <a:lnTo>
                    <a:pt x="111885" y="277752"/>
                  </a:lnTo>
                  <a:lnTo>
                    <a:pt x="139085" y="259397"/>
                  </a:lnTo>
                  <a:lnTo>
                    <a:pt x="146252" y="222526"/>
                  </a:lnTo>
                  <a:lnTo>
                    <a:pt x="141316" y="154393"/>
                  </a:lnTo>
                  <a:lnTo>
                    <a:pt x="128980" y="102929"/>
                  </a:lnTo>
                  <a:lnTo>
                    <a:pt x="116028" y="64258"/>
                  </a:lnTo>
                  <a:lnTo>
                    <a:pt x="99884" y="32060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1"/>
            <p:cNvSpPr/>
            <p:nvPr/>
          </p:nvSpPr>
          <p:spPr>
            <a:xfrm>
              <a:off x="616680" y="252360"/>
              <a:ext cx="77760" cy="155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6"/>
                  </a:lnTo>
                  <a:lnTo>
                    <a:pt x="29894" y="226639"/>
                  </a:lnTo>
                  <a:lnTo>
                    <a:pt x="46031" y="258836"/>
                  </a:lnTo>
                  <a:lnTo>
                    <a:pt x="67937" y="290880"/>
                  </a:lnTo>
                  <a:lnTo>
                    <a:pt x="73898" y="249920"/>
                  </a:lnTo>
                  <a:lnTo>
                    <a:pt x="83601" y="211951"/>
                  </a:lnTo>
                  <a:lnTo>
                    <a:pt x="99769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object 22" descr=""/>
            <p:cNvPicPr/>
            <p:nvPr/>
          </p:nvPicPr>
          <p:blipFill>
            <a:blip r:embed="rId3"/>
            <a:stretch/>
          </p:blipFill>
          <p:spPr>
            <a:xfrm>
              <a:off x="533160" y="49536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object 23" descr=""/>
            <p:cNvPicPr/>
            <p:nvPr/>
          </p:nvPicPr>
          <p:blipFill>
            <a:blip r:embed="rId4"/>
            <a:stretch/>
          </p:blipFill>
          <p:spPr>
            <a:xfrm>
              <a:off x="689400" y="292320"/>
              <a:ext cx="114120" cy="1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object 24"/>
            <p:cNvSpPr/>
            <p:nvPr/>
          </p:nvSpPr>
          <p:spPr>
            <a:xfrm>
              <a:off x="468360" y="42624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28" y="48958"/>
                  </a:lnTo>
                  <a:lnTo>
                    <a:pt x="0" y="51244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5"/>
                  </a:lnTo>
                  <a:lnTo>
                    <a:pt x="211980" y="62293"/>
                  </a:lnTo>
                  <a:lnTo>
                    <a:pt x="170806" y="46114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bject 25"/>
            <p:cNvSpPr/>
            <p:nvPr/>
          </p:nvSpPr>
          <p:spPr>
            <a:xfrm>
              <a:off x="713520" y="40032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499" y="0"/>
                  </a:moveTo>
                  <a:lnTo>
                    <a:pt x="154419" y="4929"/>
                  </a:lnTo>
                  <a:lnTo>
                    <a:pt x="102948" y="17278"/>
                  </a:lnTo>
                  <a:lnTo>
                    <a:pt x="64265" y="30235"/>
                  </a:lnTo>
                  <a:lnTo>
                    <a:pt x="0" y="68315"/>
                  </a:lnTo>
                  <a:lnTo>
                    <a:pt x="40973" y="74221"/>
                  </a:lnTo>
                  <a:lnTo>
                    <a:pt x="78960" y="83939"/>
                  </a:lnTo>
                  <a:lnTo>
                    <a:pt x="120145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1" y="146145"/>
                  </a:lnTo>
                  <a:lnTo>
                    <a:pt x="263767" y="142902"/>
                  </a:lnTo>
                  <a:lnTo>
                    <a:pt x="290220" y="104726"/>
                  </a:lnTo>
                  <a:lnTo>
                    <a:pt x="290957" y="99747"/>
                  </a:lnTo>
                  <a:lnTo>
                    <a:pt x="290753" y="97283"/>
                  </a:lnTo>
                  <a:lnTo>
                    <a:pt x="290957" y="94972"/>
                  </a:lnTo>
                  <a:lnTo>
                    <a:pt x="290804" y="92369"/>
                  </a:lnTo>
                  <a:lnTo>
                    <a:pt x="290220" y="89486"/>
                  </a:lnTo>
                  <a:lnTo>
                    <a:pt x="277668" y="34351"/>
                  </a:lnTo>
                  <a:lnTo>
                    <a:pt x="259338" y="7164"/>
                  </a:lnTo>
                  <a:lnTo>
                    <a:pt x="22249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object 26" descr=""/>
            <p:cNvPicPr/>
            <p:nvPr/>
          </p:nvPicPr>
          <p:blipFill>
            <a:blip r:embed="rId5"/>
            <a:stretch/>
          </p:blipFill>
          <p:spPr>
            <a:xfrm>
              <a:off x="508320" y="317160"/>
              <a:ext cx="11664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object 27" descr=""/>
            <p:cNvPicPr/>
            <p:nvPr/>
          </p:nvPicPr>
          <p:blipFill>
            <a:blip r:embed="rId6"/>
            <a:stretch/>
          </p:blipFill>
          <p:spPr>
            <a:xfrm>
              <a:off x="711000" y="473400"/>
              <a:ext cx="1166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object 28"/>
            <p:cNvSpPr/>
            <p:nvPr/>
          </p:nvSpPr>
          <p:spPr>
            <a:xfrm>
              <a:off x="5260320" y="497520"/>
              <a:ext cx="77760" cy="15516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3"/>
                  </a:lnTo>
                  <a:lnTo>
                    <a:pt x="62317" y="78924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516" y="290283"/>
                  </a:lnTo>
                  <a:lnTo>
                    <a:pt x="44018" y="290830"/>
                  </a:lnTo>
                  <a:lnTo>
                    <a:pt x="46570" y="290944"/>
                  </a:lnTo>
                  <a:lnTo>
                    <a:pt x="48996" y="290753"/>
                  </a:lnTo>
                  <a:lnTo>
                    <a:pt x="51333" y="290944"/>
                  </a:lnTo>
                  <a:lnTo>
                    <a:pt x="53873" y="290868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bject 29"/>
            <p:cNvSpPr/>
            <p:nvPr/>
          </p:nvSpPr>
          <p:spPr>
            <a:xfrm>
              <a:off x="5234760" y="252360"/>
              <a:ext cx="77760" cy="15516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98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6"/>
                  </a:lnTo>
                  <a:lnTo>
                    <a:pt x="29908" y="226639"/>
                  </a:lnTo>
                  <a:lnTo>
                    <a:pt x="46045" y="258836"/>
                  </a:lnTo>
                  <a:lnTo>
                    <a:pt x="67957" y="290880"/>
                  </a:lnTo>
                  <a:lnTo>
                    <a:pt x="73884" y="249920"/>
                  </a:lnTo>
                  <a:lnTo>
                    <a:pt x="83602" y="211951"/>
                  </a:lnTo>
                  <a:lnTo>
                    <a:pt x="99784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object 30" descr=""/>
            <p:cNvPicPr/>
            <p:nvPr/>
          </p:nvPicPr>
          <p:blipFill>
            <a:blip r:embed="rId7"/>
            <a:stretch/>
          </p:blipFill>
          <p:spPr>
            <a:xfrm>
              <a:off x="5150880" y="495360"/>
              <a:ext cx="1141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object 31" descr=""/>
            <p:cNvPicPr/>
            <p:nvPr/>
          </p:nvPicPr>
          <p:blipFill>
            <a:blip r:embed="rId8"/>
            <a:stretch/>
          </p:blipFill>
          <p:spPr>
            <a:xfrm>
              <a:off x="5307120" y="292320"/>
              <a:ext cx="114120" cy="1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bject 32"/>
            <p:cNvSpPr/>
            <p:nvPr/>
          </p:nvSpPr>
          <p:spPr>
            <a:xfrm>
              <a:off x="5086080" y="42624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494"/>
                  </a:lnTo>
                  <a:lnTo>
                    <a:pt x="215" y="48958"/>
                  </a:lnTo>
                  <a:lnTo>
                    <a:pt x="0" y="51244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5" y="72005"/>
                  </a:lnTo>
                  <a:lnTo>
                    <a:pt x="211958" y="62293"/>
                  </a:lnTo>
                  <a:lnTo>
                    <a:pt x="170782" y="46114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bject 33"/>
            <p:cNvSpPr/>
            <p:nvPr/>
          </p:nvSpPr>
          <p:spPr>
            <a:xfrm>
              <a:off x="5331240" y="400320"/>
              <a:ext cx="155160" cy="781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ject 34" descr=""/>
            <p:cNvPicPr/>
            <p:nvPr/>
          </p:nvPicPr>
          <p:blipFill>
            <a:blip r:embed="rId9"/>
            <a:stretch/>
          </p:blipFill>
          <p:spPr>
            <a:xfrm>
              <a:off x="5126400" y="317160"/>
              <a:ext cx="11664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object 35" descr=""/>
            <p:cNvPicPr/>
            <p:nvPr/>
          </p:nvPicPr>
          <p:blipFill>
            <a:blip r:embed="rId10"/>
            <a:stretch/>
          </p:blipFill>
          <p:spPr>
            <a:xfrm>
              <a:off x="5329080" y="473400"/>
              <a:ext cx="116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object 36" descr=""/>
            <p:cNvPicPr/>
            <p:nvPr/>
          </p:nvPicPr>
          <p:blipFill>
            <a:blip r:embed="rId11"/>
            <a:stretch/>
          </p:blipFill>
          <p:spPr>
            <a:xfrm>
              <a:off x="2354040" y="772560"/>
              <a:ext cx="108360" cy="1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object 37"/>
            <p:cNvGrpSpPr/>
            <p:nvPr/>
          </p:nvGrpSpPr>
          <p:grpSpPr>
            <a:xfrm>
              <a:off x="2489400" y="775440"/>
              <a:ext cx="267120" cy="99000"/>
              <a:chOff x="2489400" y="775440"/>
              <a:chExt cx="267120" cy="99000"/>
            </a:xfrm>
          </p:grpSpPr>
          <p:pic>
            <p:nvPicPr>
              <p:cNvPr id="72" name="object 38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89400" y="777240"/>
                <a:ext cx="10476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39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06040" y="777240"/>
                <a:ext cx="6660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4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88840" y="775440"/>
                <a:ext cx="67680" cy="99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object 41" descr=""/>
            <p:cNvPicPr/>
            <p:nvPr/>
          </p:nvPicPr>
          <p:blipFill>
            <a:blip r:embed="rId15"/>
            <a:stretch/>
          </p:blipFill>
          <p:spPr>
            <a:xfrm>
              <a:off x="2788560" y="788400"/>
              <a:ext cx="7524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bject 42"/>
            <p:cNvSpPr/>
            <p:nvPr/>
          </p:nvSpPr>
          <p:spPr>
            <a:xfrm>
              <a:off x="2898000" y="826920"/>
              <a:ext cx="9000" cy="45000"/>
            </a:xfrm>
            <a:custGeom>
              <a:avLst/>
              <a:gdLst/>
              <a:ahLst/>
              <a:rect l="l" t="t" r="r" b="b"/>
              <a:pathLst>
                <a:path w="17145" h="85090">
                  <a:moveTo>
                    <a:pt x="0" y="85089"/>
                  </a:moveTo>
                  <a:lnTo>
                    <a:pt x="16929" y="85089"/>
                  </a:lnTo>
                  <a:lnTo>
                    <a:pt x="16929" y="0"/>
                  </a:lnTo>
                  <a:lnTo>
                    <a:pt x="0" y="0"/>
                  </a:lnTo>
                  <a:lnTo>
                    <a:pt x="0" y="8508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object 43"/>
            <p:cNvGrpSpPr/>
            <p:nvPr/>
          </p:nvGrpSpPr>
          <p:grpSpPr>
            <a:xfrm>
              <a:off x="2898000" y="775440"/>
              <a:ext cx="443160" cy="99000"/>
              <a:chOff x="2898000" y="775440"/>
              <a:chExt cx="443160" cy="99000"/>
            </a:xfrm>
          </p:grpSpPr>
          <p:sp>
            <p:nvSpPr>
              <p:cNvPr id="78" name="object 44"/>
              <p:cNvSpPr/>
              <p:nvPr/>
            </p:nvSpPr>
            <p:spPr>
              <a:xfrm>
                <a:off x="2898000" y="777600"/>
                <a:ext cx="67680" cy="95040"/>
              </a:xfrm>
              <a:custGeom>
                <a:avLst/>
                <a:gdLst/>
                <a:ahLst/>
                <a:rect l="l" t="t" r="r" b="b"/>
                <a:pathLst>
                  <a:path w="127635" h="177800">
                    <a:moveTo>
                      <a:pt x="127596" y="0"/>
                    </a:moveTo>
                    <a:lnTo>
                      <a:pt x="110451" y="0"/>
                    </a:lnTo>
                    <a:lnTo>
                      <a:pt x="110451" y="77470"/>
                    </a:lnTo>
                    <a:lnTo>
                      <a:pt x="16929" y="77470"/>
                    </a:lnTo>
                    <a:lnTo>
                      <a:pt x="16929" y="0"/>
                    </a:lnTo>
                    <a:lnTo>
                      <a:pt x="0" y="0"/>
                    </a:lnTo>
                    <a:lnTo>
                      <a:pt x="0" y="77470"/>
                    </a:lnTo>
                    <a:lnTo>
                      <a:pt x="0" y="92710"/>
                    </a:lnTo>
                    <a:lnTo>
                      <a:pt x="110451" y="92710"/>
                    </a:lnTo>
                    <a:lnTo>
                      <a:pt x="110451" y="177800"/>
                    </a:lnTo>
                    <a:lnTo>
                      <a:pt x="127596" y="177800"/>
                    </a:lnTo>
                    <a:lnTo>
                      <a:pt x="127596" y="92710"/>
                    </a:lnTo>
                    <a:lnTo>
                      <a:pt x="127596" y="77470"/>
                    </a:lnTo>
                    <a:lnTo>
                      <a:pt x="127596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object 4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85120" y="775440"/>
                <a:ext cx="6948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object 46" descr=""/>
              <p:cNvPicPr/>
              <p:nvPr/>
            </p:nvPicPr>
            <p:blipFill>
              <a:blip r:embed="rId17"/>
              <a:stretch/>
            </p:blipFill>
            <p:spPr>
              <a:xfrm>
                <a:off x="3070440" y="775440"/>
                <a:ext cx="6768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object 47" descr=""/>
              <p:cNvPicPr/>
              <p:nvPr/>
            </p:nvPicPr>
            <p:blipFill>
              <a:blip r:embed="rId18"/>
              <a:stretch/>
            </p:blipFill>
            <p:spPr>
              <a:xfrm>
                <a:off x="3155400" y="803880"/>
                <a:ext cx="83880" cy="6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8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57280" y="803880"/>
                <a:ext cx="83880" cy="6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object 49"/>
            <p:cNvGrpSpPr/>
            <p:nvPr/>
          </p:nvGrpSpPr>
          <p:grpSpPr>
            <a:xfrm>
              <a:off x="4305600" y="325800"/>
              <a:ext cx="359280" cy="141120"/>
              <a:chOff x="4305600" y="325800"/>
              <a:chExt cx="359280" cy="141120"/>
            </a:xfrm>
          </p:grpSpPr>
          <p:sp>
            <p:nvSpPr>
              <p:cNvPr id="84" name="object 50"/>
              <p:cNvSpPr/>
              <p:nvPr/>
            </p:nvSpPr>
            <p:spPr>
              <a:xfrm>
                <a:off x="4305600" y="325800"/>
                <a:ext cx="41760" cy="141120"/>
              </a:xfrm>
              <a:custGeom>
                <a:avLst/>
                <a:gdLst/>
                <a:ahLst/>
                <a:rect l="l" t="t" r="r" b="b"/>
                <a:pathLst>
                  <a:path w="78740" h="265430">
                    <a:moveTo>
                      <a:pt x="61188" y="0"/>
                    </a:moveTo>
                    <a:lnTo>
                      <a:pt x="36181" y="25324"/>
                    </a:lnTo>
                    <a:lnTo>
                      <a:pt x="16864" y="55108"/>
                    </a:lnTo>
                    <a:lnTo>
                      <a:pt x="4411" y="90450"/>
                    </a:lnTo>
                    <a:lnTo>
                      <a:pt x="0" y="132448"/>
                    </a:lnTo>
                    <a:lnTo>
                      <a:pt x="3508" y="170786"/>
                    </a:lnTo>
                    <a:lnTo>
                      <a:pt x="14454" y="205279"/>
                    </a:lnTo>
                    <a:lnTo>
                      <a:pt x="33470" y="236472"/>
                    </a:lnTo>
                    <a:lnTo>
                      <a:pt x="61188" y="264909"/>
                    </a:lnTo>
                    <a:lnTo>
                      <a:pt x="78511" y="248704"/>
                    </a:lnTo>
                    <a:lnTo>
                      <a:pt x="59597" y="225190"/>
                    </a:lnTo>
                    <a:lnTo>
                      <a:pt x="44138" y="197486"/>
                    </a:lnTo>
                    <a:lnTo>
                      <a:pt x="33709" y="166327"/>
                    </a:lnTo>
                    <a:lnTo>
                      <a:pt x="29883" y="132448"/>
                    </a:lnTo>
                    <a:lnTo>
                      <a:pt x="34023" y="97271"/>
                    </a:lnTo>
                    <a:lnTo>
                      <a:pt x="44977" y="65868"/>
                    </a:lnTo>
                    <a:lnTo>
                      <a:pt x="60540" y="38761"/>
                    </a:lnTo>
                    <a:lnTo>
                      <a:pt x="78511" y="16471"/>
                    </a:lnTo>
                    <a:lnTo>
                      <a:pt x="61188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object 51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62120" y="339480"/>
                <a:ext cx="261000" cy="11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object 52"/>
              <p:cNvSpPr/>
              <p:nvPr/>
            </p:nvSpPr>
            <p:spPr>
              <a:xfrm>
                <a:off x="4645800" y="403920"/>
                <a:ext cx="19080" cy="360"/>
              </a:xfrm>
              <a:custGeom>
                <a:avLst/>
                <a:gdLst/>
                <a:ahLst/>
                <a:rect l="l" t="t" r="r" b="b"/>
                <a:pathLst>
                  <a:path w="36195" h="1270">
                    <a:moveTo>
                      <a:pt x="0" y="1269"/>
                    </a:moveTo>
                    <a:lnTo>
                      <a:pt x="-29525" y="1269"/>
                    </a:lnTo>
                    <a:lnTo>
                      <a:pt x="-29525" y="0"/>
                    </a:lnTo>
                    <a:lnTo>
                      <a:pt x="0" y="0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bject 53"/>
            <p:cNvSpPr/>
            <p:nvPr/>
          </p:nvSpPr>
          <p:spPr>
            <a:xfrm>
              <a:off x="4645800" y="325800"/>
              <a:ext cx="323280" cy="141120"/>
            </a:xfrm>
            <a:custGeom>
              <a:avLst/>
              <a:gdLst/>
              <a:ahLst/>
              <a:rect l="l" t="t" r="r" b="b"/>
              <a:pathLst>
                <a:path w="607695" h="265430">
                  <a:moveTo>
                    <a:pt x="236410" y="110274"/>
                  </a:moveTo>
                  <a:lnTo>
                    <a:pt x="173316" y="110274"/>
                  </a:lnTo>
                  <a:lnTo>
                    <a:pt x="173316" y="111544"/>
                  </a:lnTo>
                  <a:lnTo>
                    <a:pt x="49745" y="111544"/>
                  </a:lnTo>
                  <a:lnTo>
                    <a:pt x="49745" y="110274"/>
                  </a:lnTo>
                  <a:lnTo>
                    <a:pt x="0" y="110274"/>
                  </a:lnTo>
                  <a:lnTo>
                    <a:pt x="0" y="111544"/>
                  </a:lnTo>
                  <a:lnTo>
                    <a:pt x="0" y="147104"/>
                  </a:lnTo>
                  <a:lnTo>
                    <a:pt x="196799" y="147104"/>
                  </a:lnTo>
                  <a:lnTo>
                    <a:pt x="196799" y="148374"/>
                  </a:lnTo>
                  <a:lnTo>
                    <a:pt x="236410" y="148374"/>
                  </a:lnTo>
                  <a:lnTo>
                    <a:pt x="236410" y="147104"/>
                  </a:lnTo>
                  <a:lnTo>
                    <a:pt x="236410" y="111544"/>
                  </a:lnTo>
                  <a:lnTo>
                    <a:pt x="236410" y="110274"/>
                  </a:lnTo>
                  <a:close/>
                </a:path>
                <a:path w="607695" h="265430">
                  <a:moveTo>
                    <a:pt x="338277" y="35763"/>
                  </a:moveTo>
                  <a:lnTo>
                    <a:pt x="300558" y="34353"/>
                  </a:lnTo>
                  <a:lnTo>
                    <a:pt x="301129" y="46837"/>
                  </a:lnTo>
                  <a:lnTo>
                    <a:pt x="301561" y="58712"/>
                  </a:lnTo>
                  <a:lnTo>
                    <a:pt x="301853" y="70015"/>
                  </a:lnTo>
                  <a:lnTo>
                    <a:pt x="301955" y="80759"/>
                  </a:lnTo>
                  <a:lnTo>
                    <a:pt x="299186" y="129514"/>
                  </a:lnTo>
                  <a:lnTo>
                    <a:pt x="289661" y="168008"/>
                  </a:lnTo>
                  <a:lnTo>
                    <a:pt x="271538" y="200533"/>
                  </a:lnTo>
                  <a:lnTo>
                    <a:pt x="243001" y="231368"/>
                  </a:lnTo>
                  <a:lnTo>
                    <a:pt x="281825" y="253720"/>
                  </a:lnTo>
                  <a:lnTo>
                    <a:pt x="307949" y="216306"/>
                  </a:lnTo>
                  <a:lnTo>
                    <a:pt x="324231" y="181229"/>
                  </a:lnTo>
                  <a:lnTo>
                    <a:pt x="333095" y="143065"/>
                  </a:lnTo>
                  <a:lnTo>
                    <a:pt x="336956" y="96393"/>
                  </a:lnTo>
                  <a:lnTo>
                    <a:pt x="338277" y="35763"/>
                  </a:lnTo>
                  <a:close/>
                </a:path>
                <a:path w="607695" h="265430">
                  <a:moveTo>
                    <a:pt x="514604" y="126301"/>
                  </a:moveTo>
                  <a:lnTo>
                    <a:pt x="487781" y="100025"/>
                  </a:lnTo>
                  <a:lnTo>
                    <a:pt x="468426" y="133032"/>
                  </a:lnTo>
                  <a:lnTo>
                    <a:pt x="444677" y="162001"/>
                  </a:lnTo>
                  <a:lnTo>
                    <a:pt x="420814" y="183730"/>
                  </a:lnTo>
                  <a:lnTo>
                    <a:pt x="401154" y="195046"/>
                  </a:lnTo>
                  <a:lnTo>
                    <a:pt x="401231" y="114439"/>
                  </a:lnTo>
                  <a:lnTo>
                    <a:pt x="401574" y="81876"/>
                  </a:lnTo>
                  <a:lnTo>
                    <a:pt x="402209" y="54864"/>
                  </a:lnTo>
                  <a:lnTo>
                    <a:pt x="402323" y="49720"/>
                  </a:lnTo>
                  <a:lnTo>
                    <a:pt x="403669" y="18148"/>
                  </a:lnTo>
                  <a:lnTo>
                    <a:pt x="363702" y="17030"/>
                  </a:lnTo>
                  <a:lnTo>
                    <a:pt x="364426" y="33629"/>
                  </a:lnTo>
                  <a:lnTo>
                    <a:pt x="364832" y="49720"/>
                  </a:lnTo>
                  <a:lnTo>
                    <a:pt x="364959" y="54864"/>
                  </a:lnTo>
                  <a:lnTo>
                    <a:pt x="365264" y="79400"/>
                  </a:lnTo>
                  <a:lnTo>
                    <a:pt x="365226" y="145707"/>
                  </a:lnTo>
                  <a:lnTo>
                    <a:pt x="364820" y="182753"/>
                  </a:lnTo>
                  <a:lnTo>
                    <a:pt x="364210" y="212864"/>
                  </a:lnTo>
                  <a:lnTo>
                    <a:pt x="363435" y="231927"/>
                  </a:lnTo>
                  <a:lnTo>
                    <a:pt x="389128" y="248691"/>
                  </a:lnTo>
                  <a:lnTo>
                    <a:pt x="430771" y="222300"/>
                  </a:lnTo>
                  <a:lnTo>
                    <a:pt x="463003" y="195046"/>
                  </a:lnTo>
                  <a:lnTo>
                    <a:pt x="464121" y="194106"/>
                  </a:lnTo>
                  <a:lnTo>
                    <a:pt x="491337" y="162598"/>
                  </a:lnTo>
                  <a:lnTo>
                    <a:pt x="514604" y="126301"/>
                  </a:lnTo>
                  <a:close/>
                </a:path>
                <a:path w="607695" h="265430">
                  <a:moveTo>
                    <a:pt x="607339" y="132461"/>
                  </a:moveTo>
                  <a:lnTo>
                    <a:pt x="602881" y="90462"/>
                  </a:lnTo>
                  <a:lnTo>
                    <a:pt x="590359" y="55118"/>
                  </a:lnTo>
                  <a:lnTo>
                    <a:pt x="571030" y="25323"/>
                  </a:lnTo>
                  <a:lnTo>
                    <a:pt x="546150" y="0"/>
                  </a:lnTo>
                  <a:lnTo>
                    <a:pt x="528535" y="16484"/>
                  </a:lnTo>
                  <a:lnTo>
                    <a:pt x="546544" y="38760"/>
                  </a:lnTo>
                  <a:lnTo>
                    <a:pt x="562203" y="65874"/>
                  </a:lnTo>
                  <a:lnTo>
                    <a:pt x="573252" y="97282"/>
                  </a:lnTo>
                  <a:lnTo>
                    <a:pt x="577443" y="132461"/>
                  </a:lnTo>
                  <a:lnTo>
                    <a:pt x="573570" y="166331"/>
                  </a:lnTo>
                  <a:lnTo>
                    <a:pt x="563041" y="197485"/>
                  </a:lnTo>
                  <a:lnTo>
                    <a:pt x="547484" y="225183"/>
                  </a:lnTo>
                  <a:lnTo>
                    <a:pt x="528535" y="248704"/>
                  </a:lnTo>
                  <a:lnTo>
                    <a:pt x="546150" y="264909"/>
                  </a:lnTo>
                  <a:lnTo>
                    <a:pt x="573735" y="236474"/>
                  </a:lnTo>
                  <a:lnTo>
                    <a:pt x="592772" y="205282"/>
                  </a:lnTo>
                  <a:lnTo>
                    <a:pt x="603783" y="170789"/>
                  </a:lnTo>
                  <a:lnTo>
                    <a:pt x="607339" y="13246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34</cp:lastModifiedBy>
  <dcterms:modified xsi:type="dcterms:W3CDTF">2025-11-24T07:48:14Z</dcterms:modified>
  <cp:revision>27</cp:revision>
  <dc:subject/>
  <dc:title/>
</cp:coreProperties>
</file>