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477000" cy="8280400"/>
  <p:notesSz cx="6477000" cy="8280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330120"/>
            <a:ext cx="582840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3640" y="1937520"/>
            <a:ext cx="582840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640" y="4445640"/>
            <a:ext cx="582840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3640" y="330120"/>
            <a:ext cx="582840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3640" y="1937520"/>
            <a:ext cx="284400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0200" y="1937520"/>
            <a:ext cx="284400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23640" y="4445640"/>
            <a:ext cx="284400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310200" y="4445640"/>
            <a:ext cx="284400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3640" y="330120"/>
            <a:ext cx="582840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3640" y="1937520"/>
            <a:ext cx="18766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294640" y="1937520"/>
            <a:ext cx="18766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265280" y="1937520"/>
            <a:ext cx="18766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23640" y="4445640"/>
            <a:ext cx="18766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2294640" y="4445640"/>
            <a:ext cx="18766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4265280" y="4445640"/>
            <a:ext cx="187668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330120"/>
            <a:ext cx="582840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23640" y="1937520"/>
            <a:ext cx="582840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3640" y="330120"/>
            <a:ext cx="582840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3640" y="1937520"/>
            <a:ext cx="582840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3640" y="330120"/>
            <a:ext cx="582840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3640" y="1937520"/>
            <a:ext cx="284400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10200" y="1937520"/>
            <a:ext cx="284400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3640" y="330120"/>
            <a:ext cx="582840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23640" y="330120"/>
            <a:ext cx="5828400" cy="640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330120"/>
            <a:ext cx="582840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3640" y="1937520"/>
            <a:ext cx="284400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0200" y="1937520"/>
            <a:ext cx="284400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23640" y="4445640"/>
            <a:ext cx="284400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3640" y="330120"/>
            <a:ext cx="582840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3640" y="1937520"/>
            <a:ext cx="284400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0200" y="1937520"/>
            <a:ext cx="284400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310200" y="4445640"/>
            <a:ext cx="284400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3640" y="330120"/>
            <a:ext cx="582840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3640" y="1937520"/>
            <a:ext cx="284400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200" y="1937520"/>
            <a:ext cx="284400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23640" y="4445640"/>
            <a:ext cx="582840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bject 2"/>
          <p:cNvGrpSpPr/>
          <p:nvPr/>
        </p:nvGrpSpPr>
        <p:grpSpPr>
          <a:xfrm>
            <a:off x="1187280" y="1187280"/>
            <a:ext cx="4102200" cy="5904000"/>
            <a:chOff x="1187280" y="1187280"/>
            <a:chExt cx="4102200" cy="5904000"/>
          </a:xfrm>
        </p:grpSpPr>
        <p:sp>
          <p:nvSpPr>
            <p:cNvPr id="1" name=""/>
            <p:cNvSpPr/>
            <p:nvPr/>
          </p:nvSpPr>
          <p:spPr>
            <a:xfrm>
              <a:off x="1187280" y="118728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11280" y="118728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619280" y="1187280"/>
              <a:ext cx="323856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57840" y="118728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965840" y="1187280"/>
              <a:ext cx="323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187280" y="151128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11280" y="1511280"/>
              <a:ext cx="34545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965840" y="1511280"/>
              <a:ext cx="3236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187280" y="1619280"/>
              <a:ext cx="32400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965840" y="1619280"/>
              <a:ext cx="32364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187280" y="665964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965840" y="6659640"/>
              <a:ext cx="3236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187280" y="676764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511280" y="6767640"/>
              <a:ext cx="108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619280" y="6767640"/>
              <a:ext cx="32385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7840" y="6767640"/>
              <a:ext cx="108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965840" y="6767640"/>
              <a:ext cx="323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11280" y="118728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11280" y="1511280"/>
              <a:ext cx="0" cy="5256360"/>
            </a:xfrm>
            <a:prstGeom prst="line">
              <a:avLst/>
            </a:prstGeom>
            <a:ln w="12600">
              <a:solidFill>
                <a:srgbClr val="231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11280" y="6767640"/>
              <a:ext cx="0" cy="32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619280" y="118728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619280" y="6767640"/>
              <a:ext cx="0" cy="32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4857840" y="118728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4857840" y="6767640"/>
              <a:ext cx="0" cy="32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4965840" y="118728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965840" y="1511280"/>
              <a:ext cx="0" cy="5256360"/>
            </a:xfrm>
            <a:prstGeom prst="line">
              <a:avLst/>
            </a:prstGeom>
            <a:ln w="12600">
              <a:solidFill>
                <a:srgbClr val="231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965840" y="6767640"/>
              <a:ext cx="0" cy="32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187280" y="151128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511280" y="1511280"/>
              <a:ext cx="3454560" cy="0"/>
            </a:xfrm>
            <a:prstGeom prst="line">
              <a:avLst/>
            </a:prstGeom>
            <a:ln w="12600">
              <a:solidFill>
                <a:srgbClr val="231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965840" y="1511280"/>
              <a:ext cx="323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187280" y="161928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965840" y="1619280"/>
              <a:ext cx="323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87280" y="6659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965840" y="6659640"/>
              <a:ext cx="323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187280" y="6767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511280" y="6767640"/>
              <a:ext cx="3454560" cy="0"/>
            </a:xfrm>
            <a:prstGeom prst="line">
              <a:avLst/>
            </a:prstGeom>
            <a:ln w="12600">
              <a:solidFill>
                <a:srgbClr val="231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4965840" y="6767640"/>
              <a:ext cx="323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" name="object 3"/>
          <p:cNvGrpSpPr/>
          <p:nvPr/>
        </p:nvGrpSpPr>
        <p:grpSpPr>
          <a:xfrm>
            <a:off x="1162080" y="3683160"/>
            <a:ext cx="304920" cy="914400"/>
            <a:chOff x="1162080" y="3683160"/>
            <a:chExt cx="304920" cy="914400"/>
          </a:xfrm>
        </p:grpSpPr>
        <p:sp>
          <p:nvSpPr>
            <p:cNvPr id="39" name="object 4"/>
            <p:cNvSpPr/>
            <p:nvPr/>
          </p:nvSpPr>
          <p:spPr>
            <a:xfrm>
              <a:off x="1162080" y="4140360"/>
              <a:ext cx="304920" cy="360"/>
            </a:xfrm>
            <a:custGeom>
              <a:avLst/>
              <a:gdLst/>
              <a:ahLst/>
              <a:rect l="l" t="t" r="r" b="b"/>
              <a:pathLst>
                <a:path w="304800" h="0">
                  <a:moveTo>
                    <a:pt x="0" y="0"/>
                  </a:moveTo>
                  <a:lnTo>
                    <a:pt x="30480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object 5"/>
            <p:cNvSpPr/>
            <p:nvPr/>
          </p:nvSpPr>
          <p:spPr>
            <a:xfrm>
              <a:off x="1391040" y="3683160"/>
              <a:ext cx="360" cy="914400"/>
            </a:xfrm>
            <a:custGeom>
              <a:avLst/>
              <a:gdLst/>
              <a:ahLst/>
              <a:rect l="l" t="t" r="r" b="b"/>
              <a:pathLst>
                <a:path w="0" h="914400">
                  <a:moveTo>
                    <a:pt x="0" y="0"/>
                  </a:moveTo>
                  <a:lnTo>
                    <a:pt x="0" y="91440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" name="object 6"/>
          <p:cNvGrpSpPr/>
          <p:nvPr/>
        </p:nvGrpSpPr>
        <p:grpSpPr>
          <a:xfrm>
            <a:off x="5011560" y="3683160"/>
            <a:ext cx="304920" cy="914400"/>
            <a:chOff x="5011560" y="3683160"/>
            <a:chExt cx="304920" cy="914400"/>
          </a:xfrm>
        </p:grpSpPr>
        <p:sp>
          <p:nvSpPr>
            <p:cNvPr id="42" name="object 7"/>
            <p:cNvSpPr/>
            <p:nvPr/>
          </p:nvSpPr>
          <p:spPr>
            <a:xfrm>
              <a:off x="5011560" y="4140360"/>
              <a:ext cx="304920" cy="360"/>
            </a:xfrm>
            <a:custGeom>
              <a:avLst/>
              <a:gdLst/>
              <a:ahLst/>
              <a:rect l="l" t="t" r="r" b="b"/>
              <a:pathLst>
                <a:path w="304800" h="0">
                  <a:moveTo>
                    <a:pt x="304800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object 8"/>
            <p:cNvSpPr/>
            <p:nvPr/>
          </p:nvSpPr>
          <p:spPr>
            <a:xfrm>
              <a:off x="5087880" y="3683160"/>
              <a:ext cx="360" cy="914400"/>
            </a:xfrm>
            <a:custGeom>
              <a:avLst/>
              <a:gdLst/>
              <a:ahLst/>
              <a:rect l="l" t="t" r="r" b="b"/>
              <a:pathLst>
                <a:path w="0" h="914400">
                  <a:moveTo>
                    <a:pt x="0" y="91440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object 9"/>
          <p:cNvGrpSpPr/>
          <p:nvPr/>
        </p:nvGrpSpPr>
        <p:grpSpPr>
          <a:xfrm>
            <a:off x="2782800" y="1162080"/>
            <a:ext cx="914400" cy="304920"/>
            <a:chOff x="2782800" y="1162080"/>
            <a:chExt cx="914400" cy="304920"/>
          </a:xfrm>
        </p:grpSpPr>
        <p:sp>
          <p:nvSpPr>
            <p:cNvPr id="45" name="object 10"/>
            <p:cNvSpPr/>
            <p:nvPr/>
          </p:nvSpPr>
          <p:spPr>
            <a:xfrm>
              <a:off x="2782800" y="1390680"/>
              <a:ext cx="914400" cy="360"/>
            </a:xfrm>
            <a:custGeom>
              <a:avLst/>
              <a:gdLst/>
              <a:ahLst/>
              <a:rect l="l" t="t" r="r" b="b"/>
              <a:pathLst>
                <a:path w="914400" h="0">
                  <a:moveTo>
                    <a:pt x="0" y="0"/>
                  </a:moveTo>
                  <a:lnTo>
                    <a:pt x="91440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object 11"/>
            <p:cNvSpPr/>
            <p:nvPr/>
          </p:nvSpPr>
          <p:spPr>
            <a:xfrm>
              <a:off x="3240000" y="1162080"/>
              <a:ext cx="360" cy="304920"/>
            </a:xfrm>
            <a:custGeom>
              <a:avLst/>
              <a:gdLst/>
              <a:ahLst/>
              <a:rect l="l" t="t" r="r" b="b"/>
              <a:pathLst>
                <a:path w="0" h="304800">
                  <a:moveTo>
                    <a:pt x="0" y="0"/>
                  </a:moveTo>
                  <a:lnTo>
                    <a:pt x="0" y="30480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" name="object 12"/>
          <p:cNvGrpSpPr/>
          <p:nvPr/>
        </p:nvGrpSpPr>
        <p:grpSpPr>
          <a:xfrm>
            <a:off x="2782800" y="6811920"/>
            <a:ext cx="914400" cy="304920"/>
            <a:chOff x="2782800" y="6811920"/>
            <a:chExt cx="914400" cy="304920"/>
          </a:xfrm>
        </p:grpSpPr>
        <p:sp>
          <p:nvSpPr>
            <p:cNvPr id="48" name="object 13"/>
            <p:cNvSpPr/>
            <p:nvPr/>
          </p:nvSpPr>
          <p:spPr>
            <a:xfrm>
              <a:off x="2782800" y="6887880"/>
              <a:ext cx="914400" cy="360"/>
            </a:xfrm>
            <a:custGeom>
              <a:avLst/>
              <a:gdLst/>
              <a:ahLst/>
              <a:rect l="l" t="t" r="r" b="b"/>
              <a:pathLst>
                <a:path w="914400" h="0">
                  <a:moveTo>
                    <a:pt x="914400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object 14"/>
            <p:cNvSpPr/>
            <p:nvPr/>
          </p:nvSpPr>
          <p:spPr>
            <a:xfrm>
              <a:off x="3240000" y="6811920"/>
              <a:ext cx="360" cy="304920"/>
            </a:xfrm>
            <a:custGeom>
              <a:avLst/>
              <a:gdLst/>
              <a:ahLst/>
              <a:rect l="l" t="t" r="r" b="b"/>
              <a:pathLst>
                <a:path w="0" h="304800">
                  <a:moveTo>
                    <a:pt x="0" y="30480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AutoShape 89"/>
          <p:cNvSpPr/>
          <p:nvPr/>
        </p:nvSpPr>
        <p:spPr>
          <a:xfrm>
            <a:off x="3268800" y="6904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AutoShape 90"/>
          <p:cNvSpPr/>
          <p:nvPr/>
        </p:nvSpPr>
        <p:spPr>
          <a:xfrm>
            <a:off x="32828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グループ化 39"/>
          <p:cNvGrpSpPr/>
          <p:nvPr/>
        </p:nvGrpSpPr>
        <p:grpSpPr>
          <a:xfrm>
            <a:off x="262080" y="1612800"/>
            <a:ext cx="4605120" cy="5054760"/>
            <a:chOff x="262080" y="1612800"/>
            <a:chExt cx="4605120" cy="5054760"/>
          </a:xfrm>
        </p:grpSpPr>
        <p:grpSp>
          <p:nvGrpSpPr>
            <p:cNvPr id="53" name="グループ化 38"/>
            <p:cNvGrpSpPr/>
            <p:nvPr/>
          </p:nvGrpSpPr>
          <p:grpSpPr>
            <a:xfrm>
              <a:off x="262080" y="1834200"/>
              <a:ext cx="1028880" cy="2305800"/>
              <a:chOff x="262080" y="1834200"/>
              <a:chExt cx="1028880" cy="2305800"/>
            </a:xfrm>
          </p:grpSpPr>
          <p:sp>
            <p:nvSpPr>
              <p:cNvPr id="54" name="AutoShape 87"/>
              <p:cNvSpPr/>
              <p:nvPr/>
            </p:nvSpPr>
            <p:spPr>
              <a:xfrm>
                <a:off x="262080" y="2554920"/>
                <a:ext cx="1028880" cy="703440"/>
              </a:xfrm>
              <a:prstGeom prst="wedgeRoundRectCallout">
                <a:avLst>
                  <a:gd name="adj1" fmla="val 88736"/>
                  <a:gd name="adj2" fmla="val -49324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切れては困るものは、ピンクの破線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内に配置してください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AutoShape 88"/>
              <p:cNvSpPr/>
              <p:nvPr/>
            </p:nvSpPr>
            <p:spPr>
              <a:xfrm>
                <a:off x="262080" y="1834200"/>
                <a:ext cx="1028880" cy="571680"/>
              </a:xfrm>
              <a:prstGeom prst="wedgeRoundRectCallout">
                <a:avLst>
                  <a:gd name="adj1" fmla="val 79476"/>
                  <a:gd name="adj2" fmla="val -41388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青い破線が仕上がり位置となります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AutoShape 91"/>
              <p:cNvSpPr/>
              <p:nvPr/>
            </p:nvSpPr>
            <p:spPr>
              <a:xfrm>
                <a:off x="262080" y="3419280"/>
                <a:ext cx="1028880" cy="720720"/>
              </a:xfrm>
              <a:prstGeom prst="wedgeRoundRectCallout">
                <a:avLst>
                  <a:gd name="adj1" fmla="val 68365"/>
                  <a:gd name="adj2" fmla="val -33481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Arial"/>
                  </a:rPr>
                  <a:t>フチ無し印刷は黒い線まで伸ばして配置してください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object 15"/>
            <p:cNvGrpSpPr/>
            <p:nvPr/>
          </p:nvGrpSpPr>
          <p:grpSpPr>
            <a:xfrm>
              <a:off x="1613520" y="1612800"/>
              <a:ext cx="3253680" cy="5054760"/>
              <a:chOff x="1613520" y="1612800"/>
              <a:chExt cx="3253680" cy="5054760"/>
            </a:xfrm>
          </p:grpSpPr>
          <p:sp>
            <p:nvSpPr>
              <p:cNvPr id="58" name="object 16"/>
              <p:cNvSpPr/>
              <p:nvPr/>
            </p:nvSpPr>
            <p:spPr>
              <a:xfrm>
                <a:off x="1613520" y="1612800"/>
                <a:ext cx="3253680" cy="5054760"/>
              </a:xfrm>
              <a:custGeom>
                <a:avLst/>
                <a:gdLst/>
                <a:ahLst/>
                <a:rect l="l" t="t" r="r" b="b"/>
                <a:pathLst>
                  <a:path w="3240404" h="5040630">
                    <a:moveTo>
                      <a:pt x="3239998" y="5040007"/>
                    </a:moveTo>
                    <a:lnTo>
                      <a:pt x="0" y="5040007"/>
                    </a:lnTo>
                    <a:lnTo>
                      <a:pt x="0" y="0"/>
                    </a:lnTo>
                    <a:lnTo>
                      <a:pt x="3239998" y="0"/>
                    </a:lnTo>
                    <a:lnTo>
                      <a:pt x="3239998" y="5040007"/>
                    </a:lnTo>
                    <a:close/>
                  </a:path>
                </a:pathLst>
              </a:custGeom>
              <a:noFill/>
              <a:ln w="12600">
                <a:solidFill>
                  <a:srgbClr val="1d2088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object 17"/>
              <p:cNvSpPr/>
              <p:nvPr/>
            </p:nvSpPr>
            <p:spPr>
              <a:xfrm>
                <a:off x="1721880" y="1720800"/>
                <a:ext cx="3036960" cy="4837680"/>
              </a:xfrm>
              <a:custGeom>
                <a:avLst/>
                <a:gdLst/>
                <a:ahLst/>
                <a:rect l="l" t="t" r="r" b="b"/>
                <a:pathLst>
                  <a:path w="3024504" h="4824095">
                    <a:moveTo>
                      <a:pt x="3023997" y="4824006"/>
                    </a:moveTo>
                    <a:lnTo>
                      <a:pt x="0" y="4824006"/>
                    </a:lnTo>
                    <a:lnTo>
                      <a:pt x="0" y="0"/>
                    </a:lnTo>
                    <a:lnTo>
                      <a:pt x="3023997" y="0"/>
                    </a:lnTo>
                    <a:lnTo>
                      <a:pt x="3023997" y="4824006"/>
                    </a:lnTo>
                    <a:close/>
                  </a:path>
                </a:pathLst>
              </a:custGeom>
              <a:noFill/>
              <a:ln w="12600">
                <a:solidFill>
                  <a:srgbClr val="f19ec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Text Box 92"/>
          <p:cNvSpPr/>
          <p:nvPr/>
        </p:nvSpPr>
        <p:spPr>
          <a:xfrm>
            <a:off x="900000" y="7210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94" descr=""/>
          <p:cNvPicPr/>
          <p:nvPr/>
        </p:nvPicPr>
        <p:blipFill>
          <a:blip r:embed="rId2"/>
          <a:stretch/>
        </p:blipFill>
        <p:spPr>
          <a:xfrm>
            <a:off x="5221440" y="5121360"/>
            <a:ext cx="1212840" cy="1525680"/>
          </a:xfrm>
          <a:prstGeom prst="rect">
            <a:avLst/>
          </a:prstGeom>
          <a:ln w="0">
            <a:noFill/>
          </a:ln>
        </p:spPr>
      </p:pic>
      <p:pic>
        <p:nvPicPr>
          <p:cNvPr id="62" name="図 37" descr=""/>
          <p:cNvPicPr/>
          <p:nvPr/>
        </p:nvPicPr>
        <p:blipFill>
          <a:blip r:embed="rId3"/>
          <a:stretch/>
        </p:blipFill>
        <p:spPr>
          <a:xfrm>
            <a:off x="880920" y="419040"/>
            <a:ext cx="471492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25T02:34:11Z</dcterms:created>
  <dc:creator/>
  <dc:description/>
  <dc:language>en-US</dc:language>
  <cp:lastModifiedBy>HP Inc.</cp:lastModifiedBy>
  <dcterms:modified xsi:type="dcterms:W3CDTF">2020-12-25T06:50:05Z</dcterms:modified>
  <cp:revision>2</cp:revision>
  <dc:subject/>
  <dc:title>QSLカード_縦_国際D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0-12-25T00:00:00Z</vt:filetime>
  </property>
  <property fmtid="{D5CDD505-2E9C-101B-9397-08002B2CF9AE}" pid="3" name="Creator">
    <vt:lpwstr>Adobe Illustrator 25.0 (Windows)</vt:lpwstr>
  </property>
  <property fmtid="{D5CDD505-2E9C-101B-9397-08002B2CF9AE}" pid="4" name="LastSaved">
    <vt:filetime>2020-12-25T00:00:00Z</vt:filetime>
  </property>
</Properties>
</file>