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80400" cy="6483350"/>
  <p:notesSz cx="8280400" cy="6483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74516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4000" y="3480840"/>
            <a:ext cx="74516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32520" y="15170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14000" y="34808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232520" y="34808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23990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933280" y="1517040"/>
            <a:ext cx="23990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452920" y="1517040"/>
            <a:ext cx="23990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14000" y="3480840"/>
            <a:ext cx="23990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933280" y="3480840"/>
            <a:ext cx="23990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452920" y="3480840"/>
            <a:ext cx="23990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14000" y="1517040"/>
            <a:ext cx="7451640" cy="37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7451640" cy="37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3636360" cy="37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32520" y="1517040"/>
            <a:ext cx="3636360" cy="37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14000" y="258480"/>
            <a:ext cx="7451640" cy="50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32520" y="1517040"/>
            <a:ext cx="3636360" cy="37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34808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3636360" cy="37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32520" y="15170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32520" y="34808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4000" y="258480"/>
            <a:ext cx="7451640" cy="10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5170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32520" y="1517040"/>
            <a:ext cx="363636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4000" y="3480840"/>
            <a:ext cx="7451640" cy="17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ject 2"/>
          <p:cNvGrpSpPr/>
          <p:nvPr/>
        </p:nvGrpSpPr>
        <p:grpSpPr>
          <a:xfrm>
            <a:off x="1187280" y="1187280"/>
            <a:ext cx="5904000" cy="4105440"/>
            <a:chOff x="1187280" y="1187280"/>
            <a:chExt cx="5904000" cy="4105440"/>
          </a:xfrm>
        </p:grpSpPr>
        <p:sp>
          <p:nvSpPr>
            <p:cNvPr id="1" name=""/>
            <p:cNvSpPr/>
            <p:nvPr/>
          </p:nvSpPr>
          <p:spPr>
            <a:xfrm>
              <a:off x="1187280" y="11872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11280" y="118728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619280" y="1187280"/>
              <a:ext cx="5040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659640" y="118728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67640" y="118728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87280" y="151128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11280" y="1511280"/>
              <a:ext cx="525636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767640" y="151128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187280" y="1619280"/>
              <a:ext cx="32400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619280"/>
              <a:ext cx="32364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87280" y="485928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767640" y="485928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187280" y="4967280"/>
              <a:ext cx="324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11280" y="4967280"/>
              <a:ext cx="10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19280" y="4967280"/>
              <a:ext cx="5040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59640" y="4967280"/>
              <a:ext cx="108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767640" y="4967280"/>
              <a:ext cx="323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1128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11280" y="1511280"/>
              <a:ext cx="0" cy="345600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11280" y="496728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1928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619280" y="496728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65964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659640" y="496728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767640" y="1187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767640" y="1511280"/>
              <a:ext cx="0" cy="345600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496728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187280" y="15112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511280" y="1511280"/>
              <a:ext cx="5256360" cy="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151128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87280" y="16192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67640" y="161928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87280" y="48592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767640" y="485928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87280" y="49672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511280" y="4967280"/>
              <a:ext cx="5256360" cy="0"/>
            </a:xfrm>
            <a:prstGeom prst="line">
              <a:avLst/>
            </a:prstGeom>
            <a:ln w="12600">
              <a:solidFill>
                <a:srgbClr val="231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767640" y="496728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object 3"/>
          <p:cNvGrpSpPr/>
          <p:nvPr/>
        </p:nvGrpSpPr>
        <p:grpSpPr>
          <a:xfrm>
            <a:off x="3683160" y="5011560"/>
            <a:ext cx="914400" cy="304920"/>
            <a:chOff x="3683160" y="5011560"/>
            <a:chExt cx="914400" cy="304920"/>
          </a:xfrm>
        </p:grpSpPr>
        <p:sp>
          <p:nvSpPr>
            <p:cNvPr id="39" name="object 4"/>
            <p:cNvSpPr/>
            <p:nvPr/>
          </p:nvSpPr>
          <p:spPr>
            <a:xfrm>
              <a:off x="4140360" y="501156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304799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object 5"/>
            <p:cNvSpPr/>
            <p:nvPr/>
          </p:nvSpPr>
          <p:spPr>
            <a:xfrm>
              <a:off x="3683160" y="508752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0" y="0"/>
                  </a:moveTo>
                  <a:lnTo>
                    <a:pt x="9144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object 6"/>
          <p:cNvGrpSpPr/>
          <p:nvPr/>
        </p:nvGrpSpPr>
        <p:grpSpPr>
          <a:xfrm>
            <a:off x="3683160" y="1162080"/>
            <a:ext cx="914400" cy="304920"/>
            <a:chOff x="3683160" y="1162080"/>
            <a:chExt cx="914400" cy="304920"/>
          </a:xfrm>
        </p:grpSpPr>
        <p:sp>
          <p:nvSpPr>
            <p:cNvPr id="42" name="object 7"/>
            <p:cNvSpPr/>
            <p:nvPr/>
          </p:nvSpPr>
          <p:spPr>
            <a:xfrm>
              <a:off x="4140360" y="1162080"/>
              <a:ext cx="360" cy="304920"/>
            </a:xfrm>
            <a:custGeom>
              <a:avLst/>
              <a:gdLst/>
              <a:ahLst/>
              <a:rect l="l" t="t" r="r" b="b"/>
              <a:pathLst>
                <a:path w="0" h="304800">
                  <a:moveTo>
                    <a:pt x="0" y="0"/>
                  </a:moveTo>
                  <a:lnTo>
                    <a:pt x="0" y="3048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bject 8"/>
            <p:cNvSpPr/>
            <p:nvPr/>
          </p:nvSpPr>
          <p:spPr>
            <a:xfrm>
              <a:off x="3683160" y="1390680"/>
              <a:ext cx="914400" cy="360"/>
            </a:xfrm>
            <a:custGeom>
              <a:avLst/>
              <a:gdLst/>
              <a:ahLst/>
              <a:rect l="l" t="t" r="r" b="b"/>
              <a:pathLst>
                <a:path w="914400" h="0">
                  <a:moveTo>
                    <a:pt x="9144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object 9"/>
          <p:cNvGrpSpPr/>
          <p:nvPr/>
        </p:nvGrpSpPr>
        <p:grpSpPr>
          <a:xfrm>
            <a:off x="1162080" y="2782800"/>
            <a:ext cx="304920" cy="914400"/>
            <a:chOff x="1162080" y="2782800"/>
            <a:chExt cx="304920" cy="914400"/>
          </a:xfrm>
        </p:grpSpPr>
        <p:sp>
          <p:nvSpPr>
            <p:cNvPr id="45" name="object 10"/>
            <p:cNvSpPr/>
            <p:nvPr/>
          </p:nvSpPr>
          <p:spPr>
            <a:xfrm>
              <a:off x="1391040" y="278280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91440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bject 11"/>
            <p:cNvSpPr/>
            <p:nvPr/>
          </p:nvSpPr>
          <p:spPr>
            <a:xfrm>
              <a:off x="1162080" y="324000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object 12"/>
          <p:cNvGrpSpPr/>
          <p:nvPr/>
        </p:nvGrpSpPr>
        <p:grpSpPr>
          <a:xfrm>
            <a:off x="6811920" y="2782800"/>
            <a:ext cx="304920" cy="914400"/>
            <a:chOff x="6811920" y="2782800"/>
            <a:chExt cx="304920" cy="914400"/>
          </a:xfrm>
        </p:grpSpPr>
        <p:sp>
          <p:nvSpPr>
            <p:cNvPr id="48" name="object 13"/>
            <p:cNvSpPr/>
            <p:nvPr/>
          </p:nvSpPr>
          <p:spPr>
            <a:xfrm>
              <a:off x="6888240" y="2782800"/>
              <a:ext cx="360" cy="914400"/>
            </a:xfrm>
            <a:custGeom>
              <a:avLst/>
              <a:gdLst/>
              <a:ahLst/>
              <a:rect l="l" t="t" r="r" b="b"/>
              <a:pathLst>
                <a:path w="0" h="914400">
                  <a:moveTo>
                    <a:pt x="0" y="0"/>
                  </a:moveTo>
                  <a:lnTo>
                    <a:pt x="0" y="91440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bject 14"/>
            <p:cNvSpPr/>
            <p:nvPr/>
          </p:nvSpPr>
          <p:spPr>
            <a:xfrm>
              <a:off x="6811920" y="3240000"/>
              <a:ext cx="30492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304800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図 23" descr=""/>
          <p:cNvPicPr/>
          <p:nvPr/>
        </p:nvPicPr>
        <p:blipFill>
          <a:blip r:embed="rId2"/>
          <a:stretch/>
        </p:blipFill>
        <p:spPr>
          <a:xfrm>
            <a:off x="1214280" y="289080"/>
            <a:ext cx="5851800" cy="52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2" descr=""/>
          <p:cNvPicPr/>
          <p:nvPr/>
        </p:nvPicPr>
        <p:blipFill>
          <a:blip r:embed="rId3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8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05"/>
          <p:cNvSpPr/>
          <p:nvPr/>
        </p:nvSpPr>
        <p:spPr>
          <a:xfrm>
            <a:off x="4027320" y="52484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6"/>
          <p:cNvSpPr/>
          <p:nvPr/>
        </p:nvSpPr>
        <p:spPr>
          <a:xfrm>
            <a:off x="4016520" y="9050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32"/>
          <p:cNvGrpSpPr/>
          <p:nvPr/>
        </p:nvGrpSpPr>
        <p:grpSpPr>
          <a:xfrm>
            <a:off x="277920" y="1612800"/>
            <a:ext cx="6389640" cy="3254400"/>
            <a:chOff x="277920" y="1612800"/>
            <a:chExt cx="6389640" cy="3254400"/>
          </a:xfrm>
        </p:grpSpPr>
        <p:grpSp>
          <p:nvGrpSpPr>
            <p:cNvPr id="56" name="グループ化 31"/>
            <p:cNvGrpSpPr/>
            <p:nvPr/>
          </p:nvGrpSpPr>
          <p:grpSpPr>
            <a:xfrm>
              <a:off x="277920" y="1815120"/>
              <a:ext cx="1028880" cy="2665080"/>
              <a:chOff x="277920" y="1815120"/>
              <a:chExt cx="1028880" cy="2665080"/>
            </a:xfrm>
          </p:grpSpPr>
          <p:sp>
            <p:nvSpPr>
              <p:cNvPr id="57" name="AutoShape 103"/>
              <p:cNvSpPr/>
              <p:nvPr/>
            </p:nvSpPr>
            <p:spPr>
              <a:xfrm>
                <a:off x="277920" y="2607480"/>
                <a:ext cx="1028880" cy="703440"/>
              </a:xfrm>
              <a:prstGeom prst="wedgeRoundRectCallout">
                <a:avLst>
                  <a:gd name="adj1" fmla="val 88736"/>
                  <a:gd name="adj2" fmla="val -4932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切れては困るものは、ピンクの破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内に配置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AutoShape 104"/>
              <p:cNvSpPr/>
              <p:nvPr/>
            </p:nvSpPr>
            <p:spPr>
              <a:xfrm>
                <a:off x="277920" y="1815120"/>
                <a:ext cx="1028880" cy="57168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AutoShape 107"/>
              <p:cNvSpPr/>
              <p:nvPr/>
            </p:nvSpPr>
            <p:spPr>
              <a:xfrm>
                <a:off x="277920" y="3759120"/>
                <a:ext cx="1028880" cy="721080"/>
              </a:xfrm>
              <a:prstGeom prst="wedgeRoundRectCallout">
                <a:avLst>
                  <a:gd name="adj1" fmla="val 68365"/>
                  <a:gd name="adj2" fmla="val -3348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Arial"/>
                  </a:rPr>
                  <a:t>フチ無し印刷は黒い線まで伸ばして配置し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object 15"/>
            <p:cNvGrpSpPr/>
            <p:nvPr/>
          </p:nvGrpSpPr>
          <p:grpSpPr>
            <a:xfrm>
              <a:off x="1613520" y="1612800"/>
              <a:ext cx="5054040" cy="3254400"/>
              <a:chOff x="1613520" y="1612800"/>
              <a:chExt cx="5054040" cy="3254400"/>
            </a:xfrm>
          </p:grpSpPr>
          <p:sp>
            <p:nvSpPr>
              <p:cNvPr id="61" name="object 16"/>
              <p:cNvSpPr/>
              <p:nvPr/>
            </p:nvSpPr>
            <p:spPr>
              <a:xfrm>
                <a:off x="1613520" y="1612800"/>
                <a:ext cx="5054040" cy="3254400"/>
              </a:xfrm>
              <a:custGeom>
                <a:avLst/>
                <a:gdLst/>
                <a:ahLst/>
                <a:rect l="l" t="t" r="r" b="b"/>
                <a:pathLst>
                  <a:path w="5040630" h="3240404">
                    <a:moveTo>
                      <a:pt x="5040007" y="3239998"/>
                    </a:moveTo>
                    <a:lnTo>
                      <a:pt x="0" y="3239998"/>
                    </a:lnTo>
                    <a:lnTo>
                      <a:pt x="0" y="0"/>
                    </a:lnTo>
                    <a:lnTo>
                      <a:pt x="5040007" y="0"/>
                    </a:lnTo>
                    <a:lnTo>
                      <a:pt x="5040007" y="3239998"/>
                    </a:lnTo>
                    <a:close/>
                  </a:path>
                </a:pathLst>
              </a:custGeom>
              <a:noFill/>
              <a:ln w="12600">
                <a:solidFill>
                  <a:srgbClr val="1d2088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object 17"/>
              <p:cNvSpPr/>
              <p:nvPr/>
            </p:nvSpPr>
            <p:spPr>
              <a:xfrm>
                <a:off x="1721520" y="1721160"/>
                <a:ext cx="4836960" cy="3037680"/>
              </a:xfrm>
              <a:custGeom>
                <a:avLst/>
                <a:gdLst/>
                <a:ahLst/>
                <a:rect l="l" t="t" r="r" b="b"/>
                <a:pathLst>
                  <a:path w="4824095" h="3024504">
                    <a:moveTo>
                      <a:pt x="4824006" y="3023997"/>
                    </a:moveTo>
                    <a:lnTo>
                      <a:pt x="0" y="3023997"/>
                    </a:lnTo>
                    <a:lnTo>
                      <a:pt x="0" y="0"/>
                    </a:lnTo>
                    <a:lnTo>
                      <a:pt x="4824006" y="0"/>
                    </a:lnTo>
                    <a:lnTo>
                      <a:pt x="4824006" y="3023997"/>
                    </a:lnTo>
                    <a:close/>
                  </a:path>
                </a:pathLst>
              </a:custGeom>
              <a:noFill/>
              <a:ln w="12600">
                <a:solidFill>
                  <a:srgbClr val="f19ec2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2:09:31Z</dcterms:created>
  <dc:creator>A18-008</dc:creator>
  <dc:description/>
  <dc:language>en-US</dc:language>
  <cp:lastModifiedBy>HP Inc.</cp:lastModifiedBy>
  <dcterms:modified xsi:type="dcterms:W3CDTF">2020-12-25T06:48:39Z</dcterms:modified>
  <cp:revision>3</cp:revision>
  <dc:subject/>
  <dc:title>QSLカード_横_国際D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12-24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0-12-25T00:00:00Z</vt:filetime>
  </property>
</Properties>
</file>