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710240" y="232740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38736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3" name="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547640" y="1547640"/>
            <a:ext cx="2845080" cy="1729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440000" y="1440000"/>
            <a:ext cx="3060720" cy="1944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08000" y="25560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4792680" y="15476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" descr=""/>
          <p:cNvPicPr/>
          <p:nvPr/>
        </p:nvPicPr>
        <p:blipFill>
          <a:blip r:embed="rId3"/>
          <a:stretch/>
        </p:blipFill>
        <p:spPr>
          <a:xfrm>
            <a:off x="954000" y="395280"/>
            <a:ext cx="4098960" cy="352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1932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1:27Z</dcterms:modified>
  <cp:revision>13</cp:revision>
  <dc:subject/>
  <dc:title/>
</cp:coreProperties>
</file>