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575160" y="32749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2" name="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547640" y="1547640"/>
            <a:ext cx="1727280" cy="284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440000" y="1440000"/>
            <a:ext cx="1944720" cy="306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0480" y="4992840"/>
            <a:ext cx="467964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8000" y="3203640"/>
            <a:ext cx="1028520" cy="703080"/>
          </a:xfrm>
          <a:prstGeom prst="wedgeRoundRectCallout">
            <a:avLst>
              <a:gd name="adj1" fmla="val 88273"/>
              <a:gd name="adj2" fmla="val -4119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08000" y="1751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2455920" y="4656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244476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673440" y="1673280"/>
            <a:ext cx="1028880" cy="720720"/>
          </a:xfrm>
          <a:prstGeom prst="wedgeRoundRectCallout">
            <a:avLst>
              <a:gd name="adj1" fmla="val -69134"/>
              <a:gd name="adj2" fmla="val -37004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395280" y="378000"/>
            <a:ext cx="4084560" cy="35208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918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/>
  <dcterms:modified xsi:type="dcterms:W3CDTF">2012-01-05T07:21:23Z</dcterms:modified>
  <cp:revision>16</cp:revision>
  <dc:subject/>
  <dc:title/>
</cp:coreProperties>
</file>