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824413" cy="5940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41200" y="318960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246564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70892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17664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24120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170892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317664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241200" y="1389960"/>
            <a:ext cx="4341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4341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241200" y="236880"/>
            <a:ext cx="43412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46564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575160" y="327492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1079640" y="1079640"/>
            <a:ext cx="2665440" cy="3781440"/>
            <a:chOff x="1079640" y="1079640"/>
            <a:chExt cx="2665440" cy="3781440"/>
          </a:xfrm>
        </p:grpSpPr>
        <p:sp>
          <p:nvSpPr>
            <p:cNvPr id="2" name=""/>
            <p:cNvSpPr/>
            <p:nvPr/>
          </p:nvSpPr>
          <p:spPr>
            <a:xfrm>
              <a:off x="1079640" y="133020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079640" y="143820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9640" y="297036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79640" y="449748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079640" y="460548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3020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43820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4130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3814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4894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30200" y="1330200"/>
              <a:ext cx="2159280" cy="3275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1547640" y="1547640"/>
            <a:ext cx="1727280" cy="2845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1440000" y="1440000"/>
            <a:ext cx="1944720" cy="3060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0480" y="4992840"/>
            <a:ext cx="467964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08000" y="3203640"/>
            <a:ext cx="1028520" cy="703080"/>
          </a:xfrm>
          <a:prstGeom prst="wedgeRoundRectCallout">
            <a:avLst>
              <a:gd name="adj1" fmla="val 88273"/>
              <a:gd name="adj2" fmla="val -4119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108000" y="1751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2455920" y="4656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2444760" y="1046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3673440" y="1673280"/>
            <a:ext cx="1028880" cy="720720"/>
          </a:xfrm>
          <a:prstGeom prst="wedgeRoundRectCallout">
            <a:avLst>
              <a:gd name="adj1" fmla="val -69134"/>
              <a:gd name="adj2" fmla="val -37004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" descr=""/>
          <p:cNvPicPr/>
          <p:nvPr/>
        </p:nvPicPr>
        <p:blipFill>
          <a:blip r:embed="rId3"/>
          <a:stretch/>
        </p:blipFill>
        <p:spPr>
          <a:xfrm>
            <a:off x="395280" y="378000"/>
            <a:ext cx="4084560" cy="352080"/>
          </a:xfrm>
          <a:prstGeom prst="rect">
            <a:avLst/>
          </a:prstGeom>
          <a:ln w="0">
            <a:noFill/>
          </a:ln>
        </p:spPr>
      </p:pic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241200" y="1389960"/>
            <a:ext cx="4341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918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76240" indent="-15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09600" indent="-15408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5372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5372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5372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/>
  <dcterms:modified xsi:type="dcterms:W3CDTF">2012-01-05T07:21:29Z</dcterms:modified>
  <cp:revision>16</cp:revision>
  <dc:subject/>
  <dc:title/>
</cp:coreProperties>
</file>