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299700" cy="84232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14800" y="335880"/>
            <a:ext cx="9269280" cy="140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14800" y="1971000"/>
            <a:ext cx="926928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4800" y="4522680"/>
            <a:ext cx="926928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14800" y="335880"/>
            <a:ext cx="9269280" cy="140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14800" y="1971000"/>
            <a:ext cx="452340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264640" y="1971000"/>
            <a:ext cx="452340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14800" y="4522680"/>
            <a:ext cx="452340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5264640" y="4522680"/>
            <a:ext cx="452340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14800" y="335880"/>
            <a:ext cx="9269280" cy="140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14800" y="1971000"/>
            <a:ext cx="298440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648960" y="1971000"/>
            <a:ext cx="298440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782760" y="1971000"/>
            <a:ext cx="298440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514800" y="4522680"/>
            <a:ext cx="298440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648960" y="4522680"/>
            <a:ext cx="298440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782760" y="4522680"/>
            <a:ext cx="298440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800" y="335880"/>
            <a:ext cx="9269280" cy="140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514800" y="1971000"/>
            <a:ext cx="9269280" cy="488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800" y="335880"/>
            <a:ext cx="9269280" cy="140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14800" y="1971000"/>
            <a:ext cx="9269280" cy="488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800" y="335880"/>
            <a:ext cx="9269280" cy="140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800" y="1971000"/>
            <a:ext cx="4523400" cy="488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64640" y="1971000"/>
            <a:ext cx="4523400" cy="488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14800" y="335880"/>
            <a:ext cx="9269280" cy="140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514800" y="335880"/>
            <a:ext cx="9269280" cy="651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800" y="335880"/>
            <a:ext cx="9269280" cy="140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800" y="1971000"/>
            <a:ext cx="452340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4640" y="1971000"/>
            <a:ext cx="4523400" cy="488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14800" y="4522680"/>
            <a:ext cx="452340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14800" y="335880"/>
            <a:ext cx="9269280" cy="140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14800" y="1971000"/>
            <a:ext cx="4523400" cy="488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4640" y="1971000"/>
            <a:ext cx="452340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264640" y="4522680"/>
            <a:ext cx="452340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800" y="335880"/>
            <a:ext cx="9269280" cy="140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14800" y="1971000"/>
            <a:ext cx="452340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264640" y="1971000"/>
            <a:ext cx="452340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14800" y="4522680"/>
            <a:ext cx="926928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4"/>
          <p:cNvGrpSpPr/>
          <p:nvPr/>
        </p:nvGrpSpPr>
        <p:grpSpPr>
          <a:xfrm>
            <a:off x="1079640" y="1079640"/>
            <a:ext cx="8140680" cy="6261120"/>
            <a:chOff x="1079640" y="1079640"/>
            <a:chExt cx="8140680" cy="6261120"/>
          </a:xfrm>
        </p:grpSpPr>
        <p:sp>
          <p:nvSpPr>
            <p:cNvPr id="1" name="Line 7"/>
            <p:cNvSpPr/>
            <p:nvPr/>
          </p:nvSpPr>
          <p:spPr>
            <a:xfrm>
              <a:off x="1079640" y="1332000"/>
              <a:ext cx="81406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Line 8"/>
            <p:cNvSpPr/>
            <p:nvPr/>
          </p:nvSpPr>
          <p:spPr>
            <a:xfrm>
              <a:off x="1079640" y="1440000"/>
              <a:ext cx="81406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9"/>
            <p:cNvSpPr/>
            <p:nvPr/>
          </p:nvSpPr>
          <p:spPr>
            <a:xfrm>
              <a:off x="1079640" y="7088040"/>
              <a:ext cx="81406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Line 10"/>
            <p:cNvSpPr/>
            <p:nvPr/>
          </p:nvSpPr>
          <p:spPr>
            <a:xfrm>
              <a:off x="1079640" y="6980400"/>
              <a:ext cx="81406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Line 11"/>
            <p:cNvSpPr/>
            <p:nvPr/>
          </p:nvSpPr>
          <p:spPr>
            <a:xfrm>
              <a:off x="1079640" y="4210200"/>
              <a:ext cx="81406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Line 12"/>
            <p:cNvSpPr/>
            <p:nvPr/>
          </p:nvSpPr>
          <p:spPr>
            <a:xfrm>
              <a:off x="1332000" y="1079640"/>
              <a:ext cx="0" cy="6261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13"/>
            <p:cNvSpPr/>
            <p:nvPr/>
          </p:nvSpPr>
          <p:spPr>
            <a:xfrm>
              <a:off x="1440000" y="1079640"/>
              <a:ext cx="0" cy="6261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14"/>
            <p:cNvSpPr/>
            <p:nvPr/>
          </p:nvSpPr>
          <p:spPr>
            <a:xfrm>
              <a:off x="8959680" y="1079640"/>
              <a:ext cx="0" cy="6261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Line 15"/>
            <p:cNvSpPr/>
            <p:nvPr/>
          </p:nvSpPr>
          <p:spPr>
            <a:xfrm>
              <a:off x="8852040" y="1079640"/>
              <a:ext cx="0" cy="6261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Line 16"/>
            <p:cNvSpPr/>
            <p:nvPr/>
          </p:nvSpPr>
          <p:spPr>
            <a:xfrm>
              <a:off x="5145120" y="1079640"/>
              <a:ext cx="0" cy="6261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7"/>
            <p:cNvSpPr/>
            <p:nvPr/>
          </p:nvSpPr>
          <p:spPr>
            <a:xfrm>
              <a:off x="1332000" y="1332000"/>
              <a:ext cx="7629480" cy="57578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Text Box 53"/>
          <p:cNvSpPr/>
          <p:nvPr/>
        </p:nvSpPr>
        <p:spPr>
          <a:xfrm>
            <a:off x="2197080" y="7453440"/>
            <a:ext cx="59022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データは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色で作成してください。色の掛け合わせは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AutoShape 56"/>
          <p:cNvSpPr/>
          <p:nvPr/>
        </p:nvSpPr>
        <p:spPr>
          <a:xfrm>
            <a:off x="5221440" y="7164360"/>
            <a:ext cx="247320" cy="247680"/>
          </a:xfrm>
          <a:custGeom>
            <a:avLst/>
            <a:gdLst>
              <a:gd name="textAreaLeft" fmla="*/ 56520 w 247320"/>
              <a:gd name="textAreaRight" fmla="*/ 190800 w 24732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AutoShape 58"/>
          <p:cNvSpPr/>
          <p:nvPr/>
        </p:nvSpPr>
        <p:spPr>
          <a:xfrm>
            <a:off x="5221440" y="1000080"/>
            <a:ext cx="247320" cy="247680"/>
          </a:xfrm>
          <a:custGeom>
            <a:avLst/>
            <a:gdLst>
              <a:gd name="textAreaLeft" fmla="*/ 56520 w 247320"/>
              <a:gd name="textAreaRight" fmla="*/ 190800 w 24732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" name="Picture 60" descr=""/>
          <p:cNvPicPr/>
          <p:nvPr/>
        </p:nvPicPr>
        <p:blipFill>
          <a:blip r:embed="rId2"/>
          <a:stretch/>
        </p:blipFill>
        <p:spPr>
          <a:xfrm>
            <a:off x="3205080" y="324000"/>
            <a:ext cx="3800520" cy="392040"/>
          </a:xfrm>
          <a:prstGeom prst="rect">
            <a:avLst/>
          </a:prstGeom>
          <a:ln w="0">
            <a:noFill/>
          </a:ln>
        </p:spPr>
      </p:pic>
      <p:pic>
        <p:nvPicPr>
          <p:cNvPr id="16" name="Picture 62" descr=""/>
          <p:cNvPicPr/>
          <p:nvPr/>
        </p:nvPicPr>
        <p:blipFill>
          <a:blip r:embed="rId3"/>
          <a:stretch/>
        </p:blipFill>
        <p:spPr>
          <a:xfrm>
            <a:off x="1442880" y="1447920"/>
            <a:ext cx="7419960" cy="5553000"/>
          </a:xfrm>
          <a:prstGeom prst="rect">
            <a:avLst/>
          </a:prstGeom>
          <a:ln w="0">
            <a:noFill/>
          </a:ln>
        </p:spPr>
      </p:pic>
      <p:grpSp>
        <p:nvGrpSpPr>
          <p:cNvPr id="17" name="グループ化 1"/>
          <p:cNvGrpSpPr/>
          <p:nvPr/>
        </p:nvGrpSpPr>
        <p:grpSpPr>
          <a:xfrm>
            <a:off x="98280" y="1332000"/>
            <a:ext cx="8753760" cy="5757840"/>
            <a:chOff x="98280" y="1332000"/>
            <a:chExt cx="8753760" cy="5757840"/>
          </a:xfrm>
        </p:grpSpPr>
        <p:grpSp>
          <p:nvGrpSpPr>
            <p:cNvPr id="18" name="Group 50"/>
            <p:cNvGrpSpPr/>
            <p:nvPr/>
          </p:nvGrpSpPr>
          <p:grpSpPr>
            <a:xfrm>
              <a:off x="1798560" y="1798560"/>
              <a:ext cx="6694560" cy="4822920"/>
              <a:chOff x="1798560" y="1798560"/>
              <a:chExt cx="6694560" cy="4822920"/>
            </a:xfrm>
          </p:grpSpPr>
          <p:sp>
            <p:nvSpPr>
              <p:cNvPr id="19" name="Rectangle 20"/>
              <p:cNvSpPr/>
              <p:nvPr/>
            </p:nvSpPr>
            <p:spPr>
              <a:xfrm>
                <a:off x="1798560" y="1798560"/>
                <a:ext cx="2987640" cy="4822920"/>
              </a:xfrm>
              <a:prstGeom prst="rect">
                <a:avLst/>
              </a:prstGeom>
              <a:noFill/>
              <a:ln w="6480">
                <a:solidFill>
                  <a:srgbClr val="ff00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069920"/>
                    <a:tab algn="l" pos="2139840"/>
                    <a:tab algn="l" pos="3209760"/>
                    <a:tab algn="l" pos="4280040"/>
                    <a:tab algn="l" pos="5349960"/>
                    <a:tab algn="l" pos="6419880"/>
                    <a:tab algn="l" pos="7489800"/>
                    <a:tab algn="l" pos="8559720"/>
                    <a:tab algn="l" pos="9629640"/>
                    <a:tab algn="l" pos="106999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Rectangle 25"/>
              <p:cNvSpPr/>
              <p:nvPr/>
            </p:nvSpPr>
            <p:spPr>
              <a:xfrm>
                <a:off x="5505480" y="1798560"/>
                <a:ext cx="2987640" cy="4822920"/>
              </a:xfrm>
              <a:prstGeom prst="rect">
                <a:avLst/>
              </a:prstGeom>
              <a:noFill/>
              <a:ln w="6480">
                <a:solidFill>
                  <a:srgbClr val="ff00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" name="AutoShape 27"/>
            <p:cNvSpPr/>
            <p:nvPr/>
          </p:nvSpPr>
          <p:spPr>
            <a:xfrm>
              <a:off x="1438200" y="1438200"/>
              <a:ext cx="7413840" cy="5542200"/>
            </a:xfrm>
            <a:prstGeom prst="roundRect">
              <a:avLst>
                <a:gd name="adj" fmla="val 3093"/>
              </a:avLst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69920"/>
                  <a:tab algn="l" pos="2139840"/>
                  <a:tab algn="l" pos="3209760"/>
                  <a:tab algn="l" pos="4280040"/>
                  <a:tab algn="l" pos="5349960"/>
                  <a:tab algn="l" pos="6419880"/>
                  <a:tab algn="l" pos="7489800"/>
                  <a:tab algn="l" pos="8559720"/>
                  <a:tab algn="l" pos="9629640"/>
                  <a:tab algn="l" pos="106999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Line 48"/>
            <p:cNvSpPr/>
            <p:nvPr/>
          </p:nvSpPr>
          <p:spPr>
            <a:xfrm>
              <a:off x="5145120" y="1332000"/>
              <a:ext cx="0" cy="5757840"/>
            </a:xfrm>
            <a:prstGeom prst="line">
              <a:avLst/>
            </a:prstGeom>
            <a:ln w="3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AutoShape 54"/>
            <p:cNvSpPr/>
            <p:nvPr/>
          </p:nvSpPr>
          <p:spPr>
            <a:xfrm>
              <a:off x="98280" y="3203640"/>
              <a:ext cx="1028520" cy="864720"/>
            </a:xfrm>
            <a:prstGeom prst="wedgeRoundRectCallout">
              <a:avLst>
                <a:gd name="adj1" fmla="val 112810"/>
                <a:gd name="adj2" fmla="val -62500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全てのオブジェクトをピンクの破線内におさめてください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AutoShape 55"/>
            <p:cNvSpPr/>
            <p:nvPr/>
          </p:nvSpPr>
          <p:spPr>
            <a:xfrm>
              <a:off x="98280" y="2085840"/>
              <a:ext cx="1028520" cy="571320"/>
            </a:xfrm>
            <a:prstGeom prst="wedgeRoundRectCallout">
              <a:avLst>
                <a:gd name="adj1" fmla="val 79476"/>
                <a:gd name="adj2" fmla="val -41388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青い破線が仕上がり位置となります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2T00:15:52Z</dcterms:created>
  <dc:creator/>
  <dc:description/>
  <dc:language>en-US</dc:language>
  <cp:lastModifiedBy>irodori04</cp:lastModifiedBy>
  <dcterms:modified xsi:type="dcterms:W3CDTF">2013-11-05T06:57:04Z</dcterms:modified>
  <cp:revision>14</cp:revision>
  <dc:subject/>
  <dc:title>PowerPoint プレゼンテーション</dc:title>
</cp:coreProperties>
</file>