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12131675" cy="159877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sldImg"/>
          </p:nvPr>
        </p:nvSpPr>
        <p:spPr>
          <a:xfrm>
            <a:off x="2127240" y="685440"/>
            <a:ext cx="26035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r>
              <a:rPr b="0" lang="en-US" sz="4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C1B69-D46A-43EC-A0E7-092B3265A9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66C97-DF08-4D2C-808E-9EAC1F176AE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2127240" y="685800"/>
            <a:ext cx="260352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109184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06600" y="8583840"/>
            <a:ext cx="109184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201360" y="374076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6600" y="858384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201360" y="858384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3515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298040" y="3740760"/>
            <a:ext cx="3515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989840" y="3740760"/>
            <a:ext cx="3515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06600" y="8583840"/>
            <a:ext cx="3515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298040" y="8583840"/>
            <a:ext cx="3515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7989840" y="8583840"/>
            <a:ext cx="3515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06600" y="3740760"/>
            <a:ext cx="10918440" cy="92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10918440" cy="92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5328000" cy="92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201360" y="3740760"/>
            <a:ext cx="5328000" cy="92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606600" y="637560"/>
            <a:ext cx="10918440" cy="123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01360" y="3740760"/>
            <a:ext cx="5328000" cy="92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6600" y="858384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06600" y="3740760"/>
            <a:ext cx="10918440" cy="92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5328000" cy="92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201360" y="374076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201360" y="858384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201360" y="374076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6600" y="8583840"/>
            <a:ext cx="109184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109184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06600" y="8583840"/>
            <a:ext cx="109184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01360" y="374076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6600" y="858384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6201360" y="858384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3515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298040" y="3740760"/>
            <a:ext cx="3515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7989840" y="3740760"/>
            <a:ext cx="3515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06600" y="8583840"/>
            <a:ext cx="3515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4298040" y="8583840"/>
            <a:ext cx="3515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7989840" y="8583840"/>
            <a:ext cx="3515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10918440" cy="92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5328000" cy="92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01360" y="3740760"/>
            <a:ext cx="5328000" cy="92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06600" y="637560"/>
            <a:ext cx="10918440" cy="123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01360" y="3740760"/>
            <a:ext cx="5328000" cy="92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6600" y="858384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5328000" cy="92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01360" y="374076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201360" y="858384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01360" y="374076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6600" y="8583840"/>
            <a:ext cx="109184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8"/>
          <p:cNvGrpSpPr/>
          <p:nvPr/>
        </p:nvGrpSpPr>
        <p:grpSpPr>
          <a:xfrm>
            <a:off x="1079640" y="1079640"/>
            <a:ext cx="9974160" cy="13826880"/>
            <a:chOff x="1079640" y="1079640"/>
            <a:chExt cx="9974160" cy="13826880"/>
          </a:xfrm>
        </p:grpSpPr>
        <p:sp>
          <p:nvSpPr>
            <p:cNvPr id="1" name="Line 24"/>
            <p:cNvSpPr/>
            <p:nvPr/>
          </p:nvSpPr>
          <p:spPr>
            <a:xfrm>
              <a:off x="1079640" y="1330200"/>
              <a:ext cx="997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25"/>
            <p:cNvSpPr/>
            <p:nvPr/>
          </p:nvSpPr>
          <p:spPr>
            <a:xfrm>
              <a:off x="1079640" y="1438200"/>
              <a:ext cx="997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26"/>
            <p:cNvSpPr/>
            <p:nvPr/>
          </p:nvSpPr>
          <p:spPr>
            <a:xfrm>
              <a:off x="1079640" y="7988400"/>
              <a:ext cx="997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27"/>
            <p:cNvSpPr/>
            <p:nvPr/>
          </p:nvSpPr>
          <p:spPr>
            <a:xfrm>
              <a:off x="1079640" y="14538240"/>
              <a:ext cx="997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28"/>
            <p:cNvSpPr/>
            <p:nvPr/>
          </p:nvSpPr>
          <p:spPr>
            <a:xfrm>
              <a:off x="1079640" y="14646240"/>
              <a:ext cx="997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29"/>
            <p:cNvSpPr/>
            <p:nvPr/>
          </p:nvSpPr>
          <p:spPr>
            <a:xfrm>
              <a:off x="1330200" y="1079640"/>
              <a:ext cx="0" cy="13826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30"/>
            <p:cNvSpPr/>
            <p:nvPr/>
          </p:nvSpPr>
          <p:spPr>
            <a:xfrm>
              <a:off x="1438200" y="1079640"/>
              <a:ext cx="0" cy="13826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31"/>
            <p:cNvSpPr/>
            <p:nvPr/>
          </p:nvSpPr>
          <p:spPr>
            <a:xfrm>
              <a:off x="6067440" y="1079640"/>
              <a:ext cx="0" cy="13826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32"/>
            <p:cNvSpPr/>
            <p:nvPr/>
          </p:nvSpPr>
          <p:spPr>
            <a:xfrm>
              <a:off x="10686960" y="1079640"/>
              <a:ext cx="0" cy="13826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33"/>
            <p:cNvSpPr/>
            <p:nvPr/>
          </p:nvSpPr>
          <p:spPr>
            <a:xfrm>
              <a:off x="10796760" y="1079640"/>
              <a:ext cx="0" cy="13826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34"/>
            <p:cNvSpPr/>
            <p:nvPr/>
          </p:nvSpPr>
          <p:spPr>
            <a:xfrm>
              <a:off x="1330200" y="1330200"/>
              <a:ext cx="9466560" cy="133160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AutoShape 52"/>
          <p:cNvSpPr/>
          <p:nvPr/>
        </p:nvSpPr>
        <p:spPr>
          <a:xfrm>
            <a:off x="6114960" y="146890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AutoShape 53"/>
          <p:cNvSpPr/>
          <p:nvPr/>
        </p:nvSpPr>
        <p:spPr>
          <a:xfrm>
            <a:off x="612936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" name="図 2" descr=""/>
          <p:cNvPicPr/>
          <p:nvPr/>
        </p:nvPicPr>
        <p:blipFill>
          <a:blip r:embed="rId2"/>
          <a:stretch/>
        </p:blipFill>
        <p:spPr>
          <a:xfrm>
            <a:off x="152280" y="127080"/>
            <a:ext cx="11820600" cy="75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48"/>
          <p:cNvGrpSpPr/>
          <p:nvPr/>
        </p:nvGrpSpPr>
        <p:grpSpPr>
          <a:xfrm>
            <a:off x="1079640" y="1079640"/>
            <a:ext cx="9974160" cy="13826880"/>
            <a:chOff x="1079640" y="1079640"/>
            <a:chExt cx="9974160" cy="13826880"/>
          </a:xfrm>
        </p:grpSpPr>
        <p:sp>
          <p:nvSpPr>
            <p:cNvPr id="52" name="Line 24"/>
            <p:cNvSpPr/>
            <p:nvPr/>
          </p:nvSpPr>
          <p:spPr>
            <a:xfrm>
              <a:off x="1079640" y="1330200"/>
              <a:ext cx="997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25"/>
            <p:cNvSpPr/>
            <p:nvPr/>
          </p:nvSpPr>
          <p:spPr>
            <a:xfrm>
              <a:off x="1079640" y="1438200"/>
              <a:ext cx="997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26"/>
            <p:cNvSpPr/>
            <p:nvPr/>
          </p:nvSpPr>
          <p:spPr>
            <a:xfrm>
              <a:off x="1079640" y="7988400"/>
              <a:ext cx="997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27"/>
            <p:cNvSpPr/>
            <p:nvPr/>
          </p:nvSpPr>
          <p:spPr>
            <a:xfrm>
              <a:off x="1079640" y="14538240"/>
              <a:ext cx="997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28"/>
            <p:cNvSpPr/>
            <p:nvPr/>
          </p:nvSpPr>
          <p:spPr>
            <a:xfrm>
              <a:off x="1079640" y="14646240"/>
              <a:ext cx="997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29"/>
            <p:cNvSpPr/>
            <p:nvPr/>
          </p:nvSpPr>
          <p:spPr>
            <a:xfrm>
              <a:off x="1330200" y="1079640"/>
              <a:ext cx="0" cy="13826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30"/>
            <p:cNvSpPr/>
            <p:nvPr/>
          </p:nvSpPr>
          <p:spPr>
            <a:xfrm>
              <a:off x="1438200" y="1079640"/>
              <a:ext cx="0" cy="13826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31"/>
            <p:cNvSpPr/>
            <p:nvPr/>
          </p:nvSpPr>
          <p:spPr>
            <a:xfrm>
              <a:off x="6067440" y="1079640"/>
              <a:ext cx="0" cy="13826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32"/>
            <p:cNvSpPr/>
            <p:nvPr/>
          </p:nvSpPr>
          <p:spPr>
            <a:xfrm>
              <a:off x="10686960" y="1079640"/>
              <a:ext cx="0" cy="13826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33"/>
            <p:cNvSpPr/>
            <p:nvPr/>
          </p:nvSpPr>
          <p:spPr>
            <a:xfrm>
              <a:off x="10796760" y="1079640"/>
              <a:ext cx="0" cy="13826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34"/>
            <p:cNvSpPr/>
            <p:nvPr/>
          </p:nvSpPr>
          <p:spPr>
            <a:xfrm>
              <a:off x="1330200" y="1330200"/>
              <a:ext cx="9466560" cy="133160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AutoShape 52"/>
          <p:cNvSpPr/>
          <p:nvPr/>
        </p:nvSpPr>
        <p:spPr>
          <a:xfrm>
            <a:off x="6114960" y="146890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53"/>
          <p:cNvSpPr/>
          <p:nvPr/>
        </p:nvSpPr>
        <p:spPr>
          <a:xfrm>
            <a:off x="612936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図 2" descr=""/>
          <p:cNvPicPr/>
          <p:nvPr/>
        </p:nvPicPr>
        <p:blipFill>
          <a:blip r:embed="rId2"/>
          <a:stretch/>
        </p:blipFill>
        <p:spPr>
          <a:xfrm>
            <a:off x="152280" y="127080"/>
            <a:ext cx="11820600" cy="752400"/>
          </a:xfrm>
          <a:prstGeom prst="rect">
            <a:avLst/>
          </a:prstGeom>
          <a:ln w="0">
            <a:noFill/>
          </a:ln>
        </p:spPr>
      </p:pic>
      <p:grpSp>
        <p:nvGrpSpPr>
          <p:cNvPr id="66" name="グループ化 16"/>
          <p:cNvGrpSpPr/>
          <p:nvPr/>
        </p:nvGrpSpPr>
        <p:grpSpPr>
          <a:xfrm>
            <a:off x="108000" y="1440000"/>
            <a:ext cx="10582200" cy="14473080"/>
            <a:chOff x="108000" y="1440000"/>
            <a:chExt cx="10582200" cy="14473080"/>
          </a:xfrm>
        </p:grpSpPr>
        <p:sp>
          <p:nvSpPr>
            <p:cNvPr id="67" name="Rectangle 51"/>
            <p:cNvSpPr/>
            <p:nvPr/>
          </p:nvSpPr>
          <p:spPr>
            <a:xfrm>
              <a:off x="1438200" y="1440000"/>
              <a:ext cx="9252000" cy="131047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56"/>
            <p:cNvSpPr/>
            <p:nvPr/>
          </p:nvSpPr>
          <p:spPr>
            <a:xfrm>
              <a:off x="1547640" y="1547640"/>
              <a:ext cx="9036000" cy="128890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" name="Picture 49" descr=""/>
            <p:cNvPicPr/>
            <p:nvPr/>
          </p:nvPicPr>
          <p:blipFill>
            <a:blip r:embed="rId3"/>
            <a:stretch/>
          </p:blipFill>
          <p:spPr>
            <a:xfrm>
              <a:off x="8487000" y="14851080"/>
              <a:ext cx="2187360" cy="106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AutoShape 50"/>
            <p:cNvSpPr/>
            <p:nvPr/>
          </p:nvSpPr>
          <p:spPr>
            <a:xfrm>
              <a:off x="108000" y="2735280"/>
              <a:ext cx="1028520" cy="703080"/>
            </a:xfrm>
            <a:prstGeom prst="wedgeRoundRectCallout">
              <a:avLst>
                <a:gd name="adj1" fmla="val 88736"/>
                <a:gd name="adj2" fmla="val -49324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切れては困るものは、ピンクの破線</a:t>
              </a: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内に配置し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AutoShape 51"/>
            <p:cNvSpPr/>
            <p:nvPr/>
          </p:nvSpPr>
          <p:spPr>
            <a:xfrm>
              <a:off x="108000" y="1744560"/>
              <a:ext cx="1028520" cy="57132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AutoShape 54"/>
            <p:cNvSpPr/>
            <p:nvPr/>
          </p:nvSpPr>
          <p:spPr>
            <a:xfrm>
              <a:off x="108000" y="3887640"/>
              <a:ext cx="1028520" cy="720720"/>
            </a:xfrm>
            <a:prstGeom prst="wedgeRoundRectCallout">
              <a:avLst>
                <a:gd name="adj1" fmla="val 68365"/>
                <a:gd name="adj2" fmla="val -33481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5600" rIns="75600" tIns="9000" bIns="9000" anchor="t">
              <a:noAutofit/>
            </a:bodyPr>
            <a:p>
              <a:pPr algn="just"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フチ無し印刷は黒い線まで伸ばして配置し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55"/>
            <p:cNvSpPr/>
            <p:nvPr/>
          </p:nvSpPr>
          <p:spPr>
            <a:xfrm>
              <a:off x="3691080" y="14995800"/>
              <a:ext cx="4680000" cy="863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◎ 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文字や絵柄で切れては困るものは、ピンクの破線内に配置してください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◎ 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フチ無し印刷をご希望の場合は、黒の線まで色や写真を配置してください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◎ 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用紙サイズの変更やトンボの移動、変形などなさらないようお願いします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◎ 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透過性や半透明、パターンなど変換が正常に出来ない場合があります。　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◎ </a:t>
              </a:r>
              <a:r>
                <a:rPr b="0" lang="en-US" sz="700" spc="-1" strike="noStrike">
                  <a:solidFill>
                    <a:srgbClr val="000000"/>
                  </a:solidFill>
                  <a:latin typeface="ＭＳ Ｐゴシック"/>
                </a:rPr>
                <a:t>PDF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を作成する際は、説明部分を削除してください。また、テンプレートと同じサイズになっているか確認してください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r>
              <a:rPr b="0" lang="en-US" sz="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06600" y="3740760"/>
            <a:ext cx="10918440" cy="92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lvl="1" marL="1305000" indent="-501840">
              <a:spcBef>
                <a:spcPts val="1225"/>
              </a:spcBef>
              <a:buClr>
                <a:srgbClr val="000000"/>
              </a:buClr>
              <a:buFont typeface="Arial"/>
              <a:buChar char="–"/>
              <a:tabLst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lvl="2" marL="2008080" indent="-4014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3" marL="2813040" indent="-4017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3614760" indent="-4017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4819680"/>
                <a:tab algn="l" pos="6426360"/>
                <a:tab algn="l" pos="8032680"/>
                <a:tab algn="l" pos="96393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3614760" indent="-4017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3614760" indent="-4017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HP Inc.</cp:lastModifiedBy>
  <dcterms:modified xsi:type="dcterms:W3CDTF">2021-11-15T08:14:56Z</dcterms:modified>
  <cp:revision>21</cp:revision>
  <dc:subject/>
  <dc:title>PowerPoint プレゼンテーション</dc:title>
</cp:coreProperties>
</file>