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4008100" cy="17930813"/>
  <p:notesSz cx="14008100" cy="17930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26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2250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002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9626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92250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00200" y="715320"/>
            <a:ext cx="12606480" cy="13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626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225000" y="419580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002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9626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9225000" y="9627840"/>
            <a:ext cx="405900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00200" y="715320"/>
            <a:ext cx="12606480" cy="13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59680" y="962784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0020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9680" y="4195800"/>
            <a:ext cx="61516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00200" y="9627840"/>
            <a:ext cx="12606480" cy="49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11914200" y="15838560"/>
            <a:ext cx="436680" cy="436320"/>
            <a:chOff x="11914200" y="15838560"/>
            <a:chExt cx="436680" cy="436320"/>
          </a:xfrm>
        </p:grpSpPr>
        <p:sp>
          <p:nvSpPr>
            <p:cNvPr id="1" name="object 3"/>
            <p:cNvSpPr/>
            <p:nvPr/>
          </p:nvSpPr>
          <p:spPr>
            <a:xfrm>
              <a:off x="1191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1202328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1654200" y="15838560"/>
            <a:ext cx="436680" cy="436320"/>
            <a:chOff x="1654200" y="15838560"/>
            <a:chExt cx="436680" cy="436320"/>
          </a:xfrm>
        </p:grpSpPr>
        <p:sp>
          <p:nvSpPr>
            <p:cNvPr id="4" name="object 6"/>
            <p:cNvSpPr/>
            <p:nvPr/>
          </p:nvSpPr>
          <p:spPr>
            <a:xfrm>
              <a:off x="165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165420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7" name="object 9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11914200" y="1654200"/>
            <a:ext cx="436680" cy="436680"/>
            <a:chOff x="11914200" y="1654200"/>
            <a:chExt cx="436680" cy="436680"/>
          </a:xfrm>
        </p:grpSpPr>
        <p:sp>
          <p:nvSpPr>
            <p:cNvPr id="10" name="object 12"/>
            <p:cNvSpPr/>
            <p:nvPr/>
          </p:nvSpPr>
          <p:spPr>
            <a:xfrm>
              <a:off x="1191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12023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6545160" y="15992640"/>
            <a:ext cx="914400" cy="304560"/>
            <a:chOff x="6545160" y="15992640"/>
            <a:chExt cx="914400" cy="304560"/>
          </a:xfrm>
        </p:grpSpPr>
        <p:sp>
          <p:nvSpPr>
            <p:cNvPr id="13" name="object 15"/>
            <p:cNvSpPr/>
            <p:nvPr/>
          </p:nvSpPr>
          <p:spPr>
            <a:xfrm>
              <a:off x="7002360" y="159926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6545160" y="160686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6545160" y="1630440"/>
            <a:ext cx="914400" cy="304560"/>
            <a:chOff x="6545160" y="1630440"/>
            <a:chExt cx="914400" cy="304560"/>
          </a:xfrm>
        </p:grpSpPr>
        <p:sp>
          <p:nvSpPr>
            <p:cNvPr id="16" name="object 18"/>
            <p:cNvSpPr/>
            <p:nvPr/>
          </p:nvSpPr>
          <p:spPr>
            <a:xfrm>
              <a:off x="700236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654516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1630440" y="8507520"/>
            <a:ext cx="304560" cy="914400"/>
            <a:chOff x="1630440" y="8507520"/>
            <a:chExt cx="304560" cy="914400"/>
          </a:xfrm>
        </p:grpSpPr>
        <p:sp>
          <p:nvSpPr>
            <p:cNvPr id="19" name="object 21"/>
            <p:cNvSpPr/>
            <p:nvPr/>
          </p:nvSpPr>
          <p:spPr>
            <a:xfrm>
              <a:off x="18590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163044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12068280" y="8507520"/>
            <a:ext cx="304560" cy="914400"/>
            <a:chOff x="12068280" y="8507520"/>
            <a:chExt cx="304560" cy="914400"/>
          </a:xfrm>
        </p:grpSpPr>
        <p:sp>
          <p:nvSpPr>
            <p:cNvPr id="22" name="object 24"/>
            <p:cNvSpPr/>
            <p:nvPr/>
          </p:nvSpPr>
          <p:spPr>
            <a:xfrm>
              <a:off x="121442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1206828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33" descr=""/>
          <p:cNvPicPr/>
          <p:nvPr/>
        </p:nvPicPr>
        <p:blipFill>
          <a:blip r:embed="rId2"/>
          <a:stretch/>
        </p:blipFill>
        <p:spPr>
          <a:xfrm>
            <a:off x="1441440" y="588960"/>
            <a:ext cx="115254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11914200" y="15838560"/>
            <a:ext cx="436680" cy="436320"/>
            <a:chOff x="11914200" y="15838560"/>
            <a:chExt cx="436680" cy="436320"/>
          </a:xfrm>
        </p:grpSpPr>
        <p:sp>
          <p:nvSpPr>
            <p:cNvPr id="62" name="object 3"/>
            <p:cNvSpPr/>
            <p:nvPr/>
          </p:nvSpPr>
          <p:spPr>
            <a:xfrm>
              <a:off x="1191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1202328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1654200" y="15838560"/>
            <a:ext cx="436680" cy="436320"/>
            <a:chOff x="1654200" y="15838560"/>
            <a:chExt cx="436680" cy="436320"/>
          </a:xfrm>
        </p:grpSpPr>
        <p:sp>
          <p:nvSpPr>
            <p:cNvPr id="65" name="object 6"/>
            <p:cNvSpPr/>
            <p:nvPr/>
          </p:nvSpPr>
          <p:spPr>
            <a:xfrm>
              <a:off x="1654200" y="15947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1654200" y="15838560"/>
              <a:ext cx="327600" cy="43632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68" name="object 9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11914200" y="1654200"/>
            <a:ext cx="436680" cy="436680"/>
            <a:chOff x="11914200" y="1654200"/>
            <a:chExt cx="436680" cy="436680"/>
          </a:xfrm>
        </p:grpSpPr>
        <p:sp>
          <p:nvSpPr>
            <p:cNvPr id="71" name="object 12"/>
            <p:cNvSpPr/>
            <p:nvPr/>
          </p:nvSpPr>
          <p:spPr>
            <a:xfrm>
              <a:off x="1191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12023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6545160" y="15992640"/>
            <a:ext cx="914400" cy="304560"/>
            <a:chOff x="6545160" y="15992640"/>
            <a:chExt cx="914400" cy="304560"/>
          </a:xfrm>
        </p:grpSpPr>
        <p:sp>
          <p:nvSpPr>
            <p:cNvPr id="74" name="object 15"/>
            <p:cNvSpPr/>
            <p:nvPr/>
          </p:nvSpPr>
          <p:spPr>
            <a:xfrm>
              <a:off x="7002360" y="159926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6545160" y="1606860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6545160" y="1630440"/>
            <a:ext cx="914400" cy="304560"/>
            <a:chOff x="6545160" y="1630440"/>
            <a:chExt cx="914400" cy="304560"/>
          </a:xfrm>
        </p:grpSpPr>
        <p:sp>
          <p:nvSpPr>
            <p:cNvPr id="77" name="object 18"/>
            <p:cNvSpPr/>
            <p:nvPr/>
          </p:nvSpPr>
          <p:spPr>
            <a:xfrm>
              <a:off x="700236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654516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1630440" y="8507520"/>
            <a:ext cx="304560" cy="914400"/>
            <a:chOff x="1630440" y="8507520"/>
            <a:chExt cx="304560" cy="914400"/>
          </a:xfrm>
        </p:grpSpPr>
        <p:sp>
          <p:nvSpPr>
            <p:cNvPr id="80" name="object 21"/>
            <p:cNvSpPr/>
            <p:nvPr/>
          </p:nvSpPr>
          <p:spPr>
            <a:xfrm>
              <a:off x="18590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163044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12068280" y="8507520"/>
            <a:ext cx="304560" cy="914400"/>
            <a:chOff x="12068280" y="8507520"/>
            <a:chExt cx="304560" cy="914400"/>
          </a:xfrm>
        </p:grpSpPr>
        <p:sp>
          <p:nvSpPr>
            <p:cNvPr id="83" name="object 24"/>
            <p:cNvSpPr/>
            <p:nvPr/>
          </p:nvSpPr>
          <p:spPr>
            <a:xfrm>
              <a:off x="12144240" y="850752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12068280" y="896472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33" descr=""/>
          <p:cNvPicPr/>
          <p:nvPr/>
        </p:nvPicPr>
        <p:blipFill>
          <a:blip r:embed="rId2"/>
          <a:stretch/>
        </p:blipFill>
        <p:spPr>
          <a:xfrm>
            <a:off x="1441440" y="588960"/>
            <a:ext cx="11525400" cy="762120"/>
          </a:xfrm>
          <a:prstGeom prst="rect">
            <a:avLst/>
          </a:prstGeom>
          <a:ln w="0">
            <a:noFill/>
          </a:ln>
        </p:spPr>
      </p:pic>
      <p:grpSp>
        <p:nvGrpSpPr>
          <p:cNvPr id="86" name="グループ化 30"/>
          <p:cNvGrpSpPr/>
          <p:nvPr/>
        </p:nvGrpSpPr>
        <p:grpSpPr>
          <a:xfrm>
            <a:off x="671400" y="2087640"/>
            <a:ext cx="11244240" cy="15352560"/>
            <a:chOff x="671400" y="2087640"/>
            <a:chExt cx="11244240" cy="15352560"/>
          </a:xfrm>
        </p:grpSpPr>
        <p:sp>
          <p:nvSpPr>
            <p:cNvPr id="87" name="object 27"/>
            <p:cNvSpPr/>
            <p:nvPr/>
          </p:nvSpPr>
          <p:spPr>
            <a:xfrm>
              <a:off x="2087280" y="2087640"/>
              <a:ext cx="9828360" cy="13752360"/>
            </a:xfrm>
            <a:custGeom>
              <a:avLst/>
              <a:gdLst/>
              <a:ahLst/>
              <a:rect l="l" t="t" r="r" b="b"/>
              <a:pathLst>
                <a:path w="9828530" h="13752194">
                  <a:moveTo>
                    <a:pt x="9827996" y="0"/>
                  </a:moveTo>
                  <a:lnTo>
                    <a:pt x="0" y="0"/>
                  </a:lnTo>
                  <a:lnTo>
                    <a:pt x="0" y="13752004"/>
                  </a:lnTo>
                  <a:lnTo>
                    <a:pt x="9827996" y="13752004"/>
                  </a:lnTo>
                  <a:lnTo>
                    <a:pt x="9827996" y="0"/>
                  </a:lnTo>
                  <a:close/>
                </a:path>
              </a:pathLst>
            </a:custGeom>
            <a:solidFill>
              <a:srgbClr val="d3edfb"/>
            </a:solidFill>
            <a:ln w="12600">
              <a:solidFill>
                <a:srgbClr val="0070c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bject 28"/>
            <p:cNvSpPr/>
            <p:nvPr/>
          </p:nvSpPr>
          <p:spPr>
            <a:xfrm>
              <a:off x="2395080" y="2341440"/>
              <a:ext cx="9212400" cy="13244400"/>
            </a:xfrm>
            <a:custGeom>
              <a:avLst/>
              <a:gdLst/>
              <a:ahLst/>
              <a:rect l="l" t="t" r="r" b="b"/>
              <a:pathLst>
                <a:path w="9212580" h="13244194">
                  <a:moveTo>
                    <a:pt x="9212186" y="0"/>
                  </a:moveTo>
                  <a:lnTo>
                    <a:pt x="0" y="0"/>
                  </a:lnTo>
                  <a:lnTo>
                    <a:pt x="0" y="13244182"/>
                  </a:lnTo>
                  <a:lnTo>
                    <a:pt x="9212186" y="13244182"/>
                  </a:lnTo>
                  <a:lnTo>
                    <a:pt x="92121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66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123"/>
            <p:cNvSpPr/>
            <p:nvPr/>
          </p:nvSpPr>
          <p:spPr>
            <a:xfrm>
              <a:off x="4050000" y="16576920"/>
              <a:ext cx="590220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印字できない範囲は、水色で表示している箇所です。こちらには、オブジェクトを配置しないで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121"/>
            <p:cNvSpPr/>
            <p:nvPr/>
          </p:nvSpPr>
          <p:spPr>
            <a:xfrm>
              <a:off x="671400" y="4691160"/>
              <a:ext cx="110772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122"/>
            <p:cNvSpPr/>
            <p:nvPr/>
          </p:nvSpPr>
          <p:spPr>
            <a:xfrm>
              <a:off x="982440" y="3133800"/>
              <a:ext cx="823680" cy="84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0200" y="715320"/>
            <a:ext cx="126064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195800"/>
            <a:ext cx="12606480" cy="103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5T06:40:15Z</dcterms:created>
  <dc:creator>A18-008</dc:creator>
  <dc:description/>
  <dc:language>en-US</dc:language>
  <cp:lastModifiedBy>HP Inc.</cp:lastModifiedBy>
  <dcterms:modified xsi:type="dcterms:W3CDTF">2021-11-16T03:24:08Z</dcterms:modified>
  <cp:revision>3</cp:revision>
  <dc:subject/>
  <dc:title>折込輪転チラシ‗B4‗袋断裁‗縦‗オモ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1-15T00:00:00Z</vt:filetime>
  </property>
  <property fmtid="{D5CDD505-2E9C-101B-9397-08002B2CF9AE}" pid="3" name="Creator">
    <vt:lpwstr>Adobe Illustrator 26.0 (Windows)</vt:lpwstr>
  </property>
  <property fmtid="{D5CDD505-2E9C-101B-9397-08002B2CF9AE}" pid="4" name="LastSaved">
    <vt:filetime>2021-11-15T00:00:00Z</vt:filetime>
  </property>
</Properties>
</file>