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7930813" cy="14008100"/>
  <p:notesSz cx="17930813" cy="14008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5292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0944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9640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635292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180944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96400" y="558720"/>
            <a:ext cx="16138080" cy="10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5292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0944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9640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635292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180944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896400" y="558720"/>
            <a:ext cx="16138080" cy="10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654200" y="11914200"/>
            <a:ext cx="436680" cy="436680"/>
            <a:chOff x="1654200" y="11914200"/>
            <a:chExt cx="436680" cy="436680"/>
          </a:xfrm>
        </p:grpSpPr>
        <p:sp>
          <p:nvSpPr>
            <p:cNvPr id="1" name="object 3"/>
            <p:cNvSpPr/>
            <p:nvPr/>
          </p:nvSpPr>
          <p:spPr>
            <a:xfrm>
              <a:off x="165420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1654200" y="12023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4" name="object 6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15838560" y="1654200"/>
            <a:ext cx="436320" cy="436680"/>
            <a:chOff x="15838560" y="1654200"/>
            <a:chExt cx="436320" cy="436680"/>
          </a:xfrm>
        </p:grpSpPr>
        <p:sp>
          <p:nvSpPr>
            <p:cNvPr id="7" name="object 9"/>
            <p:cNvSpPr/>
            <p:nvPr/>
          </p:nvSpPr>
          <p:spPr>
            <a:xfrm>
              <a:off x="15947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15838560" y="16542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15838560" y="11914200"/>
            <a:ext cx="436320" cy="436680"/>
            <a:chOff x="15838560" y="11914200"/>
            <a:chExt cx="436320" cy="436680"/>
          </a:xfrm>
        </p:grpSpPr>
        <p:sp>
          <p:nvSpPr>
            <p:cNvPr id="10" name="object 12"/>
            <p:cNvSpPr/>
            <p:nvPr/>
          </p:nvSpPr>
          <p:spPr>
            <a:xfrm>
              <a:off x="1594728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15838560" y="1202328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1630440" y="6545160"/>
            <a:ext cx="304560" cy="914400"/>
            <a:chOff x="1630440" y="6545160"/>
            <a:chExt cx="304560" cy="914400"/>
          </a:xfrm>
        </p:grpSpPr>
        <p:sp>
          <p:nvSpPr>
            <p:cNvPr id="13" name="object 15"/>
            <p:cNvSpPr/>
            <p:nvPr/>
          </p:nvSpPr>
          <p:spPr>
            <a:xfrm>
              <a:off x="16304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185904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15992640" y="6545160"/>
            <a:ext cx="304560" cy="914400"/>
            <a:chOff x="15992640" y="6545160"/>
            <a:chExt cx="304560" cy="914400"/>
          </a:xfrm>
        </p:grpSpPr>
        <p:sp>
          <p:nvSpPr>
            <p:cNvPr id="16" name="object 18"/>
            <p:cNvSpPr/>
            <p:nvPr/>
          </p:nvSpPr>
          <p:spPr>
            <a:xfrm>
              <a:off x="159926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1606860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8507520" y="1630440"/>
            <a:ext cx="914400" cy="304560"/>
            <a:chOff x="8507520" y="1630440"/>
            <a:chExt cx="914400" cy="304560"/>
          </a:xfrm>
        </p:grpSpPr>
        <p:sp>
          <p:nvSpPr>
            <p:cNvPr id="19" name="object 21"/>
            <p:cNvSpPr/>
            <p:nvPr/>
          </p:nvSpPr>
          <p:spPr>
            <a:xfrm>
              <a:off x="850752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896472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8507520" y="12068280"/>
            <a:ext cx="914400" cy="304560"/>
            <a:chOff x="8507520" y="12068280"/>
            <a:chExt cx="914400" cy="304560"/>
          </a:xfrm>
        </p:grpSpPr>
        <p:sp>
          <p:nvSpPr>
            <p:cNvPr id="22" name="object 24"/>
            <p:cNvSpPr/>
            <p:nvPr/>
          </p:nvSpPr>
          <p:spPr>
            <a:xfrm>
              <a:off x="8507520" y="12144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8964720" y="120682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7" descr=""/>
          <p:cNvPicPr/>
          <p:nvPr/>
        </p:nvPicPr>
        <p:blipFill>
          <a:blip r:embed="rId2"/>
          <a:stretch/>
        </p:blipFill>
        <p:spPr>
          <a:xfrm>
            <a:off x="3203640" y="633240"/>
            <a:ext cx="1152504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1654200" y="11914200"/>
            <a:ext cx="436680" cy="436680"/>
            <a:chOff x="1654200" y="11914200"/>
            <a:chExt cx="436680" cy="436680"/>
          </a:xfrm>
        </p:grpSpPr>
        <p:sp>
          <p:nvSpPr>
            <p:cNvPr id="62" name="object 3"/>
            <p:cNvSpPr/>
            <p:nvPr/>
          </p:nvSpPr>
          <p:spPr>
            <a:xfrm>
              <a:off x="165420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1654200" y="12023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65" name="object 6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15838560" y="1654200"/>
            <a:ext cx="436320" cy="436680"/>
            <a:chOff x="15838560" y="1654200"/>
            <a:chExt cx="436320" cy="436680"/>
          </a:xfrm>
        </p:grpSpPr>
        <p:sp>
          <p:nvSpPr>
            <p:cNvPr id="68" name="object 9"/>
            <p:cNvSpPr/>
            <p:nvPr/>
          </p:nvSpPr>
          <p:spPr>
            <a:xfrm>
              <a:off x="15947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15838560" y="16542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15838560" y="11914200"/>
            <a:ext cx="436320" cy="436680"/>
            <a:chOff x="15838560" y="11914200"/>
            <a:chExt cx="436320" cy="436680"/>
          </a:xfrm>
        </p:grpSpPr>
        <p:sp>
          <p:nvSpPr>
            <p:cNvPr id="71" name="object 12"/>
            <p:cNvSpPr/>
            <p:nvPr/>
          </p:nvSpPr>
          <p:spPr>
            <a:xfrm>
              <a:off x="1594728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15838560" y="1202328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1630440" y="6545160"/>
            <a:ext cx="304560" cy="914400"/>
            <a:chOff x="1630440" y="6545160"/>
            <a:chExt cx="304560" cy="914400"/>
          </a:xfrm>
        </p:grpSpPr>
        <p:sp>
          <p:nvSpPr>
            <p:cNvPr id="74" name="object 15"/>
            <p:cNvSpPr/>
            <p:nvPr/>
          </p:nvSpPr>
          <p:spPr>
            <a:xfrm>
              <a:off x="16304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185904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15992640" y="6545160"/>
            <a:ext cx="304560" cy="914400"/>
            <a:chOff x="15992640" y="6545160"/>
            <a:chExt cx="304560" cy="914400"/>
          </a:xfrm>
        </p:grpSpPr>
        <p:sp>
          <p:nvSpPr>
            <p:cNvPr id="77" name="object 18"/>
            <p:cNvSpPr/>
            <p:nvPr/>
          </p:nvSpPr>
          <p:spPr>
            <a:xfrm>
              <a:off x="159926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1606860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8507520" y="1630440"/>
            <a:ext cx="914400" cy="304560"/>
            <a:chOff x="8507520" y="1630440"/>
            <a:chExt cx="914400" cy="304560"/>
          </a:xfrm>
        </p:grpSpPr>
        <p:sp>
          <p:nvSpPr>
            <p:cNvPr id="80" name="object 21"/>
            <p:cNvSpPr/>
            <p:nvPr/>
          </p:nvSpPr>
          <p:spPr>
            <a:xfrm>
              <a:off x="850752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896472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8507520" y="12068280"/>
            <a:ext cx="914400" cy="304560"/>
            <a:chOff x="8507520" y="12068280"/>
            <a:chExt cx="914400" cy="304560"/>
          </a:xfrm>
        </p:grpSpPr>
        <p:sp>
          <p:nvSpPr>
            <p:cNvPr id="83" name="object 24"/>
            <p:cNvSpPr/>
            <p:nvPr/>
          </p:nvSpPr>
          <p:spPr>
            <a:xfrm>
              <a:off x="8507520" y="12144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8964720" y="120682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7" descr=""/>
          <p:cNvPicPr/>
          <p:nvPr/>
        </p:nvPicPr>
        <p:blipFill>
          <a:blip r:embed="rId2"/>
          <a:stretch/>
        </p:blipFill>
        <p:spPr>
          <a:xfrm>
            <a:off x="3203640" y="633240"/>
            <a:ext cx="1152504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3"/>
          <p:cNvSpPr/>
          <p:nvPr/>
        </p:nvSpPr>
        <p:spPr>
          <a:xfrm>
            <a:off x="6013440" y="126428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グループ化 31"/>
          <p:cNvGrpSpPr/>
          <p:nvPr/>
        </p:nvGrpSpPr>
        <p:grpSpPr>
          <a:xfrm>
            <a:off x="584280" y="2087640"/>
            <a:ext cx="15255720" cy="9829800"/>
            <a:chOff x="584280" y="2087640"/>
            <a:chExt cx="15255720" cy="9829800"/>
          </a:xfrm>
        </p:grpSpPr>
        <p:sp>
          <p:nvSpPr>
            <p:cNvPr id="88" name="object 27"/>
            <p:cNvSpPr/>
            <p:nvPr/>
          </p:nvSpPr>
          <p:spPr>
            <a:xfrm>
              <a:off x="2088000" y="2087640"/>
              <a:ext cx="13752000" cy="9829800"/>
            </a:xfrm>
            <a:custGeom>
              <a:avLst/>
              <a:gdLst/>
              <a:ahLst/>
              <a:rect l="l" t="t" r="r" b="b"/>
              <a:pathLst>
                <a:path w="13752194" h="9828530">
                  <a:moveTo>
                    <a:pt x="13752004" y="0"/>
                  </a:moveTo>
                  <a:lnTo>
                    <a:pt x="0" y="0"/>
                  </a:lnTo>
                  <a:lnTo>
                    <a:pt x="0" y="9827996"/>
                  </a:lnTo>
                  <a:lnTo>
                    <a:pt x="13752004" y="9827996"/>
                  </a:lnTo>
                  <a:lnTo>
                    <a:pt x="13752004" y="0"/>
                  </a:lnTo>
                  <a:close/>
                </a:path>
              </a:pathLst>
            </a:custGeom>
            <a:solidFill>
              <a:srgbClr val="d3edfb"/>
            </a:solidFill>
            <a:ln w="1260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bject 28"/>
            <p:cNvSpPr/>
            <p:nvPr/>
          </p:nvSpPr>
          <p:spPr>
            <a:xfrm>
              <a:off x="2340000" y="2393640"/>
              <a:ext cx="13248000" cy="9217800"/>
            </a:xfrm>
            <a:custGeom>
              <a:avLst/>
              <a:gdLst/>
              <a:ahLst/>
              <a:rect l="l" t="t" r="r" b="b"/>
              <a:pathLst>
                <a:path w="13248005" h="9216390">
                  <a:moveTo>
                    <a:pt x="13248005" y="0"/>
                  </a:moveTo>
                  <a:lnTo>
                    <a:pt x="0" y="0"/>
                  </a:lnTo>
                  <a:lnTo>
                    <a:pt x="0" y="9215996"/>
                  </a:lnTo>
                  <a:lnTo>
                    <a:pt x="13248005" y="9215996"/>
                  </a:lnTo>
                  <a:lnTo>
                    <a:pt x="1324800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66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121"/>
            <p:cNvSpPr/>
            <p:nvPr/>
          </p:nvSpPr>
          <p:spPr>
            <a:xfrm>
              <a:off x="584280" y="4691160"/>
              <a:ext cx="110808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22"/>
            <p:cNvSpPr/>
            <p:nvPr/>
          </p:nvSpPr>
          <p:spPr>
            <a:xfrm>
              <a:off x="983160" y="313380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5T07:37:40Z</dcterms:created>
  <dc:creator>A18-008</dc:creator>
  <dc:description/>
  <dc:language>en-US</dc:language>
  <cp:lastModifiedBy>HP Inc.</cp:lastModifiedBy>
  <dcterms:modified xsi:type="dcterms:W3CDTF">2021-11-16T03:21:56Z</dcterms:modified>
  <cp:revision>3</cp:revision>
  <dc:subject/>
  <dc:title>折込輪転チラシ‗B4‗袋断裁‗横‗オモ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15T00:00:00Z</vt:filetime>
  </property>
  <property fmtid="{D5CDD505-2E9C-101B-9397-08002B2CF9AE}" pid="3" name="Creator">
    <vt:lpwstr>Adobe Illustrator 26.0 (Windows)</vt:lpwstr>
  </property>
  <property fmtid="{D5CDD505-2E9C-101B-9397-08002B2CF9AE}" pid="4" name="LastSaved">
    <vt:filetime>2021-11-15T00:00:00Z</vt:filetime>
  </property>
</Properties>
</file>