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707938" cy="9467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114368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35400" y="5083560"/>
            <a:ext cx="114368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3540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49584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2520" y="221544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69280" y="221544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635400" y="508356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4502520" y="508356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8369280" y="5083560"/>
            <a:ext cx="36824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635400" y="2215440"/>
            <a:ext cx="1143684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26"/>
              </a:spcBef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1143684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635400" y="377640"/>
            <a:ext cx="11436840" cy="73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26"/>
              </a:spcBef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540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95840" y="508356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540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95840" y="2215440"/>
            <a:ext cx="558108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5400" y="5083560"/>
            <a:ext cx="11436840" cy="26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26"/>
              </a:spcBef>
              <a:buNone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9640" y="1079640"/>
            <a:ext cx="10553400" cy="7315200"/>
            <a:chOff x="1079640" y="1079640"/>
            <a:chExt cx="10553400" cy="7315200"/>
          </a:xfrm>
        </p:grpSpPr>
        <p:sp>
          <p:nvSpPr>
            <p:cNvPr id="1" name=""/>
            <p:cNvSpPr/>
            <p:nvPr/>
          </p:nvSpPr>
          <p:spPr>
            <a:xfrm>
              <a:off x="609912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60240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079640" y="1332000"/>
              <a:ext cx="1055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079640" y="1440000"/>
              <a:ext cx="1055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079640" y="8132760"/>
              <a:ext cx="1055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79640" y="8024760"/>
              <a:ext cx="1055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79640" y="4732200"/>
              <a:ext cx="10553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371320" y="1079640"/>
              <a:ext cx="0" cy="730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126332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51480" y="1079640"/>
              <a:ext cx="0" cy="731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10040760" cy="6802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1547640" y="1547640"/>
            <a:ext cx="9607680" cy="6370920"/>
            <a:chOff x="1547640" y="1547640"/>
            <a:chExt cx="9607680" cy="6370920"/>
          </a:xfrm>
        </p:grpSpPr>
        <p:sp>
          <p:nvSpPr>
            <p:cNvPr id="15" name=""/>
            <p:cNvSpPr/>
            <p:nvPr/>
          </p:nvSpPr>
          <p:spPr>
            <a:xfrm>
              <a:off x="1547640" y="1547640"/>
              <a:ext cx="4553280" cy="6370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9120" y="1547640"/>
              <a:ext cx="503280" cy="6370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602400" y="1547640"/>
              <a:ext cx="4552920" cy="63709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1440000" y="1440000"/>
            <a:ext cx="9824760" cy="65865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" name="" descr=""/>
          <p:cNvPicPr/>
          <p:nvPr/>
        </p:nvPicPr>
        <p:blipFill>
          <a:blip r:embed="rId2"/>
          <a:stretch/>
        </p:blipFill>
        <p:spPr>
          <a:xfrm>
            <a:off x="8774280" y="832500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20" name="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6642000" y="8182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664056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zh-CN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3978360" y="846936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zh-CN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" name="" descr=""/>
          <p:cNvPicPr/>
          <p:nvPr/>
        </p:nvPicPr>
        <p:blipFill>
          <a:blip r:embed="rId3"/>
          <a:stretch/>
        </p:blipFill>
        <p:spPr>
          <a:xfrm>
            <a:off x="4410000" y="343080"/>
            <a:ext cx="3807000" cy="392040"/>
          </a:xfrm>
          <a:prstGeom prst="rect">
            <a:avLst/>
          </a:prstGeom>
          <a:ln w="0">
            <a:noFill/>
          </a:ln>
        </p:spPr>
      </p:pic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5400" y="377640"/>
            <a:ext cx="114368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35400" y="2215440"/>
            <a:ext cx="1143684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9560" indent="-43956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954000" indent="-3664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174680"/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937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2055960" indent="-29376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2349360"/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643120" indent="-293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3524400"/>
                <a:tab algn="l" pos="4699080"/>
                <a:tab algn="l" pos="5873760"/>
                <a:tab algn="l" pos="7048440"/>
                <a:tab algn="l" pos="8223120"/>
                <a:tab algn="l" pos="9398160"/>
                <a:tab algn="l" pos="105728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643120" indent="-293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643120" indent="-29376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10:41:20Z</dcterms:created>
  <dc:creator/>
  <dc:description/>
  <dc:language>en-US</dc:language>
  <cp:lastModifiedBy/>
  <dcterms:modified xsi:type="dcterms:W3CDTF">2012-01-12T07:03:08Z</dcterms:modified>
  <cp:revision>5</cp:revision>
  <dc:subject/>
  <dc:title/>
</cp:coreProperties>
</file>