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84775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Img"/>
          </p:nvPr>
        </p:nvSpPr>
        <p:spPr>
          <a:xfrm>
            <a:off x="1984320" y="685440"/>
            <a:ext cx="2889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C6B2-51A8-4348-A8A8-2B03A0F9C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7910-1404-431F-9DE2-CD4F6F866C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984320" y="685800"/>
            <a:ext cx="288936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83672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1388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5920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183672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341388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728960" y="5136840"/>
            <a:ext cx="455400" cy="24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3"/>
          <p:cNvGrpSpPr/>
          <p:nvPr/>
        </p:nvGrpSpPr>
        <p:grpSpPr>
          <a:xfrm>
            <a:off x="982800" y="982800"/>
            <a:ext cx="3219480" cy="4190760"/>
            <a:chOff x="982800" y="982800"/>
            <a:chExt cx="3219480" cy="419076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4714560"/>
              <a:ext cx="436320" cy="435960"/>
              <a:chOff x="1005840" y="4714560"/>
              <a:chExt cx="43632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4823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4714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6320" cy="435960"/>
              <a:chOff x="1005840" y="1005840"/>
              <a:chExt cx="43632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3743280" y="1005840"/>
              <a:ext cx="436320" cy="435960"/>
              <a:chOff x="3743280" y="1005840"/>
              <a:chExt cx="43632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374328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385200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3743280" y="4714560"/>
              <a:ext cx="436320" cy="435960"/>
              <a:chOff x="3743280" y="4714560"/>
              <a:chExt cx="43632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3743280" y="4823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3852000" y="4714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2620800"/>
              <a:ext cx="304920" cy="914400"/>
              <a:chOff x="982800" y="2620800"/>
              <a:chExt cx="30492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2620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3078000"/>
                <a:ext cx="30492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3897360" y="2620800"/>
              <a:ext cx="304920" cy="914400"/>
              <a:chOff x="3897360" y="2620800"/>
              <a:chExt cx="30492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3973680" y="2620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3897360" y="3078000"/>
                <a:ext cx="30492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2135160" y="982800"/>
              <a:ext cx="914760" cy="304560"/>
              <a:chOff x="2135160" y="982800"/>
              <a:chExt cx="91476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2592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2135160" y="121140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2135160" y="4869000"/>
              <a:ext cx="914760" cy="304560"/>
              <a:chOff x="2135160" y="4869000"/>
              <a:chExt cx="91476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2592360" y="4869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2135160" y="494496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2000" y="1332000"/>
            <a:ext cx="2520720" cy="3492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48"/>
          <p:cNvSpPr/>
          <p:nvPr/>
        </p:nvSpPr>
        <p:spPr>
          <a:xfrm>
            <a:off x="1547640" y="1547640"/>
            <a:ext cx="2089440" cy="306072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56"/>
          <p:cNvSpPr/>
          <p:nvPr/>
        </p:nvSpPr>
        <p:spPr>
          <a:xfrm>
            <a:off x="1440000" y="1440000"/>
            <a:ext cx="2303280" cy="327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9" name="Picture 50" descr=""/>
          <p:cNvPicPr/>
          <p:nvPr/>
        </p:nvPicPr>
        <p:blipFill>
          <a:blip r:embed="rId2"/>
          <a:stretch/>
        </p:blipFill>
        <p:spPr>
          <a:xfrm>
            <a:off x="3927600" y="31370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30" name="AutoShape 51"/>
          <p:cNvSpPr/>
          <p:nvPr/>
        </p:nvSpPr>
        <p:spPr>
          <a:xfrm>
            <a:off x="108000" y="3365640"/>
            <a:ext cx="1028520" cy="703080"/>
          </a:xfrm>
          <a:prstGeom prst="wedgeRoundRectCallout">
            <a:avLst>
              <a:gd name="adj1" fmla="val 89504"/>
              <a:gd name="adj2" fmla="val -4209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2"/>
          <p:cNvSpPr/>
          <p:nvPr/>
        </p:nvSpPr>
        <p:spPr>
          <a:xfrm>
            <a:off x="108000" y="1709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3"/>
          <p:cNvSpPr/>
          <p:nvPr/>
        </p:nvSpPr>
        <p:spPr>
          <a:xfrm>
            <a:off x="262728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4"/>
          <p:cNvSpPr/>
          <p:nvPr/>
        </p:nvSpPr>
        <p:spPr>
          <a:xfrm>
            <a:off x="2641680" y="10368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AutoShape 55"/>
          <p:cNvSpPr/>
          <p:nvPr/>
        </p:nvSpPr>
        <p:spPr>
          <a:xfrm>
            <a:off x="4038480" y="1709640"/>
            <a:ext cx="1028880" cy="720720"/>
          </a:xfrm>
          <a:prstGeom prst="wedgeRoundRectCallout">
            <a:avLst>
              <a:gd name="adj1" fmla="val -67439"/>
              <a:gd name="adj2" fmla="val -32819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 Box 56"/>
          <p:cNvSpPr/>
          <p:nvPr/>
        </p:nvSpPr>
        <p:spPr>
          <a:xfrm>
            <a:off x="235080" y="5184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57" descr=""/>
          <p:cNvPicPr/>
          <p:nvPr/>
        </p:nvPicPr>
        <p:blipFill>
          <a:blip r:embed="rId3"/>
          <a:stretch/>
        </p:blipFill>
        <p:spPr>
          <a:xfrm>
            <a:off x="792000" y="41436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54:26Z</dcterms:modified>
  <cp:revision>29</cp:revision>
  <dc:subject/>
  <dc:title>PowerPoint プレゼンテーション</dc:title>
</cp:coreProperties>
</file>