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479-B732-49FE-A34C-9538BA5E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448-8B45-482C-B17E-056A52571D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3"/>
          <p:cNvGrpSpPr/>
          <p:nvPr/>
        </p:nvGrpSpPr>
        <p:grpSpPr>
          <a:xfrm>
            <a:off x="982800" y="982800"/>
            <a:ext cx="4190760" cy="3219480"/>
            <a:chOff x="982800" y="982800"/>
            <a:chExt cx="4190760" cy="321948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3743280"/>
              <a:ext cx="435960" cy="436320"/>
              <a:chOff x="1005840" y="3743280"/>
              <a:chExt cx="435960" cy="43632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3852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3743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4714560" y="1005840"/>
              <a:ext cx="435960" cy="436320"/>
              <a:chOff x="4714560" y="1005840"/>
              <a:chExt cx="435960" cy="43632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4714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4823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4714560" y="3743280"/>
              <a:ext cx="435960" cy="436320"/>
              <a:chOff x="4714560" y="3743280"/>
              <a:chExt cx="435960" cy="43632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4714560" y="3852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4823280" y="3743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2135160"/>
              <a:ext cx="304560" cy="914760"/>
              <a:chOff x="982800" y="2135160"/>
              <a:chExt cx="304560" cy="91476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213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259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869000" y="2135160"/>
              <a:ext cx="304560" cy="914760"/>
              <a:chOff x="4869000" y="2135160"/>
              <a:chExt cx="304560" cy="91476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944960" y="213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4869000" y="259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620800" y="982800"/>
              <a:ext cx="914400" cy="304920"/>
              <a:chOff x="2620800" y="982800"/>
              <a:chExt cx="914400" cy="30492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07800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62080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620800" y="3897360"/>
              <a:ext cx="914400" cy="304920"/>
              <a:chOff x="2620800" y="3897360"/>
              <a:chExt cx="914400" cy="30492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078000" y="389736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620800" y="3973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" name="Picture 51" descr=""/>
          <p:cNvPicPr/>
          <p:nvPr/>
        </p:nvPicPr>
        <p:blipFill>
          <a:blip r:embed="rId2"/>
          <a:stretch/>
        </p:blipFill>
        <p:spPr>
          <a:xfrm>
            <a:off x="4897440" y="262584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Rectangle 34"/>
          <p:cNvSpPr/>
          <p:nvPr/>
        </p:nvSpPr>
        <p:spPr>
          <a:xfrm>
            <a:off x="1332000" y="1332000"/>
            <a:ext cx="3492360" cy="25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48"/>
          <p:cNvSpPr/>
          <p:nvPr/>
        </p:nvSpPr>
        <p:spPr>
          <a:xfrm>
            <a:off x="1547640" y="1547640"/>
            <a:ext cx="3060720" cy="2089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56"/>
          <p:cNvSpPr/>
          <p:nvPr/>
        </p:nvSpPr>
        <p:spPr>
          <a:xfrm>
            <a:off x="1440000" y="1440000"/>
            <a:ext cx="3276360" cy="23032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2"/>
          <p:cNvSpPr/>
          <p:nvPr/>
        </p:nvSpPr>
        <p:spPr>
          <a:xfrm>
            <a:off x="108000" y="280836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3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56"/>
          <p:cNvSpPr/>
          <p:nvPr/>
        </p:nvSpPr>
        <p:spPr>
          <a:xfrm>
            <a:off x="5022720" y="1655640"/>
            <a:ext cx="1028880" cy="720720"/>
          </a:xfrm>
          <a:prstGeom prst="wedgeRoundRectCallout">
            <a:avLst>
              <a:gd name="adj1" fmla="val -69444"/>
              <a:gd name="adj2" fmla="val -2907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 Box 57"/>
          <p:cNvSpPr/>
          <p:nvPr/>
        </p:nvSpPr>
        <p:spPr>
          <a:xfrm>
            <a:off x="728640" y="41940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58" descr=""/>
          <p:cNvPicPr/>
          <p:nvPr/>
        </p:nvPicPr>
        <p:blipFill>
          <a:blip r:embed="rId3"/>
          <a:stretch/>
        </p:blipFill>
        <p:spPr>
          <a:xfrm>
            <a:off x="127800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53:20Z</dcterms:modified>
  <cp:revision>32</cp:revision>
  <dc:subject/>
  <dc:title>PowerPoint プレゼンテーション</dc:title>
</cp:coreProperties>
</file>