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86D-1D86-4746-B8BC-67EE02DF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EC7B-D04C-4495-8B15-82C30DCBCC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4240"/>
            <a:ext cx="4190760" cy="5521320"/>
            <a:chOff x="982800" y="984240"/>
            <a:chExt cx="4190760" cy="552132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6046560"/>
              <a:ext cx="435960" cy="435960"/>
              <a:chOff x="1005840" y="604656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6155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6046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4714560" y="1007280"/>
              <a:ext cx="435960" cy="435960"/>
              <a:chOff x="4714560" y="100728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471456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482328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4714560" y="6046560"/>
              <a:ext cx="435960" cy="435960"/>
              <a:chOff x="4714560" y="604656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4714560" y="6155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4823280" y="6046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3287880"/>
              <a:ext cx="304560" cy="914040"/>
              <a:chOff x="982800" y="3287880"/>
              <a:chExt cx="304560" cy="91404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869000" y="3287880"/>
              <a:ext cx="304560" cy="914040"/>
              <a:chOff x="4869000" y="3287880"/>
              <a:chExt cx="304560" cy="91404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94496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486900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620800" y="984240"/>
              <a:ext cx="914400" cy="304560"/>
              <a:chOff x="2620800" y="98424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07800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62080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620800" y="6201000"/>
              <a:ext cx="914400" cy="304560"/>
              <a:chOff x="2620800" y="620100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078000" y="6201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620800" y="6276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2000" y="1333440"/>
            <a:ext cx="3492360" cy="482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73"/>
          <p:cNvSpPr/>
          <p:nvPr/>
        </p:nvSpPr>
        <p:spPr>
          <a:xfrm>
            <a:off x="1440000" y="1440000"/>
            <a:ext cx="3276360" cy="46098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65"/>
          <p:cNvSpPr/>
          <p:nvPr/>
        </p:nvSpPr>
        <p:spPr>
          <a:xfrm>
            <a:off x="1547640" y="1547640"/>
            <a:ext cx="3060720" cy="4394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4871880" y="439272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25280" y="2610000"/>
            <a:ext cx="102888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25280" y="176220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5041800" y="1728720"/>
            <a:ext cx="1028880" cy="720720"/>
          </a:xfrm>
          <a:prstGeom prst="wedgeRoundRectCallout">
            <a:avLst>
              <a:gd name="adj1" fmla="val -72685"/>
              <a:gd name="adj2" fmla="val -3458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728640" y="652320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127800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50:02Z</dcterms:modified>
  <cp:revision>23</cp:revision>
  <dc:subject/>
  <dc:title>PowerPoint プレゼンテーション</dc:title>
</cp:coreProperties>
</file>