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156325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2019240" y="685440"/>
            <a:ext cx="2819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61B4-9887-40F0-98BC-63D99BA1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731-550A-4AEE-83C2-BDA57D03D5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019240" y="685800"/>
            <a:ext cx="2819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18124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54680" y="175284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0780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18124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054680" y="4022280"/>
            <a:ext cx="178380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55400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7800" y="298800"/>
            <a:ext cx="55400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146760" y="402228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7800" y="298800"/>
            <a:ext cx="55400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780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146760" y="1752840"/>
            <a:ext cx="27032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07800" y="4022280"/>
            <a:ext cx="55400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2800" y="984240"/>
            <a:ext cx="4190760" cy="5521320"/>
            <a:chOff x="982800" y="984240"/>
            <a:chExt cx="4190760" cy="5521320"/>
          </a:xfrm>
        </p:grpSpPr>
        <p:grpSp>
          <p:nvGrpSpPr>
            <p:cNvPr id="1" name="object 2"/>
            <p:cNvGrpSpPr/>
            <p:nvPr/>
          </p:nvGrpSpPr>
          <p:grpSpPr>
            <a:xfrm>
              <a:off x="1005840" y="6046560"/>
              <a:ext cx="435960" cy="435960"/>
              <a:chOff x="1005840" y="604656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5840" y="6155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5840" y="6046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5840" y="1007280"/>
              <a:ext cx="435960" cy="435960"/>
              <a:chOff x="1005840" y="100728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584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584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4714560" y="1007280"/>
              <a:ext cx="435960" cy="435960"/>
              <a:chOff x="4714560" y="100728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4714560" y="1007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4823280" y="1007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4714560" y="6046560"/>
              <a:ext cx="435960" cy="435960"/>
              <a:chOff x="4714560" y="604656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4714560" y="6155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4823280" y="6046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2800" y="3287880"/>
              <a:ext cx="304560" cy="914040"/>
              <a:chOff x="982800" y="3287880"/>
              <a:chExt cx="304560" cy="91404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140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28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4869000" y="3287880"/>
              <a:ext cx="304560" cy="914040"/>
              <a:chOff x="4869000" y="3287880"/>
              <a:chExt cx="304560" cy="91404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494496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48690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2620800" y="984240"/>
              <a:ext cx="914400" cy="304560"/>
              <a:chOff x="2620800" y="984240"/>
              <a:chExt cx="91440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07800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262080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2620800" y="6201000"/>
              <a:ext cx="914400" cy="304560"/>
              <a:chOff x="2620800" y="6201000"/>
              <a:chExt cx="91440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078000" y="620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2620800" y="6276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2000" y="1333440"/>
            <a:ext cx="349236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73"/>
          <p:cNvSpPr/>
          <p:nvPr/>
        </p:nvSpPr>
        <p:spPr>
          <a:xfrm>
            <a:off x="1440000" y="1440000"/>
            <a:ext cx="3276360" cy="46098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65"/>
          <p:cNvSpPr/>
          <p:nvPr/>
        </p:nvSpPr>
        <p:spPr>
          <a:xfrm>
            <a:off x="1547640" y="1547640"/>
            <a:ext cx="3060720" cy="4394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buClr>
                <a:srgbClr val="000000"/>
              </a:buClr>
              <a:buSzPct val="53000"/>
              <a:buFont typeface="ＭＳ 明朝"/>
              <a:buChar char="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4871880" y="4392720"/>
            <a:ext cx="1212840" cy="152532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25280" y="2610000"/>
            <a:ext cx="102888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25280" y="176220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3121200" y="621648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31352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5041800" y="1728720"/>
            <a:ext cx="1028880" cy="720720"/>
          </a:xfrm>
          <a:prstGeom prst="wedgeRoundRectCallout">
            <a:avLst>
              <a:gd name="adj1" fmla="val -72685"/>
              <a:gd name="adj2" fmla="val -34583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728640" y="652320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7" descr=""/>
          <p:cNvPicPr/>
          <p:nvPr/>
        </p:nvPicPr>
        <p:blipFill>
          <a:blip r:embed="rId3"/>
          <a:stretch/>
        </p:blipFill>
        <p:spPr>
          <a:xfrm>
            <a:off x="1278000" y="43164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49:29Z</dcterms:modified>
  <cp:revision>23</cp:revision>
  <dc:subject/>
  <dc:title>PowerPoint プレゼンテーション</dc:title>
</cp:coreProperties>
</file>