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224000" y="685440"/>
            <a:ext cx="4410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22F8-8CAF-408A-95D2-B27DBEC29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29CB-B864-43F5-84B7-C2D14C6BE8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24000" y="685800"/>
            <a:ext cx="4410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980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9898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0660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42980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79898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06600" y="376200"/>
            <a:ext cx="109184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2"/>
          <p:cNvGrpSpPr/>
          <p:nvPr/>
        </p:nvGrpSpPr>
        <p:grpSpPr>
          <a:xfrm>
            <a:off x="982800" y="982800"/>
            <a:ext cx="10167840" cy="7467480"/>
            <a:chOff x="982800" y="982800"/>
            <a:chExt cx="10167840" cy="7467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7991280"/>
              <a:ext cx="436320" cy="436320"/>
              <a:chOff x="1005840" y="7991280"/>
              <a:chExt cx="436320" cy="43632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8100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7991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0691640" y="1005840"/>
              <a:ext cx="436320" cy="436320"/>
              <a:chOff x="10691640" y="1005840"/>
              <a:chExt cx="436320" cy="43632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06916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080036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0691640" y="7991280"/>
              <a:ext cx="436320" cy="436320"/>
              <a:chOff x="10691640" y="7991280"/>
              <a:chExt cx="436320" cy="43632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0691640" y="8100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0800360" y="7991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4259160"/>
              <a:ext cx="304560" cy="914400"/>
              <a:chOff x="982800" y="4259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0846080" y="4259160"/>
              <a:ext cx="304560" cy="914400"/>
              <a:chOff x="10846080" y="4259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092204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084608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5609520" y="982800"/>
              <a:ext cx="914400" cy="304560"/>
              <a:chOff x="5609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06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560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5609520" y="8145720"/>
              <a:ext cx="914400" cy="304560"/>
              <a:chOff x="5609520" y="8145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066720" y="8145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5609520" y="8221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3440" y="1333440"/>
            <a:ext cx="9466200" cy="6765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57"/>
          <p:cNvSpPr/>
          <p:nvPr/>
        </p:nvSpPr>
        <p:spPr>
          <a:xfrm>
            <a:off x="1440000" y="1440000"/>
            <a:ext cx="9251640" cy="65530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49"/>
          <p:cNvSpPr/>
          <p:nvPr/>
        </p:nvSpPr>
        <p:spPr>
          <a:xfrm>
            <a:off x="1547640" y="1547640"/>
            <a:ext cx="9036360" cy="6336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Picture 49" descr=""/>
          <p:cNvPicPr/>
          <p:nvPr/>
        </p:nvPicPr>
        <p:blipFill>
          <a:blip r:embed="rId2"/>
          <a:stretch/>
        </p:blipFill>
        <p:spPr>
          <a:xfrm>
            <a:off x="8488440" y="8318520"/>
            <a:ext cx="2187360" cy="1062000"/>
          </a:xfrm>
          <a:prstGeom prst="rect">
            <a:avLst/>
          </a:prstGeom>
          <a:ln w="0">
            <a:noFill/>
          </a:ln>
        </p:spPr>
      </p:pic>
      <p:sp>
        <p:nvSpPr>
          <p:cNvPr id="29" name="AutoShape 50"/>
          <p:cNvSpPr/>
          <p:nvPr/>
        </p:nvSpPr>
        <p:spPr>
          <a:xfrm>
            <a:off x="108000" y="257328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1"/>
          <p:cNvSpPr/>
          <p:nvPr/>
        </p:nvSpPr>
        <p:spPr>
          <a:xfrm>
            <a:off x="108000" y="162396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2"/>
          <p:cNvSpPr/>
          <p:nvPr/>
        </p:nvSpPr>
        <p:spPr>
          <a:xfrm>
            <a:off x="6086520" y="815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3"/>
          <p:cNvSpPr/>
          <p:nvPr/>
        </p:nvSpPr>
        <p:spPr>
          <a:xfrm>
            <a:off x="610092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4"/>
          <p:cNvSpPr/>
          <p:nvPr/>
        </p:nvSpPr>
        <p:spPr>
          <a:xfrm>
            <a:off x="108000" y="3618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5"/>
          <p:cNvSpPr/>
          <p:nvPr/>
        </p:nvSpPr>
        <p:spPr>
          <a:xfrm>
            <a:off x="3692520" y="84628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6" descr=""/>
          <p:cNvPicPr/>
          <p:nvPr/>
        </p:nvPicPr>
        <p:blipFill>
          <a:blip r:embed="rId3"/>
          <a:stretch/>
        </p:blipFill>
        <p:spPr>
          <a:xfrm>
            <a:off x="4267080" y="46836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27:58Z</dcterms:modified>
  <cp:revision>22</cp:revision>
  <dc:subject/>
  <dc:title>PowerPoint プレゼンテーション</dc:title>
</cp:coreProperties>
</file>