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A747-8B1D-4FCA-A32E-09B4B3E4E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EF71-C0CA-438E-B08F-D0CB79211C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2"/>
          <p:cNvGrpSpPr/>
          <p:nvPr/>
        </p:nvGrpSpPr>
        <p:grpSpPr>
          <a:xfrm>
            <a:off x="982800" y="982800"/>
            <a:ext cx="7467480" cy="10167840"/>
            <a:chOff x="982800" y="982800"/>
            <a:chExt cx="7467480" cy="1016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691640"/>
              <a:ext cx="436320" cy="436320"/>
              <a:chOff x="1005840" y="10691640"/>
              <a:chExt cx="43632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7991280" y="1005840"/>
              <a:ext cx="436320" cy="436320"/>
              <a:chOff x="7991280" y="1005840"/>
              <a:chExt cx="43632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799128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10000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7991280" y="10691640"/>
              <a:ext cx="436320" cy="436320"/>
              <a:chOff x="7991280" y="10691640"/>
              <a:chExt cx="43632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799128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810000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5609520"/>
              <a:ext cx="304560" cy="914400"/>
              <a:chOff x="982800" y="560952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8145720" y="5609520"/>
              <a:ext cx="304560" cy="914400"/>
              <a:chOff x="8145720" y="560952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822168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814572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4259160" y="982800"/>
              <a:ext cx="914400" cy="304560"/>
              <a:chOff x="425916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4716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4259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4259160" y="10846080"/>
              <a:ext cx="914400" cy="304560"/>
              <a:chOff x="4259160" y="1084608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471636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4259160" y="1092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3440" y="1333440"/>
            <a:ext cx="6765840" cy="946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1"/>
          <p:cNvSpPr/>
          <p:nvPr/>
        </p:nvSpPr>
        <p:spPr>
          <a:xfrm>
            <a:off x="1440000" y="1440000"/>
            <a:ext cx="6551640" cy="9251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6"/>
          <p:cNvSpPr/>
          <p:nvPr/>
        </p:nvSpPr>
        <p:spPr>
          <a:xfrm>
            <a:off x="1547640" y="1547640"/>
            <a:ext cx="6336000" cy="903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49" descr=""/>
          <p:cNvPicPr/>
          <p:nvPr/>
        </p:nvPicPr>
        <p:blipFill>
          <a:blip r:embed="rId2"/>
          <a:stretch/>
        </p:blipFill>
        <p:spPr>
          <a:xfrm>
            <a:off x="6416640" y="1101420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29" name="AutoShape 50"/>
          <p:cNvSpPr/>
          <p:nvPr/>
        </p:nvSpPr>
        <p:spPr>
          <a:xfrm>
            <a:off x="108000" y="2627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08000" y="1751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4753080" y="1085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47671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1620720" y="111585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8" descr=""/>
          <p:cNvPicPr/>
          <p:nvPr/>
        </p:nvPicPr>
        <p:blipFill>
          <a:blip r:embed="rId3"/>
          <a:stretch/>
        </p:blipFill>
        <p:spPr>
          <a:xfrm>
            <a:off x="2916360" y="378000"/>
            <a:ext cx="3606840" cy="35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28:31Z</dcterms:modified>
  <cp:revision>22</cp:revision>
  <dc:subject/>
  <dc:title>PowerPoint プレゼンテーション</dc:title>
</cp:coreProperties>
</file>