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497E-2E08-4FE1-95B1-95FF10EAC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913F-96B8-4A31-9CC8-A76750074C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73"/>
          <p:cNvGrpSpPr/>
          <p:nvPr/>
        </p:nvGrpSpPr>
        <p:grpSpPr>
          <a:xfrm>
            <a:off x="982800" y="984240"/>
            <a:ext cx="10167840" cy="14017680"/>
            <a:chOff x="982800" y="984240"/>
            <a:chExt cx="10167840" cy="140176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14542920"/>
              <a:ext cx="436320" cy="435960"/>
              <a:chOff x="1005840" y="14542920"/>
              <a:chExt cx="43632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7280"/>
              <a:ext cx="436320" cy="435960"/>
              <a:chOff x="1005840" y="1007280"/>
              <a:chExt cx="43632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0691640" y="1007280"/>
              <a:ext cx="436320" cy="435960"/>
              <a:chOff x="10691640" y="1007280"/>
              <a:chExt cx="43632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06916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080036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0691640" y="14542920"/>
              <a:ext cx="436320" cy="435960"/>
              <a:chOff x="10691640" y="14542920"/>
              <a:chExt cx="43632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06916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080036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7535880"/>
              <a:ext cx="304560" cy="914040"/>
              <a:chOff x="982800" y="7535880"/>
              <a:chExt cx="304560" cy="91404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0846080" y="7535880"/>
              <a:ext cx="304560" cy="914040"/>
              <a:chOff x="10846080" y="7535880"/>
              <a:chExt cx="304560" cy="91404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092204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084608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5609520" y="984240"/>
              <a:ext cx="914400" cy="304560"/>
              <a:chOff x="5609520" y="98424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606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560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5609520" y="14697360"/>
              <a:ext cx="914400" cy="304560"/>
              <a:chOff x="5609520" y="1469736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6066720" y="14697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5609520" y="14773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Line 26"/>
          <p:cNvSpPr/>
          <p:nvPr/>
        </p:nvSpPr>
        <p:spPr>
          <a:xfrm>
            <a:off x="1079640" y="7988400"/>
            <a:ext cx="997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27"/>
          <p:cNvSpPr/>
          <p:nvPr/>
        </p:nvSpPr>
        <p:spPr>
          <a:xfrm>
            <a:off x="1079640" y="14538240"/>
            <a:ext cx="997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28"/>
          <p:cNvSpPr/>
          <p:nvPr/>
        </p:nvSpPr>
        <p:spPr>
          <a:xfrm>
            <a:off x="1079640" y="14646240"/>
            <a:ext cx="9974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4"/>
          <p:cNvSpPr/>
          <p:nvPr/>
        </p:nvSpPr>
        <p:spPr>
          <a:xfrm>
            <a:off x="1333440" y="1335240"/>
            <a:ext cx="9466200" cy="13315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51"/>
          <p:cNvSpPr/>
          <p:nvPr/>
        </p:nvSpPr>
        <p:spPr>
          <a:xfrm>
            <a:off x="1440000" y="1440000"/>
            <a:ext cx="9251640" cy="13104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56"/>
          <p:cNvSpPr/>
          <p:nvPr/>
        </p:nvSpPr>
        <p:spPr>
          <a:xfrm>
            <a:off x="1547640" y="1547640"/>
            <a:ext cx="9036360" cy="1288908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" name="Picture 49" descr=""/>
          <p:cNvPicPr/>
          <p:nvPr/>
        </p:nvPicPr>
        <p:blipFill>
          <a:blip r:embed="rId2"/>
          <a:stretch/>
        </p:blipFill>
        <p:spPr>
          <a:xfrm>
            <a:off x="8486640" y="1485108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32" name="AutoShape 50"/>
          <p:cNvSpPr/>
          <p:nvPr/>
        </p:nvSpPr>
        <p:spPr>
          <a:xfrm>
            <a:off x="108000" y="27352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1"/>
          <p:cNvSpPr/>
          <p:nvPr/>
        </p:nvSpPr>
        <p:spPr>
          <a:xfrm>
            <a:off x="108000" y="174456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AutoShape 54"/>
          <p:cNvSpPr/>
          <p:nvPr/>
        </p:nvSpPr>
        <p:spPr>
          <a:xfrm>
            <a:off x="108000" y="38876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 Box 55"/>
          <p:cNvSpPr/>
          <p:nvPr/>
        </p:nvSpPr>
        <p:spPr>
          <a:xfrm>
            <a:off x="3691080" y="1499544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Picture 56" descr=""/>
          <p:cNvPicPr/>
          <p:nvPr/>
        </p:nvPicPr>
        <p:blipFill>
          <a:blip r:embed="rId3"/>
          <a:stretch/>
        </p:blipFill>
        <p:spPr>
          <a:xfrm>
            <a:off x="4194000" y="43164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20:16Z</dcterms:modified>
  <cp:revision>21</cp:revision>
  <dc:subject/>
  <dc:title>PowerPoint プレゼンテーション</dc:title>
</cp:coreProperties>
</file>