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31675" cy="15987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2127240" y="685440"/>
            <a:ext cx="2603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r>
              <a:rPr b="0" lang="en-US" sz="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1400-F103-4656-B69A-ADEDCC6A0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8A39-5CB1-4572-8A4A-E9DC215005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2127240" y="685800"/>
            <a:ext cx="260352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06600" y="858384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20136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9804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98984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0660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429804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798984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06600" y="637560"/>
            <a:ext cx="10918440" cy="123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0136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23"/>
          <p:cNvGrpSpPr/>
          <p:nvPr/>
        </p:nvGrpSpPr>
        <p:grpSpPr>
          <a:xfrm>
            <a:off x="982800" y="984240"/>
            <a:ext cx="10167840" cy="14017680"/>
            <a:chOff x="982800" y="984240"/>
            <a:chExt cx="10167840" cy="1401768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14542920"/>
              <a:ext cx="436320" cy="435960"/>
              <a:chOff x="1005840" y="14542920"/>
              <a:chExt cx="436320" cy="43596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146516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1454292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1005840" y="1007280"/>
              <a:ext cx="436320" cy="435960"/>
              <a:chOff x="1005840" y="1007280"/>
              <a:chExt cx="436320" cy="43596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1005840" y="1007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1005840" y="100728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10691640" y="1007280"/>
              <a:ext cx="436320" cy="435960"/>
              <a:chOff x="10691640" y="1007280"/>
              <a:chExt cx="436320" cy="43596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10691640" y="1007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10800360" y="100728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10691640" y="14542920"/>
              <a:ext cx="436320" cy="435960"/>
              <a:chOff x="10691640" y="14542920"/>
              <a:chExt cx="436320" cy="43596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10691640" y="146516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10800360" y="1454292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982800" y="7535880"/>
              <a:ext cx="304560" cy="914040"/>
              <a:chOff x="982800" y="7535880"/>
              <a:chExt cx="304560" cy="91404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1211400" y="7535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982800" y="7992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10846080" y="7535880"/>
              <a:ext cx="304560" cy="914040"/>
              <a:chOff x="10846080" y="7535880"/>
              <a:chExt cx="304560" cy="91404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10922040" y="7535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10846080" y="7992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5609520" y="984240"/>
              <a:ext cx="914400" cy="304560"/>
              <a:chOff x="5609520" y="984240"/>
              <a:chExt cx="914400" cy="30456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6066720" y="9842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5609520" y="12128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5609520" y="14697360"/>
              <a:ext cx="914400" cy="304560"/>
              <a:chOff x="5609520" y="14697360"/>
              <a:chExt cx="914400" cy="30456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6066720" y="1469736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5609520" y="1477332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" name="Rectangle 34"/>
          <p:cNvSpPr/>
          <p:nvPr/>
        </p:nvSpPr>
        <p:spPr>
          <a:xfrm>
            <a:off x="1333440" y="1335240"/>
            <a:ext cx="9466200" cy="13315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Rectangle 51"/>
          <p:cNvSpPr/>
          <p:nvPr/>
        </p:nvSpPr>
        <p:spPr>
          <a:xfrm>
            <a:off x="1440000" y="1440000"/>
            <a:ext cx="9251640" cy="13104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Rectangle 56"/>
          <p:cNvSpPr/>
          <p:nvPr/>
        </p:nvSpPr>
        <p:spPr>
          <a:xfrm>
            <a:off x="1547640" y="1547640"/>
            <a:ext cx="9036360" cy="1288908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" name="Picture 49" descr=""/>
          <p:cNvPicPr/>
          <p:nvPr/>
        </p:nvPicPr>
        <p:blipFill>
          <a:blip r:embed="rId2"/>
          <a:stretch/>
        </p:blipFill>
        <p:spPr>
          <a:xfrm>
            <a:off x="8486640" y="14851080"/>
            <a:ext cx="2187720" cy="1062000"/>
          </a:xfrm>
          <a:prstGeom prst="rect">
            <a:avLst/>
          </a:prstGeom>
          <a:ln w="0">
            <a:noFill/>
          </a:ln>
        </p:spPr>
      </p:pic>
      <p:sp>
        <p:nvSpPr>
          <p:cNvPr id="29" name="AutoShape 50"/>
          <p:cNvSpPr/>
          <p:nvPr/>
        </p:nvSpPr>
        <p:spPr>
          <a:xfrm>
            <a:off x="108000" y="273528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AutoShape 51"/>
          <p:cNvSpPr/>
          <p:nvPr/>
        </p:nvSpPr>
        <p:spPr>
          <a:xfrm>
            <a:off x="108000" y="174456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AutoShape 52"/>
          <p:cNvSpPr/>
          <p:nvPr/>
        </p:nvSpPr>
        <p:spPr>
          <a:xfrm>
            <a:off x="6114960" y="14689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AutoShape 53"/>
          <p:cNvSpPr/>
          <p:nvPr/>
        </p:nvSpPr>
        <p:spPr>
          <a:xfrm>
            <a:off x="612936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AutoShape 54"/>
          <p:cNvSpPr/>
          <p:nvPr/>
        </p:nvSpPr>
        <p:spPr>
          <a:xfrm>
            <a:off x="108000" y="38876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Text Box 55"/>
          <p:cNvSpPr/>
          <p:nvPr/>
        </p:nvSpPr>
        <p:spPr>
          <a:xfrm>
            <a:off x="3691080" y="1499544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" name="Picture 56" descr=""/>
          <p:cNvPicPr/>
          <p:nvPr/>
        </p:nvPicPr>
        <p:blipFill>
          <a:blip r:embed="rId3"/>
          <a:stretch/>
        </p:blipFill>
        <p:spPr>
          <a:xfrm>
            <a:off x="4267080" y="431640"/>
            <a:ext cx="36068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11:20:46Z</dcterms:modified>
  <cp:revision>21</cp:revision>
  <dc:subject/>
  <dc:title>PowerPoint プレゼンテーション</dc:title>
</cp:coreProperties>
</file>