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D455-94AA-4700-970F-542C80599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0A36-E858-47FE-AFA7-41EFCF2C7A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984240" y="982800"/>
            <a:ext cx="14017680" cy="10167840"/>
            <a:chOff x="984240" y="982800"/>
            <a:chExt cx="14017680" cy="10167840"/>
          </a:xfrm>
        </p:grpSpPr>
        <p:grpSp>
          <p:nvGrpSpPr>
            <p:cNvPr id="1" name="object 2"/>
            <p:cNvGrpSpPr/>
            <p:nvPr/>
          </p:nvGrpSpPr>
          <p:grpSpPr>
            <a:xfrm>
              <a:off x="1007280" y="10691640"/>
              <a:ext cx="435960" cy="436320"/>
              <a:chOff x="1007280" y="10691640"/>
              <a:chExt cx="435960" cy="43632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728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728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7280" y="1005840"/>
              <a:ext cx="435960" cy="436320"/>
              <a:chOff x="1007280" y="1005840"/>
              <a:chExt cx="435960" cy="43632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7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14542920" y="1005840"/>
              <a:ext cx="435960" cy="436320"/>
              <a:chOff x="14542920" y="1005840"/>
              <a:chExt cx="435960" cy="43632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1454292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146516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14542920" y="10691640"/>
              <a:ext cx="435960" cy="436320"/>
              <a:chOff x="14542920" y="10691640"/>
              <a:chExt cx="435960" cy="43632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1454292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1465164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4240" y="5609520"/>
              <a:ext cx="304560" cy="914400"/>
              <a:chOff x="984240" y="560952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284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424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14697360" y="5609520"/>
              <a:ext cx="304560" cy="914400"/>
              <a:chOff x="14697360" y="560952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1477332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1469736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7535880" y="982800"/>
              <a:ext cx="914040" cy="304560"/>
              <a:chOff x="7535880" y="982800"/>
              <a:chExt cx="91404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7992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7535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7535880" y="10846080"/>
              <a:ext cx="914040" cy="304560"/>
              <a:chOff x="7535880" y="10846080"/>
              <a:chExt cx="91404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799272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7535880" y="1092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5240" y="1333440"/>
            <a:ext cx="13315680" cy="9466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52"/>
          <p:cNvSpPr/>
          <p:nvPr/>
        </p:nvSpPr>
        <p:spPr>
          <a:xfrm>
            <a:off x="1440000" y="1440000"/>
            <a:ext cx="13104720" cy="9251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7"/>
          <p:cNvSpPr/>
          <p:nvPr/>
        </p:nvSpPr>
        <p:spPr>
          <a:xfrm>
            <a:off x="1547640" y="1547640"/>
            <a:ext cx="12889080" cy="903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Picture 56" descr=""/>
          <p:cNvPicPr/>
          <p:nvPr/>
        </p:nvPicPr>
        <p:blipFill>
          <a:blip r:embed="rId2"/>
          <a:stretch/>
        </p:blipFill>
        <p:spPr>
          <a:xfrm>
            <a:off x="10412280" y="11017080"/>
            <a:ext cx="2187720" cy="1062360"/>
          </a:xfrm>
          <a:prstGeom prst="rect">
            <a:avLst/>
          </a:prstGeom>
          <a:ln w="0">
            <a:noFill/>
          </a:ln>
        </p:spPr>
      </p:pic>
      <p:sp>
        <p:nvSpPr>
          <p:cNvPr id="29" name="AutoShape 57"/>
          <p:cNvSpPr/>
          <p:nvPr/>
        </p:nvSpPr>
        <p:spPr>
          <a:xfrm>
            <a:off x="108000" y="277020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8"/>
          <p:cNvSpPr/>
          <p:nvPr/>
        </p:nvSpPr>
        <p:spPr>
          <a:xfrm>
            <a:off x="108000" y="1746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61"/>
          <p:cNvSpPr/>
          <p:nvPr/>
        </p:nvSpPr>
        <p:spPr>
          <a:xfrm>
            <a:off x="108000" y="390528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62"/>
          <p:cNvSpPr/>
          <p:nvPr/>
        </p:nvSpPr>
        <p:spPr>
          <a:xfrm>
            <a:off x="5616720" y="1116180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63" descr=""/>
          <p:cNvPicPr/>
          <p:nvPr/>
        </p:nvPicPr>
        <p:blipFill>
          <a:blip r:embed="rId3"/>
          <a:stretch/>
        </p:blipFill>
        <p:spPr>
          <a:xfrm>
            <a:off x="6192720" y="52236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19:03Z</dcterms:modified>
  <cp:revision>23</cp:revision>
  <dc:subject/>
  <dc:title>PowerPoint プレゼンテーション</dc:title>
</cp:coreProperties>
</file>