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6A75-B7FA-44BA-BDC5-D244DEA4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6DF-6720-4346-A4F1-88F9384387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9" descr=""/>
          <p:cNvPicPr/>
          <p:nvPr/>
        </p:nvPicPr>
        <p:blipFill>
          <a:blip r:embed="rId2"/>
          <a:stretch/>
        </p:blipFill>
        <p:spPr>
          <a:xfrm>
            <a:off x="4284720" y="354636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0" y="982800"/>
            <a:ext cx="3579840" cy="4695840"/>
            <a:chOff x="982800" y="982800"/>
            <a:chExt cx="3579840" cy="469584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5219640"/>
              <a:ext cx="436320" cy="436320"/>
              <a:chOff x="1005840" y="5219640"/>
              <a:chExt cx="43632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4103640" y="1005840"/>
              <a:ext cx="436320" cy="436320"/>
              <a:chOff x="4103640" y="1005840"/>
              <a:chExt cx="43632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4103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4212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4103640" y="5219640"/>
              <a:ext cx="436320" cy="436320"/>
              <a:chOff x="4103640" y="5219640"/>
              <a:chExt cx="43632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4103640" y="5328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4212360" y="5219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2873520"/>
              <a:ext cx="304920" cy="914400"/>
              <a:chOff x="982800" y="2873520"/>
              <a:chExt cx="304920" cy="91440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333072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4257720" y="2873520"/>
              <a:ext cx="304920" cy="914400"/>
              <a:chOff x="4257720" y="2873520"/>
              <a:chExt cx="304920" cy="91440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4334040" y="2873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4257720" y="3330720"/>
                <a:ext cx="30492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315160" y="982800"/>
              <a:ext cx="914760" cy="304560"/>
              <a:chOff x="2315160" y="982800"/>
              <a:chExt cx="914760" cy="30456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277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31516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315160" y="5374080"/>
              <a:ext cx="914760" cy="304560"/>
              <a:chOff x="2315160" y="5374080"/>
              <a:chExt cx="914760" cy="30456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2772360" y="5374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315160" y="545004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34"/>
          <p:cNvSpPr/>
          <p:nvPr/>
        </p:nvSpPr>
        <p:spPr>
          <a:xfrm>
            <a:off x="1333440" y="1333440"/>
            <a:ext cx="2878200" cy="399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9"/>
          <p:cNvSpPr/>
          <p:nvPr/>
        </p:nvSpPr>
        <p:spPr>
          <a:xfrm>
            <a:off x="1549440" y="1549440"/>
            <a:ext cx="2448000" cy="3564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7"/>
          <p:cNvSpPr/>
          <p:nvPr/>
        </p:nvSpPr>
        <p:spPr>
          <a:xfrm>
            <a:off x="1441440" y="1440000"/>
            <a:ext cx="2664000" cy="378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0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4405320" y="1601640"/>
            <a:ext cx="1028520" cy="720720"/>
          </a:xfrm>
          <a:prstGeom prst="wedgeRoundRectCallout">
            <a:avLst>
              <a:gd name="adj1" fmla="val -68365"/>
              <a:gd name="adj2" fmla="val -31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411120" y="5668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973080" y="45072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5:02Z</dcterms:modified>
  <cp:revision>24</cp:revision>
  <dc:subject/>
  <dc:title>PowerPoint プレゼンテーション</dc:title>
</cp:coreProperties>
</file>