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A2E4-AAFF-4D79-9C06-1E5D0891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2F2-E9CD-40A2-B996-865B5A948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4695840" cy="6243480"/>
            <a:chOff x="982800" y="982800"/>
            <a:chExt cx="4695840" cy="6243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6767280"/>
              <a:ext cx="436320" cy="436320"/>
              <a:chOff x="1005840" y="676728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6876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6767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5219640" y="1005840"/>
              <a:ext cx="436320" cy="436320"/>
              <a:chOff x="521964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521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532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5219640" y="6767280"/>
              <a:ext cx="436320" cy="436320"/>
              <a:chOff x="5219640" y="676728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5219640" y="6876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5328360" y="6767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5374080" y="3647160"/>
              <a:ext cx="304560" cy="914400"/>
              <a:chOff x="5374080" y="3647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545004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37408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873520" y="982800"/>
              <a:ext cx="914400" cy="304560"/>
              <a:chOff x="2873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33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87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873520" y="6921720"/>
              <a:ext cx="914400" cy="304560"/>
              <a:chOff x="2873520" y="6921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33072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87352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3994200" cy="5542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0"/>
          <p:cNvSpPr/>
          <p:nvPr/>
        </p:nvSpPr>
        <p:spPr>
          <a:xfrm>
            <a:off x="1549440" y="1547640"/>
            <a:ext cx="356400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8"/>
          <p:cNvSpPr/>
          <p:nvPr/>
        </p:nvSpPr>
        <p:spPr>
          <a:xfrm>
            <a:off x="1440000" y="1440000"/>
            <a:ext cx="378144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50"/>
          <p:cNvSpPr/>
          <p:nvPr/>
        </p:nvSpPr>
        <p:spPr>
          <a:xfrm>
            <a:off x="90360" y="296856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1"/>
          <p:cNvSpPr/>
          <p:nvPr/>
        </p:nvSpPr>
        <p:spPr>
          <a:xfrm>
            <a:off x="90360" y="179856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4"/>
          <p:cNvSpPr/>
          <p:nvPr/>
        </p:nvSpPr>
        <p:spPr>
          <a:xfrm>
            <a:off x="108000" y="4319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5"/>
          <p:cNvSpPr/>
          <p:nvPr/>
        </p:nvSpPr>
        <p:spPr>
          <a:xfrm>
            <a:off x="954000" y="7216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6" descr=""/>
          <p:cNvPicPr/>
          <p:nvPr/>
        </p:nvPicPr>
        <p:blipFill>
          <a:blip r:embed="rId2"/>
          <a:stretch/>
        </p:blipFill>
        <p:spPr>
          <a:xfrm>
            <a:off x="5376960" y="506880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7" descr=""/>
          <p:cNvPicPr/>
          <p:nvPr/>
        </p:nvPicPr>
        <p:blipFill>
          <a:blip r:embed="rId3"/>
          <a:stretch/>
        </p:blipFill>
        <p:spPr>
          <a:xfrm>
            <a:off x="152388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8:31Z</dcterms:modified>
  <cp:revision>22</cp:revision>
  <dc:subject/>
  <dc:title>PowerPoint プレゼンテーション</dc:title>
</cp:coreProperties>
</file>