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71CB-F4E0-42FF-A100-EDBFF1A04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A90F-4974-4280-9D8D-1A72D1693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2800"/>
            <a:ext cx="6243480" cy="4695840"/>
            <a:chOff x="982800" y="982800"/>
            <a:chExt cx="6243480" cy="4695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5219640"/>
              <a:ext cx="436320" cy="436320"/>
              <a:chOff x="1005840" y="521964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1990" y="324002"/>
                    </a:moveTo>
                    <a:lnTo>
                      <a:pt x="43199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3989" y="0"/>
                    </a:lnTo>
                    <a:lnTo>
                      <a:pt x="323989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1990" y="0"/>
                    </a:moveTo>
                    <a:lnTo>
                      <a:pt x="431990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3989" y="432003"/>
                    </a:lnTo>
                    <a:lnTo>
                      <a:pt x="323989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6767280" y="1005840"/>
              <a:ext cx="436320" cy="436320"/>
              <a:chOff x="676728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6767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6876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6767280" y="5219640"/>
              <a:ext cx="436320" cy="436320"/>
              <a:chOff x="6767280" y="521964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676728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687600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2873520"/>
              <a:ext cx="304560" cy="914400"/>
              <a:chOff x="982800" y="2873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333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7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6921720" y="2873520"/>
              <a:ext cx="304560" cy="914400"/>
              <a:chOff x="6921720" y="2873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699768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6921720" y="333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3647160" y="5374080"/>
              <a:ext cx="914400" cy="304560"/>
              <a:chOff x="3647160" y="537408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4104360" y="5374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3647160" y="5450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" name="Picture 55" descr=""/>
          <p:cNvPicPr/>
          <p:nvPr/>
        </p:nvPicPr>
        <p:blipFill>
          <a:blip r:embed="rId2"/>
          <a:stretch/>
        </p:blipFill>
        <p:spPr>
          <a:xfrm>
            <a:off x="5688000" y="551808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26" name="Rectangle 34"/>
          <p:cNvSpPr/>
          <p:nvPr/>
        </p:nvSpPr>
        <p:spPr>
          <a:xfrm>
            <a:off x="1333440" y="1333440"/>
            <a:ext cx="5542200" cy="399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48"/>
          <p:cNvSpPr/>
          <p:nvPr/>
        </p:nvSpPr>
        <p:spPr>
          <a:xfrm>
            <a:off x="1547640" y="1549440"/>
            <a:ext cx="511344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56"/>
          <p:cNvSpPr/>
          <p:nvPr/>
        </p:nvSpPr>
        <p:spPr>
          <a:xfrm>
            <a:off x="1440000" y="1440000"/>
            <a:ext cx="5329080" cy="378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9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0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3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4"/>
          <p:cNvSpPr/>
          <p:nvPr/>
        </p:nvSpPr>
        <p:spPr>
          <a:xfrm>
            <a:off x="892080" y="5662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2305080" y="378000"/>
            <a:ext cx="360684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07:16Z</dcterms:modified>
  <cp:revision>23</cp:revision>
  <dc:subject/>
  <dc:title>PowerPoint プレゼンテーション</dc:title>
</cp:coreProperties>
</file>