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010-80B5-4E86-B5A6-68A92F7F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F26-667B-4618-A66D-FF22AD79D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1333440" y="1333440"/>
            <a:ext cx="7774200" cy="5542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グループ化 2"/>
          <p:cNvGrpSpPr/>
          <p:nvPr/>
        </p:nvGrpSpPr>
        <p:grpSpPr>
          <a:xfrm>
            <a:off x="982800" y="982800"/>
            <a:ext cx="8475480" cy="6243480"/>
            <a:chOff x="982800" y="982800"/>
            <a:chExt cx="8475480" cy="624348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8999280" y="1005840"/>
              <a:ext cx="435960" cy="436320"/>
              <a:chOff x="8999280" y="1005840"/>
              <a:chExt cx="43596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8999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910800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8999280" y="6767280"/>
              <a:ext cx="435960" cy="436320"/>
              <a:chOff x="8999280" y="6767280"/>
              <a:chExt cx="43596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899928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910800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9153720" y="3647160"/>
              <a:ext cx="304560" cy="914400"/>
              <a:chOff x="9153720" y="3647160"/>
              <a:chExt cx="304560" cy="91440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922968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915372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4763160" y="6921720"/>
              <a:ext cx="914400" cy="304560"/>
              <a:chOff x="4763160" y="6921720"/>
              <a:chExt cx="914400" cy="30456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522036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476316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70"/>
          <p:cNvSpPr/>
          <p:nvPr/>
        </p:nvSpPr>
        <p:spPr>
          <a:xfrm>
            <a:off x="1440000" y="1440000"/>
            <a:ext cx="75610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62"/>
          <p:cNvSpPr/>
          <p:nvPr/>
        </p:nvSpPr>
        <p:spPr>
          <a:xfrm>
            <a:off x="1547640" y="1547640"/>
            <a:ext cx="734544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48"/>
          <p:cNvSpPr/>
          <p:nvPr/>
        </p:nvSpPr>
        <p:spPr>
          <a:xfrm>
            <a:off x="108000" y="311292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108000" y="4464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3"/>
          <p:cNvSpPr/>
          <p:nvPr/>
        </p:nvSpPr>
        <p:spPr>
          <a:xfrm>
            <a:off x="2901960" y="72295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4" descr=""/>
          <p:cNvPicPr/>
          <p:nvPr/>
        </p:nvPicPr>
        <p:blipFill>
          <a:blip r:embed="rId2"/>
          <a:stretch/>
        </p:blipFill>
        <p:spPr>
          <a:xfrm>
            <a:off x="7697880" y="708516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5" descr=""/>
          <p:cNvPicPr/>
          <p:nvPr/>
        </p:nvPicPr>
        <p:blipFill>
          <a:blip r:embed="rId3"/>
          <a:stretch/>
        </p:blipFill>
        <p:spPr>
          <a:xfrm>
            <a:off x="342108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0:59:39Z</dcterms:modified>
  <cp:revision>25</cp:revision>
  <dc:subject/>
  <dc:title>PowerPoint プレゼンテーション</dc:title>
</cp:coreProperties>
</file>