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003838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Img"/>
          </p:nvPr>
        </p:nvSpPr>
        <p:spPr>
          <a:xfrm>
            <a:off x="1155600" y="685440"/>
            <a:ext cx="4546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BD26-632D-4F54-B5C4-C18041273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A3AE-DAE5-4724-9E7F-FFA5CB7021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5468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7848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566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9000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637848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118566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900000" y="541440"/>
            <a:ext cx="1620288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4"/>
          <p:cNvGrpSpPr/>
          <p:nvPr/>
        </p:nvGrpSpPr>
        <p:grpSpPr>
          <a:xfrm>
            <a:off x="984240" y="982800"/>
            <a:ext cx="16033680" cy="11607840"/>
            <a:chOff x="984240" y="982800"/>
            <a:chExt cx="16033680" cy="11607840"/>
          </a:xfrm>
        </p:grpSpPr>
        <p:grpSp>
          <p:nvGrpSpPr>
            <p:cNvPr id="1" name="object 2"/>
            <p:cNvGrpSpPr/>
            <p:nvPr/>
          </p:nvGrpSpPr>
          <p:grpSpPr>
            <a:xfrm>
              <a:off x="1007280" y="12131640"/>
              <a:ext cx="435960" cy="435960"/>
              <a:chOff x="1007280" y="1213164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7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728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7280" y="1005840"/>
              <a:ext cx="435960" cy="435960"/>
              <a:chOff x="100728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7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728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6558920" y="1005840"/>
              <a:ext cx="435960" cy="435960"/>
              <a:chOff x="16558920" y="10058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655892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66676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6558920" y="12131640"/>
              <a:ext cx="435960" cy="435960"/>
              <a:chOff x="16558920" y="1213164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655892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66676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4240" y="6329520"/>
              <a:ext cx="304560" cy="914400"/>
              <a:chOff x="984240" y="632952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284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424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6713360" y="6329520"/>
              <a:ext cx="304560" cy="914400"/>
              <a:chOff x="16713360" y="632952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678932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671336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8543880" y="982800"/>
              <a:ext cx="914040" cy="304560"/>
              <a:chOff x="8543880" y="982800"/>
              <a:chExt cx="91404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9000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8543880" y="121140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8543880" y="12286080"/>
              <a:ext cx="914040" cy="304560"/>
              <a:chOff x="8543880" y="12286080"/>
              <a:chExt cx="91404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900072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8543880" y="1236204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Line 27"/>
          <p:cNvSpPr/>
          <p:nvPr/>
        </p:nvSpPr>
        <p:spPr>
          <a:xfrm>
            <a:off x="1079640" y="12126960"/>
            <a:ext cx="15843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34"/>
          <p:cNvSpPr/>
          <p:nvPr/>
        </p:nvSpPr>
        <p:spPr>
          <a:xfrm>
            <a:off x="1335240" y="1333440"/>
            <a:ext cx="15332040" cy="10906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52"/>
          <p:cNvSpPr/>
          <p:nvPr/>
        </p:nvSpPr>
        <p:spPr>
          <a:xfrm>
            <a:off x="1547640" y="1547640"/>
            <a:ext cx="14906880" cy="10476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60"/>
          <p:cNvSpPr/>
          <p:nvPr/>
        </p:nvSpPr>
        <p:spPr>
          <a:xfrm>
            <a:off x="1440000" y="1440000"/>
            <a:ext cx="15122520" cy="10693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49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0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1"/>
          <p:cNvSpPr/>
          <p:nvPr/>
        </p:nvSpPr>
        <p:spPr>
          <a:xfrm>
            <a:off x="9072720" y="122968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2"/>
          <p:cNvSpPr/>
          <p:nvPr/>
        </p:nvSpPr>
        <p:spPr>
          <a:xfrm>
            <a:off x="906300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3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Text Box 54"/>
          <p:cNvSpPr/>
          <p:nvPr/>
        </p:nvSpPr>
        <p:spPr>
          <a:xfrm>
            <a:off x="6624720" y="126190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55" descr=""/>
          <p:cNvPicPr/>
          <p:nvPr/>
        </p:nvPicPr>
        <p:blipFill>
          <a:blip r:embed="rId2"/>
          <a:stretch/>
        </p:blipFill>
        <p:spPr>
          <a:xfrm>
            <a:off x="11420640" y="12474720"/>
            <a:ext cx="2187360" cy="1062000"/>
          </a:xfrm>
          <a:prstGeom prst="rect">
            <a:avLst/>
          </a:prstGeom>
          <a:ln w="0">
            <a:noFill/>
          </a:ln>
        </p:spPr>
      </p:pic>
      <p:pic>
        <p:nvPicPr>
          <p:cNvPr id="36" name="Picture 56" descr=""/>
          <p:cNvPicPr/>
          <p:nvPr/>
        </p:nvPicPr>
        <p:blipFill>
          <a:blip r:embed="rId3"/>
          <a:stretch/>
        </p:blipFill>
        <p:spPr>
          <a:xfrm>
            <a:off x="7201080" y="449280"/>
            <a:ext cx="36064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05:37:34Z</dcterms:modified>
  <cp:revision>25</cp:revision>
  <dc:subject/>
  <dc:title>PowerPoint プレゼンテーション</dc:title>
</cp:coreProperties>
</file>